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452-CE30-4D3F-8768-A59F4DF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A8C-4C0D-4259-9E59-B92125E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540-F114-47E3-B9BA-E6CE6DA7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6D1-B636-4150-8DDB-68EF065D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D745-02EF-446D-8CDD-DEBAB195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564-782E-4F7F-9368-DFC2EB6F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614-B826-4072-8DCD-2C28FDE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F46-35B7-4F32-BED1-CF5B607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FAF-5A55-49C0-9444-7E27342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B96-60C3-4854-9D91-ACBC39A5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130-F65C-4F69-9453-EC731D8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E89-0B08-4ABA-B39D-C8BC8836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3292-835B-4DB3-A746-5722FA8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256-5BBA-4C40-9C76-0DD84A2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D6C-43D1-418E-A157-B76DD38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12F3-DEE7-4634-8F9C-6F460A3C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5CBA-73EA-42AB-8150-9439B33D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4D5-950B-4B53-8579-77D55CD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8BA-E2E6-4C4F-AD7A-22BC5395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FEC-DCB1-431C-BF66-85900E7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DB7-E44E-43D2-91CD-A3D49634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AE7-2B66-4B0E-8E13-159E963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896-2556-45F3-946B-EB156EB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365-4958-4461-B175-7629B4A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orina E.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EAA-EE62-4007-83ED-76F32A6B0B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Gorina E.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7AC-3AD9-4F3F-A630-E23E639A9C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8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Мастер-класс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ubjunctive Moo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Present/Fu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wim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e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l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to the Zoo, I …  … (see) a kangar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in the Nile, I …  … (meet) a crocod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friend of mine, we …  … (talk) for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mile, I …  … (feel) fin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ul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day off today, I …  … (dance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home late, I …  … (eat) a c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my homework, I …  … (go) for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the world, every day …  … (be)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of M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ow friendly or aggressiv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re you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838080"/>
          <a:ext cx="8229600" cy="517212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26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get) stuck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a li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press) all the butto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press) the button "Call"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feel) slightly annoyed, but resign myself to the situ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... (turn) on my Walkman and relax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If I ... (discov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 friend h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d my bicy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thout my permission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 (make) a r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 (tell) him he's been wro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a joke of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nothing to him and hide my bik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838080"/>
          <a:ext cx="8382240" cy="4700880"/>
        </p:xfrm>
        <a:graphic>
          <a:graphicData uri="http://schemas.openxmlformats.org/drawingml/2006/table">
            <a:tbl>
              <a:tblPr/>
              <a:tblGrid>
                <a:gridCol w="2793960"/>
                <a:gridCol w="543240"/>
                <a:gridCol w="50450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see) tw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fighting i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stree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join) the figh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ry) to stop the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all) the poli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ass) b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y with 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yfriend/girlfri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he/she started dancing with someone els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rab) his/her hand and take him/her from the part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eel) nervou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eel) happy because he/she was having a good tim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o) over and join the dan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304920"/>
          <a:ext cx="8229600" cy="550224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get) on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s and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e) only one seat left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(rush) to ge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 (rush) the person who was standing nearest to he seat and ge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ee) if there were any old people who might want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no special effort to get there firs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a passer-by ...(push) me by chanc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ush) him, to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something rude to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noth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mile) at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304920"/>
          <a:ext cx="8229600" cy="610848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6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have) an argument with 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nd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: "I won't speak to him/her unless he/she apologizes to me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orget) the offence five minutes la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hone) him/her and apologiz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wait) and see what will happ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 and 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alize) that t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l was terribl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hrow) it awa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ell) the people how terrible it w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 that I could cook bet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ay), "I'm not hungry."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28600"/>
          <a:ext cx="8229600" cy="6234120"/>
        </p:xfrm>
        <a:graphic>
          <a:graphicData uri="http://schemas.openxmlformats.org/drawingml/2006/table">
            <a:tbl>
              <a:tblPr/>
              <a:tblGrid>
                <a:gridCol w="2743200"/>
                <a:gridCol w="533520"/>
                <a:gridCol w="4952880"/>
              </a:tblGrid>
              <a:tr h="39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see) a caricature on me, made by a friend of mine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lam) the door and leave the roo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et) offended but won't show 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try) to find something funny in the man and make fun of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 (burst) laughing and like the fact that I've got something  original in mysel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I ... (come) t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 office late an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boss ... shout a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,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pologize) politel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keep) sile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...  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ake) excuse to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hout) back and leave the job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1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1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3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4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4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3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– 3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– 2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– 20 points: You are kind and ready to hel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. Everyone would be happy to make friends with you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30 points: You are a fairly balanced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 – 40 points: You are a rather aggressive person. No one would like to step  on your foot or make friends with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наклонений в русском язы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английск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они обозначают? Приведите приме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авните предложения на английском язы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f the weath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good, I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ll g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to the wood (tomorrow or toda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f the weath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er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good, I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ould g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to the wood (tomorrow or toda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м они отличаю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br>
              <a:rPr sz="4800"/>
            </a:b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уйте правило о том, какую форму имеют глаголы в сослагательном наклон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(Помните: глагол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to be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имеет одну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у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were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для всех лиц).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к какому времени относится все предлож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ab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 ju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la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bear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London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g B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me mone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uld 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Sp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ыл бы я ребенк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я прыгал и игр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встретил медвежо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, конечно, убеж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в Лондон я поех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Биг Бен я посет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Испанию заех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б денег накоп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Ejik"/>
          <p:cNvPicPr/>
          <p:nvPr/>
        </p:nvPicPr>
        <p:blipFill>
          <a:blip r:embed="rId1"/>
          <a:stretch/>
        </p:blipFill>
        <p:spPr>
          <a:xfrm>
            <a:off x="609480" y="2895480"/>
            <a:ext cx="8229600" cy="1971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-609480" y="327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wouldn't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f        V2(ed)                ,         would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1600200"/>
            <a:ext cx="198108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191120" y="1676520"/>
            <a:ext cx="449568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w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 глаголо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m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падае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V2 (ed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w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 Indefinite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h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значает действ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едшем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2666880" y="2666880"/>
            <a:ext cx="1281240" cy="486000"/>
          </a:xfrm>
          <a:prstGeom prst="rightArrow">
            <a:avLst>
              <a:gd name="adj1" fmla="val 50000"/>
              <a:gd name="adj2" fmla="val 6590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Глаголы в сослагательном наклонении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Subjunctive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Present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Future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) обозначают </a:t>
            </a: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теоретически возможные действия или действия, которые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могли бы</a:t>
            </a: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 иметь место при определенных условиях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Gorina E.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bjunctive Mood </a:t>
            </a:r>
            <a:br>
              <a:rPr sz="4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Present/Future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e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tiger,  I …  … (say), “Wow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cowboy,  I …  … (watch) a cow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for walk, I …  … (take) my d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 … a lot of money, I …  … (buy) you cak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one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8:05:35Z</dcterms:created>
  <dc:creator>SAMSUNG</dc:creator>
  <dc:description/>
  <dc:language>en-US</dc:language>
  <cp:lastModifiedBy>Kate</cp:lastModifiedBy>
  <dcterms:modified xsi:type="dcterms:W3CDTF">2021-03-15T17:13:31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