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682-9470-4F4D-9D8A-CF1CDC4E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A82-1A6F-42C6-9E00-8D2E59E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FCC-4938-45BF-8DD6-752CFE3D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E65-017A-4125-BF99-D2B0869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F282-153B-4216-8CDB-A40C875B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C3D-2BD2-4319-8AC9-26256950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8F9B-ECD2-4561-8401-D64151F1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BA58-CBC0-44BC-A03C-6519C33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8E0-6183-46A8-BB6B-F8B4EBD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930-A028-42A9-8365-F3CF575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7580-590D-4523-A290-3465A3A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B3D-8711-4D08-901D-CD6EE35E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39E-9F3F-4CF9-A519-4337BB1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782-1A08-42FD-93EE-7411CC9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2866-7D63-4846-A1CC-061C6272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5E3E-AEC5-4ED0-A9D9-C9CABA33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9A84-9E66-4691-A04C-38C2CD33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852-B7EC-4C29-A7E4-CCEEBCE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ADE-8AC9-4F75-8B62-1006A84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614-0AAD-4CF6-A3A7-05053CA6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261-A850-4B8E-BD70-36B5174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5DB-49AC-46F2-BEE4-6FAD0F0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1D9-0694-4C97-B8D8-04EAF41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4FB-A5E0-4C6A-88C1-E9092E6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orina E.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26FF-6502-4E17-9D2C-A4B30BCB14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Gorina E.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3E7-F63E-4BB9-897C-07EA4EF18A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8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Мастер-класс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ubjunctive Moo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Present/Futu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wim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e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l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to the Zoo, I …  … (see) a kangar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in the Nile, I …  … (meet) a crocod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friend of mine, we …  … (talk) for 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mile, I …  … (feel) fin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ul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day off today, I …  … (dance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home late, I …  … (eat) a c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my homework, I …  … (go) for 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the world, every day …  … (be)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of M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How friendly or aggressiv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re you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5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838080"/>
          <a:ext cx="8229600" cy="517212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26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get) stuck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a li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press) all the butto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press) the button "Call"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feel) slightly annoyed, but resign myself to the situ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... (turn) on my Walkman and relax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If I ... (discov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 friend h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d my bi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thout my permission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 (make) a r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 (tell) him he's been wro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ake) a joke of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nothing to him and hide my bik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838080"/>
          <a:ext cx="8382240" cy="4700880"/>
        </p:xfrm>
        <a:graphic>
          <a:graphicData uri="http://schemas.openxmlformats.org/drawingml/2006/table">
            <a:tbl>
              <a:tblPr/>
              <a:tblGrid>
                <a:gridCol w="2793960"/>
                <a:gridCol w="543240"/>
                <a:gridCol w="50450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see) tw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ople fighting i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 street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join) the figh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ry) to stop the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all) the poli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ass) b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come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y with 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yfriend/girl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he/she started dancing with someone els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rab) his/her hand and take him/her from the part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eel) nervou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eel) happy because he/she was having a good tim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o) over and join the dan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304920"/>
          <a:ext cx="8229600" cy="550224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get) on 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s and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ee) only one seat left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(rush) to get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 (rush) the person who was standing nearest to he seat and get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ee) if there were any old people who might want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ake) no special effort to get there firs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a passer-by ...(push) me by chanc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ush) him, to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something rude to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nothi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mile) at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304920"/>
          <a:ext cx="8229600" cy="610848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36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have) an argument with 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end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: "I won't speak to him/her unless he/she apologizes to me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orget) the offence five minutes lat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hone) him/her and apologiz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wait) and see what will happe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come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ner and 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realize) that t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l was terribl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hrow) it awa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ell) the people how terrible it w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that I could cook bett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, "I'm not hungry."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228600"/>
          <a:ext cx="8229600" cy="623412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39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see) a caricature on me, made by a friend of mine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lam) the door and leave the roo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et) offended but won't show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try) to find something funny in the man and make fun of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burst) laughing and like the fact that I've got something  original in mysel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come) t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 office late an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 boss ... shout a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pologize) politel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keep) sile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ake) excuse to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hout) back and leave the job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1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1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3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4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3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– 20 points: You are kind and ready to hel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. Everyone would be happy to make friends with you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30 points: You are a fairly balanced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 – 40 points: You are a rather aggressive person. No one would like to step  on your foot or make friends with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наклонений в русском язы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 английск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они обозначают? Приведите приме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авните предложения на английском язык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f the weath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good, I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ll g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to the wood (tomorrow or toda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f the weath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er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good, I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ould g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to the wood (tomorrow or toda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м они отличаю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</a:t>
            </a:r>
            <a:br>
              <a:rPr sz="4800"/>
            </a:b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уйте правило о том, какую форму имеют глаголы в сослагательном наклон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(Помните: глагол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to be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имеет одну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у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were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для всех лиц).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к какому времени относится все предлож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bab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 ju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bear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London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g B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me mone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 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Sp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ыл бы я ребенк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я прыгал и игр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 встретил медвежо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, конечно, убеж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 в Лондон я поех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Биг Бен я посет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 Испанию заех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 денег накоп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Ejik"/>
          <p:cNvPicPr/>
          <p:nvPr/>
        </p:nvPicPr>
        <p:blipFill>
          <a:blip r:embed="rId1"/>
          <a:stretch/>
        </p:blipFill>
        <p:spPr>
          <a:xfrm>
            <a:off x="609480" y="2895480"/>
            <a:ext cx="8229600" cy="1971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-609480" y="327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wouldn't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f        V2(ed)                ,         would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1600200"/>
            <a:ext cx="198108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191120" y="1676520"/>
            <a:ext cx="449568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w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а глаголо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m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падае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 V2 (ed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w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 Indefinite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h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значает действ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едшем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2666880" y="2666880"/>
            <a:ext cx="1281240" cy="486000"/>
          </a:xfrm>
          <a:prstGeom prst="rightArrow">
            <a:avLst>
              <a:gd name="adj1" fmla="val 50000"/>
              <a:gd name="adj2" fmla="val 6590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Глаголы в сослагательном наклонении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Subjunctive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Present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Future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) обозначают </a:t>
            </a: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теоретически возможные действия или действия, которые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могли бы</a:t>
            </a: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 иметь место при определенных условиях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e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tiger,  I …  … (say), “Wow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cowboy,  I …  … (watch) a cow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for walk, I …  … (take) my d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lot of money, I …  … (buy) you cak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hone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8:05:35Z</dcterms:created>
  <dc:creator>SAMSUNG</dc:creator>
  <dc:description/>
  <dc:language>en-US</dc:language>
  <cp:lastModifiedBy>Kate</cp:lastModifiedBy>
  <dcterms:modified xsi:type="dcterms:W3CDTF">2021-03-15T17:13:31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