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6D41F-12DF-4F52-AAAC-F3D7FA08A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FA7CF-7E49-4A5C-9253-AE41149D1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26FDA2-76C6-4F16-A1C4-1FE34FE156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D7864D-8F5F-4E6F-A8A4-37D291BFEC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358A30-332D-4AED-BBE1-D69A18ACF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1FE1C-48F9-4810-AC35-C1AFAD9B4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8C429-C80D-4EE5-BE8F-E61F5E8F4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E88BA-EFE6-484F-882E-D54FECA1C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3B0B02-466F-457B-8853-DACD21E05B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AB5CE2-5D5B-479E-8C48-C6B8CCB4DC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B04F50-51AB-4A2E-8A07-28B346625B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70C4B4-B052-42B2-B0DC-C479A088FC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E8B73-FBE6-41CC-8AA7-21AB5CFA5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663B8A-8E94-479A-AECE-40E59A2E44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E24C75-E2E3-40E5-A24D-23F70D8BC8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2B4C02-E549-492E-8544-A0D12BCBEF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C1BF69-19EA-4E3D-BCC1-3BDE51778D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EAC1F5-900D-40DA-988C-E951380B4F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B66777-3F3D-47BC-B2D1-19EDFD68D6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2AB2F9-5329-4DD8-ACE9-96F690F899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FCCCB3-4DF3-49A3-8501-920B137E41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22D170-EC27-42E5-A828-599C156309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99C32D-FE57-40D5-A8D1-B745F03958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B3B69-E521-48BE-A7AA-DCEF87DA7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D624CD-2E96-4D14-8A0B-FC2E7FCF47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A8CF4E-0A26-4DD1-B936-A06247C36B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A69DAF-C880-4C0C-940A-5B85257180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957EBF-122B-4B92-822F-F1182FD616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4E400F-D191-457F-85FB-26A2290176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C4ED51-EEF3-4855-B29E-63A0C324D5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7057ED-850A-450E-A508-CE63696591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3F88CF-BDD1-41E9-AB9F-DA3A87B8B4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4A3C45-8F6C-46FA-8C33-35BC99C19E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C3DA3C-5FDB-424D-AB04-F4BED6DE5A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1D58B-84A7-4AAA-A15A-CD245C93E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C203E6-3A62-4BC2-A9CB-7BACDE770F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D285B8-B3E5-4B36-8E16-1B695659E7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3EE70D-BF33-4AAD-A640-3B01ED914D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E8BD88-C8C6-46B1-A156-F11585F734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6E286F-414E-4769-98D1-FA5F9D47BB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498535-4F7C-429B-89C9-C129BD6634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4D39D5-D5B1-4AA9-BABF-04F90F1077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1AF795-1CF1-476B-A1B8-B6BACE07A2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FDAD49-4676-487B-BC17-95BDF53B47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585048-6A83-4DE5-B18C-41FC885191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D2D63-791B-406F-9F83-0BAB225E4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81B498-3ADD-4DF6-99A8-3D6C3AEE66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287562-5F19-40F5-ADEA-807404357C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0864C9-EBCB-455E-ADAC-1662758548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7C3051-7DE0-47FA-8CCB-CA5F5B99C3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ACECF2-C999-4A79-B0A6-315BD39059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844312-8551-44D3-837C-D8560D7322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17B2DE-0B00-4CD6-9932-11A7758D17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454149-A143-4BD9-AFD3-39EFBC5048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250AD2-3FD5-43EE-9DB9-3038DF780F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2922C8-D334-4555-9513-89ACDFE05A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49BC7-DB4F-4FB6-8386-E437C2959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F2B480-931D-4D93-A5AE-79DDE98434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7158E0-6C3E-430D-8D2E-59CB67352F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643598-9E2F-403F-83C9-019FC11967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72CE57-95A0-4048-AF70-39535BB824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3EE9A1-9B2A-431D-868F-B5DE635276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392969-837D-4B16-B969-6A208A4169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5F7CFA7-9178-43FC-9BEF-BC7D932672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31189A-E883-49D7-8581-11AA1D128DC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0D08D2-23F0-4E9A-AB01-A83FF7289B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9A2435-3601-4803-B90F-5FC6BDBA474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84412-5946-4132-B6D8-3E8D81388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44BF30-12CD-4C41-BFC5-0B9C3F4334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2E4408-8512-491D-9828-579D2BC955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419943-27BF-4FA1-B763-8B6A66B61F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AF2213-B119-4F6A-A8DD-6704F85EAF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FACE31-E590-4D1C-8106-9534ECEE98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88957A-5B4B-442C-AD66-1A71C054C2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857B6A-8C52-4424-A494-4F9AD1F32D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9D53B6-624F-4D6C-B94A-1BB6E4662D9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621A3F3-3851-4621-A8C7-5C29A2FC16B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A6FA3-FC05-444C-8728-BA5171FD6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5DBD9-FAD3-4D90-91A7-8C8207BE0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4EC5A-E7FA-40EA-922F-9FEEFC33F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FCB56-481E-4112-B631-24F40F01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10261-78F9-46CB-A6AF-B2399FDA1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4D2D5-A2C1-4B49-A8ED-C30AD71E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C5A01-7194-4223-A427-6A84730FE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EEBD3-BE2C-4D8A-9EFD-AAFB76E9E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3B21B-5B33-415B-99F8-995FF1245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CF274D-CC97-4E3F-AB6A-1CCA88229B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44895-9D3F-401C-BF77-0547EE724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8679F-AE02-4C03-A1FF-879113DF3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FBD43-D316-4E84-A28E-6B8E02687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D48CB-68C6-48E7-829B-1CD971D74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17CA-78A3-49C9-A6ED-AF61F0E11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0C034-6928-47C3-B058-FB588950E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7DE338-71DA-4506-9FBD-5D25F9CAD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4F8F0-A8A2-4767-9047-65891D430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49D7B-77A3-4E99-BF26-75D3D79E1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E2EE3-C645-4A46-8673-1CE0120FA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251572-75F8-4B6C-8EF6-D71BBC8321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0328EC-EC07-4D55-AB6E-495F8A3E9C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35B001-69C0-4844-AC38-AC5EF270CE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63E83-AA2D-457C-825E-C444F3EF5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C11D5-C6E3-4BB3-9C02-53C446F75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C79C5-DF4C-4A7B-BFCA-4B5DD3A5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27A13-7D78-4814-BA21-D043E3F86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2BCB5-1420-49D0-B45B-6000CF33CC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95779-C5C0-4784-A076-5679DCB88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64720-D3FE-4CBD-B80C-299A46834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A3033-F5D3-41E7-BC17-910BD93A5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5303E-56AD-4180-8E54-B8D624AD4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77101-54B5-4588-B369-6D959756B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2187AB-4F46-40A6-8686-899DA45C7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3B0E7-E26D-4E3F-B280-9A2BB16DF1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339B7D-75D8-47F9-A4ED-0EF32BEDD7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A2A6-AED7-41EF-B5C7-1246D1BD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0B272-8C35-4A33-BDDA-3F7882013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F17D1-81DA-47DB-9836-F0BD13ED2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8CA93-2910-40FF-BDE3-D4509BECB3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03EFB-7514-4363-BB5F-D3CC0F552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F90D3-0DEA-4FD4-8667-E0297860B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D36DE-99D4-4E47-8984-B38981595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BF81D-5D4F-4838-B7F8-4C8AF8F33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74175-8E6F-487A-8A1F-C9F420F7A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E157E2-40A2-412A-BB61-37908CDDB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A96D6E-471C-4182-9E4B-69F1644149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7A66-448C-48C7-A1ED-EF464350A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438FEF-30B5-4B03-895E-265C8AD1C7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8DEF58-BD49-4D90-BB64-DC4357658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84102-7279-4874-BB41-8A3B6D1E1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D3F50-102A-4D21-ABE5-529408BC7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AC19AA-4487-4633-B377-FDEE26DBD1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7C0733-4BA1-434D-8C24-F62988643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679122-124C-474C-BF59-11471ACC65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8AA82-3872-4D9D-A42C-1BB9F0891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9D98E-E419-4E77-91DF-521A6E028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3021D-A5C8-4E8E-9967-CA85F3F44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6CB6-504B-4DA7-8001-811348BB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7C09CC-4A67-4AD5-BFF9-DA84E7347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45CB70-DE95-49DA-A9A0-8B1C342BD0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2783DD-BFDF-4E72-BA13-B85124AD34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F4DC92-9977-4B95-90F8-E0F396AF00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C98D9-A6A9-4974-9CE4-87AAF0BB2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65222B-B288-4584-AECA-995ED1FD03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1D8B4-0894-44C5-93A1-7A350D90B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01373-A973-4257-9F64-B4E7D8219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7F6CAC-95E7-42F6-BAC6-28A5B47A81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1B926-9465-4B43-9FF7-E348611FA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306A-E1BA-4440-AA97-BF0370098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AED93-CC30-49F1-8D26-63A20577E3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E36D8-FD40-4552-A6CC-20EA344AA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1AEA95-991F-494D-B12D-7A1E0D55D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9A600-B468-4D29-84EC-1F348B0099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315DB7-07FC-4493-9BD8-7AA2DD9042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6663DD-1417-4DCC-82B3-47BEC0098C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FBEAF-3442-4A7A-AD52-15E323F703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67B09B-F0DC-488B-B2AA-8E30146421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BDB39A-7D08-40F4-93D4-46D9AF0348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4F9339-80B7-49CB-B26D-2E0AA3407F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D56DC-9E97-48F8-AA2E-B6D76726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6B8BF-3914-47F7-9279-6C344569F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F76B9-524A-43A7-95B0-BDD53C83E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88779-E542-4E11-97E5-031672A84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3EF42-6C07-462E-BD11-4DB9DC2F7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A0E68B-BF87-4284-AE3F-CC2BDBFEB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5FF4F1-5756-4DFA-8C50-9E75D0778C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DBFA42-DB1A-46B4-81A2-786F9D7EF9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D6C17F-2B72-4709-B7F2-62B859FFF6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BF0A8-4FDB-4369-9571-1D28D798F2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9AE48-800E-442E-BC69-EACDF35F34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4D1B-C3B0-46AF-81DF-5BE44E6EE29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5099-8AF5-49DB-BD43-43ED34B85C3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386B-F8B7-4AF5-931D-40FF3C36564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D2A1-B156-4253-9887-F834FF882BB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77A3-68D8-4B7E-87E0-AE3335520D1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FF1A-F2BE-4CC5-AA5D-951B1B5A93E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8509-26EE-44B9-8D76-16EF860D530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Рисунок 6" descr="post-279854-1298288370.png"/>
          <p:cNvPicPr/>
          <p:nvPr/>
        </p:nvPicPr>
        <p:blipFill>
          <a:blip r:embed="rId3"/>
          <a:stretch/>
        </p:blipFill>
        <p:spPr>
          <a:xfrm>
            <a:off x="7500960" y="-428760"/>
            <a:ext cx="1643040" cy="1643040"/>
          </a:xfrm>
          <a:prstGeom prst="rect">
            <a:avLst/>
          </a:prstGeom>
          <a:ln w="0">
            <a:noFill/>
          </a:ln>
        </p:spPr>
      </p:pic>
      <p:pic>
        <p:nvPicPr>
          <p:cNvPr id="83" name="Рисунок 7" descr="post-279854-1298288370.png"/>
          <p:cNvPicPr/>
          <p:nvPr/>
        </p:nvPicPr>
        <p:blipFill>
          <a:blip r:embed="rId4"/>
          <a:stretch/>
        </p:blipFill>
        <p:spPr>
          <a:xfrm>
            <a:off x="0" y="214200"/>
            <a:ext cx="2357280" cy="2071800"/>
          </a:xfrm>
          <a:prstGeom prst="rect">
            <a:avLst/>
          </a:prstGeom>
          <a:ln w="0">
            <a:noFill/>
          </a:ln>
        </p:spPr>
      </p:pic>
      <p:pic>
        <p:nvPicPr>
          <p:cNvPr id="84" name="Рисунок 8" descr="97e6b01896c7.png"/>
          <p:cNvPicPr/>
          <p:nvPr/>
        </p:nvPicPr>
        <p:blipFill>
          <a:blip r:embed="rId5"/>
          <a:stretch/>
        </p:blipFill>
        <p:spPr>
          <a:xfrm rot="20340000">
            <a:off x="-628200" y="-348840"/>
            <a:ext cx="3330360" cy="26812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076B-DD73-4593-A4D5-9F98A9FB17A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Рисунок 6" descr="post-279854-1298288370.png"/>
          <p:cNvPicPr/>
          <p:nvPr/>
        </p:nvPicPr>
        <p:blipFill>
          <a:blip r:embed="rId3"/>
          <a:stretch/>
        </p:blipFill>
        <p:spPr>
          <a:xfrm>
            <a:off x="7500960" y="-428760"/>
            <a:ext cx="1643040" cy="1643040"/>
          </a:xfrm>
          <a:prstGeom prst="rect">
            <a:avLst/>
          </a:prstGeom>
          <a:ln w="0">
            <a:noFill/>
          </a:ln>
        </p:spPr>
      </p:pic>
      <p:pic>
        <p:nvPicPr>
          <p:cNvPr id="127" name="Рисунок 7" descr="post-279854-1298288370.png"/>
          <p:cNvPicPr/>
          <p:nvPr/>
        </p:nvPicPr>
        <p:blipFill>
          <a:blip r:embed="rId4"/>
          <a:stretch/>
        </p:blipFill>
        <p:spPr>
          <a:xfrm>
            <a:off x="0" y="214200"/>
            <a:ext cx="2357280" cy="2071800"/>
          </a:xfrm>
          <a:prstGeom prst="rect">
            <a:avLst/>
          </a:prstGeom>
          <a:ln w="0">
            <a:noFill/>
          </a:ln>
        </p:spPr>
      </p:pic>
      <p:pic>
        <p:nvPicPr>
          <p:cNvPr id="128" name="Рисунок 8" descr="97e6b01896c7.png"/>
          <p:cNvPicPr/>
          <p:nvPr/>
        </p:nvPicPr>
        <p:blipFill>
          <a:blip r:embed="rId5"/>
          <a:stretch/>
        </p:blipFill>
        <p:spPr>
          <a:xfrm rot="20340000">
            <a:off x="-628200" y="-348840"/>
            <a:ext cx="3330360" cy="268128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5C71-4988-49C1-AE57-EDD2471224E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665B-36AC-4057-9FF7-890145CFB9C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C6D2-31A1-4508-A9EC-D971F949050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2366-CAB8-4D21-BDB4-EF677A89994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04A0-A60C-4C90-BC83-B88627E1AF8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E2E1-355E-4157-AB8D-32E6A84061B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Прямоугольник 1" descr=""/>
          <p:cNvPicPr/>
          <p:nvPr/>
        </p:nvPicPr>
        <p:blipFill>
          <a:blip r:embed="rId1"/>
          <a:stretch/>
        </p:blipFill>
        <p:spPr>
          <a:xfrm>
            <a:off x="2871720" y="1195560"/>
            <a:ext cx="4876920" cy="338904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Мелодия_4.wma.mp3" descr=""/>
          <p:cNvPicPr/>
          <p:nvPr/>
        </p:nvPicPr>
        <p:blipFill>
          <a:blip r:embed="rId1"/>
          <a:stretch/>
        </p:blipFill>
        <p:spPr>
          <a:xfrm>
            <a:off x="1071720" y="4714920"/>
            <a:ext cx="304560" cy="304920"/>
          </a:xfrm>
          <a:prstGeom prst="rect">
            <a:avLst/>
          </a:prstGeom>
          <a:ln w="0">
            <a:noFill/>
          </a:ln>
        </p:spPr>
      </p:pic>
      <p:pic>
        <p:nvPicPr>
          <p:cNvPr id="618" name="Picture 4" descr="C:\Documents and Settings\мама\Рабочий стол\МОЯ семья\013.jpg"/>
          <p:cNvPicPr/>
          <p:nvPr/>
        </p:nvPicPr>
        <p:blipFill>
          <a:blip r:embed="rId2"/>
          <a:stretch/>
        </p:blipFill>
        <p:spPr>
          <a:xfrm>
            <a:off x="642960" y="285840"/>
            <a:ext cx="8143920" cy="6262560"/>
          </a:xfrm>
          <a:prstGeom prst="rect">
            <a:avLst/>
          </a:prstGeom>
          <a:ln w="0">
            <a:noFill/>
          </a:ln>
        </p:spPr>
      </p:pic>
      <p:sp>
        <p:nvSpPr>
          <p:cNvPr id="619" name="Rectangle 4"/>
          <p:cNvSpPr/>
          <p:nvPr/>
        </p:nvSpPr>
        <p:spPr>
          <a:xfrm>
            <a:off x="900000" y="404640"/>
            <a:ext cx="777564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ционный стенд. </a:t>
            </a:r>
            <a:r>
              <a:rPr b="0" lang="ru-RU" sz="1800" spc="-1" strike="noStrike">
                <a:solidFill>
                  <a:srgbClr val="000000"/>
                </a:solidFill>
                <a:latin typeface="Arial"/>
              </a:rPr>
              <a:t> Материал на стенде должен меняться      ежемесячно.  В папке разложен помесячно, в зависимости от групп речевых и неречевых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ирование и проведение консультаций с использованием ИКТ.</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сайте детского сада или  на страничке учителя- логопеда родители получают информацию и практические советы о том, как грамотно проводить упражнения, игры, задания, для детей, нуждающихся в постоянной логопедической поддержке. Для отчёта скрин страничк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Дневник красивой и правильной речи</a:t>
            </a:r>
            <a:r>
              <a:rPr b="0" lang="ru-RU" sz="1800" spc="-1" strike="noStrike">
                <a:solidFill>
                  <a:srgbClr val="000000"/>
                </a:solidFill>
                <a:latin typeface="Arial"/>
              </a:rPr>
              <a:t> представляет собой обычную тетрадь. В нем записываются индивидуальные домашние задания по коррекции звукопроизношения. На первой странице в дневнике отображается экран звукопроизношения, который показывает количество нарушенных звуков у ребенка и динамику исправления звукопроизношения. Родители видят, как продвигается процесс коррекции звуков.  «П»- звук требует постановки; выполняем артикуляционные упражнения «А»- звук требует автоматизации в слогах, словах; «Д»- звуки нуждаются в дифференциации; «С»- необходимо следить за правильностью произношения этого звука в самостоятельной реч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spd="slow">
    <p:checker dir="horz"/>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79775" fill="hold"/>
                                        <p:tgtEl>
                                          <p:spTgt spid="6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Мелодия_4.wma.mp3" descr=""/>
          <p:cNvPicPr/>
          <p:nvPr/>
        </p:nvPicPr>
        <p:blipFill>
          <a:blip r:embed="rId1"/>
          <a:stretch/>
        </p:blipFill>
        <p:spPr>
          <a:xfrm>
            <a:off x="1071720" y="4714920"/>
            <a:ext cx="304560" cy="304920"/>
          </a:xfrm>
          <a:prstGeom prst="rect">
            <a:avLst/>
          </a:prstGeom>
          <a:ln w="0">
            <a:noFill/>
          </a:ln>
        </p:spPr>
      </p:pic>
      <p:pic>
        <p:nvPicPr>
          <p:cNvPr id="621" name="Picture 4" descr="C:\Documents and Settings\мама\Рабочий стол\МОЯ семья\013.jpg"/>
          <p:cNvPicPr/>
          <p:nvPr/>
        </p:nvPicPr>
        <p:blipFill>
          <a:blip r:embed="rId2"/>
          <a:stretch/>
        </p:blipFill>
        <p:spPr>
          <a:xfrm>
            <a:off x="642960" y="285840"/>
            <a:ext cx="8143920" cy="6262560"/>
          </a:xfrm>
          <a:prstGeom prst="rect">
            <a:avLst/>
          </a:prstGeom>
          <a:ln w="0">
            <a:noFill/>
          </a:ln>
        </p:spPr>
      </p:pic>
      <p:sp>
        <p:nvSpPr>
          <p:cNvPr id="622" name="Rectangle 4"/>
          <p:cNvSpPr/>
          <p:nvPr/>
        </p:nvSpPr>
        <p:spPr>
          <a:xfrm>
            <a:off x="900000" y="404640"/>
            <a:ext cx="7775640" cy="6481800"/>
          </a:xfrm>
          <a:prstGeom prst="rect">
            <a:avLst/>
          </a:prstGeom>
          <a:noFill/>
          <a:ln w="0">
            <a:noFill/>
          </a:ln>
        </p:spPr>
        <p:style>
          <a:lnRef idx="0"/>
          <a:fillRef idx="0"/>
          <a:effectRef idx="0"/>
          <a:fontRef idx="minor"/>
        </p:style>
        <p:txBody>
          <a:bodyPr lIns="90000" rIns="90000" tIns="46800" bIns="46800" anchor="t">
            <a:spAutoFit/>
          </a:bodyPr>
          <a:p>
            <a:pPr marL="2286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ВЫПОЛНЕНИЯ ЗАДАНИЙ.</a:t>
            </a:r>
            <a:endParaRPr b="0" lang="en-US" sz="1800" spc="-1" strike="noStrike">
              <a:solidFill>
                <a:srgbClr val="000000"/>
              </a:solidFill>
              <a:latin typeface="Arial"/>
            </a:endParaRPr>
          </a:p>
          <a:p>
            <a:pPr marL="2286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рточки копируются или остаются на всю неделю дома..</a:t>
            </a:r>
            <a:endParaRPr b="0" lang="en-US" sz="18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традь приносить в понедельник, забирать в пятницу.</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ниматься дома ежедневно по 10-15 минут, повторяя задания из тетради.</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ртикуляционные упражнения выполнять каждый день перед зеркалом по 5-10 раз.</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во, фразу, предложение произносить спокойно, на выдохе. Следить за правильным произношением отрабатываемого звука.</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1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дания выполнять полностью и аккуратно.</a:t>
            </a:r>
            <a:endParaRPr b="0" lang="en-US" sz="1800" spc="-1" strike="noStrike">
              <a:solidFill>
                <a:srgbClr val="000000"/>
              </a:solidFill>
              <a:latin typeface="Arial"/>
            </a:endParaRPr>
          </a:p>
          <a:p>
            <a:pPr marL="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286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spd="slow">
    <p:checker dir="horz"/>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79775" fill="hold"/>
                                        <p:tgtEl>
                                          <p:spTgt spid="6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Мелодия_4.wma.mp3" descr=""/>
          <p:cNvPicPr/>
          <p:nvPr/>
        </p:nvPicPr>
        <p:blipFill>
          <a:blip r:embed="rId1"/>
          <a:stretch/>
        </p:blipFill>
        <p:spPr>
          <a:xfrm>
            <a:off x="1071720" y="4714920"/>
            <a:ext cx="304560" cy="304920"/>
          </a:xfrm>
          <a:prstGeom prst="rect">
            <a:avLst/>
          </a:prstGeom>
          <a:ln w="0">
            <a:noFill/>
          </a:ln>
        </p:spPr>
      </p:pic>
      <p:pic>
        <p:nvPicPr>
          <p:cNvPr id="624"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625" name="Rectangle 5"/>
          <p:cNvSpPr/>
          <p:nvPr/>
        </p:nvSpPr>
        <p:spPr>
          <a:xfrm>
            <a:off x="755640" y="3419280"/>
            <a:ext cx="8064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626" name="Rectangle 6"/>
          <p:cNvSpPr/>
          <p:nvPr/>
        </p:nvSpPr>
        <p:spPr>
          <a:xfrm>
            <a:off x="755640" y="404640"/>
            <a:ext cx="7848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минары – практикумы с участием детей</a:t>
            </a:r>
            <a:r>
              <a:rPr b="0" lang="ru-RU" sz="1800" spc="-1" strike="noStrike">
                <a:solidFill>
                  <a:srgbClr val="000000"/>
                </a:solidFill>
                <a:latin typeface="Arial"/>
              </a:rPr>
              <a:t> проводятся с целью практического овладения родителями способами и приемами работы с детьми дома по устранению речевых нарушений.  Эта форма позволяет   доступно и наглядно изложить в практической форме способы работы с детьми по тому или иному заданию. Так  демонстрируются фрагменты занятий, комментируются действия детей, задачи, последовательность выполнения заданий, тем самым родителей обучаем  игровым приемам, развиваем навыки общения с ребенком и коррекции его речевых нарушений. Как правило, данная форма работы проводится по подгруппам. Заполняется лист регистр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000000"/>
                </a:solidFill>
                <a:latin typeface="Arial"/>
              </a:rPr>
              <a:t> </a:t>
            </a:r>
            <a:r>
              <a:rPr b="1" lang="ru-RU" sz="1800" spc="-1" strike="noStrike">
                <a:solidFill>
                  <a:srgbClr val="000000"/>
                </a:solidFill>
                <a:latin typeface="Arial"/>
              </a:rPr>
              <a:t>Индивидуальные открытые занятия</a:t>
            </a:r>
            <a:r>
              <a:rPr b="0" lang="ru-RU" sz="1800" spc="-1" strike="noStrike">
                <a:solidFill>
                  <a:srgbClr val="000000"/>
                </a:solidFill>
                <a:latin typeface="Arial"/>
              </a:rPr>
              <a:t> знакомят родителей с практическими приемами автоматизации звуков. На этих занятиях они получают необходимые знания, находят ответы на вопросы, касающиеся непосредственно хода речевого развития их ребенка. Полученные знания они используют при выполнении индивидуальных домашних заданий по дневнику красивой и правильной речи. </a:t>
            </a:r>
            <a:br>
              <a:rPr sz="1800"/>
            </a:br>
            <a:br>
              <a:rPr sz="1800"/>
            </a:br>
            <a:endParaRPr b="0" lang="en-US" sz="1800" spc="-1" strike="noStrike">
              <a:solidFill>
                <a:srgbClr val="000000"/>
              </a:solidFill>
              <a:latin typeface="Arial"/>
            </a:endParaRPr>
          </a:p>
        </p:txBody>
      </p:sp>
    </p:spTree>
  </p:cSld>
  <p:transition spd="slow">
    <p:checker dir="horz"/>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79775"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Мелодия_4.wma.mp3" descr=""/>
          <p:cNvPicPr/>
          <p:nvPr/>
        </p:nvPicPr>
        <p:blipFill>
          <a:blip r:embed="rId1"/>
          <a:stretch/>
        </p:blipFill>
        <p:spPr>
          <a:xfrm>
            <a:off x="1071720" y="4714920"/>
            <a:ext cx="304560" cy="304920"/>
          </a:xfrm>
          <a:prstGeom prst="rect">
            <a:avLst/>
          </a:prstGeom>
          <a:ln w="0">
            <a:noFill/>
          </a:ln>
        </p:spPr>
      </p:pic>
      <p:pic>
        <p:nvPicPr>
          <p:cNvPr id="582" name="Picture 4" descr="C:\Documents and Settings\мама\Рабочий стол\МОЯ семья\013.jpg"/>
          <p:cNvPicPr/>
          <p:nvPr/>
        </p:nvPicPr>
        <p:blipFill>
          <a:blip r:embed="rId2"/>
          <a:stretch/>
        </p:blipFill>
        <p:spPr>
          <a:xfrm>
            <a:off x="684360" y="260280"/>
            <a:ext cx="8143560" cy="6262920"/>
          </a:xfrm>
          <a:prstGeom prst="rect">
            <a:avLst/>
          </a:prstGeom>
          <a:ln w="0">
            <a:noFill/>
          </a:ln>
        </p:spPr>
      </p:pic>
      <p:sp>
        <p:nvSpPr>
          <p:cNvPr id="583" name="Rectangle 11"/>
          <p:cNvSpPr/>
          <p:nvPr/>
        </p:nvSpPr>
        <p:spPr>
          <a:xfrm>
            <a:off x="755640" y="612720"/>
            <a:ext cx="784872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Одна из задач по ФГОС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спечение психолого-педагогической поддержки семьи и повышение компетентности родителей (законных представителей) в вопросах развития и образования, охраны и укрепления здоровья детей, вовлечение семей непосредственно в образовательную деятельность.</a:t>
            </a:r>
            <a:endParaRPr b="0" lang="en-US" sz="1800" spc="-1" strike="noStrike">
              <a:solidFill>
                <a:srgbClr val="000000"/>
              </a:solidFill>
              <a:latin typeface="Arial"/>
            </a:endParaRPr>
          </a:p>
        </p:txBody>
      </p:sp>
      <p:sp>
        <p:nvSpPr>
          <p:cNvPr id="584" name="Rectangle 12"/>
          <p:cNvSpPr/>
          <p:nvPr/>
        </p:nvSpPr>
        <p:spPr>
          <a:xfrm>
            <a:off x="971640" y="2349360"/>
            <a:ext cx="77040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Стандарт является основой для</a:t>
            </a:r>
            <a:r>
              <a:rPr b="0" lang="ru-RU" sz="1800" spc="-1" strike="noStrike">
                <a:solidFill>
                  <a:srgbClr val="000000"/>
                </a:solidFill>
                <a:latin typeface="Arial"/>
              </a:rPr>
              <a:t>:                                                оказания помощи родителям (законным представителям) в воспитании детей, охране и укреплении их физического и психического здоровья, в развитии индивидуальных способностей и необходимой коррекции нарушений их развития</a:t>
            </a:r>
            <a:endParaRPr b="0" lang="en-US" sz="1800" spc="-1" strike="noStrike">
              <a:solidFill>
                <a:srgbClr val="000000"/>
              </a:solidFill>
              <a:latin typeface="Arial"/>
            </a:endParaRPr>
          </a:p>
        </p:txBody>
      </p:sp>
      <p:sp>
        <p:nvSpPr>
          <p:cNvPr id="585" name="Rectangle 13"/>
          <p:cNvSpPr/>
          <p:nvPr/>
        </p:nvSpPr>
        <p:spPr>
          <a:xfrm>
            <a:off x="900000" y="4021560"/>
            <a:ext cx="777564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Условия, необходимые для создания социальной ситуации развития детей, соответствующей специфике дошкольного возраста, предполагают:</a:t>
            </a:r>
            <a:r>
              <a:rPr b="0" lang="ru-RU" sz="1800" spc="-1" strike="noStrike">
                <a:solidFill>
                  <a:srgbClr val="c0504d"/>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заимодействие с родителями (законными представителями) по вопросам образования ребенка, непосредственного вовлечения их в образовательную деятельность, в том числе посредством создания образовательных проектов совместно с семьей на основе выявления потребностей и поддержки образовательных инициатив семьи, консультативной поддержки.</a:t>
            </a:r>
            <a:endParaRPr b="0" lang="en-US" sz="1800" spc="-1" strike="noStrike">
              <a:solidFill>
                <a:srgbClr val="000000"/>
              </a:solidFill>
              <a:latin typeface="Arial"/>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Мелодия_4.wma.mp3" descr=""/>
          <p:cNvPicPr/>
          <p:nvPr/>
        </p:nvPicPr>
        <p:blipFill>
          <a:blip r:embed="rId1"/>
          <a:stretch/>
        </p:blipFill>
        <p:spPr>
          <a:xfrm>
            <a:off x="1071720" y="4714920"/>
            <a:ext cx="304560" cy="304920"/>
          </a:xfrm>
          <a:prstGeom prst="rect">
            <a:avLst/>
          </a:prstGeom>
          <a:ln w="0">
            <a:noFill/>
          </a:ln>
        </p:spPr>
      </p:pic>
      <p:pic>
        <p:nvPicPr>
          <p:cNvPr id="587" name="Picture 4" descr="C:\Documents and Settings\мама\Рабочий стол\МОЯ семья\013.jpg"/>
          <p:cNvPicPr/>
          <p:nvPr/>
        </p:nvPicPr>
        <p:blipFill>
          <a:blip r:embed="rId2"/>
          <a:stretch/>
        </p:blipFill>
        <p:spPr>
          <a:xfrm>
            <a:off x="684360" y="260280"/>
            <a:ext cx="8143560" cy="6262920"/>
          </a:xfrm>
          <a:prstGeom prst="rect">
            <a:avLst/>
          </a:prstGeom>
          <a:ln w="0">
            <a:noFill/>
          </a:ln>
        </p:spPr>
      </p:pic>
      <p:sp>
        <p:nvSpPr>
          <p:cNvPr id="588" name="Rectangle 5"/>
          <p:cNvSpPr/>
          <p:nvPr/>
        </p:nvSpPr>
        <p:spPr>
          <a:xfrm>
            <a:off x="826920" y="340200"/>
            <a:ext cx="7993080" cy="25628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Основные принципы взаимодействия учителя-логопеда с родителями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брожелательный стиль общения педагогов с родителями.</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видуальный подход.</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трудничество, а не наставничество.</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ьезная подготовка.</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мичнос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89" name="Rectangle 6"/>
          <p:cNvSpPr/>
          <p:nvPr/>
        </p:nvSpPr>
        <p:spPr>
          <a:xfrm>
            <a:off x="900000" y="2853720"/>
            <a:ext cx="755964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Работа с родителями должна соответствовать следующим задач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тановить партнёрские отношения с семьёй каждого воспитанника;</a:t>
            </a:r>
            <a:br>
              <a:rPr sz="1800"/>
            </a:br>
            <a:r>
              <a:rPr b="0" lang="ru-RU" sz="1800" spc="-1" strike="noStrike">
                <a:solidFill>
                  <a:srgbClr val="000000"/>
                </a:solidFill>
                <a:latin typeface="Arial"/>
              </a:rPr>
              <a:t>• Сформировать потребности в участии в коррекции речи ребенка.</a:t>
            </a:r>
            <a:br>
              <a:rPr sz="1800"/>
            </a:br>
            <a:r>
              <a:rPr b="0" lang="ru-RU" sz="1800" spc="-1" strike="noStrike">
                <a:solidFill>
                  <a:srgbClr val="000000"/>
                </a:solidFill>
                <a:latin typeface="Arial"/>
              </a:rPr>
              <a:t>• Приобщить родителей к участию в коррекционном процессе через поиск и  внедрение наиболее эффективных форм работы.</a:t>
            </a:r>
            <a:br>
              <a:rPr sz="1800"/>
            </a:br>
            <a:r>
              <a:rPr b="0" lang="ru-RU" sz="1800" spc="-1" strike="noStrike">
                <a:solidFill>
                  <a:srgbClr val="000000"/>
                </a:solidFill>
                <a:latin typeface="Arial"/>
              </a:rPr>
              <a:t>• Повысить грамотность родителей в области развития и коррекции речи.</a:t>
            </a:r>
            <a:br>
              <a:rPr sz="1800"/>
            </a:br>
            <a:r>
              <a:rPr b="0" lang="ru-RU" sz="1800" spc="-1" strike="noStrike">
                <a:solidFill>
                  <a:srgbClr val="000000"/>
                </a:solidFill>
                <a:latin typeface="Arial"/>
              </a:rPr>
              <a:t>• Расширить общую психолого-педагогическую осведомленность родителей.</a:t>
            </a:r>
            <a:br>
              <a:rPr sz="1800"/>
            </a:br>
            <a:r>
              <a:rPr b="0" lang="ru-RU" sz="1800" spc="-1" strike="noStrike">
                <a:solidFill>
                  <a:srgbClr val="000000"/>
                </a:solidFill>
                <a:latin typeface="Arial"/>
              </a:rPr>
              <a:t>• Формировать адекватную воспитательную позицию в отношении к ребенку. </a:t>
            </a:r>
            <a:endParaRPr b="0" lang="en-US" sz="1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79775" fill="hold"/>
                                        <p:tgtEl>
                                          <p:spTgt spid="5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Мелодия_4.wma.mp3" descr=""/>
          <p:cNvPicPr/>
          <p:nvPr/>
        </p:nvPicPr>
        <p:blipFill>
          <a:blip r:embed="rId1"/>
          <a:stretch/>
        </p:blipFill>
        <p:spPr>
          <a:xfrm>
            <a:off x="1071720" y="4714920"/>
            <a:ext cx="304560" cy="304920"/>
          </a:xfrm>
          <a:prstGeom prst="rect">
            <a:avLst/>
          </a:prstGeom>
          <a:ln w="0">
            <a:noFill/>
          </a:ln>
        </p:spPr>
      </p:pic>
      <p:pic>
        <p:nvPicPr>
          <p:cNvPr id="591"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592" name="Rectangle 5"/>
          <p:cNvSpPr/>
          <p:nvPr/>
        </p:nvSpPr>
        <p:spPr>
          <a:xfrm>
            <a:off x="900000" y="1367640"/>
            <a:ext cx="7777440" cy="480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огласие родителей (законных представителей)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на   логопедическое сопровождение ребенка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г. Волгоград                                                                                          «____»_________20___г.</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Я _____________________________________________________________________,</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И.О. родителя (законного представителя)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являясь родителем (законным представителем) _____________________________________</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И.О., дата рождения ребенка)</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ю согласие на его (ее)   логопедическое сопровождение в муниципальном дошкольном образовательном учреждении «Детский сад  №16 Красноармейского района Волгограда»  (далее МОУ Детский сад №16), находящемся по адресу: 400086, Волгоград, ул. Судостроительная 39Б</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огопедическое сопровождение ребенка включает в себя: логопедическое обследование,  фронтальные, подгрупповые и  индивидуальные занятия с ребенком, консультирование родителей.</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u="sng">
                <a:solidFill>
                  <a:srgbClr val="000000"/>
                </a:solidFill>
                <a:uFillTx/>
                <a:latin typeface="Arial"/>
              </a:rPr>
              <a:t>Учитель-логопед:</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редоставляет информацию о результатах   логопедического обследования ребенка при обращении родителей (законных представителей);</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 разглашает информацию, полученную в процессе индивидуальной беседы с ребенком и его родителями;</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разрабатывает рекомендации воспитателям группы для осуществления индивидуальной работ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редоставляет информацию о ребенке при оформлении на психолого – медико -педагогическую комиссию (ПМПК).</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Конфиденциальность может быть нарушена в следующих ситуациях</a:t>
            </a:r>
            <a:r>
              <a:rPr b="0" i="1" lang="ru-RU"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если ребенок сообщит о намерении нанести серьезный вред себе или другим лицам;</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если ребенок сообщит о жестоком обращении с ним или другими лицами;</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если материалы работы будут затребованы правоохранительными органами.</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 таких ситуациях родитель (законный представитель) будет информирован.</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стоящее согласие дано мной «____»___________20____г.  и действует на время пребывания моего ребенка в МОУ Детский сад №16.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Я оставляю за собой право отозвать свое согласие посредством составления соответствующего письменного документа, который может быть направлен мной в адрес МОУ Детский сад №16 по почте заказным письмом с уведомлением о вручении либо вручен лично под расписку представителю МОУ Детский сад №1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дпись ________________________</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593" name="Прямоугольник 1"/>
          <p:cNvSpPr/>
          <p:nvPr/>
        </p:nvSpPr>
        <p:spPr>
          <a:xfrm>
            <a:off x="822240" y="417600"/>
            <a:ext cx="7932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 обследованием с  родителей берется</a:t>
            </a:r>
            <a:r>
              <a:rPr b="1" lang="ru-RU"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гласие родителей (законных представителей)  на логопедическое   сопровождение   ребенка»</a:t>
            </a:r>
            <a:endParaRPr b="0" lang="en-US" sz="1800" spc="-1" strike="noStrike">
              <a:solidFill>
                <a:srgbClr val="000000"/>
              </a:solidFill>
              <a:latin typeface="Arial"/>
            </a:endParaRPr>
          </a:p>
        </p:txBody>
      </p:sp>
    </p:spTree>
  </p:cSld>
  <p:transition spd="slow">
    <p:checker dir="horz"/>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79775" fill="hold"/>
                                        <p:tgtEl>
                                          <p:spTgt spid="5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Мелодия_4.wma.mp3" descr=""/>
          <p:cNvPicPr/>
          <p:nvPr/>
        </p:nvPicPr>
        <p:blipFill>
          <a:blip r:embed="rId1"/>
          <a:stretch/>
        </p:blipFill>
        <p:spPr>
          <a:xfrm>
            <a:off x="1071720" y="4714920"/>
            <a:ext cx="304560" cy="304920"/>
          </a:xfrm>
          <a:prstGeom prst="rect">
            <a:avLst/>
          </a:prstGeom>
          <a:ln w="0">
            <a:noFill/>
          </a:ln>
        </p:spPr>
      </p:pic>
      <p:pic>
        <p:nvPicPr>
          <p:cNvPr id="595"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596" name="Rectangle 5"/>
          <p:cNvSpPr/>
          <p:nvPr/>
        </p:nvSpPr>
        <p:spPr>
          <a:xfrm>
            <a:off x="1071720" y="414000"/>
            <a:ext cx="7777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первой же беседе беру </a:t>
            </a:r>
            <a:r>
              <a:rPr b="1" lang="ru-RU" sz="1800" spc="-1" strike="noStrike">
                <a:solidFill>
                  <a:srgbClr val="000000"/>
                </a:solidFill>
                <a:latin typeface="Arial"/>
              </a:rPr>
              <a:t>согласие родителей на использование технических средств обуч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7" name="Объект 5"/>
          <p:cNvGraphicFramePr/>
          <p:nvPr/>
        </p:nvGraphicFramePr>
        <p:xfrm>
          <a:off x="1371600" y="1413000"/>
          <a:ext cx="6513480" cy="4608360"/>
        </p:xfrm>
        <a:graphic>
          <a:graphicData uri="http://schemas.openxmlformats.org/presentationml/2006/ole">
            <p:oleObj r:id="rId3" spid="">
              <p:embed/>
              <p:pic>
                <p:nvPicPr>
                  <p:cNvPr id="598" name="Объект 5" descr=""/>
                  <p:cNvPicPr/>
                  <p:nvPr/>
                </p:nvPicPr>
                <p:blipFill>
                  <a:blip r:embed="rId4"/>
                  <a:stretch/>
                </p:blipFill>
                <p:spPr>
                  <a:xfrm>
                    <a:off x="1371600" y="1413000"/>
                    <a:ext cx="6513480" cy="4608360"/>
                  </a:xfrm>
                  <a:prstGeom prst="rect">
                    <a:avLst/>
                  </a:prstGeom>
                  <a:ln w="0">
                    <a:noFill/>
                  </a:ln>
                </p:spPr>
              </p:pic>
            </p:oleObj>
          </a:graphicData>
        </a:graphic>
      </p:graphicFrame>
    </p:spTree>
  </p:cSld>
  <p:transition spd="slow">
    <p:checker dir="horz"/>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79775" fill="hold"/>
                                        <p:tgtEl>
                                          <p:spTgt spid="5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Мелодия_4.wma.mp3" descr=""/>
          <p:cNvPicPr/>
          <p:nvPr/>
        </p:nvPicPr>
        <p:blipFill>
          <a:blip r:embed="rId1"/>
          <a:stretch/>
        </p:blipFill>
        <p:spPr>
          <a:xfrm>
            <a:off x="1071720" y="4714920"/>
            <a:ext cx="304560" cy="304920"/>
          </a:xfrm>
          <a:prstGeom prst="rect">
            <a:avLst/>
          </a:prstGeom>
          <a:ln w="0">
            <a:noFill/>
          </a:ln>
        </p:spPr>
      </p:pic>
      <p:pic>
        <p:nvPicPr>
          <p:cNvPr id="600" name="Picture 4" descr="C:\Documents and Settings\мама\Рабочий стол\МОЯ семья\013.jpg"/>
          <p:cNvPicPr/>
          <p:nvPr/>
        </p:nvPicPr>
        <p:blipFill>
          <a:blip r:embed="rId2"/>
          <a:stretch/>
        </p:blipFill>
        <p:spPr>
          <a:xfrm>
            <a:off x="611280" y="260280"/>
            <a:ext cx="8143920" cy="6262920"/>
          </a:xfrm>
          <a:prstGeom prst="rect">
            <a:avLst/>
          </a:prstGeom>
          <a:ln w="0">
            <a:noFill/>
          </a:ln>
        </p:spPr>
      </p:pic>
      <p:sp>
        <p:nvSpPr>
          <p:cNvPr id="601" name="Rectangle 5"/>
          <p:cNvSpPr/>
          <p:nvPr/>
        </p:nvSpPr>
        <p:spPr>
          <a:xfrm>
            <a:off x="795240" y="349200"/>
            <a:ext cx="77756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нкетирование-  </a:t>
            </a:r>
            <a:r>
              <a:rPr b="0" lang="ru-RU" sz="1800" spc="-1" strike="noStrike">
                <a:solidFill>
                  <a:srgbClr val="000000"/>
                </a:solidFill>
                <a:latin typeface="Arial"/>
              </a:rPr>
              <a:t>анализ анкет, которые заполняют при этом родители, позволяет логопеду более направленно вести индивидуальную работу с родителями и коррекционную работу с детьм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урнал направлений к узким специалистам-</a:t>
            </a:r>
            <a:r>
              <a:rPr b="0" lang="ru-RU" sz="1800" spc="-1" strike="noStrike">
                <a:solidFill>
                  <a:srgbClr val="000000"/>
                </a:solidFill>
                <a:latin typeface="Arial"/>
              </a:rPr>
              <a:t> ведётся журнал, гд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писывается цель направления, результат, родитель пишет, что с направлением согласе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ндивидуальные беседы, консультации -</a:t>
            </a:r>
            <a:r>
              <a:rPr b="0" lang="ru-RU" sz="1800" spc="-1" strike="noStrike">
                <a:solidFill>
                  <a:srgbClr val="000000"/>
                </a:solidFill>
                <a:latin typeface="Arial"/>
              </a:rPr>
              <a:t> ведётся журнал, где записывается цель беседы и родитель пишет что с рекомендациями согласен    и расписывается.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2" name=""/>
          <p:cNvGraphicFramePr/>
          <p:nvPr/>
        </p:nvGraphicFramePr>
        <p:xfrm>
          <a:off x="1187280" y="4127400"/>
          <a:ext cx="7129800" cy="1042920"/>
        </p:xfrm>
        <a:graphic>
          <a:graphicData uri="http://schemas.openxmlformats.org/drawingml/2006/table">
            <a:tbl>
              <a:tblPr/>
              <a:tblGrid>
                <a:gridCol w="363600"/>
                <a:gridCol w="500040"/>
                <a:gridCol w="1513080"/>
                <a:gridCol w="1008000"/>
                <a:gridCol w="720720"/>
                <a:gridCol w="863640"/>
                <a:gridCol w="792000"/>
                <a:gridCol w="1368720"/>
              </a:tblGrid>
              <a:tr h="684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endParaRPr b="0" lang="en-US" sz="1400" spc="-1" strike="noStrike">
                        <a:solidFill>
                          <a:srgbClr val="00000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п</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ат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консультируемый</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вод обращения</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облем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зультат</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дпись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имечание</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1</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Rectangle 1"/>
          <p:cNvSpPr/>
          <p:nvPr/>
        </p:nvSpPr>
        <p:spPr>
          <a:xfrm>
            <a:off x="1187280" y="41274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horz"/>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5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Мелодия_4.wma.mp3" descr=""/>
          <p:cNvPicPr/>
          <p:nvPr/>
        </p:nvPicPr>
        <p:blipFill>
          <a:blip r:embed="rId1"/>
          <a:stretch/>
        </p:blipFill>
        <p:spPr>
          <a:xfrm>
            <a:off x="1071720" y="4714920"/>
            <a:ext cx="304560" cy="304920"/>
          </a:xfrm>
          <a:prstGeom prst="rect">
            <a:avLst/>
          </a:prstGeom>
          <a:ln w="0">
            <a:noFill/>
          </a:ln>
        </p:spPr>
      </p:pic>
      <p:pic>
        <p:nvPicPr>
          <p:cNvPr id="605" name="Picture 4" descr="C:\Documents and Settings\мама\Рабочий стол\МОЯ семья\013.jpg"/>
          <p:cNvPicPr/>
          <p:nvPr/>
        </p:nvPicPr>
        <p:blipFill>
          <a:blip r:embed="rId2"/>
          <a:stretch/>
        </p:blipFill>
        <p:spPr>
          <a:xfrm>
            <a:off x="635040" y="147600"/>
            <a:ext cx="8143920" cy="6262560"/>
          </a:xfrm>
          <a:prstGeom prst="rect">
            <a:avLst/>
          </a:prstGeom>
          <a:ln w="0">
            <a:noFill/>
          </a:ln>
        </p:spPr>
      </p:pic>
      <p:sp>
        <p:nvSpPr>
          <p:cNvPr id="606" name="Rectangle 5"/>
          <p:cNvSpPr/>
          <p:nvPr/>
        </p:nvSpPr>
        <p:spPr>
          <a:xfrm>
            <a:off x="977760" y="450720"/>
            <a:ext cx="77774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окол обследования речи детей- индивидуально с итогами ознакомле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писание занятий логопеда</a:t>
            </a:r>
            <a:r>
              <a:rPr b="0" lang="ru-RU" sz="1800" spc="-1" strike="noStrike">
                <a:solidFill>
                  <a:srgbClr val="000000"/>
                </a:solidFill>
                <a:latin typeface="Arial"/>
              </a:rPr>
              <a:t>- со всеми  детьми учитель –логопед занимаются не менее 3 раз в неделю, о чём информирует род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607" name=""/>
          <p:cNvGraphicFramePr/>
          <p:nvPr/>
        </p:nvGraphicFramePr>
        <p:xfrm>
          <a:off x="1631880" y="1413000"/>
          <a:ext cx="5488200" cy="1373040"/>
        </p:xfrm>
        <a:graphic>
          <a:graphicData uri="http://schemas.openxmlformats.org/drawingml/2006/table">
            <a:tbl>
              <a:tblPr/>
              <a:tblGrid>
                <a:gridCol w="1105560"/>
                <a:gridCol w="3014280"/>
                <a:gridCol w="1023120"/>
                <a:gridCol w="172800"/>
                <a:gridCol w="172800"/>
              </a:tblGrid>
              <a:tr h="195120">
                <a:tc gridSpan="5">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токол обследования речи ребенка  в возрасте 6 лет</a:t>
                      </a:r>
                      <a:endParaRPr b="0" lang="en-US" sz="1200" spc="-1" strike="noStrike">
                        <a:solidFill>
                          <a:srgbClr val="000000"/>
                        </a:solidFill>
                        <a:latin typeface="Arial"/>
                      </a:endParaRPr>
                    </a:p>
                  </a:txBody>
                  <a:tcPr anchor="ctr"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5">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кспресс-диагностика по Т.А.Фотековой)</a:t>
                      </a:r>
                      <a:endParaRPr b="0" lang="en-US" sz="1200" spc="-1" strike="noStrike">
                        <a:solidFill>
                          <a:srgbClr val="000000"/>
                        </a:solidFill>
                        <a:latin typeface="Arial"/>
                      </a:endParaRPr>
                    </a:p>
                  </a:txBody>
                  <a:tcPr anchor="ctr" marL="68400" marR="684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И </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Барсуков Фёдор</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руппа №6</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w="5760">
                      <a:solidFill>
                        <a:srgbClr val="000000"/>
                      </a:solidFill>
                    </a:lnL>
                    <a:lnR>
                      <a:noFill/>
                    </a:lnR>
                    <a:lnT>
                      <a:noFill/>
                    </a:lnT>
                    <a:lnB>
                      <a:no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58752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та обследования</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23.05.2017</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та рождения: 17.07. 2011</a:t>
                      </a:r>
                      <a:endParaRPr b="0" lang="en-US" sz="12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w="5760">
                      <a:solidFill>
                        <a:srgbClr val="000000"/>
                      </a:solidFill>
                    </a:lnL>
                    <a:lnR>
                      <a:noFill/>
                    </a:lnR>
                    <a:lnT>
                      <a:noFill/>
                    </a:lnT>
                    <a:lnB>
                      <a:noFill/>
                    </a:lnB>
                    <a:noFill/>
                  </a:tcPr>
                </a:tc>
                <a:tc>
                  <a:txBody>
                    <a:bodyPr lIns="68400" rIns="6840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bl>
          </a:graphicData>
        </a:graphic>
      </p:graphicFrame>
      <p:sp>
        <p:nvSpPr>
          <p:cNvPr id="608" name="Rectangle 1"/>
          <p:cNvSpPr/>
          <p:nvPr/>
        </p:nvSpPr>
        <p:spPr>
          <a:xfrm>
            <a:off x="1828800" y="327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9" name=""/>
          <p:cNvGraphicFramePr/>
          <p:nvPr/>
        </p:nvGraphicFramePr>
        <p:xfrm>
          <a:off x="977760" y="4084560"/>
          <a:ext cx="7266240" cy="782640"/>
        </p:xfrm>
        <a:graphic>
          <a:graphicData uri="http://schemas.openxmlformats.org/drawingml/2006/table">
            <a:tbl>
              <a:tblPr/>
              <a:tblGrid>
                <a:gridCol w="547920"/>
                <a:gridCol w="1152360"/>
                <a:gridCol w="1405080"/>
                <a:gridCol w="1057320"/>
                <a:gridCol w="1001520"/>
                <a:gridCol w="1042920"/>
                <a:gridCol w="1059120"/>
              </a:tblGrid>
              <a:tr h="52236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п</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ФИО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ебенк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онедельник</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торник</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ред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четверг</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ятниц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hecker dir="horz"/>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Мелодия_4.wma.mp3" descr=""/>
          <p:cNvPicPr/>
          <p:nvPr/>
        </p:nvPicPr>
        <p:blipFill>
          <a:blip r:embed="rId1"/>
          <a:stretch/>
        </p:blipFill>
        <p:spPr>
          <a:xfrm>
            <a:off x="1071720" y="4714920"/>
            <a:ext cx="304560" cy="304920"/>
          </a:xfrm>
          <a:prstGeom prst="rect">
            <a:avLst/>
          </a:prstGeom>
          <a:ln w="0">
            <a:noFill/>
          </a:ln>
        </p:spPr>
      </p:pic>
      <p:pic>
        <p:nvPicPr>
          <p:cNvPr id="611" name="Picture 4" descr="C:\Documents and Settings\мама\Рабочий стол\МОЯ семья\013.jpg"/>
          <p:cNvPicPr/>
          <p:nvPr/>
        </p:nvPicPr>
        <p:blipFill>
          <a:blip r:embed="rId2"/>
          <a:stretch/>
        </p:blipFill>
        <p:spPr>
          <a:xfrm>
            <a:off x="539640" y="260280"/>
            <a:ext cx="8215560" cy="6262920"/>
          </a:xfrm>
          <a:prstGeom prst="rect">
            <a:avLst/>
          </a:prstGeom>
          <a:ln w="0">
            <a:noFill/>
          </a:ln>
        </p:spPr>
      </p:pic>
      <p:sp>
        <p:nvSpPr>
          <p:cNvPr id="612" name="Rectangle 5"/>
          <p:cNvSpPr/>
          <p:nvPr/>
        </p:nvSpPr>
        <p:spPr>
          <a:xfrm>
            <a:off x="971640" y="404640"/>
            <a:ext cx="7777080" cy="588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ся документация под номером 03-14</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лан работы учителя-логопеда с родителями  на учебный г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имается на совете ДОУ и утверждается  заведующим ДОУ.</a:t>
            </a:r>
            <a:r>
              <a:rPr b="1"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ожение о взаимодействии с родителями детей, имеющих речевые нарушения. </a:t>
            </a:r>
            <a:r>
              <a:rPr b="0" lang="ru-RU" sz="1800" spc="-1" strike="noStrike">
                <a:solidFill>
                  <a:srgbClr val="000000"/>
                </a:solidFill>
                <a:latin typeface="Arial"/>
              </a:rPr>
              <a:t>утверждается  заведующим ДОУ.</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13" name=""/>
          <p:cNvGraphicFramePr/>
          <p:nvPr/>
        </p:nvGraphicFramePr>
        <p:xfrm>
          <a:off x="1523880" y="1397160"/>
          <a:ext cx="6096240" cy="3200400"/>
        </p:xfrm>
        <a:graphic>
          <a:graphicData uri="http://schemas.openxmlformats.org/drawingml/2006/table">
            <a:tbl>
              <a:tblPr/>
              <a:tblGrid>
                <a:gridCol w="2032200"/>
                <a:gridCol w="2031840"/>
                <a:gridCol w="20322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сновные направления рабо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держа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роки провед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28852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 с родителями неречевых групп</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 с родителями речевых групп</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p:transition spd="slow">
    <p:checker dir="horz"/>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79775"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Мелодия_4.wma.mp3" descr=""/>
          <p:cNvPicPr/>
          <p:nvPr/>
        </p:nvPicPr>
        <p:blipFill>
          <a:blip r:embed="rId1"/>
          <a:stretch/>
        </p:blipFill>
        <p:spPr>
          <a:xfrm>
            <a:off x="1071720" y="4714920"/>
            <a:ext cx="304560" cy="304920"/>
          </a:xfrm>
          <a:prstGeom prst="rect">
            <a:avLst/>
          </a:prstGeom>
          <a:ln w="0">
            <a:noFill/>
          </a:ln>
        </p:spPr>
      </p:pic>
      <p:pic>
        <p:nvPicPr>
          <p:cNvPr id="615" name="Picture 4" descr="C:\Documents and Settings\мама\Рабочий стол\МОЯ семья\013.jpg"/>
          <p:cNvPicPr/>
          <p:nvPr/>
        </p:nvPicPr>
        <p:blipFill>
          <a:blip r:embed="rId2"/>
          <a:stretch/>
        </p:blipFill>
        <p:spPr>
          <a:xfrm>
            <a:off x="539640" y="260280"/>
            <a:ext cx="8215560" cy="6262920"/>
          </a:xfrm>
          <a:prstGeom prst="rect">
            <a:avLst/>
          </a:prstGeom>
          <a:ln w="0">
            <a:noFill/>
          </a:ln>
        </p:spPr>
      </p:pic>
      <p:sp>
        <p:nvSpPr>
          <p:cNvPr id="616" name="Rectangle 5"/>
          <p:cNvSpPr/>
          <p:nvPr/>
        </p:nvSpPr>
        <p:spPr>
          <a:xfrm>
            <a:off x="971640" y="404640"/>
            <a:ext cx="7777080" cy="53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одительские собрания - </a:t>
            </a:r>
            <a:r>
              <a:rPr b="0" lang="ru-RU" sz="1800" spc="-1" strike="noStrike">
                <a:solidFill>
                  <a:srgbClr val="000000"/>
                </a:solidFill>
                <a:latin typeface="Arial"/>
              </a:rPr>
              <a:t>важный элемент стратегии общения с семьей, на них закладываются основы сотрудничества и взаимопонимания, обеспечивается единство взглядов  сторо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чение года проводится несколько родительских собраний (от 3 до 5), тематика которых планируется в зависимости от речевого диагноза и возраста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дётся протокол родительского собрания с листом регистрации и подписью всех род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астер-класс. </a:t>
            </a:r>
            <a:r>
              <a:rPr b="0" lang="ru-RU" sz="1800" spc="-1" strike="noStrike">
                <a:solidFill>
                  <a:srgbClr val="000000"/>
                </a:solidFill>
                <a:latin typeface="Arial"/>
              </a:rPr>
              <a:t>Основной принцип мастер-класса</a:t>
            </a:r>
            <a:r>
              <a:rPr b="1" lang="ru-RU" sz="1800" spc="-1" strike="noStrike">
                <a:solidFill>
                  <a:srgbClr val="000000"/>
                </a:solidFill>
                <a:latin typeface="Arial"/>
              </a:rPr>
              <a:t> – «</a:t>
            </a:r>
            <a:r>
              <a:rPr b="0" lang="ru-RU" sz="1800" spc="-1" strike="noStrike">
                <a:solidFill>
                  <a:srgbClr val="000000"/>
                </a:solidFill>
                <a:latin typeface="Arial"/>
              </a:rPr>
              <a:t>Я знаю, как это делать, и я научу вас». Это современная форма проведения обучающего семинара для родителей, которая помогает повысить уровень компетентности родителей в вопросах коррекции речевых расстройств.  Ведётся протокол с листом регистрации и подписью всех родителей.</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hecker dir="horz"/>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79775"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2T23:19:04Z</dcterms:created>
  <dc:creator>natasha23</dc:creator>
  <dc:description/>
  <dc:language>en-US</dc:language>
  <cp:lastModifiedBy>Teacher</cp:lastModifiedBy>
  <dcterms:modified xsi:type="dcterms:W3CDTF">2023-06-07T15:53:04Z</dcterms:modified>
  <cp:revision>58</cp:revision>
  <dc:subject/>
  <dc:title>Слайд 1</dc:title>
</cp:coreProperties>
</file>