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CD5-611E-41BB-980C-1F703773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97A-E386-4E98-9E09-A05A5183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21E24-071C-46AE-8130-E817C9B4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1101B-70F6-4FEF-9F3A-3BE51EF6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A0DFB-E51A-42AF-89D8-FC2C70C3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6B199-6B4B-4219-AF60-A460BF89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71677-19C9-410F-BC3E-8A640CE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CBFD3-258F-4C47-97A0-DEF792C9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DCD26-EB89-4171-89DF-A0599675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F9BDE-567F-4112-BFBA-770C6D6F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A4FD5-DE97-408F-9EFD-1F0DA05F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69B-3829-4EFC-935B-35F889BF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E92-8B0F-457E-8ECF-562E6CC9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7D4D-BB1C-4BE0-A5F3-1CF007D3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7495-8109-4C44-B7DB-E464BBE1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57C6-7006-4C26-8283-32BFFF9A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EEA1-B87A-4512-B755-00C7FF8D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2D69-CF5B-4F02-8CE1-65C1F6BD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16B-57E2-45A6-A6E4-99F4836A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969F-D91A-47A7-BBB8-122AC33B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A0D-D1E5-4B36-80E5-CF5733FA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B915-B3A3-4167-8331-87872261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6071-7453-40B1-8D89-67C145AF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522B-AF63-4FE0-BA05-4B8DD44D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EDB4-6FD2-4833-9A09-BD73E82A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89A7-93E4-46CF-BD41-916BACA8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9174-EFFC-4E60-A9A9-0071E00C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851B-AFEC-42F0-BE10-D5CB0884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B9351-D9AA-4D3A-9039-071C8C98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142D-7FA9-40CC-B0A9-74AE5818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F12D-4752-44BB-9FFE-B1F8CFD7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1E3-2E46-43F3-9A10-0D58FBB9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9E40-4CA5-43C5-AF4E-9AF2B0A3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D392D-F8FD-4D48-89B2-64C92EBF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C410-FC69-425D-BA8A-84EE3BBC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C29B-DF66-4C6D-B9DC-609F1F1D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3753-33E8-4249-B1D6-2C186B1D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6DE08-31C3-4574-869E-17F2877A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5DC6-AD2D-4C69-915C-4ACA0EE7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AE58-9A7C-4B3E-8F70-EFEBE1CB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8002A-1C47-44A3-8161-1E76338F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9C3C1-8DFC-4795-9A32-5E2B965B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8C8-1AC2-4B5B-9B0D-F9982BAF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FA585-9365-4682-9F2E-E3ABDF8C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59956-8023-4E7A-82D1-5E537AFB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12482-3B3E-4A94-B131-C6770FD4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09B8B-9213-4DF3-A438-20CA0BD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059D-011C-4E1D-AFB6-3844A2C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AACB9-5C89-4298-8539-FA43439F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16174-52EE-4F27-A060-84571B9C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1A20F-4D8D-43AF-BD62-2F3667DD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20F9-505C-4BDA-B9F6-25CA59C5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4AC11-7008-4AFB-8487-8E6DC4A2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ADE-3EB3-4CB3-8B0C-1EE51CD6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960CF-5E8F-496A-B36A-EE18A8EF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979AC-688D-4A8E-BAF5-E6F10618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FC5BB-416C-4FCF-A654-3EAF20F4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C66AC-B80E-4D24-A19D-103D761A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E9FF3-3121-4D06-B1B1-83778351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40ED6-4E12-4E18-8B62-40B24024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509FB-DD14-4F3F-8257-8DC9AB2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A0873-3EC2-4341-B880-D56061D7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7452E-5016-4548-A4A3-2FBA9F0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92256-F694-4ABE-ABA0-490DF5E4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F8B-8BA0-4365-A4B6-D1E9EA51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B847D-CDA3-45D8-8091-F547BB41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1A98D-B8CA-4474-890B-90B07847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88409-E620-4D3C-A58F-2F916961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CDB50-7A5D-477B-AE8A-A0C02B6A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51E17-2D46-492D-9F31-4454D3A9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7D754-932F-445B-B3BF-F108889A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C0012-CA20-4E6F-9801-5B969037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83013-5AE9-49DE-B843-8809793F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ECF88-AE91-4AD4-B97D-71E9E23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FDA5D-2C11-4055-A2F1-1E87C246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64C-E48B-4949-9DA8-0FCECF0A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988EE-532D-442F-8197-A8F8445D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60BCE-9C1A-43D6-B22E-7D17E7E6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BA3F-DC21-4AF9-B0B0-AB8DCD58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AAD9F-46CC-4E56-87FA-2B4F241B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1577A-4850-493C-A7FB-56434BC0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42E6D-2C2B-4B05-9D99-D80E3AA7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FDAF-B921-4D3E-BF67-97C372D6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296CF-DA4D-4ED6-8F68-172465D8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EEA1A-97DC-4E5F-ADA0-4DDB5280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28D3E-AE97-4F9C-9B6E-A2553AE9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D54-87AB-459F-9AF1-DAE16FBD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16F4D-7A87-4EB4-86D1-61FCC71F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34EC4-F75A-4615-AE5F-37863441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36711-C0A5-4E8B-83F8-C2399EFC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49285-5E36-4DB4-89DE-14DCAF8E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BD5EC-2BDD-4AAA-9521-69AA46F8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F1371-2272-4E8A-A51C-5120CC9A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DD41D-07FD-4CE9-9956-60B8FAC1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DC4D2-8347-4EBB-9A93-751631EC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BFD6F-DA16-4C56-9106-8DCC5B74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B76DF-1FC2-4AF9-98D5-60A4123E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DFD-8C61-4534-8ACC-582D045D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B3847-EE3A-4FCE-80B8-B8BEC7B9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17C4D-50BD-4FF3-99AB-B94CEE7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D8B96-8B63-441A-92B3-76B316F0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FE7B7-7A35-4C6A-80B7-D53A81F8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9677D-8A09-4B2F-B409-C5D570E9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4F42B-9BD0-420E-9421-D927172B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74596-405E-44BE-B290-770F7F21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0EA99-201F-461A-A49E-CDFD1BD6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EA78C-8396-4FEC-8EF0-58CE7553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18D86-7B3F-440C-845F-E18F9D35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0E0C-8966-45B2-B3E3-326B16C80AD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32B-FE4E-4443-90CC-0564D3FEC30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5F19-02A9-4658-AFBE-617B739A0C0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FBB9-48BB-4FCB-9793-BF0417D54A91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7DA3-365C-440F-A480-39A08EBE3FDB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3D4D-B15C-47F5-A87C-F1EBA9C7055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16B4-B1DC-45F0-AC70-B3C33D881BC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506-8A7B-4B47-AF8B-E93F7ED8C5F3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5DF0-7B1D-4E58-A5AF-10F409260D3B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image" Target="../media/image10.png"/><Relationship Id="rId5" Type="http://schemas.openxmlformats.org/officeDocument/2006/relationships/slide" Target="slide3.xml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png"/><Relationship Id="rId3" Type="http://schemas.openxmlformats.org/officeDocument/2006/relationships/slide" Target="slide5.xml"/><Relationship Id="rId4" Type="http://schemas.openxmlformats.org/officeDocument/2006/relationships/image" Target="../media/image16.png"/><Relationship Id="rId5" Type="http://schemas.openxmlformats.org/officeDocument/2006/relationships/slide" Target="slide6.xml"/><Relationship Id="rId6" Type="http://schemas.openxmlformats.org/officeDocument/2006/relationships/image" Target="../media/image17.png"/><Relationship Id="rId7" Type="http://schemas.openxmlformats.org/officeDocument/2006/relationships/slide" Target="slide5.xml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3" descr=""/>
          <p:cNvPicPr/>
          <p:nvPr/>
        </p:nvPicPr>
        <p:blipFill>
          <a:blip r:embed="rId1"/>
          <a:stretch/>
        </p:blipFill>
        <p:spPr>
          <a:xfrm>
            <a:off x="1762200" y="1450800"/>
            <a:ext cx="5261040" cy="1640160"/>
          </a:xfrm>
          <a:prstGeom prst="rect">
            <a:avLst/>
          </a:prstGeom>
          <a:ln w="0">
            <a:noFill/>
          </a:ln>
        </p:spPr>
      </p:pic>
      <p:pic>
        <p:nvPicPr>
          <p:cNvPr id="400" name="TextBox 4" descr=""/>
          <p:cNvPicPr/>
          <p:nvPr/>
        </p:nvPicPr>
        <p:blipFill>
          <a:blip r:embed="rId2"/>
          <a:stretch/>
        </p:blipFill>
        <p:spPr>
          <a:xfrm>
            <a:off x="2859120" y="3432240"/>
            <a:ext cx="3217680" cy="4334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6" descr="Безимени-1.png"/>
          <p:cNvPicPr/>
          <p:nvPr/>
        </p:nvPicPr>
        <p:blipFill>
          <a:blip r:embed="rId3"/>
          <a:stretch/>
        </p:blipFill>
        <p:spPr>
          <a:xfrm>
            <a:off x="5500800" y="3929040"/>
            <a:ext cx="1928880" cy="172548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7" descr="Безимени-1.png"/>
          <p:cNvPicPr/>
          <p:nvPr/>
        </p:nvPicPr>
        <p:blipFill>
          <a:blip r:embed="rId4"/>
          <a:stretch/>
        </p:blipFill>
        <p:spPr>
          <a:xfrm>
            <a:off x="3857760" y="4786200"/>
            <a:ext cx="1714320" cy="18162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8" descr="Безимени-1.png"/>
          <p:cNvPicPr/>
          <p:nvPr/>
        </p:nvPicPr>
        <p:blipFill>
          <a:blip r:embed="rId5"/>
          <a:stretch/>
        </p:blipFill>
        <p:spPr>
          <a:xfrm>
            <a:off x="928800" y="4000680"/>
            <a:ext cx="26384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Прямоугольник 1" descr=""/>
          <p:cNvPicPr/>
          <p:nvPr/>
        </p:nvPicPr>
        <p:blipFill>
          <a:blip r:embed="rId1"/>
          <a:stretch/>
        </p:blipFill>
        <p:spPr>
          <a:xfrm>
            <a:off x="2925720" y="2212920"/>
            <a:ext cx="3048120" cy="1200240"/>
          </a:xfrm>
          <a:prstGeom prst="rect">
            <a:avLst/>
          </a:prstGeom>
          <a:ln w="0">
            <a:noFill/>
          </a:ln>
        </p:spPr>
      </p:pic>
      <p:pic>
        <p:nvPicPr>
          <p:cNvPr id="432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34" name="Рисунок 1" descr="Безимени-1.png"/>
          <p:cNvPicPr/>
          <p:nvPr/>
        </p:nvPicPr>
        <p:blipFill>
          <a:blip r:embed="rId1"/>
          <a:stretch/>
        </p:blipFill>
        <p:spPr>
          <a:xfrm>
            <a:off x="857160" y="250020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2" descr="Безимени-1.png"/>
          <p:cNvPicPr/>
          <p:nvPr/>
        </p:nvPicPr>
        <p:blipFill>
          <a:blip r:embed="rId2"/>
          <a:stretch/>
        </p:blipFill>
        <p:spPr>
          <a:xfrm>
            <a:off x="2928960" y="250020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4" descr="Безимени-1.png"/>
          <p:cNvPicPr/>
          <p:nvPr/>
        </p:nvPicPr>
        <p:blipFill>
          <a:blip r:embed="rId3"/>
          <a:stretch/>
        </p:blipFill>
        <p:spPr>
          <a:xfrm>
            <a:off x="7143840" y="257184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5" descr="Безимени-1.png"/>
          <p:cNvPicPr/>
          <p:nvPr/>
        </p:nvPicPr>
        <p:blipFill>
          <a:blip r:embed="rId4"/>
          <a:stretch/>
        </p:blipFill>
        <p:spPr>
          <a:xfrm>
            <a:off x="5072040" y="257184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2998800" y="2073240"/>
            <a:ext cx="3005280" cy="919080"/>
          </a:xfrm>
          <a:prstGeom prst="rect">
            <a:avLst/>
          </a:prstGeom>
          <a:ln w="0">
            <a:noFill/>
          </a:ln>
        </p:spPr>
      </p:pic>
      <p:pic>
        <p:nvPicPr>
          <p:cNvPr id="439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45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Прямоугольник 1" descr=""/>
          <p:cNvPicPr/>
          <p:nvPr/>
        </p:nvPicPr>
        <p:blipFill>
          <a:blip r:embed="rId1"/>
          <a:stretch/>
        </p:blipFill>
        <p:spPr>
          <a:xfrm>
            <a:off x="3286080" y="2146320"/>
            <a:ext cx="22860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071720" y="14288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 четырех фигур найди лишнюю, которая не подходит к остальным. Нажми на нее левой кнопкой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06" name="Рисунок 5" descr="Безимени-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240" y="2286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6" descr="Безимени-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29280" y="21430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7" descr="Безимени-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57840" y="2357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8" descr="Безимени-1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714760" y="2000160"/>
            <a:ext cx="19285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Прямоугольник 1" descr=""/>
          <p:cNvPicPr/>
          <p:nvPr/>
        </p:nvPicPr>
        <p:blipFill>
          <a:blip r:embed="rId1"/>
          <a:stretch/>
        </p:blipFill>
        <p:spPr>
          <a:xfrm>
            <a:off x="2925720" y="2146320"/>
            <a:ext cx="3060720" cy="920880"/>
          </a:xfrm>
          <a:prstGeom prst="rect">
            <a:avLst/>
          </a:prstGeom>
          <a:ln w="0">
            <a:noFill/>
          </a:ln>
        </p:spPr>
      </p:pic>
      <p:pic>
        <p:nvPicPr>
          <p:cNvPr id="411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500040" y="1643040"/>
          <a:ext cx="8215200" cy="2357640"/>
        </p:xfrm>
        <a:graphic>
          <a:graphicData uri="http://schemas.openxmlformats.org/drawingml/2006/table">
            <a:tbl>
              <a:tblPr/>
              <a:tblGrid>
                <a:gridCol w="2054160"/>
                <a:gridCol w="2052720"/>
                <a:gridCol w="2054160"/>
                <a:gridCol w="2054160"/>
              </a:tblGrid>
              <a:tr h="2357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13" name="Рисунок 2" descr="Безимени-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240" y="214308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3" descr="Безимени-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0" y="2214720"/>
            <a:ext cx="1785960" cy="13572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Безимени-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28960" y="2571840"/>
            <a:ext cx="1357200" cy="114300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5" descr="Безимени-1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929120" y="2071800"/>
            <a:ext cx="1214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Прямоугольник 1" descr=""/>
          <p:cNvPicPr/>
          <p:nvPr/>
        </p:nvPicPr>
        <p:blipFill>
          <a:blip r:embed="rId1"/>
          <a:stretch/>
        </p:blipFill>
        <p:spPr>
          <a:xfrm>
            <a:off x="2786040" y="2000160"/>
            <a:ext cx="2895480" cy="938160"/>
          </a:xfrm>
          <a:prstGeom prst="rect">
            <a:avLst/>
          </a:prstGeom>
          <a:ln w="0">
            <a:noFill/>
          </a:ln>
        </p:spPr>
      </p:pic>
      <p:pic>
        <p:nvPicPr>
          <p:cNvPr id="418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0" name="Рисунок 3" descr="Безимени-1.png"/>
          <p:cNvPicPr/>
          <p:nvPr/>
        </p:nvPicPr>
        <p:blipFill>
          <a:blip r:embed="rId1"/>
          <a:stretch/>
        </p:blipFill>
        <p:spPr>
          <a:xfrm>
            <a:off x="4857840" y="2714760"/>
            <a:ext cx="1571400" cy="96048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Безимени-1.png"/>
          <p:cNvPicPr/>
          <p:nvPr/>
        </p:nvPicPr>
        <p:blipFill>
          <a:blip r:embed="rId2"/>
          <a:stretch/>
        </p:blipFill>
        <p:spPr>
          <a:xfrm>
            <a:off x="6786720" y="2714760"/>
            <a:ext cx="1636560" cy="1000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5" descr="Безимени-1.png"/>
          <p:cNvPicPr/>
          <p:nvPr/>
        </p:nvPicPr>
        <p:blipFill>
          <a:blip r:embed="rId3"/>
          <a:stretch/>
        </p:blipFill>
        <p:spPr>
          <a:xfrm>
            <a:off x="811080" y="2714760"/>
            <a:ext cx="1689120" cy="103176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6" descr="Безимени-1.png"/>
          <p:cNvPicPr/>
          <p:nvPr/>
        </p:nvPicPr>
        <p:blipFill>
          <a:blip r:embed="rId4"/>
          <a:stretch/>
        </p:blipFill>
        <p:spPr>
          <a:xfrm>
            <a:off x="2857680" y="2571840"/>
            <a:ext cx="165564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3498840" y="2212920"/>
            <a:ext cx="2646360" cy="927000"/>
          </a:xfrm>
          <a:prstGeom prst="rect">
            <a:avLst/>
          </a:prstGeom>
          <a:ln w="0">
            <a:noFill/>
          </a:ln>
        </p:spPr>
      </p:pic>
      <p:pic>
        <p:nvPicPr>
          <p:cNvPr id="425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7" name="Рисунок 2" descr="Безимени-1.png"/>
          <p:cNvPicPr/>
          <p:nvPr/>
        </p:nvPicPr>
        <p:blipFill>
          <a:blip r:embed="rId1"/>
          <a:stretch/>
        </p:blipFill>
        <p:spPr>
          <a:xfrm>
            <a:off x="4929120" y="2286000"/>
            <a:ext cx="1500120" cy="14288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3" descr="Безимени-1.png"/>
          <p:cNvPicPr/>
          <p:nvPr/>
        </p:nvPicPr>
        <p:blipFill>
          <a:blip r:embed="rId2"/>
          <a:stretch/>
        </p:blipFill>
        <p:spPr>
          <a:xfrm>
            <a:off x="2928960" y="2214720"/>
            <a:ext cx="1285920" cy="15714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" descr="Безимени-1.png"/>
          <p:cNvPicPr/>
          <p:nvPr/>
        </p:nvPicPr>
        <p:blipFill>
          <a:blip r:embed="rId3"/>
          <a:stretch/>
        </p:blipFill>
        <p:spPr>
          <a:xfrm>
            <a:off x="714240" y="2428920"/>
            <a:ext cx="1357560" cy="12142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5" descr="Безимени-1.png"/>
          <p:cNvPicPr/>
          <p:nvPr/>
        </p:nvPicPr>
        <p:blipFill>
          <a:blip r:embed="rId4"/>
          <a:stretch/>
        </p:blipFill>
        <p:spPr>
          <a:xfrm rot="15914400">
            <a:off x="7122960" y="2349360"/>
            <a:ext cx="12859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4:25:34Z</dcterms:created>
  <dc:creator>ОЕМ</dc:creator>
  <dc:description/>
  <dc:language>en-US</dc:language>
  <cp:lastModifiedBy>svetl</cp:lastModifiedBy>
  <dcterms:modified xsi:type="dcterms:W3CDTF">2023-06-07T06:41:51Z</dcterms:modified>
  <cp:revision>7</cp:revision>
  <dc:subject/>
  <dc:title>Слайд 1</dc:title>
</cp:coreProperties>
</file>