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860-F369-498B-A140-F8B19A27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5D6-53B4-4975-85D6-E2633A8A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FE3D2-407F-415F-889D-A33FBF0E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B3900-C329-4221-A921-4942F808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36D62-570F-481B-B4EA-8BEC6A1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DE232-D834-433E-88E5-0C8CD53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0828D-5A6A-460F-9E80-19F364ED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15B64-0279-4D0C-8547-B9A5F7F5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B20AF-B684-48EA-860F-8E3581F5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21B3E-D1AD-4E39-BFE3-D7E74CBB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C7D6C-D505-4759-B0EC-1AE64EB1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EAC-8FDD-4499-B3A9-25B5D1D5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856-E51D-4903-BFC0-1EE035F3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E061-7207-46B8-BF40-4B7B7137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AE4E-0BBC-4A09-8DB6-3ED26E5A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D817-2AD6-4C84-B179-80BEDC7A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F329-BA09-47FB-A71B-1E82D5A6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2077-04E1-457D-96A0-68508C74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DD69-B895-40C0-83E0-E72AE0FF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597C-EA24-45EE-A8EF-7F30DC6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A1D-92F0-4EE4-933E-D7B835E1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9B76-D437-4D94-86CB-27FE206F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1146-CA43-473E-ABFD-D2A576F4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FF63-71AD-4572-B455-DBDCF95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4CBC-C54B-41BC-98F2-6F2E593C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9F11-55C6-4144-91C7-7F78951E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C82F-7300-4EDF-AD0E-F1EF6C3F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1D3CD-5137-4B44-9D7A-EF165849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80B9-3965-4F91-92E2-8819CC63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A8A4-1A2A-4D5B-912A-C2C01B1A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A09D-165A-422B-AE91-A5CB29F6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F1A-A025-40F2-AA8F-A934CDF3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6792-DED4-4380-9235-94BB38AA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0694C-6C06-45FE-8126-199D6A49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E7D6-84F0-447B-9F09-FA1E3EBC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FD02-363D-40BE-94D1-9FC34D59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FE37-6319-4E25-BC34-78C7C338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F014-A5C1-490C-BA0E-1337C14F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A873-169C-4DEF-9032-13C1D3D9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9923-4CD9-4558-8BF2-9152E768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2850-F974-4F7B-A425-F726BE3D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D417-F7D8-429D-83EC-32A34ECD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B43-CF53-4620-9648-E258C5E7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F1682-32F1-431D-9197-58C47DCB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CEAC0-42B4-4A99-B8F9-7FE5540E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7EBCC-CFE5-4B37-8F89-F3B86763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C48E4-C60E-438E-83BC-CCE7A12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EEF79-CF7E-4EEE-BAA1-8CE2DA54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B16C-B79D-4504-AB65-E332BB57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234B-2C52-4C85-9F76-E6D5FFD6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20681-12DF-4B27-8BC1-2489F510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D152-DCC1-4E78-9EE4-0E2E1DA5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F65F1-E878-4E38-A7C7-FCD3F3A9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E2D-783E-4242-AADC-10DCDF95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CCF2F-31FD-4A21-977E-729CCCA0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6523B-4C5F-4D66-AC47-42CCD465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32D31-8000-4ED7-99F1-616F052F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D3296-59F8-484F-9F3A-C35494EB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2DF12-60EB-4CCF-95C8-03074E1A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01822-0EF7-4545-9614-2E57A147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94A5E-4E4B-4AE4-A852-A66D3C80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744E5-1839-4E77-BF0B-D46B3102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1F14A-4442-4D26-8C12-B47F2B23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B04E4-0870-46BE-BC4C-1E15FB6C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F07-F217-4022-BB8A-737EFA65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C7A22-8AFD-49B6-8CDD-0D5CBC8F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7A64-2F86-4E21-A92F-CDD365C6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48BC-4DC0-4319-BB93-1058C657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13692-4C73-4058-A406-868BF4A6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BC3A9-E3EC-4BE1-8912-1567F9BB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3CA04-4175-4E6A-9C9F-A1A4B9C3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4F93F-6269-4C6C-B8A9-06D76BC5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6B7D2-1B0D-4A8B-9441-AB013D81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FF79D-90C3-4DC8-B9E8-DEE2B21A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94AAB-59C0-469A-A8E5-07BC673E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6B8-B78D-4EF3-ADDB-40D9559E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3DC96-A1CF-4296-B6E3-98EC69E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FF863-D32D-4410-A349-89CE65F5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C9F03-7719-490E-B93E-BC00021A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029FA-F838-4856-A6A0-487A3415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DD48-6770-486C-A454-5F277BDE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B87F4-9226-4E7E-988A-C7131B58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9E908-32CE-486E-98DB-958C1A57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AB8BC-CD22-4F4B-8533-99B86E52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5BDC7-E2C0-4C4B-A207-957D64A9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9D2DE-34DC-4EA0-9EBB-EAC57920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1D1-D35F-4C05-BACF-7B039346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B148-6D21-4B15-B1D1-1BC9DE41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87848-56DE-4BDC-B2EB-AB9F4702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BBF96-EDE6-4146-AAC5-D50BF957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DE128-1B0F-407D-8515-FC2AB5FE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85671-52A7-4C67-85AD-F22D084B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C8ED1-593A-425C-8B12-5B0D11A5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C1E86-A37F-4884-B091-17824222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8904-2614-4F6A-AB9C-D8818C47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16B99-CBA9-4015-920B-3927C1C5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2F832-FE2A-4DD2-A821-A80FD0C4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D89-4240-43E7-A735-8112B2DB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4AA21-5CDD-4CC6-8E05-A19E1FDE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11180-7759-47E9-875A-CE958850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06594-7ACD-4288-B530-1CE4874D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3F933-0F86-4555-A460-C34AEBC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031C2-BBE4-49C9-A3F3-02522433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98A67-67C0-490B-BB45-E4584BEB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8157E-B83B-4896-8BE0-ED52D646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DEF6B-B7F1-4009-B5A2-D7A101C6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B80D3-E41B-4515-B841-040073E1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ED3F9-BA18-4325-8A79-EB608B38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BA96-7E75-4D19-8FE0-F99893747A6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07EC-959F-47AE-A2F1-7A85F950C55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799C-6E6D-4A8F-B157-3F02E8ADFA2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275B-78DA-416A-BDC0-BA8A8183D54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364C-C99E-4A3D-9E4D-84363FABEE70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4C11-8EDD-4628-9864-C52163E043B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02DB-6E8C-4255-816E-039B844B3AB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D729-DA98-4072-81B5-9DC09A68D2FB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37EA-D901-4F8B-A82B-CA211D76FAF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image" Target="../media/image10.png"/><Relationship Id="rId5" Type="http://schemas.openxmlformats.org/officeDocument/2006/relationships/slide" Target="slide3.xml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png"/><Relationship Id="rId3" Type="http://schemas.openxmlformats.org/officeDocument/2006/relationships/slide" Target="slide5.xml"/><Relationship Id="rId4" Type="http://schemas.openxmlformats.org/officeDocument/2006/relationships/image" Target="../media/image16.png"/><Relationship Id="rId5" Type="http://schemas.openxmlformats.org/officeDocument/2006/relationships/slide" Target="slide6.xml"/><Relationship Id="rId6" Type="http://schemas.openxmlformats.org/officeDocument/2006/relationships/image" Target="../media/image17.png"/><Relationship Id="rId7" Type="http://schemas.openxmlformats.org/officeDocument/2006/relationships/slide" Target="slide5.xml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3" descr=""/>
          <p:cNvPicPr/>
          <p:nvPr/>
        </p:nvPicPr>
        <p:blipFill>
          <a:blip r:embed="rId1"/>
          <a:stretch/>
        </p:blipFill>
        <p:spPr>
          <a:xfrm>
            <a:off x="1762200" y="1450800"/>
            <a:ext cx="5261040" cy="1640160"/>
          </a:xfrm>
          <a:prstGeom prst="rect">
            <a:avLst/>
          </a:prstGeom>
          <a:ln w="0">
            <a:noFill/>
          </a:ln>
        </p:spPr>
      </p:pic>
      <p:pic>
        <p:nvPicPr>
          <p:cNvPr id="400" name="TextBox 4" descr=""/>
          <p:cNvPicPr/>
          <p:nvPr/>
        </p:nvPicPr>
        <p:blipFill>
          <a:blip r:embed="rId2"/>
          <a:stretch/>
        </p:blipFill>
        <p:spPr>
          <a:xfrm>
            <a:off x="2859120" y="3432240"/>
            <a:ext cx="3217680" cy="4334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6" descr="Безимени-1.png"/>
          <p:cNvPicPr/>
          <p:nvPr/>
        </p:nvPicPr>
        <p:blipFill>
          <a:blip r:embed="rId3"/>
          <a:stretch/>
        </p:blipFill>
        <p:spPr>
          <a:xfrm>
            <a:off x="5500800" y="3929040"/>
            <a:ext cx="1928880" cy="172548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7" descr="Безимени-1.png"/>
          <p:cNvPicPr/>
          <p:nvPr/>
        </p:nvPicPr>
        <p:blipFill>
          <a:blip r:embed="rId4"/>
          <a:stretch/>
        </p:blipFill>
        <p:spPr>
          <a:xfrm>
            <a:off x="3857760" y="4786200"/>
            <a:ext cx="1714320" cy="18162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8" descr="Безимени-1.png"/>
          <p:cNvPicPr/>
          <p:nvPr/>
        </p:nvPicPr>
        <p:blipFill>
          <a:blip r:embed="rId5"/>
          <a:stretch/>
        </p:blipFill>
        <p:spPr>
          <a:xfrm>
            <a:off x="928800" y="4000680"/>
            <a:ext cx="26384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Прямоугольник 1" descr=""/>
          <p:cNvPicPr/>
          <p:nvPr/>
        </p:nvPicPr>
        <p:blipFill>
          <a:blip r:embed="rId1"/>
          <a:stretch/>
        </p:blipFill>
        <p:spPr>
          <a:xfrm>
            <a:off x="2925720" y="2212920"/>
            <a:ext cx="3048120" cy="1200240"/>
          </a:xfrm>
          <a:prstGeom prst="rect">
            <a:avLst/>
          </a:prstGeom>
          <a:ln w="0">
            <a:noFill/>
          </a:ln>
        </p:spPr>
      </p:pic>
      <p:pic>
        <p:nvPicPr>
          <p:cNvPr id="432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34" name="Рисунок 1" descr="Безимени-1.png"/>
          <p:cNvPicPr/>
          <p:nvPr/>
        </p:nvPicPr>
        <p:blipFill>
          <a:blip r:embed="rId1"/>
          <a:stretch/>
        </p:blipFill>
        <p:spPr>
          <a:xfrm>
            <a:off x="857160" y="250020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2" descr="Безимени-1.png"/>
          <p:cNvPicPr/>
          <p:nvPr/>
        </p:nvPicPr>
        <p:blipFill>
          <a:blip r:embed="rId2"/>
          <a:stretch/>
        </p:blipFill>
        <p:spPr>
          <a:xfrm>
            <a:off x="2928960" y="250020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4" descr="Безимени-1.png"/>
          <p:cNvPicPr/>
          <p:nvPr/>
        </p:nvPicPr>
        <p:blipFill>
          <a:blip r:embed="rId3"/>
          <a:stretch/>
        </p:blipFill>
        <p:spPr>
          <a:xfrm>
            <a:off x="7143840" y="257184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5" descr="Безимени-1.png"/>
          <p:cNvPicPr/>
          <p:nvPr/>
        </p:nvPicPr>
        <p:blipFill>
          <a:blip r:embed="rId4"/>
          <a:stretch/>
        </p:blipFill>
        <p:spPr>
          <a:xfrm>
            <a:off x="5072040" y="257184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2998800" y="2073240"/>
            <a:ext cx="3005280" cy="919080"/>
          </a:xfrm>
          <a:prstGeom prst="rect">
            <a:avLst/>
          </a:prstGeom>
          <a:ln w="0">
            <a:noFill/>
          </a:ln>
        </p:spPr>
      </p:pic>
      <p:pic>
        <p:nvPicPr>
          <p:cNvPr id="439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45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Прямоугольник 1" descr=""/>
          <p:cNvPicPr/>
          <p:nvPr/>
        </p:nvPicPr>
        <p:blipFill>
          <a:blip r:embed="rId1"/>
          <a:stretch/>
        </p:blipFill>
        <p:spPr>
          <a:xfrm>
            <a:off x="3286080" y="2146320"/>
            <a:ext cx="22860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071720" y="14288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 четырех фигур найди лишнюю, которая не подходит к остальным. Нажми на нее левой кнопкой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06" name="Рисунок 5" descr="Безимени-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240" y="2286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6" descr="Безимени-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29280" y="21430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7" descr="Безимени-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57840" y="2357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8" descr="Безимени-1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714760" y="2000160"/>
            <a:ext cx="19285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Прямоугольник 1" descr=""/>
          <p:cNvPicPr/>
          <p:nvPr/>
        </p:nvPicPr>
        <p:blipFill>
          <a:blip r:embed="rId1"/>
          <a:stretch/>
        </p:blipFill>
        <p:spPr>
          <a:xfrm>
            <a:off x="2925720" y="2146320"/>
            <a:ext cx="3060720" cy="920880"/>
          </a:xfrm>
          <a:prstGeom prst="rect">
            <a:avLst/>
          </a:prstGeom>
          <a:ln w="0">
            <a:noFill/>
          </a:ln>
        </p:spPr>
      </p:pic>
      <p:pic>
        <p:nvPicPr>
          <p:cNvPr id="411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500040" y="1643040"/>
          <a:ext cx="8215200" cy="2357640"/>
        </p:xfrm>
        <a:graphic>
          <a:graphicData uri="http://schemas.openxmlformats.org/drawingml/2006/table">
            <a:tbl>
              <a:tblPr/>
              <a:tblGrid>
                <a:gridCol w="2054160"/>
                <a:gridCol w="2052720"/>
                <a:gridCol w="2054160"/>
                <a:gridCol w="2054160"/>
              </a:tblGrid>
              <a:tr h="2357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13" name="Рисунок 2" descr="Безимени-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240" y="214308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3" descr="Безимени-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0" y="2214720"/>
            <a:ext cx="1785960" cy="13572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Безимени-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28960" y="2571840"/>
            <a:ext cx="1357200" cy="114300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5" descr="Безимени-1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929120" y="2071800"/>
            <a:ext cx="1214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Прямоугольник 1" descr=""/>
          <p:cNvPicPr/>
          <p:nvPr/>
        </p:nvPicPr>
        <p:blipFill>
          <a:blip r:embed="rId1"/>
          <a:stretch/>
        </p:blipFill>
        <p:spPr>
          <a:xfrm>
            <a:off x="2786040" y="2000160"/>
            <a:ext cx="2895480" cy="938160"/>
          </a:xfrm>
          <a:prstGeom prst="rect">
            <a:avLst/>
          </a:prstGeom>
          <a:ln w="0">
            <a:noFill/>
          </a:ln>
        </p:spPr>
      </p:pic>
      <p:pic>
        <p:nvPicPr>
          <p:cNvPr id="418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0" name="Рисунок 3" descr="Безимени-1.png"/>
          <p:cNvPicPr/>
          <p:nvPr/>
        </p:nvPicPr>
        <p:blipFill>
          <a:blip r:embed="rId1"/>
          <a:stretch/>
        </p:blipFill>
        <p:spPr>
          <a:xfrm>
            <a:off x="4857840" y="2714760"/>
            <a:ext cx="1571400" cy="96048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Безимени-1.png"/>
          <p:cNvPicPr/>
          <p:nvPr/>
        </p:nvPicPr>
        <p:blipFill>
          <a:blip r:embed="rId2"/>
          <a:stretch/>
        </p:blipFill>
        <p:spPr>
          <a:xfrm>
            <a:off x="6786720" y="2714760"/>
            <a:ext cx="1636560" cy="1000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5" descr="Безимени-1.png"/>
          <p:cNvPicPr/>
          <p:nvPr/>
        </p:nvPicPr>
        <p:blipFill>
          <a:blip r:embed="rId3"/>
          <a:stretch/>
        </p:blipFill>
        <p:spPr>
          <a:xfrm>
            <a:off x="811080" y="2714760"/>
            <a:ext cx="1689120" cy="103176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6" descr="Безимени-1.png"/>
          <p:cNvPicPr/>
          <p:nvPr/>
        </p:nvPicPr>
        <p:blipFill>
          <a:blip r:embed="rId4"/>
          <a:stretch/>
        </p:blipFill>
        <p:spPr>
          <a:xfrm>
            <a:off x="2857680" y="2571840"/>
            <a:ext cx="165564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3498840" y="2212920"/>
            <a:ext cx="2646360" cy="927000"/>
          </a:xfrm>
          <a:prstGeom prst="rect">
            <a:avLst/>
          </a:prstGeom>
          <a:ln w="0">
            <a:noFill/>
          </a:ln>
        </p:spPr>
      </p:pic>
      <p:pic>
        <p:nvPicPr>
          <p:cNvPr id="425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7" name="Рисунок 2" descr="Безимени-1.png"/>
          <p:cNvPicPr/>
          <p:nvPr/>
        </p:nvPicPr>
        <p:blipFill>
          <a:blip r:embed="rId1"/>
          <a:stretch/>
        </p:blipFill>
        <p:spPr>
          <a:xfrm>
            <a:off x="4929120" y="2286000"/>
            <a:ext cx="1500120" cy="14288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3" descr="Безимени-1.png"/>
          <p:cNvPicPr/>
          <p:nvPr/>
        </p:nvPicPr>
        <p:blipFill>
          <a:blip r:embed="rId2"/>
          <a:stretch/>
        </p:blipFill>
        <p:spPr>
          <a:xfrm>
            <a:off x="2928960" y="2214720"/>
            <a:ext cx="1285920" cy="15714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" descr="Безимени-1.png"/>
          <p:cNvPicPr/>
          <p:nvPr/>
        </p:nvPicPr>
        <p:blipFill>
          <a:blip r:embed="rId3"/>
          <a:stretch/>
        </p:blipFill>
        <p:spPr>
          <a:xfrm>
            <a:off x="714240" y="2428920"/>
            <a:ext cx="1357560" cy="12142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5" descr="Безимени-1.png"/>
          <p:cNvPicPr/>
          <p:nvPr/>
        </p:nvPicPr>
        <p:blipFill>
          <a:blip r:embed="rId4"/>
          <a:stretch/>
        </p:blipFill>
        <p:spPr>
          <a:xfrm rot="15914400">
            <a:off x="7122960" y="2349360"/>
            <a:ext cx="12859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4:25:34Z</dcterms:created>
  <dc:creator>ОЕМ</dc:creator>
  <dc:description/>
  <dc:language>en-US</dc:language>
  <cp:lastModifiedBy>svetl</cp:lastModifiedBy>
  <dcterms:modified xsi:type="dcterms:W3CDTF">2023-06-07T06:41:51Z</dcterms:modified>
  <cp:revision>7</cp:revision>
  <dc:subject/>
  <dc:title>Слайд 1</dc:title>
</cp:coreProperties>
</file>