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720" cy="372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EF63-A997-422D-8797-E99DF45292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Google Shape;94;p2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85AE-9415-46DF-B8E5-D91147AAF4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Google Shape;251;p17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9A47-F877-4C15-98EB-07438D5915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Google Shape;101;p3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7670-FC4B-44F0-A424-38EC024560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Google Shape;109;p4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CC16-FDFE-45B0-AE6B-B56B0ED596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Google Shape;109;p4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AB2B-104F-4261-8C20-0A6B1C7A87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Google Shape;214;p12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94A5-D7C8-4CC2-B7F1-09C309B06C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Google Shape;243;p16:notes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78CB-423B-4A06-B161-A441AFB448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3C2-D012-419A-B70F-E354F346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49A-C597-4F69-A4E3-C183542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D63C9-7B9B-4DBF-9AAD-6B6A95C5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050C1-43DD-44B9-BD43-0D85BC82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3421D-C0AD-4155-99DF-429B9B52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FC807-CEC3-4393-B38B-F74BE342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73152-4817-43FA-BF0D-417FFBCD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151D3-9D7D-430F-8DD2-1634E445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CB7B5-E8F2-4002-993A-6ABE6C84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0058D-D744-463B-8A6E-5A42B280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1DEF7-D979-4118-BCA9-C0A387BE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B80C6-06E1-4011-96BB-7235C753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BB3-9BA8-4C08-8712-DE10E3F1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2353A-BA78-4E13-801A-7EEB9592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92EC2-997C-48C2-9323-3877227D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B075B-51FA-4BF7-95C6-D2CAB23D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C8DFE-1345-4199-9614-3F79505B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29930-BE6B-43D5-A121-C20312B8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D9F4E-BF3E-467D-8983-510C1985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D4150-1F79-4A21-A4DA-0DD546FD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51707-8441-40EC-BD35-672C494D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709A1-51E1-435E-A171-C185F5E4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05F5B-6278-40EF-87F4-8AFD4B48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597-D4B8-41D2-8C4F-49E2B1C6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684D9-CEBD-4A5B-AA1B-3556833E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FADC0-61A9-492E-AA86-A783F0AE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A4056-D8C1-414D-881C-8D6BAE3A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73DC2-D9A6-4138-91DD-CC1F1569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982EF-21FD-4679-BCA8-2FDDFC2A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D57EB-1C15-4E00-9E47-6E70BAEE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31E6F-740B-438C-A00C-6B569B0C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1EA29-A078-4D8E-9507-7DBF498A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8CC26-330E-4E29-9491-19799F2C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D6944-599E-49AD-8106-9ABA9FF3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596A-BE86-4126-B5FA-13B7217C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5FBB0-0453-414B-A3BD-8D8D1B92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63E70-4C74-408B-A987-0346E8B1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CF08B-2646-489B-9D9F-4191DE27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D38F-C945-434C-BF14-2CB51DF9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0828-7BA3-4D7F-88CE-DDD00A33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07B0-B95A-4CED-947A-63F6BAD5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2456-6ED5-49BC-8BD2-1738F030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69FE-D8DC-4CD3-A8DD-B1BA0A63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90B9-C8ED-4C42-B71C-7A2D6694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A23-4A9A-4B4F-96A3-D148C42E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7FD1-559C-4056-B7BC-FB31F047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8B19-5026-48B7-8D9A-54419BFD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0673-E4C9-45DC-92B8-27FBE26C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0F60-FBA4-4BCE-8EAE-11F1A9E6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9238-B3AD-4C8F-A7D0-E92EF896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706D-1E10-40E6-94C5-90E3AA87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C92F-ACEA-499D-B64D-E9E0C474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A8E5-5A92-4666-960B-5C732A24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964D-2027-4A3C-9E11-3601051E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CD7F-22D8-4D94-8834-1EB826EC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455-4D27-400B-A4FA-B150EE6F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985B-3680-438D-97FD-614BB85E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21836-7FFD-4D10-902F-02CA4025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A8FF3-4F36-49AB-A360-F2B34239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D7BE-9E86-4C0A-8EF1-033B3980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8A44-90D6-4701-BEC0-E0F7B174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39AF-48D9-4609-98A7-4D66D56A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F7973-346B-4468-B4E2-969C4D2F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56102-5A41-4A0F-9475-7D9C333E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8D00-C71D-4507-8EC9-48156B41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0447E-4FBC-4067-A4DC-FE6AB858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EC3-B7E2-47DE-9E90-0D5E41A4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76030-FFF9-48D3-AF65-DFD82453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09093-33B1-428F-AFEC-AC03A128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4E1C0-2377-445F-B8B0-0D8B560D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52B5-4DD6-4847-AEFC-9835F3ED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20B53-85ED-41DF-B398-F9A16E47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E9D1F-A4CB-4D69-ADE6-378D0A45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14C3B-1119-4B4F-A6FF-5A258D29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C1CBC-F38D-4CDC-A090-16B63BDE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66CE3-4974-443E-ACD7-18B3A72A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2A50-3E03-4AF9-8AFD-B4A805F4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5F6-B1BA-4F21-A448-B3F364F1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D099A-3E60-42EA-90C9-915D1883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94609-0B74-40C0-9581-19EC138C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E7F8D-5261-4E9C-9A74-312E1310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9366D-F15A-40DB-9D3F-A12DA947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7CD3-1CBF-49C0-BE02-AB46FAE5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E48A0-FD0A-44A3-9873-2B1009A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D3650-CEC3-4E44-A0A4-EC58572E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E9DA8-F761-46FC-9D02-4AAB2D37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85DE7-42A1-4669-BF02-EB8EB436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2F2D5-E596-4B90-976E-8B9E5BE8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9FA-F70C-4884-978F-77CF7AAA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7AEEC-E805-495B-89B5-915AEE2E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573EF-DC72-4533-BD86-5BD84714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74F50-6353-4C47-9353-6CD084BD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0C4A7-AFA1-4212-87FD-A9E7C3AE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46212-D4C2-4A46-849B-83D70A22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CE45F-549E-4972-80AC-274944F1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E4479-8DE5-49EF-BD46-9D42C033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99268-2579-42D1-AFA1-986664BD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246D3-09C6-4401-AD08-58C1DB4E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7B0A2-9A15-4C65-A9A7-554E332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8D8-9CC6-4E9B-B64A-7D92E383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25202-C89A-4549-B204-C2E356E1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B9783-6679-4F33-8CA4-62CD28F2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1A085-824F-46A9-8A65-C959D787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0929C-7599-46DC-BA08-1FA8E19E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EF535-2DE8-4186-B35D-8B52AB6C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07E08-83E9-4B0C-A4FA-CD47E790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67E4B-B00F-4F8B-8CD4-AF0434E3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E1FF4-73F9-441A-9D6C-0B209045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835F5-FD26-4C7A-9F56-E4E3A734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1CBCB-8A5D-43DA-BF07-1A81D13F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1F9-941A-4D1E-A078-BBBB35F8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F40D3-5824-42E1-87A0-8685EFAC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7E7F6-8E9D-4C6B-94DC-C5E8DA96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9A858-EA01-497E-8734-17591AB5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9F23E-003A-4CAF-91D9-051A0A91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FA8D0-895C-4076-BF1B-3EE2AA7F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4F23C-8FC6-40BE-8FD9-140C5E5F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52DE5-8F06-4111-B185-811541AB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0EC63-2E30-40B2-86AE-87BC2068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3B302-6365-4839-BD9A-AF09C62A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B529D-2DC5-4524-8BEC-BD68019B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985-44DB-4E05-A2CB-C1B53A71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79F2D-E0C1-4C38-B6C2-EF24F9B3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B5ECA-A65F-4FD7-8351-39AA9BD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D3AB1-391F-4815-A6E9-E3CBD21A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EFD33-53B2-402B-A1FB-82DC4258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06A70-2EC3-4A3A-A270-E4AC5A6D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B01AF-ACC9-47FD-ADD2-3C1A313A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744CE-930A-4F04-B787-39646F38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9F9B1-7DD8-46A9-9133-A9D8ED44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2B787-51DE-4B87-B1DE-6E879577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FBF27-0948-45BB-88EE-71D90BBA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AF3B-981F-4089-8BB8-A32B63786866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61CD-57A8-4B17-9C8E-0093DF086B39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7E7C-B12E-4C35-92B1-7324AED49EFE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BF90-F863-408E-82DF-5160BCF5DBF6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837A-F2D5-4D5D-B5A7-345F464CC687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48E3-F0D5-4976-BD15-462A4B828FD8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11B1-6F95-4902-A56C-EE0115A059E8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4E86-2706-451E-83EA-605619A000D6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1686-CCA1-44C4-83F3-2089ED5243DE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8B32-34EF-4BF7-8F9B-9E999B7BDA48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E134-ED5F-4094-84B4-F1FA3594CA59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Google Shape;96;p2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7AD0-9399-4BAA-8FAD-02EED178DA4B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903320"/>
                <a:gridCol w="7240680"/>
              </a:tblGrid>
              <a:tr h="5011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именование П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лное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вид, тема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знавательный проек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«Математика в театре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6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60" name="Рисунок 3" descr=""/>
          <p:cNvPicPr/>
          <p:nvPr/>
        </p:nvPicPr>
        <p:blipFill>
          <a:blip r:embed="rId1"/>
          <a:stretch/>
        </p:blipFill>
        <p:spPr>
          <a:xfrm>
            <a:off x="1185840" y="-66600"/>
            <a:ext cx="19051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-108000" y="0"/>
          <a:ext cx="9252000" cy="6858000"/>
        </p:xfrm>
        <a:graphic>
          <a:graphicData uri="http://schemas.openxmlformats.org/drawingml/2006/table">
            <a:tbl>
              <a:tblPr/>
              <a:tblGrid>
                <a:gridCol w="1619280"/>
                <a:gridCol w="7632720"/>
              </a:tblGrid>
              <a:tr h="685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92360" y="2781360"/>
            <a:ext cx="7199280" cy="9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Google Shape;103;p3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16D9-6D82-4508-A021-79DCE098BB6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0" y="0"/>
          <a:ext cx="9144000" cy="1862280"/>
        </p:xfrm>
        <a:graphic>
          <a:graphicData uri="http://schemas.openxmlformats.org/drawingml/2006/table">
            <a:tbl>
              <a:tblPr/>
              <a:tblGrid>
                <a:gridCol w="2340000"/>
                <a:gridCol w="6804000"/>
              </a:tblGrid>
              <a:tr h="665280">
                <a:tc>
                  <a:txBody>
                    <a:bodyPr lIns="25560" rIns="25560" tIns="0" bIns="0" anchor="ctr">
                      <a:noAutofit/>
                    </a:bodyPr>
                    <a:p>
                      <a:pPr marL="88920" indent="32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рок начала и окончания П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d8dce5"/>
                      </a:solidFill>
                    </a:lnL>
                    <a:lnR w="5760">
                      <a:solidFill>
                        <a:srgbClr val="d8dce5"/>
                      </a:solidFill>
                    </a:lnR>
                    <a:lnT w="5760">
                      <a:solidFill>
                        <a:srgbClr val="d8dce5"/>
                      </a:solidFill>
                    </a:lnT>
                    <a:lnB w="5760">
                      <a:solidFill>
                        <a:srgbClr val="d8dce5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lIns="25560" rIns="25560" tIns="0" bIns="0" anchor="b">
                      <a:noAutofit/>
                    </a:bodyPr>
                    <a:p>
                      <a:pPr marL="88920" indent="32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32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2023г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23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 w="5760">
                      <a:solidFill>
                        <a:srgbClr val="d8dce5"/>
                      </a:solidFill>
                    </a:lnL>
                    <a:lnR w="5760">
                      <a:solidFill>
                        <a:srgbClr val="d8dce5"/>
                      </a:solidFill>
                    </a:lnR>
                    <a:lnT w="5760">
                      <a:solidFill>
                        <a:srgbClr val="d8dce5"/>
                      </a:solidFill>
                    </a:lnT>
                    <a:lnB w="5760">
                      <a:solidFill>
                        <a:srgbClr val="d8dc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7000"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32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уководитель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d8dce5"/>
                      </a:solidFill>
                    </a:lnL>
                    <a:lnR w="5760">
                      <a:solidFill>
                        <a:srgbClr val="d8dce5"/>
                      </a:solidFill>
                    </a:lnR>
                    <a:lnT w="5760">
                      <a:solidFill>
                        <a:srgbClr val="d8dce5"/>
                      </a:solidFill>
                    </a:lnT>
                    <a:lnB w="5760">
                      <a:solidFill>
                        <a:srgbClr val="d8dce5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нова Т.Н. , методис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d8dce5"/>
                      </a:solidFill>
                    </a:lnL>
                    <a:lnR w="5760">
                      <a:solidFill>
                        <a:srgbClr val="d8dce5"/>
                      </a:solidFill>
                    </a:lnR>
                    <a:lnT w="5760">
                      <a:solidFill>
                        <a:srgbClr val="d8dce5"/>
                      </a:solidFill>
                    </a:lnT>
                    <a:lnB w="5760">
                      <a:solidFill>
                        <a:srgbClr val="d8dce5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2600" y="2152800"/>
          <a:ext cx="9144000" cy="4705200"/>
        </p:xfrm>
        <a:graphic>
          <a:graphicData uri="http://schemas.openxmlformats.org/drawingml/2006/table">
            <a:tbl>
              <a:tblPr/>
              <a:tblGrid>
                <a:gridCol w="2333880"/>
                <a:gridCol w="6810120"/>
              </a:tblGrid>
              <a:tr h="4705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астники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62a7"/>
                      </a:solidFill>
                    </a:lnL>
                    <a:lnR w="5760">
                      <a:solidFill>
                        <a:srgbClr val="0062a7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0062a7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шмакова Н.Н. , воспит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никова Ю.А., воспит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ники группы № 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(законные представител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2a7"/>
                      </a:solidFill>
                    </a:lnL>
                    <a:lnR w="5760">
                      <a:solidFill>
                        <a:srgbClr val="b0b9cb"/>
                      </a:solidFill>
                    </a:lnR>
                    <a:lnT w="5760">
                      <a:solidFill>
                        <a:srgbClr val="b0b9cb"/>
                      </a:solidFill>
                    </a:lnT>
                    <a:lnB w="5760">
                      <a:solidFill>
                        <a:srgbClr val="b0b9c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Google Shape;111;p4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19C1-C698-4B2A-AE3A-E4443B185301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0" y="0"/>
          <a:ext cx="9144000" cy="7311960"/>
        </p:xfrm>
        <a:graphic>
          <a:graphicData uri="http://schemas.openxmlformats.org/drawingml/2006/table">
            <a:tbl>
              <a:tblPr/>
              <a:tblGrid>
                <a:gridCol w="2340000"/>
                <a:gridCol w="6804000"/>
              </a:tblGrid>
              <a:tr h="4146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снования для разработки П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играет огромную роль в умственном воспитании детей, в развитии мышления и интеллекта. Используемые в настоящее время методы обучения дошкольников реализуют далеко не все возможности, заложенные в математике. Разрешить это противоречие возможно путем внедрения новых, более эффективных методов и разнообразных форм обучения детей математике. Дети очень любят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атр и театральные представл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казки. А ведь именно через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атральную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деятельность дети могут легко усваивать знания. Таким образом, возникла необходимость создан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знавательного проекта « Математика в театр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SzPct val="72000"/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овизна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элементарных математических представлений у детей в процессе театрализован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Google Shape;111;p4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855F-E8CC-4305-B721-A2E6D906097B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340000"/>
                <a:gridCol w="6804000"/>
              </a:tblGrid>
              <a:tr h="21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Цель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элементарных математических представлений у детей старшего дошкольного возраста посредством театраль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ч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здать условия для усвоения дошкольниками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х представлен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беспечить успешное развитие способностей и мышления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действовать развитию умения считать в пределах 20 в прямом и обратном порядке, правильно пользоваться порядковыми и количественными числительными, способствовать закреплению умений узнавать и называть геометрические фигу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буждать родителей к участию в реализации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и к занятиям с детьми до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Google Shape;197;p9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4AF1-BA1B-450B-87C1-988C60567C13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050920"/>
                <a:gridCol w="7093080"/>
              </a:tblGrid>
              <a:tr h="685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ча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 реализаци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Математика в театр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lIns="285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азработать и утверждить перспективный план работы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в театре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существить подбор средств ИКТ, методическое обеспечение для работы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в театре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Разработать план взаимодействия с родителями по реализации программы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в театре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одбор средств ИКТ, оборудования, методического и дидактическоего обеспечения для работы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в театре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58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Google Shape;197;p9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C61A-3295-4D45-8057-A2B1C38BC08E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050920"/>
                <a:gridCol w="7093080"/>
              </a:tblGrid>
              <a:tr h="685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ча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овать развитию ФЭМ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lIns="285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согласно календарно-перспективному планированию в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ой групп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Д по ФЭМП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исьма королевы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и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ород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и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 ОД по изобразительной деятель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рисование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бавные фигур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нструирование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его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-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ветные цифр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лепка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селые цифр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х сказо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казок с элементами сче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ри медведя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ва медвежонка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венадцать месяцев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С. Маршака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ветик – семицветик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. Катаева; рассказа К. Ушинского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тыре желания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учивание стихов про цифры, считалок, загадок о геометрических фигурах и цифр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мотр компьютерной презентации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Жили, были цифр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едметы и форм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крашивание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х раскрасо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исование циф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руир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о счетными палоч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ие игры с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м содерж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естики – нолики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ое лото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омино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абиринт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ие цифры потерялись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селые цифр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е домики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удо крестики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анграм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блоки Дьенеша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олшебные круги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удесный мешочек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и т. 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гадывание загадок,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имательных вопрос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шуточных задачек, головолом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движные игр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ре волнуется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строй фигуру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овые гимна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142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58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Google Shape;197;p9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7803-FE14-48D4-B4CD-C4652035D9B9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050920"/>
                <a:gridCol w="7093080"/>
              </a:tblGrid>
              <a:tr h="685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ча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уждать родителей к участию в реализации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и к занятиям с детьми до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lIns="285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Беседы, консультации, выступления на родительском собра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тема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ланирование театрализованных игр в воспитательно- образовательном процессе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оль дидактических игр в детском саду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ализованные игры  в процессе математического развития детей дошкольного возраст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начение театрализации для воспитания дете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Участие родителей в изготовлении атрибутов к  математическим театрализованным игр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омощь родителей в оформлении книги  «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х сказо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58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Google Shape;216;p12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8277-B83E-41B8-832F-229DE91ABEA8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0" y="0"/>
          <a:ext cx="9144000" cy="7543800"/>
        </p:xfrm>
        <a:graphic>
          <a:graphicData uri="http://schemas.openxmlformats.org/drawingml/2006/table">
            <a:tbl>
              <a:tblPr/>
              <a:tblGrid>
                <a:gridCol w="2195640"/>
                <a:gridCol w="6948360"/>
              </a:tblGrid>
              <a:tr h="7543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езультаты П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lIns="285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обие  «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е сказ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пективный план работы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 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в театр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( в соответствии с календарным планированием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атральная постановка « Путешествие по сказка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58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6" name="Google Shape;247;p16"/>
          <p:cNvSpPr/>
          <p:nvPr/>
        </p:nvSpPr>
        <p:spPr>
          <a:xfrm>
            <a:off x="2467080" y="663480"/>
            <a:ext cx="631512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езультат-эффек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педагогической компетенции по теме само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олнение развивающей предметно-пространственной среды групп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активного взаимодействия с родителями воспитанников в  контексте работы над темой самообразования в течение учебного года посредством включения в сотрудничество инновационных форм работы с семьями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езультат-продук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Google Shape;245;p16"/>
          <p:cNvSpPr/>
          <p:nvPr/>
        </p:nvSpPr>
        <p:spPr>
          <a:xfrm>
            <a:off x="646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1385-2892-4797-8F11-546BFCF2DD0D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-108000" y="0"/>
          <a:ext cx="9252000" cy="6858000"/>
        </p:xfrm>
        <a:graphic>
          <a:graphicData uri="http://schemas.openxmlformats.org/drawingml/2006/table">
            <a:tbl>
              <a:tblPr/>
              <a:tblGrid>
                <a:gridCol w="1619280"/>
                <a:gridCol w="7632720"/>
              </a:tblGrid>
              <a:tr h="685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ак после завершения П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оекта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будет дальше работать проектная модель, система и т.д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006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1a1d"/>
                      </a:solidFill>
                    </a:lnL>
                    <a:lnR w="5760">
                      <a:solidFill>
                        <a:srgbClr val="921a1d"/>
                      </a:solidFill>
                    </a:lnR>
                    <a:lnT w="5760">
                      <a:solidFill>
                        <a:srgbClr val="921a1d"/>
                      </a:solidFill>
                    </a:lnT>
                    <a:lnB w="5760">
                      <a:solidFill>
                        <a:srgbClr val="921a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9" name="Google Shape;247;p16"/>
          <p:cNvSpPr/>
          <p:nvPr/>
        </p:nvSpPr>
        <p:spPr>
          <a:xfrm>
            <a:off x="1692360" y="2492280"/>
            <a:ext cx="71276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ирование опыта работы по теме проекта на педагогических советах, конференциях, интернет- площад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8:01:34Z</dcterms:created>
  <dc:creator>Наталья</dc:creator>
  <dc:description/>
  <dc:language>en-US</dc:language>
  <cp:lastModifiedBy>acer</cp:lastModifiedBy>
  <dcterms:modified xsi:type="dcterms:W3CDTF">2023-06-07T01:36:43Z</dcterms:modified>
  <cp:revision>28</cp:revision>
  <dc:subject/>
  <dc:title>Презентация PowerPoint</dc:title>
</cp:coreProperties>
</file>