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dt" idx="3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Img"/>
          </p:nvPr>
        </p:nvSpPr>
        <p:spPr>
          <a:xfrm>
            <a:off x="919080" y="744120"/>
            <a:ext cx="4959720" cy="3721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ftr" idx="35"/>
          </p:nvPr>
        </p:nvSpPr>
        <p:spPr>
          <a:xfrm>
            <a:off x="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 type="sldNum" idx="36"/>
          </p:nvPr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9FC23-C9EE-4A31-BA8A-BEC8C1F0A67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Google Shape;94;p2:notes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CCC14-6AFB-42E6-91FD-49A3805DEA6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Google Shape;251;p17:notes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AECAC-4AA8-4928-B8B9-244C87FB872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Google Shape;101;p3:notes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6FFC3-F10E-4ECF-8AC3-9F04E3C2FFD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Google Shape;109;p4:notes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987F7-2944-4068-9CA3-4B521A3DC91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Google Shape;109;p4:notes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262B5-30BC-447B-A154-04ACB1210DD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Google Shape;214;p12:notes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FC346-170F-4136-A8DC-B67BE9A71BB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Google Shape;243;p16:notes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4D2DE-A9D0-4538-9111-4C2FD81EB10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2267-9FC1-4524-B2A5-ED07E93CF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3240" y="410148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1366-AE93-44BA-8C6D-5E4D81D18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AE170B-9F6B-46D2-9E3A-76F7B189B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4B4BCF-BDDC-493C-97F8-046BA1257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3324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6085BF-74BB-487A-88D3-12FA21CC1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E42AA6-8510-4EA6-B595-998AE963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96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4D645B-5A76-4363-A45C-AE34AA2C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8CF9DE-107A-4227-9B2D-9C953EA2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33240" y="410148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1CD590-766E-4BB1-8D22-48894E003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96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35AFE4-7BFC-4610-8A75-894495354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0012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6700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3324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0012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6700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9D9A72-3C09-40F6-8E4D-E7CE30BA4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9EF44D-2A16-4C49-9E90-C5ED19C47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9107-2E1C-44EE-A61C-9273C6C46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9FD411-5F94-46EB-A5B3-CCC6FFC37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978B8F-F31B-4328-9957-50D51B49E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D57AEF-FB6C-4570-A685-A87E4845D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8F4933-9CBF-468B-B740-B7DAC1872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3324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907DD6-0CC4-4DA4-B89D-7EC42051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3AC20A-7E0B-4522-8D28-B26B85EB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BCB5FF-FF33-4237-B3CE-0FE585FB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AE7B3C-748B-40CE-9DE3-8AC22427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33240" y="410148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F266E5-8570-45BC-AB1C-371B4C449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63DC6A-3E52-453C-B9FB-B4183DB7A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012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700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3324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012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700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A92D-DA56-4F6F-95A2-7215D952B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0012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6700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3324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0012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6700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6E02D2-AC5B-4AE6-83DA-83EE790CD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49CE4F-DD00-4FDD-ABE6-A7729DEE3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91E4A7-3028-4721-A82F-CE93063D9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EC05EB-D148-4A0D-8C8E-B0FCE3745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336AB8-9C20-4C08-AC8E-734A17014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9A8B11-F8AB-476D-AA47-B50123DC4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3324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DD222A-9952-4929-B402-9DA29A3D2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1250F9-B706-4252-BAE9-C53BCE9A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96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0C72FF-CBFE-4B25-9BE4-3BAF8FD4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789743-332A-488C-8AC3-01CBB588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09DCC-BCE0-47A7-901D-66C5C0682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33240" y="410148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DC2F0A-426A-4A84-AEAB-80FFC067E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96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A5C4D7-2EA5-4C64-AE0B-2694D3F8D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0012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6700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3324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0012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6700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E03BF3-9306-4182-92E9-F9377118F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B131D-A5AC-4B8A-ADB8-3E688FB69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0D21F-0877-48C4-BC82-EE853F9F3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CF07F-CF6E-43F2-9D82-72AC3741A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5CE74-8FA0-467E-A784-D49EB60C8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3324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CD7BF-8978-42DC-B4DA-25348717D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B9A05-8723-4127-9219-4E2C8A80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53A6-E70A-473E-94C6-FD8FFEFFA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96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F6744-5185-4724-AC3D-C5F3AC5A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4B5C1-4A42-4E2B-89D0-5D7BEE9B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33240" y="410148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3A1F3-D03C-46A4-9ED6-F2C5AC5CD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96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AFC8B-6353-4813-8A31-8D52E0982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0012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700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3324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0012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700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26440-74E0-477E-B6A6-38E7E0BBC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2CC51-E0AE-4D5E-AFAA-7FC6C21DF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29F94-8A40-4FA8-A70A-3104BACB4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173AD-ACFE-44E8-8916-C0ECA1F62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EFB87-4BBF-4A99-B5C1-869FEB13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A9530-1A5B-48E3-94F6-23B3ADD0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0546-2549-4CF7-B314-B9A6D8716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3324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D0854-C761-48DD-900D-38ECE91F3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12C9D-D5D2-40A2-B167-194E266B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96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38200-0B61-4C7D-8B95-590CE3CE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33835-3178-40F1-8BF1-465812C1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33240" y="410148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9222A-D691-427B-BE4F-4A9ED8134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96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ACE3C-D057-417A-BC7A-E7794BDF5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0012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700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3324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0012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700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F4DF9-8E0C-406A-9FBD-C3C29E6AA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5F068-FAC2-48F1-A70B-993EB2696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A52CF-0DAC-48DC-8620-20B58B22A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CB6E5-0287-435A-BB60-EDFFF7AF0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7CF3-A766-4B3F-AC77-A9D5CEC1B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1149C-22C0-4F11-9CCB-DBD857C77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38932-9A54-457F-9D08-22240404F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3324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316D1-0098-48F2-AB75-B78365B7F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D2079-8A10-4985-98DC-E5461CBF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96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754A8-9E4D-4399-90B7-8EA5EDA2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611C5-2995-4C40-A40B-A28489F2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33240" y="410148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836CC-6046-4C28-95D0-7FF155146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96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E911E-0DBD-4F69-BDB6-D786CDE82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0012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6700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3324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0012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6700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63E5C-155C-444B-8CF3-823952DB1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07F77-B463-4DCC-8B91-EE3CC9FAC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15CA-DD37-4EC1-A263-753FB28C4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ECFE4-3E59-43F8-9B4B-3FD665DA6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E3724-A9F1-4674-A0CF-235407F61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38F72-DC3E-43AF-A6C7-B2E64D776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48921-B100-4D5A-B291-EADF01735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3324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104EF-E0DB-4E2A-9812-D34608BA2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1DED0-775F-4862-9C13-84004B0D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96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25441-1B77-4ACB-8D9E-ACD1B174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39E23-82AD-4BA4-AF5F-97C92A7D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33240" y="410148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DC07C-07F0-46CF-810C-260C4D627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96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461C1-5182-44DB-8D9E-310471D70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3324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1126-05BA-4E6E-8831-53546A6FB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0012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6700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3324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0012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6700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927E1-B65D-4DE1-8483-90E75D569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16BC32-8A7B-4E5C-8016-E771BA449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5D2581-8C3D-4AB2-BA6B-D1144D516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78DEB9-0439-425C-9E69-D005AEDAD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17E00-810D-4898-B422-859831E30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CF97C-4A24-40D2-8B61-930A28D3E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3324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C1681-9BE5-4319-A931-79F0F611B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5D897-BAA7-4746-8119-ED6191EB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96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42DA1-838C-49DC-84A7-74CB3C3D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3C9F1-2EA0-4B5F-A7BA-9F875FD6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283D-3421-475B-81D2-FE1BCC2F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33240" y="410148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DF8D0-84A9-4C59-ABBE-DED192AB7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96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62ADD-6E82-4F94-B034-2964AB359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0012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6700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3324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0012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6700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63CE4-4095-49F5-B4ED-C078C0761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79BDF6-2631-4D20-81D5-688B1881A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2BE6D-B97B-42F2-9EFE-49D25CD9F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EBCF66-99D6-46EF-9A28-55900B0DD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F7E88-AC64-4D4D-A037-FC94E39C3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5B17B6-4A59-479C-8D7A-10A28FF9F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3324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59F9A-F3A3-4035-AEF3-23097A654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A882DF-E967-4A99-80F4-A59CABF5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6A69-29C9-4401-936C-89127E1E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96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879FF-D7EE-4DAE-B31F-2D26A95B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1D89C-8F2D-479A-A2F5-97D840AA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33240" y="410148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5F1172-9083-4E3E-ABF4-2AF919D10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96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2BA1E-0AF9-4B73-BBAA-179A854D6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0012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6700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3324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0012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6700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53361-03C8-46FD-879A-2D8DC3B42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03303E-B33F-4EFC-8B33-C2FF9DB47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EF0072-5F3B-4E32-B0F0-AF9C7BB72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5550EF-35D6-418B-8DB1-8AC757E28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19AD8-5637-44AE-8619-7A52A79B1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617C08-BA21-44AE-88D5-B841C1AD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9C75-A284-44F1-B6E0-388F2335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3324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126D42-4D1C-4E7A-9382-8B08954B4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18A2F5-A4F8-450F-8224-E392E28A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96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344C73-90BD-4E68-BAEC-A9386A26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63872A-51FA-4021-BEC7-218DA9D6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33240" y="410148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36A986-ED55-4D98-8B11-2B581C4D2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96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816C80-A7A7-44BC-AA34-5FFD16EC8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0012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6700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3324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0012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6700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6153D-35E3-48C2-8045-139F904FC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FBF81B-C334-47C5-A7EA-C00FD4505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C4F00A-EE7A-4011-8314-85175CA5E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1F477F-6926-4260-BCD8-FF63BB393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623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3B75F-2957-420B-9644-1C11DD9109B8}" type="slidenum"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4623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95F28-5A14-4AB6-9D99-113B4760FD18}" type="slidenum"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4623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159BF-B87C-4395-82A8-7D8558CD5B41}" type="slidenum"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623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761B2-F724-4E28-A036-D216F5FFBA2A}" type="slidenum"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623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F17AC-2FCE-41B2-A9FB-138FA2F206F0}" type="slidenum"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4623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99133-0609-482B-AFBB-33E82174BA02}" type="slidenum"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4623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65285-5002-4B87-93F7-8C67E867A7FF}" type="slidenum"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4623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49DAE-0D13-49CA-AE99-EB6B11F8DBD3}" type="slidenum"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4623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E9DA7-2993-4932-BE64-BC27E02FD26E}" type="slidenum"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4623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82779-9316-4CFC-B20A-CFDD18E105CA}" type="slidenum"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4623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FFEE9-1874-466F-8845-6DED28102F6D}" type="slidenum"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Google Shape;96;p2"/>
          <p:cNvSpPr/>
          <p:nvPr/>
        </p:nvSpPr>
        <p:spPr>
          <a:xfrm>
            <a:off x="646272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9FE69-87A2-4092-A5D1-562579B8F5F7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903320"/>
                <a:gridCol w="7240680"/>
              </a:tblGrid>
              <a:tr h="50115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Наименование П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роекта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/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полное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(вид, тема)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21a1d"/>
                      </a:solidFill>
                    </a:lnL>
                    <a:lnR w="5760">
                      <a:solidFill>
                        <a:srgbClr val="921a1d"/>
                      </a:solidFill>
                    </a:lnR>
                    <a:lnT w="5760">
                      <a:solidFill>
                        <a:srgbClr val="921a1d"/>
                      </a:solidFill>
                    </a:lnT>
                    <a:lnB w="5760">
                      <a:solidFill>
                        <a:srgbClr val="921a1d"/>
                      </a:solidFill>
                    </a:lnB>
                    <a:solidFill>
                      <a:srgbClr val="0062a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Познавательный проек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«Математика в театре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21a1d"/>
                      </a:solidFill>
                    </a:lnL>
                    <a:lnR w="5760">
                      <a:solidFill>
                        <a:srgbClr val="921a1d"/>
                      </a:solidFill>
                    </a:lnR>
                    <a:lnT w="5760">
                      <a:solidFill>
                        <a:srgbClr val="921a1d"/>
                      </a:solidFill>
                    </a:lnT>
                    <a:lnB w="5760">
                      <a:solidFill>
                        <a:srgbClr val="921a1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4644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21a1d"/>
                      </a:solidFill>
                    </a:lnL>
                    <a:lnR w="5760">
                      <a:solidFill>
                        <a:srgbClr val="921a1d"/>
                      </a:solidFill>
                    </a:lnR>
                    <a:lnT w="5760">
                      <a:solidFill>
                        <a:srgbClr val="921a1d"/>
                      </a:solidFill>
                    </a:lnT>
                    <a:lnB w="5760">
                      <a:solidFill>
                        <a:srgbClr val="921a1d"/>
                      </a:solidFill>
                    </a:lnB>
                    <a:solidFill>
                      <a:srgbClr val="0062a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21a1d"/>
                      </a:solidFill>
                    </a:lnL>
                    <a:lnR w="5760">
                      <a:solidFill>
                        <a:srgbClr val="921a1d"/>
                      </a:solidFill>
                    </a:lnR>
                    <a:lnT w="5760">
                      <a:solidFill>
                        <a:srgbClr val="921a1d"/>
                      </a:solidFill>
                    </a:lnT>
                    <a:lnB w="5760">
                      <a:solidFill>
                        <a:srgbClr val="921a1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460" name="Рисунок 3" descr=""/>
          <p:cNvPicPr/>
          <p:nvPr/>
        </p:nvPicPr>
        <p:blipFill>
          <a:blip r:embed="rId1"/>
          <a:stretch/>
        </p:blipFill>
        <p:spPr>
          <a:xfrm>
            <a:off x="1185840" y="-66600"/>
            <a:ext cx="190512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0" name=""/>
          <p:cNvGraphicFramePr/>
          <p:nvPr/>
        </p:nvGraphicFramePr>
        <p:xfrm>
          <a:off x="-108000" y="0"/>
          <a:ext cx="9252000" cy="6858000"/>
        </p:xfrm>
        <a:graphic>
          <a:graphicData uri="http://schemas.openxmlformats.org/drawingml/2006/table">
            <a:tbl>
              <a:tblPr/>
              <a:tblGrid>
                <a:gridCol w="1619280"/>
                <a:gridCol w="7632720"/>
              </a:tblGrid>
              <a:tr h="6858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21a1d"/>
                      </a:solidFill>
                    </a:lnL>
                    <a:lnR w="5760">
                      <a:solidFill>
                        <a:srgbClr val="921a1d"/>
                      </a:solidFill>
                    </a:lnR>
                    <a:lnT w="5760">
                      <a:solidFill>
                        <a:srgbClr val="921a1d"/>
                      </a:solidFill>
                    </a:lnT>
                    <a:lnB w="5760">
                      <a:solidFill>
                        <a:srgbClr val="921a1d"/>
                      </a:solidFill>
                    </a:lnB>
                    <a:solidFill>
                      <a:srgbClr val="0062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21a1d"/>
                      </a:solidFill>
                    </a:lnL>
                    <a:lnR w="5760">
                      <a:solidFill>
                        <a:srgbClr val="921a1d"/>
                      </a:solidFill>
                    </a:lnR>
                    <a:lnT w="5760">
                      <a:solidFill>
                        <a:srgbClr val="921a1d"/>
                      </a:solidFill>
                    </a:lnT>
                    <a:lnB w="5760">
                      <a:solidFill>
                        <a:srgbClr val="921a1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692360" y="2781360"/>
            <a:ext cx="7199280" cy="97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Google Shape;103;p3"/>
          <p:cNvSpPr/>
          <p:nvPr/>
        </p:nvSpPr>
        <p:spPr>
          <a:xfrm>
            <a:off x="646272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9E3FE-9A1E-46D4-9886-1699B8242DA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0" y="0"/>
          <a:ext cx="9144000" cy="1862280"/>
        </p:xfrm>
        <a:graphic>
          <a:graphicData uri="http://schemas.openxmlformats.org/drawingml/2006/table">
            <a:tbl>
              <a:tblPr/>
              <a:tblGrid>
                <a:gridCol w="2340000"/>
                <a:gridCol w="6804000"/>
              </a:tblGrid>
              <a:tr h="665280">
                <a:tc>
                  <a:txBody>
                    <a:bodyPr lIns="25560" rIns="25560" tIns="0" bIns="0" anchor="ctr">
                      <a:noAutofit/>
                    </a:bodyPr>
                    <a:p>
                      <a:pPr marL="88920" indent="324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Срок начала и окончания П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d8dce5"/>
                      </a:solidFill>
                    </a:lnL>
                    <a:lnR w="5760">
                      <a:solidFill>
                        <a:srgbClr val="d8dce5"/>
                      </a:solidFill>
                    </a:lnR>
                    <a:lnT w="5760">
                      <a:solidFill>
                        <a:srgbClr val="d8dce5"/>
                      </a:solidFill>
                    </a:lnT>
                    <a:lnB w="5760">
                      <a:solidFill>
                        <a:srgbClr val="d8dce5"/>
                      </a:solidFill>
                    </a:lnB>
                    <a:solidFill>
                      <a:srgbClr val="0062a7"/>
                    </a:solidFill>
                  </a:tcPr>
                </a:tc>
                <a:tc>
                  <a:txBody>
                    <a:bodyPr lIns="25560" rIns="25560" tIns="0" bIns="0" anchor="b">
                      <a:noAutofit/>
                    </a:bodyPr>
                    <a:p>
                      <a:pPr marL="88920" indent="324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 indent="324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тябрь 2023г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й 2023г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5560" marR="25560">
                    <a:lnL w="5760">
                      <a:solidFill>
                        <a:srgbClr val="d8dce5"/>
                      </a:solidFill>
                    </a:lnL>
                    <a:lnR w="5760">
                      <a:solidFill>
                        <a:srgbClr val="d8dce5"/>
                      </a:solidFill>
                    </a:lnR>
                    <a:lnT w="5760">
                      <a:solidFill>
                        <a:srgbClr val="d8dce5"/>
                      </a:solidFill>
                    </a:lnT>
                    <a:lnB w="5760">
                      <a:solidFill>
                        <a:srgbClr val="d8dce5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7000">
                <a:tc>
                  <a:txBody>
                    <a:bodyPr lIns="25560" rIns="25560" tIns="0" bIns="0" anchor="t">
                      <a:noAutofit/>
                    </a:bodyPr>
                    <a:p>
                      <a:pPr marL="88920" indent="324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Руководитель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П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d8dce5"/>
                      </a:solidFill>
                    </a:lnL>
                    <a:lnR w="5760">
                      <a:solidFill>
                        <a:srgbClr val="d8dce5"/>
                      </a:solidFill>
                    </a:lnR>
                    <a:lnT w="5760">
                      <a:solidFill>
                        <a:srgbClr val="d8dce5"/>
                      </a:solidFill>
                    </a:lnT>
                    <a:lnB w="5760">
                      <a:solidFill>
                        <a:srgbClr val="d8dce5"/>
                      </a:solidFill>
                    </a:lnB>
                    <a:solidFill>
                      <a:srgbClr val="0062a7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нова Т.Н. , методист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d8dce5"/>
                      </a:solidFill>
                    </a:lnL>
                    <a:lnR w="5760">
                      <a:solidFill>
                        <a:srgbClr val="d8dce5"/>
                      </a:solidFill>
                    </a:lnR>
                    <a:lnT w="5760">
                      <a:solidFill>
                        <a:srgbClr val="d8dce5"/>
                      </a:solidFill>
                    </a:lnT>
                    <a:lnB w="5760">
                      <a:solidFill>
                        <a:srgbClr val="d8dce5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63" name=""/>
          <p:cNvGraphicFramePr/>
          <p:nvPr/>
        </p:nvGraphicFramePr>
        <p:xfrm>
          <a:off x="12600" y="2152800"/>
          <a:ext cx="9144000" cy="4705200"/>
        </p:xfrm>
        <a:graphic>
          <a:graphicData uri="http://schemas.openxmlformats.org/drawingml/2006/table">
            <a:tbl>
              <a:tblPr/>
              <a:tblGrid>
                <a:gridCol w="2333880"/>
                <a:gridCol w="6810120"/>
              </a:tblGrid>
              <a:tr h="47052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Участники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П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62a7"/>
                      </a:solidFill>
                    </a:lnL>
                    <a:lnR w="5760">
                      <a:solidFill>
                        <a:srgbClr val="0062a7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0062a7"/>
                      </a:solidFill>
                    </a:lnB>
                    <a:solidFill>
                      <a:srgbClr val="0062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шмакова Н.Н. , воспита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лебникова Ю.А., воспита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нники группы № 1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ители (законные представители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62a7"/>
                      </a:solidFill>
                    </a:lnL>
                    <a:lnR w="5760">
                      <a:solidFill>
                        <a:srgbClr val="b0b9cb"/>
                      </a:solidFill>
                    </a:lnR>
                    <a:lnT w="5760">
                      <a:solidFill>
                        <a:srgbClr val="b0b9cb"/>
                      </a:solidFill>
                    </a:lnT>
                    <a:lnB w="5760">
                      <a:solidFill>
                        <a:srgbClr val="b0b9cb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Google Shape;111;p4"/>
          <p:cNvSpPr/>
          <p:nvPr/>
        </p:nvSpPr>
        <p:spPr>
          <a:xfrm>
            <a:off x="646272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2027D-2551-451F-9CCE-E9CA49713C44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0" y="0"/>
          <a:ext cx="9144000" cy="7311960"/>
        </p:xfrm>
        <a:graphic>
          <a:graphicData uri="http://schemas.openxmlformats.org/drawingml/2006/table">
            <a:tbl>
              <a:tblPr/>
              <a:tblGrid>
                <a:gridCol w="2340000"/>
                <a:gridCol w="6804000"/>
              </a:tblGrid>
              <a:tr h="41464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Основания для разработки П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21a1d"/>
                      </a:solidFill>
                    </a:lnL>
                    <a:lnR w="5760">
                      <a:solidFill>
                        <a:srgbClr val="921a1d"/>
                      </a:solidFill>
                    </a:lnR>
                    <a:lnT w="5760">
                      <a:solidFill>
                        <a:srgbClr val="921a1d"/>
                      </a:solidFill>
                    </a:lnT>
                    <a:lnB w="5760">
                      <a:solidFill>
                        <a:srgbClr val="921a1d"/>
                      </a:solidFill>
                    </a:lnB>
                    <a:solidFill>
                      <a:srgbClr val="0062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28600" indent="-2286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ка играет огромную роль в умственном воспитании детей, в развитии мышления и интеллекта. Используемые в настоящее время методы обучения дошкольников реализуют далеко не все возможности, заложенные в математике. Разрешить это противоречие возможно путем внедрения новых, более эффективных методов и разнообразных форм обучения детей математике. Дети очень любят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атр и театральные представлени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сказки. А ведь именно через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атральную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деятельность дети могут легко усваивать знания. Таким образом, возникла необходимость создания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ознавательного проекта « Математика в театре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buClr>
                          <a:srgbClr val="000000"/>
                        </a:buClr>
                        <a:buSzPct val="72000"/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21a1d"/>
                      </a:solidFill>
                    </a:lnL>
                    <a:lnR w="5760">
                      <a:solidFill>
                        <a:srgbClr val="921a1d"/>
                      </a:solidFill>
                    </a:lnR>
                    <a:lnT w="5760">
                      <a:solidFill>
                        <a:srgbClr val="921a1d"/>
                      </a:solidFill>
                    </a:lnT>
                    <a:lnB w="5760">
                      <a:solidFill>
                        <a:srgbClr val="921a1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6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Новизна п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21a1d"/>
                      </a:solidFill>
                    </a:lnL>
                    <a:lnR w="5760">
                      <a:solidFill>
                        <a:srgbClr val="921a1d"/>
                      </a:solidFill>
                    </a:lnR>
                    <a:lnT w="5760">
                      <a:solidFill>
                        <a:srgbClr val="921a1d"/>
                      </a:solidFill>
                    </a:lnT>
                    <a:lnB w="5760">
                      <a:solidFill>
                        <a:srgbClr val="921a1d"/>
                      </a:solidFill>
                    </a:lnB>
                    <a:solidFill>
                      <a:srgbClr val="0062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ние элементарных математических представлений у детей в процессе театрализованной деятель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21a1d"/>
                      </a:solidFill>
                    </a:lnL>
                    <a:lnR w="5760">
                      <a:solidFill>
                        <a:srgbClr val="921a1d"/>
                      </a:solidFill>
                    </a:lnR>
                    <a:lnT w="5760">
                      <a:solidFill>
                        <a:srgbClr val="921a1d"/>
                      </a:solidFill>
                    </a:lnT>
                    <a:lnB w="5760">
                      <a:solidFill>
                        <a:srgbClr val="921a1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Google Shape;111;p4"/>
          <p:cNvSpPr/>
          <p:nvPr/>
        </p:nvSpPr>
        <p:spPr>
          <a:xfrm>
            <a:off x="646272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AABA0-621F-4109-8BE9-FBD0066A9565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340000"/>
                <a:gridCol w="6804000"/>
              </a:tblGrid>
              <a:tr h="2135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Цель П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21a1d"/>
                      </a:solidFill>
                    </a:lnL>
                    <a:lnR w="5760">
                      <a:solidFill>
                        <a:srgbClr val="921a1d"/>
                      </a:solidFill>
                    </a:lnR>
                    <a:lnT w="5760">
                      <a:solidFill>
                        <a:srgbClr val="921a1d"/>
                      </a:solidFill>
                    </a:lnT>
                    <a:lnB w="5760">
                      <a:solidFill>
                        <a:srgbClr val="921a1d"/>
                      </a:solidFill>
                    </a:lnB>
                    <a:solidFill>
                      <a:srgbClr val="0062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28600" indent="-2286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ние элементарных математических представлений у детей старшего дошкольного возраста посредством театральной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21a1d"/>
                      </a:solidFill>
                    </a:lnL>
                    <a:lnR w="5760">
                      <a:solidFill>
                        <a:srgbClr val="921a1d"/>
                      </a:solidFill>
                    </a:lnR>
                    <a:lnT w="5760">
                      <a:solidFill>
                        <a:srgbClr val="921a1d"/>
                      </a:solidFill>
                    </a:lnT>
                    <a:lnB w="5760">
                      <a:solidFill>
                        <a:srgbClr val="921a1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2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Задачи П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21a1d"/>
                      </a:solidFill>
                    </a:lnL>
                    <a:lnR w="5760">
                      <a:solidFill>
                        <a:srgbClr val="921a1d"/>
                      </a:solidFill>
                    </a:lnR>
                    <a:lnT w="5760">
                      <a:solidFill>
                        <a:srgbClr val="921a1d"/>
                      </a:solidFill>
                    </a:lnT>
                    <a:lnB w="5760">
                      <a:solidFill>
                        <a:srgbClr val="921a1d"/>
                      </a:solidFill>
                    </a:lnB>
                    <a:solidFill>
                      <a:srgbClr val="0062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Создать условия для усвоения дошкольниками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ческих представлений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обеспечить успешное развитие способностей и мышления дет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Содействовать развитию умения считать в пределах 20 в прямом и обратном порядке, правильно пользоваться порядковыми и количественными числительными, способствовать закреплению умений узнавать и называть геометрические фигур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Побуждать родителей к участию в реализации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ект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и к занятиям с детьми дом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21a1d"/>
                      </a:solidFill>
                    </a:lnL>
                    <a:lnR w="5760">
                      <a:solidFill>
                        <a:srgbClr val="921a1d"/>
                      </a:solidFill>
                    </a:lnR>
                    <a:lnT w="5760">
                      <a:solidFill>
                        <a:srgbClr val="921a1d"/>
                      </a:solidFill>
                    </a:lnT>
                    <a:lnB w="5760">
                      <a:solidFill>
                        <a:srgbClr val="921a1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Google Shape;197;p9"/>
          <p:cNvSpPr/>
          <p:nvPr/>
        </p:nvSpPr>
        <p:spPr>
          <a:xfrm>
            <a:off x="646272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A2832-FCD7-4B3C-8119-E92A8AFEB8C2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050920"/>
                <a:gridCol w="7093080"/>
              </a:tblGrid>
              <a:tr h="6858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Задача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ловия реализации п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 Математика в театре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21a1d"/>
                      </a:solidFill>
                    </a:lnL>
                    <a:lnR w="5760">
                      <a:solidFill>
                        <a:srgbClr val="921a1d"/>
                      </a:solidFill>
                    </a:lnR>
                    <a:lnT w="5760">
                      <a:solidFill>
                        <a:srgbClr val="921a1d"/>
                      </a:solidFill>
                    </a:lnT>
                    <a:lnB w="5760">
                      <a:solidFill>
                        <a:srgbClr val="921a1d"/>
                      </a:solidFill>
                    </a:lnB>
                    <a:solidFill>
                      <a:srgbClr val="0062a7"/>
                    </a:solidFill>
                  </a:tcPr>
                </a:tc>
                <a:tc>
                  <a:txBody>
                    <a:bodyPr lIns="2858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Разработать и утверждить перспективный план работы 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екта 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ка в театре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Осуществить подбор средств ИКТ, методическое обеспечение для работы 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екта 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ка в театре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Разработать план взаимодействия с родителями по реализации программы 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екта 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ка в театре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Подбор средств ИКТ, оборудования, методического и дидактическоего обеспечения для работы 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екта 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ка в театре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5840" marR="91440">
                    <a:lnL w="5760">
                      <a:solidFill>
                        <a:srgbClr val="921a1d"/>
                      </a:solidFill>
                    </a:lnL>
                    <a:lnR w="5760">
                      <a:solidFill>
                        <a:srgbClr val="921a1d"/>
                      </a:solidFill>
                    </a:lnR>
                    <a:lnT w="5760">
                      <a:solidFill>
                        <a:srgbClr val="921a1d"/>
                      </a:solidFill>
                    </a:lnT>
                    <a:lnB w="5760">
                      <a:solidFill>
                        <a:srgbClr val="921a1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Google Shape;197;p9"/>
          <p:cNvSpPr/>
          <p:nvPr/>
        </p:nvSpPr>
        <p:spPr>
          <a:xfrm>
            <a:off x="646272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515B1-BA69-4039-BFB3-2F791A8FDEE6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050920"/>
                <a:gridCol w="7093080"/>
              </a:tblGrid>
              <a:tr h="6858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Задача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йствовать развитию ФЭМП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21a1d"/>
                      </a:solidFill>
                    </a:lnL>
                    <a:lnR w="5760">
                      <a:solidFill>
                        <a:srgbClr val="921a1d"/>
                      </a:solidFill>
                    </a:lnR>
                    <a:lnT w="5760">
                      <a:solidFill>
                        <a:srgbClr val="921a1d"/>
                      </a:solidFill>
                    </a:lnT>
                    <a:lnB w="5760">
                      <a:solidFill>
                        <a:srgbClr val="921a1d"/>
                      </a:solidFill>
                    </a:lnB>
                    <a:solidFill>
                      <a:srgbClr val="0062a7"/>
                    </a:solidFill>
                  </a:tcPr>
                </a:tc>
                <a:tc>
                  <a:txBody>
                    <a:bodyPr lIns="2858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тельная деятельностьсогласно календарно-перспективному планированию в 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готовительной группе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ОД по ФЭМП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исьма королевы 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ки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 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Город 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ки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- ОД по изобразительной деятельност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рисование 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Забавные фигуры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конструирование 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Лего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- 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Цветные цифры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лепка 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Веселые цифры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ановка 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ческих сказок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 </a:t>
                      </a:r>
                      <a:r>
                        <a:rPr b="0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сказок с элементами счета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 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Три медведя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 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Два медвежонка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 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Двенадцать месяцев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С. Маршака, 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Цветик – семицветик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В. Катаева; рассказа К. Ушинского 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Четыре желания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учивание стихов про цифры, считалок, загадок о геометрических фигурах и цифра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смотр компьютерной презентации 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Жили, были цифры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 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редметы и формы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крашивание 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ческих раскрасок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рисование циф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струирован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а со счетными палочка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дактические игры с 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ческим содержанием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 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Крестики – нолики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 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ческое лото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 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Домино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 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Лабиринты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 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Какие цифры потерялись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 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Веселые цифры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 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ческие домики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 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Чудо крестики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 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Танграм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блоки Дьенеша, 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Волшебные круги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 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Чудесный мешочек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и т. 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гадывание загадок, 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нимательных вопросов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шуточных задачек, головоломо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одвижные игры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 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Море волнуется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 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острой фигуру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льчиковые гимнастик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SzPct val="142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5840" marR="91440">
                    <a:lnL w="5760">
                      <a:solidFill>
                        <a:srgbClr val="921a1d"/>
                      </a:solidFill>
                    </a:lnL>
                    <a:lnR w="5760">
                      <a:solidFill>
                        <a:srgbClr val="921a1d"/>
                      </a:solidFill>
                    </a:lnR>
                    <a:lnT w="5760">
                      <a:solidFill>
                        <a:srgbClr val="921a1d"/>
                      </a:solidFill>
                    </a:lnT>
                    <a:lnB w="5760">
                      <a:solidFill>
                        <a:srgbClr val="921a1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Google Shape;197;p9"/>
          <p:cNvSpPr/>
          <p:nvPr/>
        </p:nvSpPr>
        <p:spPr>
          <a:xfrm>
            <a:off x="646272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09DFA-EDE0-46A2-95B2-4A9E25A8CC97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050920"/>
                <a:gridCol w="7093080"/>
              </a:tblGrid>
              <a:tr h="6858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Задача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буждать родителей к участию в реализации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ект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и к занятиям с детьми дом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21a1d"/>
                      </a:solidFill>
                    </a:lnL>
                    <a:lnR w="5760">
                      <a:solidFill>
                        <a:srgbClr val="921a1d"/>
                      </a:solidFill>
                    </a:lnR>
                    <a:lnT w="5760">
                      <a:solidFill>
                        <a:srgbClr val="921a1d"/>
                      </a:solidFill>
                    </a:lnT>
                    <a:lnB w="5760">
                      <a:solidFill>
                        <a:srgbClr val="921a1d"/>
                      </a:solidFill>
                    </a:lnB>
                    <a:solidFill>
                      <a:srgbClr val="0062a7"/>
                    </a:solidFill>
                  </a:tcPr>
                </a:tc>
                <a:tc>
                  <a:txBody>
                    <a:bodyPr lIns="2858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Беседы, консультации, выступления на родительском собран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темам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ланирование театрализованных игр в воспитательно- образовательном процессе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Роль дидактических игр в детском саду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Театрализованные игры  в процессе математического развития детей дошкольного возраста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Значение театрализации для воспитания детей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Участие родителей в изготовлении атрибутов к  математическим театрализованным игра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Помощь родителей в оформлении книги  «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ческих сказок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5840" marR="91440">
                    <a:lnL w="5760">
                      <a:solidFill>
                        <a:srgbClr val="921a1d"/>
                      </a:solidFill>
                    </a:lnL>
                    <a:lnR w="5760">
                      <a:solidFill>
                        <a:srgbClr val="921a1d"/>
                      </a:solidFill>
                    </a:lnR>
                    <a:lnT w="5760">
                      <a:solidFill>
                        <a:srgbClr val="921a1d"/>
                      </a:solidFill>
                    </a:lnT>
                    <a:lnB w="5760">
                      <a:solidFill>
                        <a:srgbClr val="921a1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Google Shape;216;p12"/>
          <p:cNvSpPr/>
          <p:nvPr/>
        </p:nvSpPr>
        <p:spPr>
          <a:xfrm>
            <a:off x="646272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BC542-9B32-49A6-9821-1BD4A235A2B1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0" y="0"/>
          <a:ext cx="9144000" cy="7543800"/>
        </p:xfrm>
        <a:graphic>
          <a:graphicData uri="http://schemas.openxmlformats.org/drawingml/2006/table">
            <a:tbl>
              <a:tblPr/>
              <a:tblGrid>
                <a:gridCol w="2195640"/>
                <a:gridCol w="6948360"/>
              </a:tblGrid>
              <a:tr h="7543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Результаты П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роек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21a1d"/>
                      </a:solidFill>
                    </a:lnL>
                    <a:lnR w="5760">
                      <a:solidFill>
                        <a:srgbClr val="921a1d"/>
                      </a:solidFill>
                    </a:lnR>
                    <a:lnT w="5760">
                      <a:solidFill>
                        <a:srgbClr val="921a1d"/>
                      </a:solidFill>
                    </a:lnT>
                    <a:lnB w="5760">
                      <a:solidFill>
                        <a:srgbClr val="921a1d"/>
                      </a:solidFill>
                    </a:lnB>
                    <a:solidFill>
                      <a:srgbClr val="0062a7"/>
                    </a:solidFill>
                  </a:tcPr>
                </a:tc>
                <a:tc>
                  <a:txBody>
                    <a:bodyPr lIns="285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обие  «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ческие сказк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спективный план работы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екта 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ка в театре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( в соответствии с календарным планированием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атральная постановка « Путешествие по сказкам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5840" marR="91440">
                    <a:lnL w="5760">
                      <a:solidFill>
                        <a:srgbClr val="921a1d"/>
                      </a:solidFill>
                    </a:lnL>
                    <a:lnR w="5760">
                      <a:solidFill>
                        <a:srgbClr val="921a1d"/>
                      </a:solidFill>
                    </a:lnR>
                    <a:lnT w="5760">
                      <a:solidFill>
                        <a:srgbClr val="921a1d"/>
                      </a:solidFill>
                    </a:lnT>
                    <a:lnB w="5760">
                      <a:solidFill>
                        <a:srgbClr val="921a1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76" name="Google Shape;247;p16"/>
          <p:cNvSpPr/>
          <p:nvPr/>
        </p:nvSpPr>
        <p:spPr>
          <a:xfrm>
            <a:off x="2467080" y="663480"/>
            <a:ext cx="6315120" cy="52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Noto Sans Symbols"/>
              <a:buChar char="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Noto Sans Symbols"/>
              <a:buChar char="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Результат-эффект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Noto Sans Symbols"/>
              <a:buChar char="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ение педагогической компетенции по теме самообразова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полнение развивающей предметно-пространственной среды групп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ение активного взаимодействия с родителями воспитанников в  контексте работы над темой самообразования в течение учебного года посредством включения в сотрудничество инновационных форм работы с семьями де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Noto Sans Symbols"/>
              <a:buChar char="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Noto Sans Symbols"/>
              <a:buChar char="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Noto Sans Symbols"/>
              <a:buChar char="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Результат-продукт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Google Shape;245;p16"/>
          <p:cNvSpPr/>
          <p:nvPr/>
        </p:nvSpPr>
        <p:spPr>
          <a:xfrm>
            <a:off x="646272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E99D5-5DB7-4BFB-9A56-838AFD43D183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-108000" y="0"/>
          <a:ext cx="9252000" cy="6858000"/>
        </p:xfrm>
        <a:graphic>
          <a:graphicData uri="http://schemas.openxmlformats.org/drawingml/2006/table">
            <a:tbl>
              <a:tblPr/>
              <a:tblGrid>
                <a:gridCol w="1619280"/>
                <a:gridCol w="7632720"/>
              </a:tblGrid>
              <a:tr h="6858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Как после завершения П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роекта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 будет дальше работать проектная модель, система и т.д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21a1d"/>
                      </a:solidFill>
                    </a:lnL>
                    <a:lnR w="5760">
                      <a:solidFill>
                        <a:srgbClr val="921a1d"/>
                      </a:solidFill>
                    </a:lnR>
                    <a:lnT w="5760">
                      <a:solidFill>
                        <a:srgbClr val="921a1d"/>
                      </a:solidFill>
                    </a:lnT>
                    <a:lnB w="5760">
                      <a:solidFill>
                        <a:srgbClr val="921a1d"/>
                      </a:solidFill>
                    </a:lnB>
                    <a:solidFill>
                      <a:srgbClr val="0062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21a1d"/>
                      </a:solidFill>
                    </a:lnL>
                    <a:lnR w="5760">
                      <a:solidFill>
                        <a:srgbClr val="921a1d"/>
                      </a:solidFill>
                    </a:lnR>
                    <a:lnT w="5760">
                      <a:solidFill>
                        <a:srgbClr val="921a1d"/>
                      </a:solidFill>
                    </a:lnT>
                    <a:lnB w="5760">
                      <a:solidFill>
                        <a:srgbClr val="921a1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79" name="Google Shape;247;p16"/>
          <p:cNvSpPr/>
          <p:nvPr/>
        </p:nvSpPr>
        <p:spPr>
          <a:xfrm>
            <a:off x="1692360" y="2492280"/>
            <a:ext cx="712764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лирование опыта работы по теме проекта на педагогических советах, конференциях, интернет- площадка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1T08:01:34Z</dcterms:created>
  <dc:creator>Наталья</dc:creator>
  <dc:description/>
  <dc:language>en-US</dc:language>
  <cp:lastModifiedBy>acer</cp:lastModifiedBy>
  <dcterms:modified xsi:type="dcterms:W3CDTF">2023-06-07T01:36:43Z</dcterms:modified>
  <cp:revision>28</cp:revision>
  <dc:subject/>
  <dc:title>Презентация PowerPoint</dc:title>
</cp:coreProperties>
</file>