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13C1-79A9-4B7D-BF0A-2B193DAEB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02AD-56E1-4E7A-9A81-86C96C35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074D-D76A-4867-8ADD-E4D22488F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2F58-D19D-45D6-A2BC-9878D7184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06AC-141C-44E9-A61A-F8206B190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04BD-AF75-487E-886B-EC0872F2F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C725-8C7D-4FE5-9A66-DA1ABBCAC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081F-46E6-49C7-9257-E05177C2F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3940-5897-45EF-82A0-537DCBFAF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C637-F0A2-4821-B98B-F113BE86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DB12-E243-4A5D-BA1C-76704489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766D-DC33-48C5-B02D-5092B532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D5F11-3189-4050-8025-59FAB2CDA5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hyperlink" Target="https://www.google.com/url?q=http://www.pandia.ru/text/category/vesnushka/&amp;sa=D&amp;ust=1598116571033000&amp;usg=AOvVaw1g1yZQKLy8jE4NJBrj_F3K" TargetMode="External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820360" cy="64310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ИТОГОВОЕ РОДИТЕЛЬКОЕ СОБРАНИЕ ВО 2 МЛАДШЕЙ ГРУППЕ № 14 «ПОДСОЛНУШК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084640"/>
            <a:ext cx="784836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Подготовили: Шлидт Е.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Гаевская Ж.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                                                     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г Барнаул 20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24000" y="64440"/>
            <a:ext cx="856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Мы не только поем и пляшем, но и математикой занимаемся. За этот год мы научились считать, отсчитывать предметы, различать геометрические фигуры, определять правую и левую стороны, определять части суток, классифицировать предметы по общим признакам и решать задачи на сообразительность и смекал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Предлагаю детям решить задач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1. В тарелке лежат фрукты (яблоко, груша, апельсин). Одним фруктом я угощу Жанну Викторовну. Сколько фруктов осталос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2. У мамы есть кот Пушок, дочка Даша и собачка Шарик. Сколько у мамы дете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3. Также мы умеем различать и называть геометрические фигу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Показываю разные фигуры, дети называют фигуру и цв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4815000"/>
            <a:ext cx="784836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324000" y="3429000"/>
            <a:ext cx="40287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50920" y="189000"/>
            <a:ext cx="4249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- На что похож круг (колесо, тарелку, обруч и т. д.) Колесо может катиться по дорожке, а квадрат может? (нет, мешают уголки) Вот какие молодцы! У автобуса колеса, какие? (кругл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4. Еще мы в течение года знакомили детей с частями суто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 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Воспитатель спрашивает дете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Когда мы делаем зарядку? (Утром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Когда мы гуляем на прогулке и спим в саду (дне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Когда идем домой из садика? (вечеро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Когда мы спим? (ночью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Молодцы ребята! Вы замечательно справились с заданиям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427640" y="333360"/>
            <a:ext cx="453708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50920" y="254160"/>
            <a:ext cx="8497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А еще есть у нас загадки, отгадать их нужно вам! Кто больше угадает взрослые или детиш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Игра «Отгадай загадк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Скачет по боло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зеленая кваку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зелененькие нож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Зовут ее (лягуш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Лежала между ел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Подушечка с игол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Тихонечко леж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Потом вдруг убежала (еж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Кто на себе свой дом несет? (черепах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Очень медленно и тих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По листу ползет? (улит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Зверь я горбат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А нравлюсь ребятам (верблю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Что за скрип, что за хрус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Что за кус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Как же быть без хрус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Если я….(капуст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Молодцы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43280" y="3706920"/>
            <a:ext cx="424980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79280" y="14400"/>
            <a:ext cx="8713800" cy="50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А сейчас, уважаемые родители, я предлагаю вам некоторые вопросы, на которые вам нужно быстро отвеча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«Вопрос – отве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Отец и мать ребенка (родител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Должностное лицо, руководящее детским садом (заведующ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Преподаватель музыки в детском саду (муз. руководител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Преподаватель физкультуры в детском саду (инструктор по физической культур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Сбор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 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родителей для решения педагогических проблем 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родительское собра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Женщина по отношению к своему ребенку (мат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Детсадовский Айболит (медсестр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Группа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 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живущих вместе близких родственников (семь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Музыкальное представление в детском саду (утренни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Специалист по методике дошкольного обучения (методис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 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Мужчина по отношению к своему ребенку (отец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Маленький ребенок (дитя, малыш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Все взрослые молодцы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9640" y="324360"/>
            <a:ext cx="820908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Дорогие наши родители, предлагаем Вам поиграть в игру «Ромашка дружбы». Родителям предлагается вытянуть лепесток с заданием и выполнить е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84960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4176720" cy="3144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324000" y="3429000"/>
            <a:ext cx="8497800" cy="3240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716360" y="23364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Предлагается одному родителю нарисовать одного педагога нашего детского сада, а все остальные должны отгадать кто на рисун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4788000" y="1484280"/>
            <a:ext cx="1584360" cy="1873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516720" y="1722240"/>
            <a:ext cx="201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Как выяснилось на рисунке Елена Анатольевна ))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50920" y="294120"/>
            <a:ext cx="871380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Наша встреча подошла к концу. Я надеюсь, что она доставила вам большое удовольствие и подарила хорошее настроение! Спасибо вам, дорогие родители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 что целый год вы были рядом с нами, помогали взрослеть детям, участвовали в жизни нашей группы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 поддерживали нас. Надеемся на дальнейшее взаимопонимание и поддержку. Впереди лето – прекрасная пора! Не забывайте о том, что это время года дарит не только радость, берегите здоровье детей! Постарайтесь закалить их, чтобы простуда и грипп обходили ваш до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50920" y="2492280"/>
            <a:ext cx="86421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подведение итогов совместного воспитательно-образовательного процесса как средства всестороннего развития ребё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способствовать формированию коллектива груп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заинтересовать родителей в развитии умственных и творческих способностей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поддерживать дружеские отношения между воспитанниками и родител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определить перспективы взаимодействия педагогов, родителей и детей на новый учебный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8785440" cy="6669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50920" y="438480"/>
            <a:ext cx="864216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Добрый вечер, дорогие родители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 Мы рады видеть вас. Наша встреча посвящена окончанию учебного года. Мы надеемся, что она даст вам возможность отдохнуть и порадоваться за своих детей, наши дети выросли и стали на год взрослее. Наступает лето и наши ребята переходят в среднюю группу. Ваши детки, уважаемые родители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 подросли, много нового узнали и многому научились. Сегодняшнее собрание нашей группы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необычное, мы предлагаем вам вместе с детьми поиграть, отдохнуть и подвести итог учебного года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4033800"/>
            <a:ext cx="8209080" cy="3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662560"/>
            <a:ext cx="792000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99"/>
                </a:solidFill>
                <a:latin typeface="Times New Roman"/>
              </a:rPr>
              <a:t>Что может быть прекраснее счастливых детских глаз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99"/>
                </a:solidFill>
                <a:latin typeface="Times New Roman"/>
              </a:rPr>
              <a:t>Пускай детишки разные, все умиляют н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99"/>
                </a:solidFill>
                <a:latin typeface="Times New Roman"/>
              </a:rPr>
              <a:t>Со щечками, с 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веснушками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</a:rPr>
              <a:t>, с прическою и без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99"/>
                </a:solidFill>
                <a:latin typeface="Times New Roman"/>
              </a:rPr>
              <a:t>Кто с мамиными ушками, кто копия – оте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99"/>
                </a:solidFill>
                <a:latin typeface="Times New Roman"/>
              </a:rPr>
              <a:t>Смеются, улыбаются, лепечут кто о че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99"/>
                </a:solidFill>
                <a:latin typeface="Times New Roman"/>
              </a:rPr>
              <a:t>Машинками играются и прыгают с мяч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99"/>
                </a:solidFill>
                <a:latin typeface="Times New Roman"/>
              </a:rPr>
              <a:t>Такие они разные все наши малыш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99"/>
                </a:solidFill>
                <a:latin typeface="Times New Roman"/>
              </a:rPr>
              <a:t>Но самые прекрасные, ведь я права? Скаж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68360" y="529920"/>
            <a:ext cx="8280360" cy="588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"/>
              </a:rPr>
              <a:t>Дети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1.</a:t>
            </a:r>
            <a:r>
              <a:rPr b="0" i="1" lang="en-US" sz="2000" spc="-1" strike="noStrike">
                <a:solidFill>
                  <a:srgbClr val="99cc00"/>
                </a:solidFill>
                <a:latin typeface="Arial"/>
              </a:rPr>
              <a:t> В нашем садике друзь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cc00"/>
                </a:solidFill>
                <a:latin typeface="Arial"/>
              </a:rPr>
              <a:t>              </a:t>
            </a:r>
            <a:r>
              <a:rPr b="0" i="1" lang="en-US" sz="2000" spc="-1" strike="noStrike">
                <a:solidFill>
                  <a:srgbClr val="99cc00"/>
                </a:solidFill>
                <a:latin typeface="Arial"/>
              </a:rPr>
              <a:t>Просто замечательн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cc00"/>
                </a:solidFill>
                <a:latin typeface="Arial"/>
              </a:rPr>
              <a:t>              </a:t>
            </a:r>
            <a:r>
              <a:rPr b="0" i="1" lang="en-US" sz="2000" spc="-1" strike="noStrike">
                <a:solidFill>
                  <a:srgbClr val="99cc00"/>
                </a:solidFill>
                <a:latin typeface="Arial"/>
              </a:rPr>
              <a:t>Мы – как дружная сем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cc00"/>
                </a:solidFill>
                <a:latin typeface="Arial"/>
              </a:rPr>
              <a:t>              </a:t>
            </a:r>
            <a:r>
              <a:rPr b="0" i="1" lang="en-US" sz="2000" spc="-1" strike="noStrike">
                <a:solidFill>
                  <a:srgbClr val="99cc00"/>
                </a:solidFill>
                <a:latin typeface="Arial"/>
              </a:rPr>
              <a:t>С нашими воспитател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cc00"/>
                </a:solidFill>
                <a:latin typeface="Arial"/>
              </a:rPr>
              <a:t>                                        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2.</a:t>
            </a:r>
            <a:r>
              <a:rPr b="0" i="1" lang="en-US" sz="2000" spc="-1" strike="noStrike">
                <a:solidFill>
                  <a:srgbClr val="99cc00"/>
                </a:solidFill>
                <a:latin typeface="Arial"/>
              </a:rPr>
              <a:t> Вместе песенки пое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cc00"/>
                </a:solidFill>
                <a:latin typeface="Arial"/>
              </a:rPr>
              <a:t>                                               </a:t>
            </a:r>
            <a:r>
              <a:rPr b="0" i="1" lang="en-US" sz="2000" spc="-1" strike="noStrike">
                <a:solidFill>
                  <a:srgbClr val="99cc00"/>
                </a:solidFill>
                <a:latin typeface="Arial"/>
              </a:rPr>
              <a:t>Веселимся, празднуе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cc00"/>
                </a:solidFill>
                <a:latin typeface="Arial"/>
              </a:rPr>
              <a:t>                                               </a:t>
            </a:r>
            <a:r>
              <a:rPr b="0" i="1" lang="en-US" sz="2000" spc="-1" strike="noStrike">
                <a:solidFill>
                  <a:srgbClr val="99cc00"/>
                </a:solidFill>
                <a:latin typeface="Arial"/>
              </a:rPr>
              <a:t>Вообще здорово жив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cc00"/>
                </a:solidFill>
                <a:latin typeface="Arial"/>
              </a:rPr>
              <a:t>                                           </a:t>
            </a:r>
            <a:r>
              <a:rPr b="0" i="1" lang="en-US" sz="2000" spc="-1" strike="noStrike">
                <a:solidFill>
                  <a:srgbClr val="99cc00"/>
                </a:solidFill>
                <a:latin typeface="Arial"/>
              </a:rPr>
              <a:t>И смеемся радост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3.</a:t>
            </a:r>
            <a:r>
              <a:rPr b="0" i="1" lang="en-US" sz="2000" spc="-1" strike="noStrike">
                <a:solidFill>
                  <a:srgbClr val="99cc00"/>
                </a:solidFill>
                <a:latin typeface="Arial"/>
              </a:rPr>
              <a:t> Я люблю свой детский с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cc00"/>
                </a:solidFill>
                <a:latin typeface="Arial"/>
              </a:rPr>
              <a:t>В нем полным – полно ребя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cc00"/>
                </a:solidFill>
                <a:latin typeface="Arial"/>
              </a:rPr>
              <a:t>Раз, два, три, четыре, пя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cc00"/>
                </a:solidFill>
                <a:latin typeface="Arial"/>
              </a:rPr>
              <a:t>Жаль, что всех не сосчит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cc00"/>
                </a:solidFill>
                <a:latin typeface="Arial"/>
              </a:rPr>
              <a:t>Может сто, а может две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cc00"/>
                </a:solidFill>
                <a:latin typeface="Arial"/>
              </a:rPr>
              <a:t>Хорошо когда мы вмес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cc00"/>
                </a:solidFill>
                <a:latin typeface="Arial"/>
              </a:rPr>
              <a:t>                                 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4.</a:t>
            </a:r>
            <a:r>
              <a:rPr b="0" i="1" lang="en-US" sz="2000" spc="-1" strike="noStrike">
                <a:solidFill>
                  <a:srgbClr val="99cc00"/>
                </a:solidFill>
                <a:latin typeface="Arial"/>
              </a:rPr>
              <a:t> В уютной нашей групп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cc00"/>
                </a:solidFill>
                <a:latin typeface="Arial"/>
              </a:rPr>
              <a:t>                                       </a:t>
            </a:r>
            <a:r>
              <a:rPr b="0" i="1" lang="en-US" sz="2000" spc="-1" strike="noStrike">
                <a:solidFill>
                  <a:srgbClr val="99cc00"/>
                </a:solidFill>
                <a:latin typeface="Arial"/>
              </a:rPr>
              <a:t>Живем мы словно до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cc00"/>
                </a:solidFill>
                <a:latin typeface="Arial"/>
              </a:rPr>
              <a:t>                                            </a:t>
            </a:r>
            <a:r>
              <a:rPr b="0" i="1" lang="en-US" sz="2000" spc="-1" strike="noStrike">
                <a:solidFill>
                  <a:srgbClr val="99cc00"/>
                </a:solidFill>
                <a:latin typeface="Arial"/>
              </a:rPr>
              <a:t>Любые уголочки нам в 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cc00"/>
                </a:solidFill>
                <a:latin typeface="Arial"/>
              </a:rPr>
              <a:t>                           </a:t>
            </a:r>
            <a:r>
              <a:rPr b="0" i="1" lang="en-US" sz="2000" spc="-1" strike="noStrike">
                <a:solidFill>
                  <a:srgbClr val="99cc00"/>
                </a:solidFill>
                <a:latin typeface="Arial"/>
              </a:rPr>
              <a:t>Сейчас знако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11280" y="981000"/>
            <a:ext cx="8064360" cy="5400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11280" y="260280"/>
            <a:ext cx="79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Times New Roman"/>
              </a:rPr>
              <a:t>Песня «Испечем мы пирож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50920" y="372960"/>
            <a:ext cx="4752720" cy="3140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067280" y="3481560"/>
            <a:ext cx="4897440" cy="32572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003640" y="1372320"/>
            <a:ext cx="388944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Посмотрите, уважаемые родители, как наши детки играют на музыкальных инструмент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0920" y="393372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«Оркестр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332000" y="333720"/>
            <a:ext cx="6335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Танец с ленточ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116000" y="765000"/>
            <a:ext cx="720108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993600" y="150840"/>
            <a:ext cx="7156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Музыкальная иг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«Петушок, петушок – золотой гребешо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79280" y="981000"/>
            <a:ext cx="4248360" cy="3672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572000" y="981000"/>
            <a:ext cx="439272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6-05T11:05:35Z</dcterms:created>
  <dc:creator>Sony</dc:creator>
  <dc:description/>
  <dc:language>en-US</dc:language>
  <cp:lastModifiedBy>Sony</cp:lastModifiedBy>
  <dcterms:modified xsi:type="dcterms:W3CDTF">2023-06-07T15:31:15Z</dcterms:modified>
  <cp:revision>1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00b00000000000102a0010207f7000400038000</vt:lpwstr>
  </property>
</Properties>
</file>