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DDC3-359D-43EC-8B69-161776D9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CD2-63BE-4F9B-B3EC-E43B0E2F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B04-1EDF-4849-9442-9FFAC54B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A56-E5B8-4C9A-BCFC-2B704497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BAD-1FA1-47AB-AC0E-344C1E18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F8F3-8EEE-4735-9E04-61FED175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AD8-FD60-4585-8C25-DCB9AC55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B63-73D1-4CB5-9D8B-AE9F0D94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AB0B-59A0-403C-A13B-1E362497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AB2D-88C3-4347-AAD3-40B2FF57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EC6-03FB-42E2-BADD-21B71DA6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4D2-7F0A-43A9-BD0A-A6178491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627F-E9B6-47C6-9BFF-DECEB90737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s://www.google.com/url?q=http://www.pandia.ru/text/category/vesnushka/&amp;sa=D&amp;ust=1598116571033000&amp;usg=AOvVaw1g1yZQKLy8jE4NJBrj_F3K" TargetMode="Externa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820360" cy="6431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ИТОГОВОЕ РОДИТЕЛЬКОЕ СОБРАНИЕ ВО 2 МЛАДШЕЙ ГРУППЕ № 14 «ПОДСОЛНУШ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084640"/>
            <a:ext cx="7848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Подготовили: Шлидт Е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Гаевская Ж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                                              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г Барнаул 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6444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Мы не только поем и пляшем, но и математикой занимаемся. За этот год мы научились считать, отсчитывать предметы, различать геометрические фигуры, определять правую и левую стороны, определять части суток, классифицировать предметы по общим признакам и решать задачи на сообразительность и смекал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Предлагаю детям решить задач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1. В тарелке лежат фрукты (яблоко, груша, апельсин). Одним фруктом я угощу Жанну Викторовну. Сколько фруктов остало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2. У мамы есть кот Пушок, дочка Даша и собачка Шарик. Сколько у мамы дет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3. Также мы умеем различать и называть геометрические фиг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Показываю разные фигуры, дети называют фигуру и ц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4815000"/>
            <a:ext cx="7848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40287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189000"/>
            <a:ext cx="4249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- На что похож круг (колесо, тарелку, обруч и т. д.) Колесо может катиться по дорожке, а квадрат может? (нет, мешают уголки) Вот какие молодцы! У автобуса колеса, какие? (кругл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4. Еще мы в течение года знакомили детей с частями сут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Воспитатель спрашивает де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Когда мы делаем зарядку? (Утро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Когда мы гуляем на прогулке и спим в саду (дн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Когда идем домой из садика? (вечер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Когда мы спим? (ночь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Молодцы ребята! Вы замечательно справились с задания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537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254160"/>
            <a:ext cx="849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А еще есть у нас загадки, отгадать их нужно вам! Кто больше угадает взрослые или дети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Игра «Отгадай загад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Скачет по бол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зеленая квак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зелененькие 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Зовут ее (лягуш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Лежала между ел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Подушечка с игол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Тихонечко леж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Потом вдруг убежала (еж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Кто на себе свой дом несет? (черепах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Очень медленно и ти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По листу ползет? (улит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Зверь я горбат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А нравлюсь ребятам (верблю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Что за скрип, что за хрус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Что за кус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Как же быть без хру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Если я….(капус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Молодцы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3706920"/>
            <a:ext cx="42498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14400"/>
            <a:ext cx="8713800" cy="50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А сейчас, уважаемые родители, я предлагаю вам некоторые вопросы, на которые вам нужно быстро отвеч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«Вопрос – отв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Отец и мать ребенка (родите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Должностное лицо, руководящее детским садом (заведующ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Преподаватель музыки в детском саду (муз. руководит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Преподаватель физкультуры в детском саду (инструктор по физической культур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Сбор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родителей для решения педагогических проблем 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родительское собр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Женщина по отношению к своему ребенку (ма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Детсадовский Айболит (медсест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Группа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живущих вместе близких родственников (семь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Музыкальное представление в детском саду (утрен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Специалист по методике дошкольного обучения (методи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Мужчина по отношению к своему ребенку (оте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Маленький ребенок (дитя, малыш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се взрослые молодцы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324360"/>
            <a:ext cx="82090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Дорогие наши родители, предлагаем Вам поиграть в игру «Ромашка дружбы». Родителям предлагается вытянуть лепесток с заданием и выполни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49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4176720" cy="3144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8497800" cy="3240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16360" y="233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Предлагается одному родителю нарисовать одного педагога нашего детского сада, а все остальные должны отгадать кто на рису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788000" y="1484280"/>
            <a:ext cx="1584360" cy="1873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516720" y="17222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Как выяснилось на рисунке Елена Анатольевна )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294120"/>
            <a:ext cx="87138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Наша встреча подошла к концу. Я надеюсь, что она доставила вам большое удовольствие и подарила хорошее настроение! Спасибо вам, дорогие родители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что целый год вы были рядом с нами, помогали взрослеть детям, участвовали в жизни нашей группы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поддерживали нас. Надеемся на дальнейшее взаимопонимание и поддержку. Впереди лето – прекрасная пора! Не забывайте о том, что это время года дарит не только радость, берегите здоровье детей! Постарайтесь закалить их, чтобы простуда и грипп обходили ваш д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8642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дведение итогов совместного воспитательно-образовательного процесса как средства всестороннего развития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пособствовать формированию коллектива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интересовать родителей в развитии умственных и творческих способностей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ддерживать дружеские отношения между воспитанниками и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пределить перспективы взаимодействия педагогов, родителей и детей на новый учебн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785440" cy="6669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438480"/>
            <a:ext cx="86421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Добрый вечер, дорогие родители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Мы рады видеть вас. Наша встреча посвящена окончанию учебного года. Мы надеемся, что она даст вам возможность отдохнуть и порадоваться за своих детей, наши дети выросли и стали на год взрослее. Наступает лето и наши ребята переходят в среднюю группу. Ваши детки, уважаемые родители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подросли, много нового узнали и многому научились. Сегодняшнее собрание нашей группы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необычное, мы предлагаем вам вместе с детьми поиграть, отдохнуть и подвести итог учебного года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033800"/>
            <a:ext cx="820908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662560"/>
            <a:ext cx="7920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Times New Roman"/>
              </a:rPr>
              <a:t>Что может быть прекраснее счастливых детских гла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Times New Roman"/>
              </a:rPr>
              <a:t>Пускай детишки разные, все умиляют н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Times New Roman"/>
              </a:rPr>
              <a:t>Со щечками, с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веснушками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</a:rPr>
              <a:t>, с прическою и бе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Times New Roman"/>
              </a:rPr>
              <a:t>Кто с мамиными ушками, кто копия – от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Times New Roman"/>
              </a:rPr>
              <a:t>Смеются, улыбаются, лепечут кто о ч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Times New Roman"/>
              </a:rPr>
              <a:t>Машинками играются и прыгают с мяч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Times New Roman"/>
              </a:rPr>
              <a:t>Такие они разные все наши малы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Times New Roman"/>
              </a:rPr>
              <a:t>Но самые прекрасные, ведь я права? Скаж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529920"/>
            <a:ext cx="8280360" cy="58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Дети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1.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В нашем садике друз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             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Просто замечате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             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Мы – как дружная сем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             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С нашими воспита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                                        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2.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Вместе песенки по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                                              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Веселимся, праздну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                                              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Вообще здорово жив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                                          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И смеемся радос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3.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Я люблю свой детский 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В нем полным – полно реб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Раз, два, три, четыре, п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Жаль, что всех не сосчи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Может сто, а может д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Хорошо когда мы в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                                 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4.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В уютной нашей груп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                                      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Живем мы словно д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                                           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Любые уголочки нам в 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                          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Сейчас знако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80643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1280" y="26028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Песня «Испечем мы пирож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372960"/>
            <a:ext cx="4752720" cy="3140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067280" y="3481560"/>
            <a:ext cx="4897440" cy="3257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03640" y="1372320"/>
            <a:ext cx="38894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Посмотрите, уважаемые родители, как наши детки играют на музыкальных инструмент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933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«Оркестр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32000" y="333720"/>
            <a:ext cx="6335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Танец с ленточ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16000" y="765000"/>
            <a:ext cx="720108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93600" y="150840"/>
            <a:ext cx="7156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Музыкальная иг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«Петушок, петушок – золотой гребеш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4248360" cy="367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981000"/>
            <a:ext cx="4392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05T11:05:35Z</dcterms:created>
  <dc:creator>Sony</dc:creator>
  <dc:description/>
  <dc:language>en-US</dc:language>
  <cp:lastModifiedBy>Sony</cp:lastModifiedBy>
  <dcterms:modified xsi:type="dcterms:W3CDTF">2023-06-07T15:31:15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b00000000000102a0010207f7000400038000</vt:lpwstr>
  </property>
</Properties>
</file>