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D50-8BD6-4A1D-9790-66CDEEDB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C9F-F5B4-4186-931F-97F6B77F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F9A-CD24-4015-964E-3CB90C40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8AE-F1E8-4FB9-BBE8-8C1B6D1E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317-500F-4A34-A7FA-39B57195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0E1-8489-401D-B8D2-46477116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9DF-33B7-4BA8-9A61-BF83498A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075-2D46-4120-94EB-6C6107BF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188-4EF4-467C-BCA0-C955739F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86E-04CB-4DA8-BF60-F8BAB67E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E33-09A5-4C20-B83C-889ED0D0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C16-9B34-4EA6-B798-72E31CFD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ADBF-B48F-49EB-98C2-3EDD5B2C3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окружающего мира в 4 класс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е: «ВЕЛИКАЯ ВОЙНА И ВЕЛИКАЯ ПОБЕД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учебнику Мир вокруг нас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. А. Плешаков, Е. А. Крючкова, М.: «Просвещение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К «ШКОЛА РОССИИ»</a:t>
            </a:r>
            <a:br>
              <a:rPr sz="1800"/>
            </a:br>
            <a:br>
              <a:rPr sz="12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5260320" y="5668560"/>
            <a:ext cx="36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3809880" y="5257800"/>
            <a:ext cx="480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Башкатова Людмила Васильевн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033"/>
          <p:cNvPicPr/>
          <p:nvPr/>
        </p:nvPicPr>
        <p:blipFill>
          <a:blip r:embed="rId1"/>
          <a:stretch/>
        </p:blipFill>
        <p:spPr>
          <a:xfrm>
            <a:off x="4876920" y="152280"/>
            <a:ext cx="4267080" cy="6477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Reichstag_berlin"/>
          <p:cNvPicPr/>
          <p:nvPr/>
        </p:nvPicPr>
        <p:blipFill>
          <a:blip r:embed="rId2"/>
          <a:stretch/>
        </p:blipFill>
        <p:spPr>
          <a:xfrm>
            <a:off x="0" y="335268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0032"/>
          <p:cNvPicPr/>
          <p:nvPr/>
        </p:nvPicPr>
        <p:blipFill>
          <a:blip r:embed="rId3"/>
          <a:stretch/>
        </p:blipFill>
        <p:spPr>
          <a:xfrm>
            <a:off x="152280" y="152280"/>
            <a:ext cx="46198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80880" y="53352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9 мая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ень Победы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57200" y="2400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1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году началась Вторая мировая войн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0680" y="419004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В 19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657600" y="4052880"/>
            <a:ext cx="213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 В 193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6325200" y="4190040"/>
            <a:ext cx="20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В 19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indefinite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0" dur="indefinite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" dur="indefinite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057400" y="205704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2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году началась Великая  Отечественная  войн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760680" y="419004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В 19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657600" y="4052880"/>
            <a:ext cx="213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 В 193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6325200" y="4190040"/>
            <a:ext cx="20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В 194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" dur="indefinite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" dur="indefinite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9" dur="indefinite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4 в 1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0" y="22860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ЛИКАЯ ВОЙНА И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ЕЛИКАЯ ПОБЕД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581280" y="304920"/>
            <a:ext cx="5257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3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событие изображено на фотографиях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блокада к уроку2"/>
          <p:cNvPicPr/>
          <p:nvPr/>
        </p:nvPicPr>
        <p:blipFill>
          <a:blip r:embed="rId3"/>
          <a:stretch/>
        </p:blipFill>
        <p:spPr>
          <a:xfrm>
            <a:off x="1905120" y="2057400"/>
            <a:ext cx="327636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8" name="Picture 8" descr="блокада к уроку"/>
          <p:cNvPicPr/>
          <p:nvPr/>
        </p:nvPicPr>
        <p:blipFill>
          <a:blip r:embed="rId4"/>
          <a:stretch/>
        </p:blipFill>
        <p:spPr>
          <a:xfrm>
            <a:off x="5410080" y="1981080"/>
            <a:ext cx="320040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Rectangle 9"/>
          <p:cNvSpPr/>
          <p:nvPr/>
        </p:nvSpPr>
        <p:spPr>
          <a:xfrm>
            <a:off x="684000" y="4312440"/>
            <a:ext cx="43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Оборона Москв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687240" y="484560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 Блокада Ленинград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685080" y="540936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Бои в Сталинград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" dur="indefinite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" dur="indefinite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" dur="indefinite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" dur="indefinite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21360" y="3124080"/>
            <a:ext cx="776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4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олководец руководил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турмом столицы Германии – Берлином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76920" y="4723560"/>
            <a:ext cx="73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Кирилл Афанасьевич Мерецк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76920" y="5257080"/>
            <a:ext cx="84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 Александр Михайлович Василевск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377280" y="579024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Георгий Константинович Жуков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Жуков в дни обороны Москвы"/>
          <p:cNvPicPr/>
          <p:nvPr/>
        </p:nvPicPr>
        <p:blipFill>
          <a:blip r:embed="rId3"/>
          <a:stretch/>
        </p:blipFill>
        <p:spPr>
          <a:xfrm>
            <a:off x="4572000" y="457200"/>
            <a:ext cx="403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" dur="indefinite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7" dur="indefinite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587040" y="304560"/>
            <a:ext cx="513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05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событие изображен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фотографи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Reichstag_berlin"/>
          <p:cNvPicPr/>
          <p:nvPr/>
        </p:nvPicPr>
        <p:blipFill>
          <a:blip r:embed="rId3"/>
          <a:stretch/>
        </p:blipFill>
        <p:spPr>
          <a:xfrm>
            <a:off x="3962520" y="1752480"/>
            <a:ext cx="3962160" cy="2590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227880" y="449496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Победа Советских войск под Москв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27520" y="4905720"/>
            <a:ext cx="78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ие немецких войск под Сталинград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28240" y="525672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Разгром врага под Курск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28600" y="5667840"/>
            <a:ext cx="8458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Водружение Красного знамени Побед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 зданием рейхстага в Берлине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7" dur="indefinite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8" dur="indefinite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9" dur="indefinite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63" dur="indefinite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4" dur="indefinite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пусть всегда будет солнце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400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70880" y="610200"/>
            <a:ext cx="396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м нужен мир – тебе и мне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 всем на свете детя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 должен мирным быть рассвет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торый  завтра встрет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м нужен  мир, трава в росе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лыбчивое детст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м нужен мир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красный мир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лученный  в наследство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6120" y="396252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«Нет!» - заявляем мы войне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сем злым и чёрным силам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лжна трава зелёной быть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 небо синим-синим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ы слышишь, друг, звенят ручь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ют на ветках птиц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 замечательной земл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м повезло родиться!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2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376640" y="2696040"/>
            <a:ext cx="6017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узнал…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научился…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ыло интересно…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георг лента и орден вов"/>
          <p:cNvPicPr/>
          <p:nvPr/>
        </p:nvPicPr>
        <p:blipFill>
          <a:blip r:embed="rId2"/>
          <a:stretch/>
        </p:blipFill>
        <p:spPr>
          <a:xfrm>
            <a:off x="0" y="0"/>
            <a:ext cx="3581280" cy="2438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1371600" y="7621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 ДНЁМ ПОБЕДЫ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59932160_levitan"/>
          <p:cNvPicPr/>
          <p:nvPr/>
        </p:nvPicPr>
        <p:blipFill>
          <a:blip r:embed="rId2"/>
          <a:stretch/>
        </p:blipFill>
        <p:spPr>
          <a:xfrm>
            <a:off x="838080" y="0"/>
            <a:ext cx="3124440" cy="320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москвичи слушают по р заявл сов прав о веролом напад фаш германии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0" y="3506400"/>
            <a:ext cx="457200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Внимание! Говорит Москва, говорит Москва! Заявление Советского правительства. Граждане и гражданки Советского Союза! Сегодня, 22 июня, в 4 часа утра, без объявления войны германские войска напали на нашу страну, атаковали наши границы во многих местах и подвергли бомбардировке города: Житомир, Киев, Севастополь и другие. Теперь, когда нападение уже свершилось, Советским правительством дан нашим войскам приказ – отбить разбойничье нападение… Не первый раз приходится нашему народу иметь дело с нападающим зазнавшимся врагом… Красная Армия, весь наш народ вновь поведут победоносную Отечественную войну за Родину, за честь, за свободу… Наше дело правое. Враг будет разбит. Победа будет за нами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начало боевых действий в белорус сср"/>
          <p:cNvPicPr/>
          <p:nvPr/>
        </p:nvPicPr>
        <p:blipFill>
          <a:blip r:embed="rId1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5" descr="начало боевых действий литовская сср 1941 г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29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" name="Picture 6" descr="части герм армии вступили на терр ссср "/>
          <p:cNvPicPr/>
          <p:nvPr/>
        </p:nvPicPr>
        <p:blipFill>
          <a:blip r:embed="rId3"/>
          <a:stretch/>
        </p:blipFill>
        <p:spPr>
          <a:xfrm>
            <a:off x="0" y="3429000"/>
            <a:ext cx="441972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4" name="Picture 8" descr="0016"/>
          <p:cNvPicPr/>
          <p:nvPr/>
        </p:nvPicPr>
        <p:blipFill>
          <a:blip r:embed="rId4"/>
          <a:stretch/>
        </p:blipFill>
        <p:spPr>
          <a:xfrm>
            <a:off x="0" y="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017"/>
          <p:cNvPicPr/>
          <p:nvPr/>
        </p:nvPicPr>
        <p:blipFill>
          <a:blip r:embed="rId1"/>
          <a:stretch/>
        </p:blipFill>
        <p:spPr>
          <a:xfrm>
            <a:off x="5105520" y="152280"/>
            <a:ext cx="380988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224640" y="19800"/>
            <a:ext cx="46004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рок первый. Июн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д и месяц борьбы всенародн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же пылью времё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тянуть эту дату нельз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нималась стра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на фронт уходила поротн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мачовые звёзд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полотнах знамён уно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танкисты"/>
          <p:cNvPicPr/>
          <p:nvPr/>
        </p:nvPicPr>
        <p:blipFill>
          <a:blip r:embed="rId2"/>
          <a:stretch/>
        </p:blipFill>
        <p:spPr>
          <a:xfrm>
            <a:off x="152280" y="4038480"/>
            <a:ext cx="279108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8" name="Picture 8" descr="корабль"/>
          <p:cNvPicPr/>
          <p:nvPr/>
        </p:nvPicPr>
        <p:blipFill>
          <a:blip r:embed="rId3"/>
          <a:stretch/>
        </p:blipFill>
        <p:spPr>
          <a:xfrm>
            <a:off x="3124080" y="4038480"/>
            <a:ext cx="259092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Picture 9" descr="летчики идут в бой"/>
          <p:cNvPicPr/>
          <p:nvPr/>
        </p:nvPicPr>
        <p:blipFill>
          <a:blip r:embed="rId4"/>
          <a:stretch/>
        </p:blipFill>
        <p:spPr>
          <a:xfrm>
            <a:off x="5943600" y="4038480"/>
            <a:ext cx="297180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брес крепос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защитники брестской крепост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800 дней блока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блокада к уроку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2b2b2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стр-во противотанк соор на подступах к москве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Жуков в дни обороны Москвы"/>
          <p:cNvPicPr/>
          <p:nvPr/>
        </p:nvPicPr>
        <p:blipFill>
          <a:blip r:embed="rId2"/>
          <a:stretch/>
        </p:blipFill>
        <p:spPr>
          <a:xfrm>
            <a:off x="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аэростаты загражд воздушные подступы"/>
          <p:cNvPicPr/>
          <p:nvPr/>
        </p:nvPicPr>
        <p:blipFill>
          <a:blip r:embed="rId3"/>
          <a:stretch/>
        </p:blipFill>
        <p:spPr>
          <a:xfrm>
            <a:off x="4648320" y="3276720"/>
            <a:ext cx="4495680" cy="358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на огневых позициях под москвой"/>
          <p:cNvPicPr/>
          <p:nvPr/>
        </p:nvPicPr>
        <p:blipFill>
          <a:blip r:embed="rId4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Николаевна</cp:lastModifiedBy>
  <dcterms:modified xsi:type="dcterms:W3CDTF">2023-06-07T10:18:42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