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CAF-6FA1-4B75-976E-04065657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A8A-55A4-43C1-A9E5-DAAB57B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06F-E8F9-46CC-BBE6-DD2291EB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753-5388-43C6-8784-903FB0EE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91F-521A-4CAB-92DD-A85E485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D09-C51F-492D-96A4-C108A65D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B9D-9E96-4E1C-BCD9-791C8DC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0DA-ECAA-4EF9-BE19-13B9981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87D-0D55-42F6-8082-0D59D5C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A51-C058-4CD7-84B5-D84CC03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B46-25D8-47C6-8D64-437C3E7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D71-EAE7-4E4D-83F9-6FC0598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B920-1F35-426D-B04B-B050BA57B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окружающего мира в 4 класс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е: «ВЕЛИКАЯ ВОЙНА И ВЕЛИКАЯ ПОБЕД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чебнику Мир вокруг на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. А. Плешаков, Е. А. Крючкова, М.: «Просвещение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К «ШКОЛА РОССИИ»</a:t>
            </a:r>
            <a:br>
              <a:rPr sz="1800"/>
            </a:br>
            <a:br>
              <a:rPr sz="12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260320" y="566856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3809880" y="5257800"/>
            <a:ext cx="480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Башкатова Людмила Васильевн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33"/>
          <p:cNvPicPr/>
          <p:nvPr/>
        </p:nvPicPr>
        <p:blipFill>
          <a:blip r:embed="rId1"/>
          <a:stretch/>
        </p:blipFill>
        <p:spPr>
          <a:xfrm>
            <a:off x="4876920" y="152280"/>
            <a:ext cx="4267080" cy="647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Reichstag_berlin"/>
          <p:cNvPicPr/>
          <p:nvPr/>
        </p:nvPicPr>
        <p:blipFill>
          <a:blip r:embed="rId2"/>
          <a:stretch/>
        </p:blipFill>
        <p:spPr>
          <a:xfrm>
            <a:off x="0" y="33526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0032"/>
          <p:cNvPicPr/>
          <p:nvPr/>
        </p:nvPicPr>
        <p:blipFill>
          <a:blip r:embed="rId3"/>
          <a:stretch/>
        </p:blipFill>
        <p:spPr>
          <a:xfrm>
            <a:off x="152280" y="152280"/>
            <a:ext cx="46198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80880" y="53352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9 ма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нь Победы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57200" y="2400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году началась Вторая мировая войн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0680" y="419004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В 19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657600" y="4052880"/>
            <a:ext cx="213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В 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325200" y="4190040"/>
            <a:ext cx="20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В 19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057400" y="205704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2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году началась Великая  Отечественная  войн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760680" y="419004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В 19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657600" y="4052880"/>
            <a:ext cx="213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В 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325200" y="4190040"/>
            <a:ext cx="20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В 19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4 в 1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0" y="22860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ЛИКАЯ ВОЙНА И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ЕЛИКАЯ ПОБЕ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1280" y="304920"/>
            <a:ext cx="5257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3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событие изображено на фотографиях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блокада к уроку2"/>
          <p:cNvPicPr/>
          <p:nvPr/>
        </p:nvPicPr>
        <p:blipFill>
          <a:blip r:embed="rId3"/>
          <a:stretch/>
        </p:blipFill>
        <p:spPr>
          <a:xfrm>
            <a:off x="1905120" y="2057400"/>
            <a:ext cx="327636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Picture 8" descr="блокада к уроку"/>
          <p:cNvPicPr/>
          <p:nvPr/>
        </p:nvPicPr>
        <p:blipFill>
          <a:blip r:embed="rId4"/>
          <a:stretch/>
        </p:blipFill>
        <p:spPr>
          <a:xfrm>
            <a:off x="5410080" y="1981080"/>
            <a:ext cx="32004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Rectangle 9"/>
          <p:cNvSpPr/>
          <p:nvPr/>
        </p:nvSpPr>
        <p:spPr>
          <a:xfrm>
            <a:off x="684000" y="431244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Оборона Москв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87240" y="484560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Блокада Ленинград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85080" y="540936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Бои в Сталинград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21360" y="3124080"/>
            <a:ext cx="776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олководец руководи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турмом столицы Германии – Берлино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76920" y="4723560"/>
            <a:ext cx="73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Кирилл Афанасьевич Мерецк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76920" y="5257080"/>
            <a:ext cx="84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Александр Михайлович Василевск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77280" y="579024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Георгий Константинович Жуков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Жуков в дни обороны Москвы"/>
          <p:cNvPicPr/>
          <p:nvPr/>
        </p:nvPicPr>
        <p:blipFill>
          <a:blip r:embed="rId3"/>
          <a:stretch/>
        </p:blipFill>
        <p:spPr>
          <a:xfrm>
            <a:off x="4572000" y="457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587040" y="304560"/>
            <a:ext cx="51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5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событие изображен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фотографи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Reichstag_berlin"/>
          <p:cNvPicPr/>
          <p:nvPr/>
        </p:nvPicPr>
        <p:blipFill>
          <a:blip r:embed="rId3"/>
          <a:stretch/>
        </p:blipFill>
        <p:spPr>
          <a:xfrm>
            <a:off x="3962520" y="1752480"/>
            <a:ext cx="3962160" cy="2590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27880" y="44949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Победа Советских войск под Москв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27520" y="490572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ие немецких войск под Сталинград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28240" y="525672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Разгром врага под Курс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28600" y="566784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Водружение Красного знамени Побед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 зданием рейхстага в Берлин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8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9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3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усть всегда будет солнце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0880" y="610200"/>
            <a:ext cx="396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мир – тебе и мн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всем на свете детя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должен мирным быть рассве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торый  завтра встрет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 мир, трава в рос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лыбчивое детст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мир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красный мир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ченный  в наследство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6120" y="396252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Нет!» - заявляем мы войн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ем злым и чёрным силам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лжна трава зелёной бы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 небо синим-синим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ы слышишь, друг, звенят ручь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ют на ветках птиц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 замечательной земл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повезло родиться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2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376640" y="2696040"/>
            <a:ext cx="601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узнал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371600" y="7621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 ДНЁМ ПОБЕДЫ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59932160_levitan"/>
          <p:cNvPicPr/>
          <p:nvPr/>
        </p:nvPicPr>
        <p:blipFill>
          <a:blip r:embed="rId2"/>
          <a:stretch/>
        </p:blipFill>
        <p:spPr>
          <a:xfrm>
            <a:off x="838080" y="0"/>
            <a:ext cx="312444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москвичи слушают по р заявл сов прав о веролом напад фаш германии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0" y="3506400"/>
            <a:ext cx="4572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Внимание! Говорит Москва, говорит Москва! Заявление Советского правительства. Граждане и гражданки Советского Союза! Сегодня, 22 июня, в 4 часа утра, без объявления войны германские войска напали на нашу страну, атаковали наши границы во многих местах и подвергли бомбардировке города: Житомир, Киев, Севастополь и другие. Теперь, когда нападение уже свершилось, Советским правительством дан нашим войскам приказ – отбить разбойничье нападение… Не первый раз приходится нашему народу иметь дело с нападающим зазнавшимся врагом… Красная Армия, весь наш народ вновь поведут победоносную Отечественную войну за Родину, за честь, за свободу… Наше дело правое. Враг будет разбит. Победа будет за нами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начало боевых действий в белорус сср"/>
          <p:cNvPicPr/>
          <p:nvPr/>
        </p:nvPicPr>
        <p:blipFill>
          <a:blip r:embed="rId1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5" descr="начало боевых действий литовская сср 1941 г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9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" name="Picture 6" descr="части герм армии вступили на терр ссср "/>
          <p:cNvPicPr/>
          <p:nvPr/>
        </p:nvPicPr>
        <p:blipFill>
          <a:blip r:embed="rId3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4" name="Picture 8" descr="0016"/>
          <p:cNvPicPr/>
          <p:nvPr/>
        </p:nvPicPr>
        <p:blipFill>
          <a:blip r:embed="rId4"/>
          <a:stretch/>
        </p:blipFill>
        <p:spPr>
          <a:xfrm>
            <a:off x="0" y="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17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224640" y="19800"/>
            <a:ext cx="46004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рок первый. Июн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д и месяц борьбы всенарод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же пылью времё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януть эту дату нельз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нималась стра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на фронт уходила поротн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мачовые звёз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полотнах знамён уно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танкисты"/>
          <p:cNvPicPr/>
          <p:nvPr/>
        </p:nvPicPr>
        <p:blipFill>
          <a:blip r:embed="rId2"/>
          <a:stretch/>
        </p:blipFill>
        <p:spPr>
          <a:xfrm>
            <a:off x="152280" y="4038480"/>
            <a:ext cx="279108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8" descr="корабль"/>
          <p:cNvPicPr/>
          <p:nvPr/>
        </p:nvPicPr>
        <p:blipFill>
          <a:blip r:embed="rId3"/>
          <a:stretch/>
        </p:blipFill>
        <p:spPr>
          <a:xfrm>
            <a:off x="3124080" y="4038480"/>
            <a:ext cx="259092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Picture 9" descr="летчики идут в бой"/>
          <p:cNvPicPr/>
          <p:nvPr/>
        </p:nvPicPr>
        <p:blipFill>
          <a:blip r:embed="rId4"/>
          <a:stretch/>
        </p:blipFill>
        <p:spPr>
          <a:xfrm>
            <a:off x="5943600" y="4038480"/>
            <a:ext cx="297180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рес крепос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защитники брестской крепост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800 дней блок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блокада к урок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2b2b2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стр-во противотанк соор на подступах к москве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Жуков в дни обороны Москвы"/>
          <p:cNvPicPr/>
          <p:nvPr/>
        </p:nvPicPr>
        <p:blipFill>
          <a:blip r:embed="rId2"/>
          <a:stretch/>
        </p:blipFill>
        <p:spPr>
          <a:xfrm>
            <a:off x="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аэростаты загражд воздушные подступы"/>
          <p:cNvPicPr/>
          <p:nvPr/>
        </p:nvPicPr>
        <p:blipFill>
          <a:blip r:embed="rId3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на огневых позициях под москвой"/>
          <p:cNvPicPr/>
          <p:nvPr/>
        </p:nvPicPr>
        <p:blipFill>
          <a:blip r:embed="rId4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Николаевна</cp:lastModifiedBy>
  <dcterms:modified xsi:type="dcterms:W3CDTF">2023-06-07T10:18:4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