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BA5C-E78C-4F91-9ECB-B8CFE81D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5916-43DC-49D0-8C80-0BDE2AB2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BF30-55EC-4868-A5D8-931E7C04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B8CE-00F9-43C8-BD1A-E6F6CA67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B9CF-EDF7-45A2-9408-E4F94336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ECC1-D288-4760-92C9-7F47BE5C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99E7-6389-4BCE-B852-276ADB94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1937-6A6F-46A6-ADDA-096FFA60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C388-D425-44B8-99DB-04BA74A4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5147-E4CA-4FD1-B242-C97A4439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24FE-F565-4F95-8C35-3C3652C0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96E5-D15F-420D-8B7D-A478322A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C05D-FA98-4E75-BE4B-BBA923D4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ABCA-FBF7-42FE-ADC8-89E64C98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06B2-F4AA-4CD8-9353-D63E0788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AD0C-38AE-41B2-A43A-36163152D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3D6E-A067-4DFF-AB1E-1CA34E324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68497-A3F3-441C-AE30-D2DF3E36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80E0E-B1F0-4A5A-901B-2C78354C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E7C8F-6AF3-447C-BF7C-37799C40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DB043-3346-4CFA-B26D-534A2133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C17A8-146E-43D3-A4D2-E888E3BD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D781-9157-4B43-B540-36BED9A4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87BFF-5442-49E6-8574-13942CD6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2FC07-8140-41A3-9981-2B63FFD5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8051C-F7E8-4521-BAC4-ADB08029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86083-2365-4EF7-8123-3EFABF6F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377BA-ECE0-4E1A-86B8-BF5AD515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DA189-7ACA-4E9F-BD13-0ED2DAAAF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0B823-8EB2-4069-A610-7A4587BF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DBB6A-75FE-47EF-8DAA-A004AF22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DF458-D51C-4087-8420-FCB6BFAE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00542-F91E-48F4-8F2E-F02EE9F5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8B6B-7136-4B26-A8B4-B7A35682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EF833-1616-4A12-B46E-D1974CDD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4B289-92FA-4543-8AD4-F60D933C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79CD4-95D1-47D9-BE4D-7205487A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8D331-39F3-4B64-A9BB-F57FC9F3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07DA7-A2E5-4F5C-83AE-76F9CF7A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02E04-E902-464E-9444-EA19A830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540E4-8167-4124-8C8E-2C8A2118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EC5F2-4E3D-480D-83E0-5AB7E9B3D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DD5B8-007E-4ECC-A1F5-449214C6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07B41-6686-4DED-BAF2-A5BD8C98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B1F2-7848-46DD-AB1F-1A591B9F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801CC-8354-4831-8F54-7E2E192D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0EB8D-16A7-4A49-BA28-B6C1F532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E78FB-6D7A-4F73-BC7F-F16C6777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24B49-358B-45FC-BC07-AD5339FC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995C2-A68E-411C-BD59-782A62B7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8E23D-042E-447A-B268-7A77E0E1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5B5C4-9815-4EFA-ABCB-4E201B84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8EB5A-4D0B-429B-B44F-E74C7FF0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9A3DD-4259-4AA5-8236-EFA0D021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3DE50-4C8E-41A3-A7C8-F36CEE39F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E654-6A43-446E-B773-D24599BE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DD5B7-DBEA-4894-B815-3F5E4B7B4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0B8D8-678B-4F8A-AD1D-249FF6FF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E40A1-C91B-4BD2-A7CC-47860F27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34BF2-2931-4305-989C-52ACE100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F7EAF-26FD-45BE-92B1-5B2551AA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60AB6-47E4-4E66-AB0F-E166767A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FE2CE-FC16-49A0-88CB-9C059947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A2600-83DB-4D30-B089-DF32CB7D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8B310-745D-4324-A57D-BE4ECDAF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D6C93-6130-4E46-A4A2-FF9C88AD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8BB2-8067-40D7-8B9D-F4BF8FC3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5D6CC-E69B-40B3-92EF-0C9AE48B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BA053-7458-41BA-9233-A7E566807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413CA-E190-45E5-8BCE-2E5765105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34729-939F-4606-8D89-4C3520349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0F68E-B7F8-4EC7-A0BF-EEE695DB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B6A47-573F-4999-9CEA-D3C357DD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ACC8F-1379-45B9-A323-C3D03BCD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D2D67-6838-4D50-BBE1-90185F97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226FD-265C-44F6-BAD9-149E5025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B0201-F120-4A1D-94C2-D94ED868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DDF4-EF58-4095-A3C2-86142203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12AA0-93A6-4F54-B8C6-2C357216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3E9D0-F575-4CB4-A68A-D96CF5B7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302ED-4F26-46F2-A232-C0323641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8E0E5-A5DF-40B3-8821-B1C68D15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CCF0D-E8FD-46A7-8A30-3C55C035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D8C0-AE50-4F44-AA64-3918575E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8467-6BC4-40B0-87B8-1E4055AD658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A8E6-74F4-486D-BED8-8CE0C69792A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D754-4DE0-4816-BFEF-90CF41263B0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5569-AF11-42E5-9655-F6824C2D08D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B329-DCB3-4499-8869-EDBA475F6F9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F96D-81E3-41CB-8011-9B3A8755895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A849-C8C7-41ED-BC43-C7A938A039D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85560" y="1143000"/>
            <a:ext cx="7497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1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сихологическая диагностика готовности </a:t>
            </a:r>
            <a:br>
              <a:rPr sz="4300"/>
            </a:br>
            <a:r>
              <a:rPr b="1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к</a:t>
            </a:r>
            <a:r>
              <a:rPr b="1" lang="en-US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1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школьному обучению.</a:t>
            </a:r>
            <a:br>
              <a:rPr sz="4300"/>
            </a:br>
            <a:br>
              <a:rPr sz="4300"/>
            </a:b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5-2"/>
          <p:cNvPicPr/>
          <p:nvPr/>
        </p:nvPicPr>
        <p:blipFill>
          <a:blip r:embed="rId1"/>
          <a:stretch/>
        </p:blipFill>
        <p:spPr>
          <a:xfrm>
            <a:off x="2643120" y="1143000"/>
            <a:ext cx="38149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rbel"/>
              </a:rPr>
              <a:t>Задание № 4. «Шифровка»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Цель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. Выявление сформированности произвольной регуляции деятельности (удержание алгоритма деятельности), возможностей распределения и переключения внимания, работоспособности, темпа и целенаправленности деятельности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Время на выполнение данного задания жестко ограничивается 2 минутами. Через 2 минуты, вне зависимости от объема выполненного, все дети должны перейти к заданию № 5 (рисунку). Задача специалиста заключается в том, чтобы отследить этот момент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На доске рисуются четыре пустые фигуры (квадрат, треугольник, круг, ромб), которые в процессе подачи инструкции специалист заполняет соответствующими знаками, такими же, как в образце задания (первая строчка из четырех фигур, которая подчеркнута)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В данном методическом руководстве приведен один из вариантов заполнения фигур знаками. Таких вариантов может быть много. В соответствии с требованиями методики Пьерона–Рузера фигуры должны быть заполнены знаками, не повторяющими формы самих фигур (например, в кружке не должно быть точки, а в квадрате — просто линии, параллельной одной из сторон). Одна (последняя) фигура всегда должна оставаться пустой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Перед началом проведения скрининга специалист должен во всех бланках соответствующим образом поставить «метки» в фигуры-образцы данного задания. Это удобно делать перед размножением бланков. Метки должны быть четкими, достаточно простыми (крестик, галочка, точка и т.п.) и занимать среднюю часть фигуры, не подступая к ее краям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1071720" y="285480"/>
            <a:ext cx="771192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Задание № 5. «Рисунок человека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 Общая оценка сформированности графической деятельности, оценка топологических и метрических (соблюдение пропорций) пространственных представлений, общего уровня развити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Инструкция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А теперь последнее задание. На оставшемся на листе месте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(специалист показывает рукой свободное место на бланке)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нарисуйте человека. Возьмите простой карандаш и начинайте рисова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ремя выполнения последнего задания в целом не ограничивается, но не имеет смысла продолжать выполнение задания более 5–7 минут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процессе выполнения заданий специалист отмечает характер поведения и работы детей в листе наблюдени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71360" y="21384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АНАЛИЗ РЕЗУЛЬТАТОВ </a:t>
            </a:r>
            <a:br>
              <a:rPr sz="3600"/>
            </a:b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ВЫПОЛНЕНИЯ ЗАДАНИЙ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928800" y="1285560"/>
            <a:ext cx="80056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Задание №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Успешно выполненным считается тот вариант продолжения рисунка, когда ребенок четко удерживает последовательность в первом узоре, не привносит дополнительных углов при написании «острого» элемента и не делает второй элемент похожим на трапецию (оценка — </a:t>
            </a: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5 баллов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) (рис. 1А). При этом допускается увеличение размеров элементов или их уменьшение не более чем в 1,5 раза и единичный отрыв карандаша. В данном анализе приводится оценка предлагаемого образца программы. В каждом случае изменения того или иного задания требуется дополнительная оценка соотнесения уровня выполнения задания с балльной оценкой. Поэтому желательно, чтобы другие задания строились аналогичным образом, с соответствующей данному варианту логикой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785520" y="214200"/>
            <a:ext cx="8148600" cy="60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Считается допустимым (если нет пропусков, сдвоенных элементов, четко удерживается их последовательность), чтобы второй элемент имел «несколько трапециевидную» форму (оценка также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Corbel"/>
              </a:rPr>
              <a:t>5 баллов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)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Допустим также «уход» строки не более чем на 1 см вверх или вниз (рис. 1А</a:t>
            </a:r>
            <a:r>
              <a:rPr b="0" lang="ru-RU" sz="1600" spc="-1" strike="noStrike" baseline="30000">
                <a:solidFill>
                  <a:srgbClr val="000000"/>
                </a:solidFill>
                <a:latin typeface="Corbe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). При большем «уходе» строки или увеличении масштаба узоров (но удержании программы) дается оценка </a:t>
            </a:r>
            <a:r>
              <a:rPr b="1" i="1" lang="ru-RU" sz="1600" spc="-1" strike="noStrike">
                <a:solidFill>
                  <a:srgbClr val="000000"/>
                </a:solidFill>
                <a:latin typeface="Corbel"/>
              </a:rPr>
              <a:t>4,5 балла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(рис. 1Б). При этом, поскольку второй узор является объективно более трудным для продолжения (копирования), его выполнение может быть менее точным. Допускается отрыв карандаша, изображение двух больших пиков как заглавной печатной буквы М, а маленького пика как Л (оценка — </a:t>
            </a:r>
            <a:r>
              <a:rPr b="1" i="1" lang="ru-RU" sz="1600" spc="-1" strike="noStrike">
                <a:solidFill>
                  <a:srgbClr val="000000"/>
                </a:solidFill>
                <a:latin typeface="Corbel"/>
              </a:rPr>
              <a:t>5 баллов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). Опора на знакомые буквенные элементы, даже если они несколько разного размера и сама строка «опускается» или «поднимается», считается правильным (в том случае, если подобная опора на знакомые буквы является самостоятельной продукцией ребенка, а не «наводкой» специалиста, которая, как мы уже говорили, недопустима)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К числу правильного в целом выполнения можно отнести такую графическую деятельность ребенка, при которой элементы узора, похожие на М и Л, остаются различными по величине и рисуются без отрыва карандаша (оценка — </a:t>
            </a:r>
            <a:r>
              <a:rPr b="1" i="1" lang="ru-RU" sz="1600" spc="-1" strike="noStrike">
                <a:solidFill>
                  <a:srgbClr val="000000"/>
                </a:solidFill>
                <a:latin typeface="Corbel"/>
              </a:rPr>
              <a:t>4,5 балла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). При небольшом увеличении количества подобных неточностей дается оценка </a:t>
            </a:r>
            <a:r>
              <a:rPr b="1" i="1" lang="ru-RU" sz="1600" spc="-1" strike="noStrike">
                <a:solidFill>
                  <a:srgbClr val="000000"/>
                </a:solidFill>
                <a:latin typeface="Corbel"/>
              </a:rPr>
              <a:t>4 балла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(рис. 1Б</a:t>
            </a:r>
            <a:r>
              <a:rPr b="0" lang="ru-RU" sz="1600" spc="-1" strike="noStrike" baseline="30000">
                <a:solidFill>
                  <a:srgbClr val="000000"/>
                </a:solidFill>
                <a:latin typeface="Corbe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)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Средне успешным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(при выполнении первого узора) считается выполнение лишь с единичными ошибками (сдвоенные элементы узора, появление лишних углов при переходе от элемента к элементу и т.п.) при удержании в дальнейшем правильной ритмики узора. При выполнении второго узора допустим несколько больший разброс величины элементов и также наличие единичных ошибок выполнения (оценка — </a:t>
            </a:r>
            <a:r>
              <a:rPr b="1" i="1" lang="ru-RU" sz="1600" spc="-1" strike="noStrike">
                <a:solidFill>
                  <a:srgbClr val="000000"/>
                </a:solidFill>
                <a:latin typeface="Corbel"/>
              </a:rPr>
              <a:t>3 балла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) (рис. 1В, 1В</a:t>
            </a:r>
            <a:r>
              <a:rPr b="0" lang="ru-RU" sz="1600" spc="-1" strike="noStrike" baseline="30000">
                <a:solidFill>
                  <a:srgbClr val="000000"/>
                </a:solidFill>
                <a:latin typeface="Corbe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000080" y="357120"/>
            <a:ext cx="81439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Неуспешным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считается вариант, когда ребенок делает ошибки в выполнении первого узора (лишние элементы, нижние прямые углы), а во втором узоре ритмично повторяет сочетание равных по количеству больших и маленьких элементов. Например, маленьких пиков может быть два, а больших один, или это чередование большого и маленького пика — упрощение графической программы и уподобление ее первому узору (оценка —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2,5 балла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) (рис. 1Г)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аличие при этом еще и изолированного написания элементов (разрывов) считается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неуспешным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и оценивается в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2 балла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(рис. 1Г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orbe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)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евозможность удержания программы, в том числе «недоведение» узора до конца строки, или постоянное наличие дополнительных элементов, и/или частый отрыв карандаша и выраженные изменения размера узора, или полное отсутствие какой-либо определенной ритмики (в особенности во втором узоре) считается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неуспешным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(оценивается как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1 балл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) (рис. 1Д, 1Д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orbe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)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Если ребенок не выполняет задание или начинает и бросает, занимаясь при этом каким-либо своим делом, — оценка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0 баллов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5-19"/>
          <p:cNvPicPr/>
          <p:nvPr/>
        </p:nvPicPr>
        <p:blipFill>
          <a:blip r:embed="rId1"/>
          <a:stretch/>
        </p:blipFill>
        <p:spPr>
          <a:xfrm>
            <a:off x="285840" y="2071800"/>
            <a:ext cx="8501040" cy="314316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оугольник 4"/>
          <p:cNvSpPr/>
          <p:nvPr/>
        </p:nvSpPr>
        <p:spPr>
          <a:xfrm>
            <a:off x="1143000" y="50004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разец бланка итоговых результатов оценки уровня готовности детей к началу школьного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72314"/>
                </a:solidFill>
                <a:latin typeface="Corbel"/>
              </a:rPr>
              <a:t>ОЦЕНКА ПОВЕДЕНЧЕСКИХ ОСОБЕННОСТЕЙ </a:t>
            </a:r>
            <a:br>
              <a:rPr sz="2200"/>
            </a:br>
            <a:r>
              <a:rPr b="1" lang="ru-RU" sz="2200" spc="-1" strike="noStrike">
                <a:solidFill>
                  <a:srgbClr val="572314"/>
                </a:solidFill>
                <a:latin typeface="Corbel"/>
              </a:rPr>
              <a:t>ДЕТЕЙ В ПРОЦЕССЕ ПРОВЕДЕНИЯ СКРИНИНГА</a:t>
            </a:r>
            <a:br>
              <a:rPr sz="2200"/>
            </a:b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56800" y="1285560"/>
            <a:ext cx="80773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1. Если в листе наблюдений отмечен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один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знак поведенческих трудностей (неважно какой), то общая балльная оценка, полученная ребенком за выполнение всех заданий, умножается на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оэффициент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0,85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2. Если в листе наблюдений отмечены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два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знака поведенческих трудностей (неважно какие), то общая балльная оценка, полученная ребенком за выполнение всех заданий, умножается на коэффициент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0,72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3. Если в листе наблюдений отмечены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три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знака, отражающие поведенческие трудности, то общая балльная оценка, полученная ребенком за выполнение всех заданий, умножается на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оэффициент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0,6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4. Если в листе наблюдений отмечены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четыре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знака, отражающие поведенческие трудности, то общая балльная оценка, полученная ребенком за выполнение всех заданий, умножается на коэффициент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0,45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СУММАРНАЯ ОЦЕНКА ВЫПОЛНЕНИЯ ЗАДАНИЙ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785880" y="1357200"/>
            <a:ext cx="79293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ак уже отмечалось, выполнение всех заданий оценивается по четырем уровням — в зависимости от общего набранного ребенком балла, с учетом корректировочных коэффициентов оценки поведения ребенка в процессе работы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1-й уровень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Готовность к началу регулярного обучения в школе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2-й уровень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Условная готовность к началу обучения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3-й уровень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Условная неготовность к началу регулярного обучения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4-й уровень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Неготовность на момент обследования к началу регулярного обучен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сследования, проведенные на детской популяции г. Москвы и Московской области (458 наблюдений), и ретестирование детей (220 наблюдений) дали возможность выделить следующие диапазоны балльной оценки для каждого из выделяемых уровней готовности к началу школьного обучения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Готовность к началу регулярного обучения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1-й уровень): от 17 до 25 баллов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Условная готовность к началу обучения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2-й уровень): от 14 до 17 баллов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Условная неготовность к началу регулярного обучения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3-й уровень): от 11 до 14 баллов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Неготовность к началу регулярного обучения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4-й уровень): суммарная оценка ниже 10 балло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000080" y="356760"/>
            <a:ext cx="7934400" cy="58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По результатам уровневой оценки (уровень достоверности: P &lt; 0,05) можно сказать, что дети, получившие в результате проведенного исследования 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суммарные баллы в диапазоне от 17 до 25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, готовы (вне зависимости от их возраста на момент начала школьного обучения) к обучению в школе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Анализируя качество выполнения заданий и поведенческие особенности детей, набравших суммарную оценку </a:t>
            </a:r>
            <a:r>
              <a:rPr b="1" i="1" lang="ru-RU" sz="1600" spc="-1" strike="noStrike">
                <a:solidFill>
                  <a:srgbClr val="000000"/>
                </a:solidFill>
                <a:latin typeface="Corbel"/>
              </a:rPr>
              <a:t>от 14 до 17 баллов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, можно отчасти прогнозировать у них не только трудности при начале регулярного обучения (то есть попадание в группу риска по школьной дезадаптации), но и преимущественное направление этой дезадаптаци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В то же время ретестирование детей этой группы в начале школьного обучения (сентябрь-октябрь) показало, что большинство сумели адаптироваться к обучению без дополнительной помощи специалистов, преимущественно за счет грамотно организованного педагогического воздействия. Если есть возможность, желательно провести углубленное психологическое обследование этих детей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Дети, чей суммарный балл попадает в диапазон </a:t>
            </a:r>
            <a:r>
              <a:rPr b="1" i="1" lang="ru-RU" sz="1600" spc="-1" strike="noStrike">
                <a:solidFill>
                  <a:srgbClr val="000000"/>
                </a:solidFill>
                <a:latin typeface="Corbel"/>
              </a:rPr>
              <a:t>11–14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, нуждаются в помощи специалистов (логопеда, психолога, педагога), и, естественно, они в обязательном порядке должны быть обследованы психологом с целью выявления компенсаторных возможностей и путей помощи. Вполне вероятно, что такого ребенка имеет смысл направить в психологический центр или на ПМПК для решения вопроса о выборе направлений и методов коррекционной работ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Ребенок, который набирает </a:t>
            </a:r>
            <a:r>
              <a:rPr b="1" i="1" lang="ru-RU" sz="1600" spc="-1" strike="noStrike">
                <a:solidFill>
                  <a:srgbClr val="000000"/>
                </a:solidFill>
                <a:latin typeface="Corbel"/>
              </a:rPr>
              <a:t>менее 11 баллов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, в обязательном порядке должен быть обследован психологом, а при необходимости — логопедом или дефектологом еще в дошкольном учреждении, и ему в срочном порядке необходима коррекционная помощь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14280" y="1213920"/>
            <a:ext cx="7429680" cy="30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ПСИХОЛОГО-ПЕДАГОГИЧЕСКАЯ ОЦЕНКА ГОТОВНОСТИ К НАЧАЛУ </a:t>
            </a:r>
            <a:br>
              <a:rPr sz="3200"/>
            </a:b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ШКОЛЬНОГО ОБУЧЕНИЯ</a:t>
            </a:r>
            <a:br>
              <a:rPr sz="3200"/>
            </a:b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Авторы: </a:t>
            </a:r>
            <a:r>
              <a:rPr b="0" i="1" lang="ru-RU" sz="3200" spc="-1" strike="noStrike">
                <a:solidFill>
                  <a:srgbClr val="572314"/>
                </a:solidFill>
                <a:latin typeface="Corbel"/>
              </a:rPr>
              <a:t>Н.Я. Семаго, М.М. Семаго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, 2001г.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Содержимое 6" descr="P1300011.JPG"/>
          <p:cNvPicPr/>
          <p:nvPr/>
        </p:nvPicPr>
        <p:blipFill>
          <a:blip r:embed="rId1"/>
          <a:stretch/>
        </p:blipFill>
        <p:spPr>
          <a:xfrm>
            <a:off x="1214280" y="500040"/>
            <a:ext cx="3643560" cy="4714920"/>
          </a:xfrm>
          <a:prstGeom prst="rect">
            <a:avLst/>
          </a:prstGeom>
          <a:ln w="0">
            <a:noFill/>
          </a:ln>
        </p:spPr>
      </p:pic>
      <p:pic>
        <p:nvPicPr>
          <p:cNvPr id="347" name="Содержимое 7" descr="P1300012.JPG"/>
          <p:cNvPicPr/>
          <p:nvPr/>
        </p:nvPicPr>
        <p:blipFill>
          <a:blip r:embed="rId2"/>
          <a:stretch/>
        </p:blipFill>
        <p:spPr>
          <a:xfrm>
            <a:off x="5072040" y="1214280"/>
            <a:ext cx="35006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Содержимое 4" descr="P1300013.JPG"/>
          <p:cNvPicPr/>
          <p:nvPr/>
        </p:nvPicPr>
        <p:blipFill>
          <a:blip r:embed="rId1"/>
          <a:stretch/>
        </p:blipFill>
        <p:spPr>
          <a:xfrm>
            <a:off x="1143000" y="642960"/>
            <a:ext cx="3429000" cy="4786200"/>
          </a:xfrm>
          <a:prstGeom prst="rect">
            <a:avLst/>
          </a:prstGeom>
          <a:ln w="0">
            <a:noFill/>
          </a:ln>
        </p:spPr>
      </p:pic>
      <p:pic>
        <p:nvPicPr>
          <p:cNvPr id="349" name="Содержимое 5" descr="P1300014.JPG"/>
          <p:cNvPicPr/>
          <p:nvPr/>
        </p:nvPicPr>
        <p:blipFill>
          <a:blip r:embed="rId2"/>
          <a:stretch/>
        </p:blipFill>
        <p:spPr>
          <a:xfrm>
            <a:off x="4857840" y="1143000"/>
            <a:ext cx="39434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14280" y="15001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Тест тревожности.</a:t>
            </a:r>
            <a:br>
              <a:rPr sz="4000"/>
            </a:br>
            <a:r>
              <a:rPr b="1" lang="ru-RU" sz="2900" spc="-1" strike="noStrike">
                <a:solidFill>
                  <a:srgbClr val="572314"/>
                </a:solidFill>
                <a:latin typeface="Corbel"/>
              </a:rPr>
              <a:t>Авторы:</a:t>
            </a:r>
            <a:r>
              <a:rPr b="0" lang="ru-RU" sz="2900" spc="-1" strike="noStrike">
                <a:solidFill>
                  <a:srgbClr val="572314"/>
                </a:solidFill>
                <a:latin typeface="Corbel"/>
              </a:rPr>
              <a:t> Р. Тэммл, М.Дорки, В.Амен</a:t>
            </a:r>
            <a:br>
              <a:rPr sz="1600"/>
            </a:b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1213920" y="428760"/>
            <a:ext cx="77202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исследование тревожности ребенка по отношению к ряду типичных для него жизненных ситуаций общения с другими людь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Тревожность рассматривается как вид эмоционального состояния, функция которого состоит в обеспечении безопасности субъекта на личностном уровне. Тревожность, испытываемая человеком по отношению к определенной ситуации, зависит от его отрицательного эмоционального опыта в этой и подобных ей ситуациях. Повышенный уровень тревожности свидетельствует о недостаточной эмоциональной приспособленности ребенка к тем или иным социальным ситуациям. Экспериментальное определение степени тревожности раскрывает внутреннее отношение ребенка к определенной ситуации, дает косвенную информацию о характере взаимоотношений ребенка со сверстниками и взрослыми в семье, детском саду, школ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Содержимое 4" descr="test_amen-010.gif"/>
          <p:cNvPicPr/>
          <p:nvPr/>
        </p:nvPicPr>
        <p:blipFill>
          <a:blip r:embed="rId1"/>
          <a:stretch/>
        </p:blipFill>
        <p:spPr>
          <a:xfrm>
            <a:off x="357120" y="0"/>
            <a:ext cx="2214720" cy="3817800"/>
          </a:xfrm>
          <a:prstGeom prst="rect">
            <a:avLst/>
          </a:prstGeom>
          <a:ln w="0">
            <a:noFill/>
          </a:ln>
        </p:spPr>
      </p:pic>
      <p:pic>
        <p:nvPicPr>
          <p:cNvPr id="353" name="Содержимое 5" descr="test_amen-030.gif"/>
          <p:cNvPicPr/>
          <p:nvPr/>
        </p:nvPicPr>
        <p:blipFill>
          <a:blip r:embed="rId2"/>
          <a:stretch/>
        </p:blipFill>
        <p:spPr>
          <a:xfrm>
            <a:off x="2643120" y="3133800"/>
            <a:ext cx="2214720" cy="333360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6" descr="test_amen-200.gif"/>
          <p:cNvPicPr/>
          <p:nvPr/>
        </p:nvPicPr>
        <p:blipFill>
          <a:blip r:embed="rId3"/>
          <a:stretch/>
        </p:blipFill>
        <p:spPr>
          <a:xfrm>
            <a:off x="4429080" y="0"/>
            <a:ext cx="2000160" cy="333360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7" descr="test_amen-220.gif"/>
          <p:cNvPicPr/>
          <p:nvPr/>
        </p:nvPicPr>
        <p:blipFill>
          <a:blip r:embed="rId4"/>
          <a:stretch/>
        </p:blipFill>
        <p:spPr>
          <a:xfrm>
            <a:off x="6443640" y="2405160"/>
            <a:ext cx="2414520" cy="40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000080" y="356760"/>
            <a:ext cx="7786800" cy="58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Испытуемые: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дети 4 -7 лет с нормальным развитием и с отклонениями в психическом развит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Экспериментальный материал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представляет собой 14 рисунков размером 8.5 х 11см.. Каждый рисунок представляет некоторую типичную для жизни ребенка – дошкольника (или младшего школьника) ситуацию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Метод предъявления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исунки предъявляются ребенку экспериментатором в строго перечисленном порядке один за другим. Беседа проходит в отдельной комнате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071360" y="285480"/>
            <a:ext cx="786276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Рис.1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Игра с младшими детьми (Ребенок играет с двумя малышами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Рис.2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Ребенок и мать с младенцем ( Ребенок идет рядом с матерью, которая везет коляску с младенцем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Рис.3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Объект агрессии (Ребенок убегает от нападающего на него сверстника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Рис.4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Одевание (Ребенок сидит на стуле и  обувает ботинки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Рис.5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Игра  со старшими детьми (Ребенок играет с двумя старшими детьми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Рис.6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Укладывание спать в одиночестве (Ребенок идет к своей кроватке, родители сидят в кресле спиной к нему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Рис.7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Умывание (Ребенок умывается в ванной комнате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Рис.8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Выговор (Мать, подняв указательный палей, строго выговаривает ребенку за что – то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Рис.9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Игнорирование (Отец играет с малышом; ребенок стоит в одиночестве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Рис.10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Агрессивное нападение (Сверстник отбирает у ребенка игрушку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Рис.11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Собирание игрушек (Мать и ребенок собирают игрушки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Рис.12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Изоляция (Двое сверстников убегают от ребенка, стоящего в одиночестве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Рис.13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Ребенок с родителями (Ребенок стоит между матерью и отцом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Рис.14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Еда в одиночестве (Ребенок один сидит за столом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Образец протокола</a:t>
            </a:r>
            <a:br>
              <a:rPr sz="18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143000" y="316080"/>
          <a:ext cx="7643880" cy="6411600"/>
        </p:xfrm>
        <a:graphic>
          <a:graphicData uri="http://schemas.openxmlformats.org/drawingml/2006/table">
            <a:tbl>
              <a:tblPr/>
              <a:tblGrid>
                <a:gridCol w="2143080"/>
                <a:gridCol w="2714760"/>
                <a:gridCol w="1357200"/>
                <a:gridCol w="1428840"/>
              </a:tblGrid>
              <a:tr h="21348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Имя: Николай                                  Возраст: 6 лет                  Дата:10.1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исун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ысказы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ыб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еселое лиц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ечальное лиц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Игра с младшими деть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-----------------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Ребенок и мать с младенцем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---------------------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бъект агресс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чет ударить его стулом. У него грустное лицо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Одева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 пойдет гулять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Игра  со старшими деть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 играе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Укладывание спать в одиночеств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всегда беру спать игрушк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Умыва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---------------------------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Выгово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ма его ругае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Игнорирова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 весело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Агрессивное напад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него грустное лицо, потому что отбирают игрушку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Собирание игруше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альное, потому что мама заставляет его, а он не хоче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Изоляц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от него убегаю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 Ребенок с родителя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и фотографируютс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 Еда в одиночеств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елое лицо, он же кушае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1000080" y="285480"/>
            <a:ext cx="793440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Анализ данных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едлагаемые рисунки изображают типичные ситуации, отличающиеся по своей эмоциональной окраск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ак, рис.1 (Игра с младшими детьми), рис.5 (Игра со старшими детьми) и рис.13 (Ребенок с родителями) имеют положительную эмоциональную окраску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ис.3 (Объект агрессии), рис.8 (Выговор), рис.10 (Агрессивное нападение) и рис.12 (Изоляция) имеют отрицательную эмоциональную окраску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ис.2 (Ребенок и мать с младенцем), рис.4 (Одевание), рис.6 (Укладывание спать в одиночестве), рис.7 (Умывание), рис.9 (Игнорирование), рис.11 (Уборка игрушек) и рис.14 (Еда в одиночестве) имеют двойной смыс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вусмысленные рисунки несут основную «проективную нагрузку» - то, какой эмоциональный смысл придает им ребенок, указывает на его мироощущение и нормальный или травмирующий опыт общения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токолы каждого ребенка подвергаются качественному и количественному анализ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928800" y="356760"/>
            <a:ext cx="8005680" cy="58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Качественный анализ.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Каждый ответ ребенка анализируется отдельно. Делаются выводы относительно возможного характера эмоционального опыта ребенка в данной  (и подобной ей) ситуации. Особенно высоким проективным значением обладают рисунки 4 (Одевание), 6 (Укладывание спать в одиночестве) и 14 (Еда в одиночестве): дети, делающие в этих ситуациях отрицательный эмоциональный выбор, с высокой степенью вероятности будут обладать наивысшим ИТ: дети, делающие отрицательные эмоциональные выборы в ситуациях 2 (Ребенок и мать с младенцем), 7 (Умывание), 9 (Игнорирование) и 11 (Уборка игрушек) с большей вероятностью будут обладать высоким или средним ИТ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Наибольший уровень тревожности проявляется в ситуациях, моделирующих отношения «ребенок – ребенок» (Игра с младшими детьми. Объект агрессии. Игра со старшими детьми. Агрессивное нападение. Изоляция).Здесь имеет место наибольшее число отрицательных эмоциональных выборов, причем старшие дети (5 – 7 лет) проявляют уровень тревожности выше, чем младшие. Значительно ниже уровень тревожности в рисунках, моделирующих отношения «ребенок – взрослый» (Ребенок и мать с младенцем. Выговор. Игнорирование. Ребенок с родителями) и в ситуациях, моделирующих повседневные действия (Одевание. Укладывание спать в одиночестве. Умывание. Уборка игрушек. Еда в одиночестве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Примечание.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Валидизация методики показала высокий уровень ее внешней валидности. Уровень тревожности, определяемый на основании методики, высоко коррелирует с уровнем тревожности, полученным на основании отзывов воспитателей и учителей начальных классов (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R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= 0.56), надежность методики также весьма значительна (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= 0.42).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56800" y="356760"/>
            <a:ext cx="807732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исследования – выявление уровня готовности детей к обучению в школ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Предъявляемые задания позволяют оценить уровень сформированности предпосылок к учебной деятельности: возможности работать в соответствии с фронтальной инструкцией, умения самостоятельно действовать по образцу и осуществлять контроль, обладать определенным уровнем работоспособности, а также вовремя остановиться в выполнении того или иного задания и переключиться на выполнение следующего. Таким образом оценивается сформированность регуляторного компонента деятельности в целом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Следует отметить, что выделение произвольной регуляции собственной деятельности как первостепенной составляющей готовности ребенка к началу обучения является основой данной программы, принципиальной позицией авторов (</a:t>
            </a:r>
            <a:r>
              <a:rPr b="0" i="1" lang="ru-RU" sz="1600" spc="-1" strike="noStrike">
                <a:solidFill>
                  <a:srgbClr val="000000"/>
                </a:solidFill>
                <a:latin typeface="Corbel"/>
              </a:rPr>
              <a:t>Н.Я. Семаго, М.М. Семаго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, 2001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С другой стороны, задания позволяют оценить сформированность операций звукобуквенного анализа, соотнесение числа и количества, сформированность представлений «больше–меньше» — то есть собственно предпосылки к учебной деятельности, формирование которых происходит уже во время пребывания ребенка в старшей и подготовительной группах дошкольного учреждения. Задания №№ 2, 3 показывают в первую очередь усвоение ребенком программы подготовительной группы или даже специальной подготовки к школе, которая практикуется в большинстве дошкольных образовательных учреждений. И существенно реже — готовность самого ребенка к началу регулярного обучения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434960" y="356760"/>
            <a:ext cx="7499520" cy="58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Количественный анализ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а основании данных протокола вычисляется индекс тревожности ребенка (ИТ), который равен процентному отношению числа эмоционально – негативных выборов (печальное лицо) к общему числу рисунков (14)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Т=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число эмоционально – негативных выборов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*100%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 ИТ дети в возрасте от 3.5 до 7 лет подразделяются на 3 группы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а) Высокий уровень тревожности (ИТ выше 50%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б) Средний уровень тревожности (ИТ от 20% до 50%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) Низкий уровень тревожности (ИТ от 0% до 20%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434960" y="285480"/>
            <a:ext cx="749952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Т= 1/ 14 * 100%= 7.1%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Т= 2/ 14 * 100%= 14.2%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Т= 3/ 14 * 100%= 21.4%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Т= 4/ 14 * 100%= 28.5%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Т= 5/ 14 * 100%= 35.7%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Т= 6/ 14 * 100%= 42.8%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Т= 7/ 14 * 100%= 50%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Т= 8/ 14 * 100%= 57.1%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Т= 9/ 14 * 100%= 64.2%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Т= 10/ 14 * 100%= 71.4%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Т= 11/ 14 * 100%= 78.5%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Т= 12/ 14 * 100%= 85.7%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Т= 13/ 14 * 100%= 92.8%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Т= 14/ 14 * 100%= 100%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14280" y="1000080"/>
            <a:ext cx="749952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Методика «Лесенка»</a:t>
            </a:r>
            <a:br>
              <a:rPr sz="4000"/>
            </a:b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 Автор: В.Г. Щур 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1142640" y="356760"/>
            <a:ext cx="7791480" cy="58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анная методика разработана В.Г. Щур и предназначена для выявления системы представлений ребенка о том, как он оценивает себя сам, как, по его мнению, его оценивают другие люди и как соотносятся эти представления между собо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Цель исследования: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пределить особенности самооценки ребенка (как общего отношения к себе) и представлений ребенка о том, как его оценивают другие люд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Материал и оборудование: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деревянная (или нарисованная) лесенка с семью ступеньками, фигурка человечка, лист бумаги, карандаш (ручка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C:\Documents and Settings\Admin\Мои документы\МОЕ\Диагностические методики\Экспресс диагостика Павлова Руденко\Дидактический материал\18.jpg"/>
          <p:cNvPicPr/>
          <p:nvPr/>
        </p:nvPicPr>
        <p:blipFill>
          <a:blip r:embed="rId1"/>
          <a:stretch/>
        </p:blipFill>
        <p:spPr>
          <a:xfrm>
            <a:off x="1500120" y="1571760"/>
            <a:ext cx="3000600" cy="424332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7" descr="i.jpeg"/>
          <p:cNvPicPr/>
          <p:nvPr/>
        </p:nvPicPr>
        <p:blipFill>
          <a:blip r:embed="rId2"/>
          <a:stretch/>
        </p:blipFill>
        <p:spPr>
          <a:xfrm>
            <a:off x="1357200" y="357120"/>
            <a:ext cx="350064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1000080" y="285840"/>
            <a:ext cx="79344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роцедура исследова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етодика проводится индивидуально. Процедура исследования представляет собой беседу с ребенком с использованием определенной шкалы оценок, на которой он сам помещает себя и предположительно определяет то место, куда его поставят другие люд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еседа с ребенком начинается с непринужденного разговора о составе его семьи, о его близких родственниках, о друзьях и т.д. Затем экспериментатор показывает деревянную лесенку, на которой от центральной площадки идут три ступеньки вверх и три вниз. (В модифицированном варианте методики аналогичная лесенка рисуется экспериментатором на листе бумаги). При этом ребенку дается </a:t>
            </a: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инструкция: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«Посмотри на эту лесенку. Если рассадить на ней всех детей, то на самой верхней ступеньке окажутся самые хорошие ребята, ниже – просто хорошие, затем – средние, но еще хорошие дети. Соответственно распределены и плохие дети, т. е. на самой нижней ступеньке – самые плохие и т. д.». После этого ребенку дается фигурка человечка (можно использовать фигурки мальчика или девочки, в зависимости от пола ребенка). Экспериментатор просит поставить эту фигурку на ту ступеньку, которой сам ребенок, по его мнению, соответствует: «Куда ты сам (сама) себя поставишь?» При этом обязательно выясняется, почему ребенок выбрал именно данную ступеньку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1000080" y="356760"/>
            <a:ext cx="7934400" cy="58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Затем ребенку предлагают поместить фигурку на ту ступеньку, куда, по его мнению, его поставит мама, а также другие близкие взрослые: «Как ты думаешь, на какую ступеньку тебя поставит мама? Почему ты так считаешь?» Далее в зависимости от состава семьи,  значимого окружения задаются примерно следующие вопросы: «Куда тебя поставят папа, бабушка, дедушка, брат, сестра, друг, учительница? Куда мама и папа поставят братика или сестренку?» Во всех случаях психолог просит ребенка дать пояснения своему выбору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ебенка также спрашивают о том, кто поставит его на самую верхнюю ступеньку (особенно если он по каким-либо причинам считает, что мама его туда не поставит), и кто – на самую нижнюю ступеньку. Помимо этих основных вопросов с ребенком ведется подробная беседа о том, почему он считает так, а не иначе, и какие у него отношения с разными людьм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 мере ответов ребенка психолог фиксирует названные позиции (в варианте нарисованной лесенки это можно делать прямо на ее ступеньках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еседа с одним ребенком занимает примерно 20-30 минут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071360" y="428760"/>
            <a:ext cx="786276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Неадекватно завышенная самооценк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е раздумывая, ставит себя на самую высокую ступеньку; считает, что мама оценивает его также; аргументируя свой выбор, ссылается на мнение взрослого: «Я хороший. Хороший и больше никакой, это мама так сказала»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Завышенная самооценк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сле некоторых раздумий и колебаний ставит себя на самую высокую ступеньку, объясняя свои действия, называет какие-то свои недостатки и промахи, но объясняет их внешними, независящими от него, причинами, считает, что оценка взрослых в некоторых случаях может быть несколько ниже его собственной: «Я, конечно, хороший, но иногда ленюсь. Мама говорит, что я неаккуратный»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Адекватная самооценка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бдумав задание, ставит себя на 2-ю или 3-ю ступеньку, объясняет свои действия, ссылаясь на реальные ситуации и достижения, считает, что оценка взрослого такая же либо несколько ниже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Обработка и анализ результатов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1434960" y="285480"/>
            <a:ext cx="749952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Заниженная самооценка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тавит себя на нижние ступеньки, свой выбор не объясняет либо ссылается на мнение взрослого: «Мама так сказала»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Если ребенок ставит себя на среднюю ступеньку, это может говорить о том, что он либо не понял задание, либо не хочет его выполнять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ети с заниженной самооценкой из-за высокой тревожности и неуверенности в себе часто отказываются выполнять задание, на все вопросы отвечают: «Не знаю»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ети с задержкой развития не понимают и не принимают это задание, действуют наобум. 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еадекватно завышенная самооценка свойственна детям младшего и среднего дошкольного возраста: они не видят своих ошибок, не могут правильно оценить себя, свои поступки и действия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3000" y="1428840"/>
            <a:ext cx="749952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314"/>
                </a:solidFill>
                <a:latin typeface="Corbel"/>
              </a:rPr>
              <a:t>Методика «Оценка мотивационной готовности» </a:t>
            </a:r>
            <a:br>
              <a:rPr sz="4400"/>
            </a:br>
            <a:r>
              <a:rPr b="1" lang="ru-RU" sz="4400" spc="-1" strike="noStrike">
                <a:solidFill>
                  <a:srgbClr val="572314"/>
                </a:solidFill>
                <a:latin typeface="Corbel"/>
              </a:rPr>
              <a:t>(Д. В. Солдатов)</a:t>
            </a: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642600" y="428400"/>
            <a:ext cx="80154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ОБЩИЕ ТРЕБОВАНИЯ К ПРОВЕДЕНИЮ ФРОНТАЛЬНОГО ОБСЛЕДОВА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пециалист (педагог или психолог) работает с группой детей, состоящей не более чем из 12–15 человек. Дети рассаживаются за партой по одному. Каждому ребенку дается подписанный бланк с заданиями, два простых карандаша мягкости «М» без ластика и один цветной карандаш. Третье и четвертое задания при объяснении частично рисуются на доске. Инструкция подается короткими предложениями, четко, внятно и не быстро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1142640" y="356760"/>
            <a:ext cx="7791480" cy="58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Стимульный материал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данного теста представляет собой комплект из 9 карточек с сюжетными рисунками: 3 кар­точки с сюжетами обучения, 3 карточки с сюжетами трудовых действий и 3 карточки с игровыми сюжетам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Процедура тестирования.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ложите перед ребенком все карточки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в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три ряда, но так, чтобы в каждом ряду оказались изображения всех трех видов сюжетов. Предложите ему следующее задание: «Посмотри, пожалуйста, на эти картинки и выбери ту, где нарисовано занятие, которым ты хотел бы сейчас заниматься». Выбранная картинка откладывается в сторону, а ребенку предлагается сделать выбор из оставшихся еще два раза. Таким образом, определяются предпочтительные виды деятельности, к которым ваш ребенок мотивационно гото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1142640" y="428760"/>
            <a:ext cx="7791480" cy="58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сле этого инструкция меняется. Перед ребенком лежат уже не девять, а шесть оставшихся карточек. Предложите ребенку выбрать среди них те изоб­ражения, где нарисовано то, чем ребенок не хочет заниматься: «А теперь по­кажи мне то, чем бы ты совсем не хотел заниматься». Выбранная карточка от­кладывается, а ребенку предлагается сделать такой же выбор еще два раза. Подобный отрицательный выбор определяет те виды деятельности, которые вашего ребенка в настоящее время не интересуют. В заключение из оставших­ся трех изображений детских действий предложите своему ребенку выбрать одно с предпочтительным видом деятельности, а затем одно — с отрицаемым видом деятельност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 конце всей процедуры карточки должны быть разложены на три груп­пы: в первой группе — четыре с предпочитаемыми видами деятельности, во второй группе — четыре с отрицаемыми видами деятельности и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в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треть­ей — одна, оставшаяся не выбранно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Содержимое 3" descr="4-23.jpg"/>
          <p:cNvPicPr/>
          <p:nvPr/>
        </p:nvPicPr>
        <p:blipFill>
          <a:blip r:embed="rId1"/>
          <a:stretch/>
        </p:blipFill>
        <p:spPr>
          <a:xfrm>
            <a:off x="642960" y="428760"/>
            <a:ext cx="4257720" cy="392904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4" descr="4-23`1.jpg"/>
          <p:cNvPicPr/>
          <p:nvPr/>
        </p:nvPicPr>
        <p:blipFill>
          <a:blip r:embed="rId2"/>
          <a:stretch/>
        </p:blipFill>
        <p:spPr>
          <a:xfrm>
            <a:off x="4857840" y="1285920"/>
            <a:ext cx="39114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856800" y="428760"/>
            <a:ext cx="8077320" cy="58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Обработка результатов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оличественной обработке — суммарному подсчету — подлежат карточки с изображениями предпочитаемых видов деятельности. Так, каждая карточка с сюжетом учебной деятельности оценивается в 2 балла, каждая карточка с изображением трудовой деятельности — в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 балл и, наконец, игровой — 0 баллов. Таким образом, максимально возможное число баллов равно 7, а минимальное, которое ребенок теоретически может набрать, равно 0 балл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1071360" y="428760"/>
            <a:ext cx="7862760" cy="58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пираясь на результаты многочисленных исследований, принятым критерием хорошей мотивационной готовности к учебной деятельности считается сумма,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равная 4—5 баллам.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Если количество баллов превышает этот критический рубеж, то ваш ребенок имеет вполне сформированную готовность к обучению в школ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 случае сниженной готовности — когда сумма баллов попадает в диапазон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от 1 до 3 — от ребенка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 первые же месяцы школьной жизни можно ожидать проявления нежелания ходить в школу, учиться на уроках. При возникновении подобной ситуации вам необходимо активизировать усилия по формированию произвольности поведения ребенка и улучшения его работоспособности, а также заранее познакомить его (читать соответ­ствующую художественную литературу, рассказывать, объяснять) со спецификой школьной жизни и значением обучения в школе для дальнейшей его жизн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71360" y="1285560"/>
            <a:ext cx="749916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Рисуночная методика</a:t>
            </a:r>
            <a:br>
              <a:rPr sz="4300"/>
            </a:b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 “Что тебе нравится в школе”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1071360" y="285480"/>
            <a:ext cx="786276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Анализ детских рисунков на тему: “Что тебе нравится в школе”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Рисуночные методики с успехом используются для диагностики проблем, возникающих у детей с поступлением в школу. Эти методики, как никакие другие, позволяют выявить тревожность, негативное отношение к школе. Вот некоторые аспекты оценки рисунков на тему “Что тебе нравится в школе?”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Несоответствие теме указывает на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тсутствие школьной мотивации и преобладание других мотивов, чаще всего игровых. На таких рисунках ребята изображают свои игрушки, дом, домашних любимцев, узоры. Это свидетельствует о мотивационной неготовности ребенка к школьному обучению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етский негативизм. Если ребенок категорически отказывается рисовать на заданную тему и рисует то, что он хорошо умеет рисовать, то это может свидетельствовать как о завышенных притязаниях, так и о возможных трудностях, которые могут возникнуть у него при выполнении школьных требований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еверное понимание и толкование поставленной задачи. В этом случае ребенок вообще ничего не рисует или пытается “подсмотреть” у соседа. Такое поведение, по мнению психологов, свойственно ребятам с задержкой психического развит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928800" y="285480"/>
            <a:ext cx="800568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и несоответствии рисунка заданной теме при подведении итогов за     рисунок проставляется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0 балло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оответствие заданной теме свидетельствует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целом о том, что ребенок испытывает положительное отношение к школе. Но здесь есть несколько нюансов, которые связаны с сюжетами, выбранными ребятами для своих рисунко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Учебная ситуация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На таких рисунках ребята изображают фрагменты урока, учеников за партами, себя у доски и т.д. Это свидетельствует о высокой школьной мотивации. При количественной оценке таким рисункам проставляется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30 баллов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итуация неучебного характера, но, так или иначе, связана со школой. Дети рисуют школьный двор, школьное здание, школьный автобус, школьный музей и т.д. Такие рисунки характерны для детей с положительным отношением к школе, но на первый план у них выступает внешняя атрибутика. Для них очень важен статус ученика,  т.е. пока на первый план выступают социальные мотивы, которые при умелом воздействии со стороны учителя и родителей вполне могут перерасти в познавательные. Количественная оценка –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20 балло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928800" y="428760"/>
            <a:ext cx="8005680" cy="58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 ситуации, связанные со школой. На таких рисунках изображены  игры на переменах, игрушки и другие предметы, непосредственно не относящиеся к учебе, находящиеся в классе. Такие рисунки характерны для детей с положительным отношением к школе, но преобладающей игровой мотивацией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енная оцен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0 балл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Рисунок 2" descr="PB120001.JPG"/>
          <p:cNvPicPr/>
          <p:nvPr/>
        </p:nvPicPr>
        <p:blipFill>
          <a:blip r:embed="rId1"/>
          <a:stretch/>
        </p:blipFill>
        <p:spPr>
          <a:xfrm>
            <a:off x="1214280" y="28584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3" descr="PB120002.JPG"/>
          <p:cNvPicPr/>
          <p:nvPr/>
        </p:nvPicPr>
        <p:blipFill>
          <a:blip r:embed="rId2"/>
          <a:stretch/>
        </p:blipFill>
        <p:spPr>
          <a:xfrm>
            <a:off x="4786200" y="3429000"/>
            <a:ext cx="40150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Лист наблюдений за поведением детей в процессе группового обследования</a:t>
            </a:r>
            <a:br>
              <a:rPr sz="18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646200" y="5221440"/>
          <a:ext cx="6095880" cy="1825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182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ое учреждение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обследования ________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500040" y="1643040"/>
          <a:ext cx="8215200" cy="3143160"/>
        </p:xfrm>
        <a:graphic>
          <a:graphicData uri="http://schemas.openxmlformats.org/drawingml/2006/table">
            <a:tbl>
              <a:tblPr/>
              <a:tblGrid>
                <a:gridCol w="1173240"/>
                <a:gridCol w="1174680"/>
                <a:gridCol w="1173240"/>
                <a:gridCol w="1173240"/>
                <a:gridCol w="1172880"/>
                <a:gridCol w="1175040"/>
                <a:gridCol w="1172880"/>
              </a:tblGrid>
              <a:tr h="246384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 ребенка 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а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ждается   в дополнительной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ет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лен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орможен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шает другим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1523880" y="3319560"/>
          <a:ext cx="6096240" cy="218880"/>
        </p:xfrm>
        <a:graphic>
          <a:graphicData uri="http://schemas.openxmlformats.org/drawingml/2006/table">
            <a:tbl>
              <a:tblPr/>
              <a:tblGrid>
                <a:gridCol w="2989440"/>
                <a:gridCol w="3106800"/>
              </a:tblGrid>
              <a:tr h="218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ие и наблюдение проводил(и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6" name="Rectangle 1"/>
          <p:cNvSpPr/>
          <p:nvPr/>
        </p:nvSpPr>
        <p:spPr>
          <a:xfrm>
            <a:off x="0" y="0"/>
            <a:ext cx="9144000" cy="11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-356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Рисунок 3" descr="PB090207.JPG"/>
          <p:cNvPicPr/>
          <p:nvPr/>
        </p:nvPicPr>
        <p:blipFill>
          <a:blip r:embed="rId1"/>
          <a:stretch/>
        </p:blipFill>
        <p:spPr>
          <a:xfrm>
            <a:off x="1071720" y="357120"/>
            <a:ext cx="4071960" cy="288756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2" descr="PB090213.JPG"/>
          <p:cNvPicPr/>
          <p:nvPr/>
        </p:nvPicPr>
        <p:blipFill>
          <a:blip r:embed="rId2"/>
          <a:stretch/>
        </p:blipFill>
        <p:spPr>
          <a:xfrm>
            <a:off x="4500720" y="3357720"/>
            <a:ext cx="421452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1000080" y="356760"/>
            <a:ext cx="7934400" cy="58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роективная методика: «Рисунок школы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определение отношения ребенка к школе и уровня школьной тревожност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Инструкция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: Ребенку дают лист А4, цветные карандаши и просят: «Здесь на листе бумаги нарисуй школу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еседа, уточняющие вопросы о нарисованном, комментарии записываются на обратной стороне рисунк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1000080" y="428760"/>
            <a:ext cx="7934400" cy="58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Обработка результатов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Эмоциональное отношение к школе и учению оценивается по 3 показателям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) цветовая гамма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) линия и характер рисунка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3) сюжет рисунк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и анализе рисунка по каждому из этих показателей выставляется балльная оценка, затем баллы складываются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1) Цветовая гамма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 балла – в рисунке преобладают яркие, чистые, светлые тона и их сочетания (желтый, светло-зеленый, голубой, т.д.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0 баллов – рисунок выполнен в темных тонах (темно-коричневый, темно-зеленый, черный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 балл – в равной степени присутствуют светлые и темные тон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1000080" y="285480"/>
            <a:ext cx="793440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2) Линия и характер рисунка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 балла – объекты прорисованы тщательно и аккуратно; используются длинные, сложные линии различной толщины, нет «разрывов» контур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0 баллов – объекты изображены нарочито небрежно, схематично; линии двойные, прерывающиеся, одинаковой длины и толщины, слабая линия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 балл – в рисунке присутствуют обе характеристик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3) Сюжет рисунка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 балла – симметричное изображение (рисунок школы занимает центральное место на листе); наличие деталей и украшений, элементов декорирования, изображение различных предметов, оживляющих пейзаж (цветы, деревья, плакаты, флаги, занавески на окнах, др.); изображение детей, идущих в школу или сидящих за партами, учителя и «процесса учения»; время года – весна, лето (солнце, нет туч); изображение светлого времени суток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0 баллов – ассиметричность рисунка; отсутствие деталей и украшений; отсутствие людей или изображение детей, уходящих из школы; время года – осень, зима (темное небо, идет дождь или снег); время суток – ночь или вечер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 балл – обе характеристики присутствуют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1142640" y="428760"/>
            <a:ext cx="7791480" cy="58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Анализ результатов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6-5 баллов – у ребенка сложилось эмоционально благополучное отношение к школе и учению, он готов к принятию учебных задач и взаимодействию с учителем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4-2 балла – у ребенка есть некоторая тревога по поводу школьного обучения как незнакомой для него ситуации, необходимо расширить круг его знаний и представлений о школьно-учебной деятельности, формировать положительное отношение к учителю и одноклассникам; причинами тревог может быть нервозность и необдуманные высказывания взрослых, негативный опыт обучения в школе старших дете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1-0 баллов – у ребенка явно выраженный страх перед школой, часто это приводит к неприятию учебных задач и отказу от учебной деятельности, трудностям в общении с учителем и одноклассникам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Содержимое 3" descr="ьрьрп.jpeg"/>
          <p:cNvPicPr/>
          <p:nvPr/>
        </p:nvPicPr>
        <p:blipFill>
          <a:blip r:embed="rId1"/>
          <a:stretch/>
        </p:blipFill>
        <p:spPr>
          <a:xfrm>
            <a:off x="2371680" y="1517760"/>
            <a:ext cx="49132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orbel"/>
              </a:rPr>
              <a:t>Задание № 1. «Продолжи узор»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Цель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. Оценка особенностей тонкой моторики и произвольного внимания (удержание как самой инструкции, так и двигательной программы), умения работать самостоятельно в режиме фронтальной инструкции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На бланке приведены образцы двух узоров, которые ребенок должен продолжить до конца листа, не отрывая карандаша от листа бумаги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пециалист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 ни в коем случае не должен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при обращении внимания детей на узоры каким бы то ни было образом 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называть элементы узоров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: «</a:t>
            </a: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похоже на П, Л», «большое М и маленькое Л»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и тому подобное. Такое грубое упрощение задания приводит к невозможности адекватной оценки выполнения поставленных целей задания.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Задание №2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071360" y="1071720"/>
            <a:ext cx="786276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Цель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. Оценка сформированности навыков пересчета в пределах 9, соотнесение цифры (графемы) и количества изображенных фигур. Оценка моторных навыков при изображении цифр. Определение сформированности понятия «больше—меньше» в ситуации «конфликтного» расположения элементов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Инструкция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Все нашли задание номер 2? Сосчитайте, сколько кружков нарисовано на листе, и напишите цифру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(следует показ — где на бланке следует написать соответствующую цифру, обозначающую количество кружков)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, сколько квадратов нарисовано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(следует показ — где на бланке следует написать соответствующую цифру)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 и напишите число квадратиков. Поставьте цветным карандашом точку или галочку там, где фигур больше. Берите простой карандаш и начинайте работать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се задание можно спокойно повторить дважды (разумеется, всей группе детей)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orbel"/>
              </a:rPr>
              <a:t>Задание № 3. «Слова»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Цель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. Оценка сформированности у ребенка звукового и звукобуквенного анализа материала, подаваемого на слух, сформированность графической деятельности (в частности, написания графем), произвольная регуляция собственной деятельности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Для выполнения этого задания необходима предварительная ориентировка детей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пециалист на доске рисует четыре квадратика, расположенных рядом по горизонтали. Во время подачи инструкции он проставляет буквы в соответствующие квадраты, показывая детям, как следует ставить буквы (или знаки) в квадраты.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5-1"/>
          <p:cNvPicPr/>
          <p:nvPr/>
        </p:nvPicPr>
        <p:blipFill>
          <a:blip r:embed="rId1"/>
          <a:stretch/>
        </p:blipFill>
        <p:spPr>
          <a:xfrm>
            <a:off x="2928960" y="857160"/>
            <a:ext cx="38149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3-06-08T07:00:24Z</dcterms:modified>
  <cp:revision>34</cp:revision>
  <dc:subject/>
  <dc:title>ПСИХОЛОГО-ПЕДАГОГИЧЕСКАЯ ОЦЕНКА ГОТОВНОСТИ К НАЧАЛУ  ШКОЛЬНОГО ОБУЧЕНИЯ Н.Я. Семаго, М.М. Семаго, 2001). </dc:title>
</cp:coreProperties>
</file>