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7B7-CEDF-4E06-99FF-B0510459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2BF-983D-4153-96F0-272CF6A6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F0D-4472-435A-8141-AAEC1CE1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6A1-8D0D-4087-9369-A168B8ED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B41-B1B5-47C6-978C-6A8C2DBA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98B8-5CC7-4084-AFFA-E3053B5B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0AA8-F2B0-4F46-9523-1AC8551B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B8C-E7D6-4AD4-B198-713AC050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C5C1-FE3C-4FFE-B374-B4E6139F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D3BA-04B6-4A5B-BCF1-1C018D5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81AF-EC79-4FAF-A6FB-3B33CD8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A58-9F92-429C-AFBA-80CD3B66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CD44-8247-466D-AB90-46E41D6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21C9-AC32-4729-AC03-5C932CAF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4787-B775-49C3-B277-149FFE60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6313-5B67-42BE-87C7-DB77BB80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B21-F3F5-4736-BB52-BD5F27FE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E817-D643-4656-ACF3-917942F1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1AF9-30DF-4987-9799-674E828F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65FC-DC1D-4BFF-B0CC-1707FAC5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7C60-653B-4A88-9810-1686A37A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B544-C85A-415E-A227-D9EDB1A5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AE6-85A7-419E-8174-79764611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7FB4-D7D1-44A4-B0CD-62D39EE6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58F1-2CAD-4C25-9F59-204C1C9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6BE1-8145-41FB-A998-4DC40EF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0B51-3C8B-4575-B181-7F82E11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4093-6005-486B-AF6C-57A7E92A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70DAB-D117-4824-9FD7-031E3E07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2013-3E6F-49E7-819D-DD41401C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DAF6-56AB-47D3-B10C-D67086B2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E636-DFBD-4721-BD12-0C3941E2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4314A-99BD-46DE-A823-AA156BEA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C47-E624-488C-9C93-38258657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DC8CD-5821-4AFE-A890-AECC27A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D577-07DF-4EF1-BD46-BE05313E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00F7-5885-4675-8EB4-9395DC5F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8FB2-1795-41B2-AFCA-62210EC7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EB99-4B1C-4941-ADA6-19F4E18D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02C2-DEF7-49D1-BD19-426C8432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4037-23C9-4A89-BC12-9DFDAF2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C772-83F1-4D38-8CEE-3B32ED98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2D7B-5E0A-4C78-AB21-572F1152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C286-A3AB-4F6B-9A6A-DFFD4A69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D83-F43E-4D42-BC9F-EF437155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79D8C-7B62-43A5-A623-4BA454A3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61928-F3E9-4582-99C2-9EAED859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E0B6-F1B7-4371-B40C-E0E24135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EC38-82FF-4B58-8957-22CDA58D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B558-533C-4AAA-8F0A-84E6954B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418F8-A49B-416A-801B-A5BFA154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CE21-5EF9-43B3-8016-68B2C22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CA4D-0859-42A9-BFF4-84529615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38EC-EB21-43F3-A16A-62B6BEA6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E7A7-EC74-4315-B41B-31E39B76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5CB-636E-4447-A504-9001977B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9F15-F79D-4D10-B24C-C0CF495B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A1556-D7A2-4E1B-BD8F-8324C7B9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6E8EB-2218-49E6-A204-611BB34F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8CD2B-8945-4C17-93F1-3A9226D4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52AE-063B-48CB-88CA-E00F29D1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B08ED-697F-43BC-AB9A-AFCFDCF7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7282B-762B-4A55-BBE4-A10E2B53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4CAAF-A60C-4C46-8F1A-8162DCD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B845-A05E-4F90-A730-1714AFFD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2ED2-9C01-4725-A8EE-0FE1E7E9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889-FDEC-4FFF-84AB-CB0C033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AE535-E828-44DA-9AE7-13ED06B0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47CD-AEA1-4E70-B1D9-0AE9BB92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83FE4-EFE2-4716-A60E-05DB57E0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27CAB-F6E3-468C-8132-B990B659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95AAF-21FB-4705-97A7-A6C4EDCC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8F43-5239-4B18-BE06-0F42F52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F9520-9BFA-4176-8DAF-DE2C7485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6CD0C-23BE-4A4C-B4D2-8135C103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37D3-9144-476C-8AD4-738391F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41B61-D8B8-44AC-9280-606FB35B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014-97D4-4F3B-BA65-ECD0E839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BE1BF-3746-42C0-9A34-3362CE1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DD2FE-9129-4E0A-8C9C-BDF3CE5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BABF-C275-46C1-A6E0-1D64D3D0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F8849-C8C7-43F7-ACB2-89F3540A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CA6B-BC0D-4254-B322-0EC3C416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DDF-2CCA-4F90-A008-A32487E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FB8F-D5B5-43AB-9C17-0EA98CE7666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3F4-186B-4853-B837-8E2A0A11A5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1645-3AFD-45C3-91CA-73651F21FD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970B-CEF3-4DE6-8981-21D5E6AE98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1A30-9AB8-4748-B2E3-2AE71E2B46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D73B-705F-4859-8F10-F3AA5210D6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626E-8057-43DF-A7CF-E43937D837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560" y="1143000"/>
            <a:ext cx="7497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сихологическая диагностика готовности 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к</a:t>
            </a:r>
            <a:r>
              <a:rPr b="1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школьному обучению.</a:t>
            </a: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5-2"/>
          <p:cNvPicPr/>
          <p:nvPr/>
        </p:nvPicPr>
        <p:blipFill>
          <a:blip r:embed="rId1"/>
          <a:stretch/>
        </p:blipFill>
        <p:spPr>
          <a:xfrm>
            <a:off x="2643120" y="1143000"/>
            <a:ext cx="3814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Задание № 4. «Шифровка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 Выявление сформированности произвольной регуляции деятельности (удержание алгоритма деятельности), возможностей распределения и переключения внимания, работоспособности, темпа и целенаправленности деятельност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ремя на выполнение данного задания жестко ограничивается 2 минутами. Через 2 минуты, вне зависимости от объема выполненного, все дети должны перейти к заданию № 5 (рисунку). Задача специалиста заключается в том, чтобы отследить этот момен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доске рисуются четыре пустые фигуры (квадрат, треугольник, круг, ромб), которые в процессе подачи инструкции специалист заполняет соответствующими знаками, такими же, как в образце задания (первая строчка из четырех фигур, которая подчеркну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данном методическом руководстве приведен один из вариантов заполнения фигур знаками. Таких вариантов может быть много. В соответствии с требованиями методики Пьерона–Рузера фигуры должны быть заполнены знаками, не повторяющими формы самих фигур (например, в кружке не должно быть точки, а в квадрате — просто линии, параллельной одной из сторон). Одна (последняя) фигура всегда должна оставаться пустой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еред началом проведения скрининга специалист должен во всех бланках соответствующим образом поставить «метки» в фигуры-образцы данного задания. Это удобно делать перед размножением бланков. Метки должны быть четкими, достаточно простыми (крестик, галочка, точка и т.п.) и занимать среднюю часть фигуры, не подступая к ее края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71720" y="285480"/>
            <a:ext cx="77119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Задание № 5. «Рисунок человек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Общая оценка сформированности графической деятельности, оценка топологических и метрических (соблюдение пропорций) пространственных представлений, общего уровня развит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нструкц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 теперь последнее задание. На оставшемся на листе мест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специалист показывает рукой свободное место на бланке)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арисуйте человека. Возьмите простой карандаш и начинайте рисов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ремя выполнения последнего задания в целом не ограничивается, но не имеет смысла продолжать выполнение задания более 5–7 мину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процессе выполнения заданий специалист отмечает характер поведения и работы детей в листе наблюден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АНАЛИЗ РЕЗУЛЬТАТОВ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ВЫПОЛНЕНИЯ ЗАДАНИЙ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28800" y="1285560"/>
            <a:ext cx="80056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ние №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спешно выполненным считается тот вариант продолжения рисунка, когда ребенок четко удерживает последовательность в первом узоре, не привносит дополнительных углов при написании «острого» элемента и не делает второй элемент похожим на трапецию (оценка —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5 баллов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) (рис. 1А). При этом допускается увеличение размеров элементов или их уменьшение не более чем в 1,5 раза и единичный отрыв карандаша. В данном анализе приводится оценка предлагаемого образца программы. В каждом случае изменения того или иного задания требуется дополнительная оценка соотнесения уровня выполнения задания с балльной оценкой. Поэтому желательно, чтобы другие задания строились аналогичным образом, с соответствующей данному варианту логик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785520" y="214200"/>
            <a:ext cx="81486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читается допустимым (если нет пропусков, сдвоенных элементов, четко удерживается их последовательность), чтобы второй элемент имел «несколько трапециевидную» форму (оценка также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5 баллов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опустим также «уход» строки не более чем на 1 см вверх или вниз (рис. 1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При большем «уходе» строки или увеличении масштаба узоров (но удержании программы) дается оценка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4,5 балл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(рис. 1Б). При этом, поскольку второй узор является объективно более трудным для продолжения (копирования), его выполнение может быть менее точным. Допускается отрыв карандаша, изображение двух больших пиков как заглавной печатной буквы М, а маленького пика как Л (оценка —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5 баллов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Опора на знакомые буквенные элементы, даже если они несколько разного размера и сама строка «опускается» или «поднимается», считается правильным (в том случае, если подобная опора на знакомые буквы является самостоятельной продукцией ребенка, а не «наводкой» специалиста, которая, как мы уже говорили, недопустим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 числу правильного в целом выполнения можно отнести такую графическую деятельность ребенка, при которой элементы узора, похожие на М и Л, остаются различными по величине и рисуются без отрыва карандаша (оценка —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4,5 балл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При небольшом увеличении количества подобных неточностей дается оценка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4 балл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(рис. 1Б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редне успешным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(при выполнении первого узора) считается выполнение лишь с единичными ошибками (сдвоенные элементы узора, появление лишних углов при переходе от элемента к элементу и т.п.) при удержании в дальнейшем правильной ритмики узора. При выполнении второго узора допустим несколько больший разброс величины элементов и также наличие единичных ошибок выполнения (оценка —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3 балла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 (рис. 1В, 1В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00080" y="35712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успешны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считается вариант, когда ребенок делает ошибки в выполнении первого узора (лишние элементы, нижние прямые углы), а во втором узоре ритмично повторяет сочетание равных по количеству больших и маленьких элементов. Например, маленьких пиков может быть два, а больших один, или это чередование большого и маленького пика — упрощение графической программы и уподобление ее первому узору (оценка —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2,5 бал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 (рис. 1Г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личие при этом еще и изолированного написания элементов (разрывов) считается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успешны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и оценивается в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2 бал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рис. 1Г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возможность удержания программы, в том числе «недоведение» узора до конца строки, или постоянное наличие дополнительных элементов, и/или частый отрыв карандаша и выраженные изменения размера узора, или полное отсутствие какой-либо определенной ритмики (в особенности во втором узоре) считается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успешны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оценивается как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1 балл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 (рис. 1Д, 1Д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ребенок не выполняет задание или начинает и бросает, занимаясь при этом каким-либо своим делом, — оценка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0 балло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5-19"/>
          <p:cNvPicPr/>
          <p:nvPr/>
        </p:nvPicPr>
        <p:blipFill>
          <a:blip r:embed="rId1"/>
          <a:stretch/>
        </p:blipFill>
        <p:spPr>
          <a:xfrm>
            <a:off x="285840" y="2071800"/>
            <a:ext cx="8501040" cy="314316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4"/>
          <p:cNvSpPr/>
          <p:nvPr/>
        </p:nvSpPr>
        <p:spPr>
          <a:xfrm>
            <a:off x="1143000" y="500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ец бланка итоговых результатов оценки уровня готовности детей к началу школьн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ОЦЕНКА ПОВЕДЕНЧЕСКИХ ОСОБЕННОСТЕЙ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ДЕТЕЙ В ПРОЦЕССЕ ПРОВЕДЕНИЯ СКРИНИНГА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56800" y="1285560"/>
            <a:ext cx="80773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. Если в листе наблюдений отмечен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один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к поведенческих трудностей (неважно какой), то общая балльная оценка, полученная ребенком за выполнение всех заданий, умножается н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эффициен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0,85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. Если в листе наблюдений отмечен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дв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ка поведенческих трудностей (неважно какие), то общая балльная оценка, полученная ребенком за выполнение всех заданий, умножается на коэффициен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0,72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. Если в листе наблюдений отмечен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три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ка, отражающие поведенческие трудности, то общая балльная оценка, полученная ребенком за выполнение всех заданий, умножается н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эффициен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0,6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. Если в листе наблюдений отмечен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четыре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знака, отражающие поведенческие трудности, то общая балльная оценка, полученная ребенком за выполнение всех заданий, умножается на коэффициен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0,45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УММАРНАЯ ОЦЕНКА ВЫПОЛНЕНИЯ ЗАДАНИЙ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85880" y="1357200"/>
            <a:ext cx="7929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к уже отмечалось, выполнение всех заданий оценивается по четырем уровням — в зависимости от общего набранного ребенком балла, с учетом корректировочных коэффициентов оценки поведения ребенка в процессе работы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1-й уровен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Готовность к началу регулярного обучения в школе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2-й уровен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словная готовность к началу обуч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3-й уровен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словная неготовность к началу регулярного обуч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4-й уровен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Неготовность на момент обследования к началу регулярного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сследования, проведенные на детской популяции г. Москвы и Московской области (458 наблюдений), и ретестирование детей (220 наблюдений) дали возможность выделить следующие диапазоны балльной оценки для каждого из выделяемых уровней готовности к началу школьного обучени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отовность к началу регулярного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1-й уровень): от 17 до 25 балл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словная готовность к началу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2-й уровень): от 14 до 17 балл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словная неготовность к началу регулярного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3-й уровень): от 11 до 14 балл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готовность к началу регулярного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4-й уровень): суммарная оценка ниже 10 бал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356760"/>
            <a:ext cx="793440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 результатам уровневой оценки (уровень достоверности: P &lt; 0,05) можно сказать, что дети, получившие в результате проведенного исследования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уммарные баллы в диапазоне от 17 до 25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готовы (вне зависимости от их возраста на момент начала школьного обучения) к обучению в школ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Анализируя качество выполнения заданий и поведенческие особенности детей, набравших суммарную оценку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от 14 до 17 баллов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можно отчасти прогнозировать у них не только трудности при начале регулярного обучения (то есть попадание в группу риска по школьной дезадаптации), но и преимущественное направление этой дезадаптац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то же время ретестирование детей этой группы в начале школьного обучения (сентябрь-октябрь) показало, что большинство сумели адаптироваться к обучению без дополнительной помощи специалистов, преимущественно за счет грамотно организованного педагогического воздействия. Если есть возможность, желательно провести углубленное психологическое обследование этих дет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ети, чей суммарный балл попадает в диапазон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11–14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нуждаются в помощи специалистов (логопеда, психолога, педагога), и, естественно, они в обязательном порядке должны быть обследованы психологом с целью выявления компенсаторных возможностей и путей помощи. Вполне вероятно, что такого ребенка имеет смысл направить в психологический центр или на ПМПК для решения вопроса о выборе направлений и методов коррекционной рабо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ебенок, который набирает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менее 11 баллов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в обязательном порядке должен быть обследован психологом, а при необходимости — логопедом или дефектологом еще в дошкольном учреждении, и ему в срочном порядке необходима коррекционная помощ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4280" y="1213920"/>
            <a:ext cx="742968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СИХОЛОГО-ПЕДАГОГИЧЕСКАЯ ОЦЕНКА ГОТОВНОСТИ К НАЧАЛУ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ШКОЛЬНОГО ОБУЧЕНИЯ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Авторы: </a:t>
            </a: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Н.Я. Семаго, М.М. Семаго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, 2001г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Содержимое 6" descr="P1300011.JPG"/>
          <p:cNvPicPr/>
          <p:nvPr/>
        </p:nvPicPr>
        <p:blipFill>
          <a:blip r:embed="rId1"/>
          <a:stretch/>
        </p:blipFill>
        <p:spPr>
          <a:xfrm>
            <a:off x="1214280" y="500040"/>
            <a:ext cx="3643560" cy="4714920"/>
          </a:xfrm>
          <a:prstGeom prst="rect">
            <a:avLst/>
          </a:prstGeom>
          <a:ln w="0">
            <a:noFill/>
          </a:ln>
        </p:spPr>
      </p:pic>
      <p:pic>
        <p:nvPicPr>
          <p:cNvPr id="347" name="Содержимое 7" descr="P1300012.JPG"/>
          <p:cNvPicPr/>
          <p:nvPr/>
        </p:nvPicPr>
        <p:blipFill>
          <a:blip r:embed="rId2"/>
          <a:stretch/>
        </p:blipFill>
        <p:spPr>
          <a:xfrm>
            <a:off x="5072040" y="1214280"/>
            <a:ext cx="3500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Содержимое 4" descr="P1300013.JPG"/>
          <p:cNvPicPr/>
          <p:nvPr/>
        </p:nvPicPr>
        <p:blipFill>
          <a:blip r:embed="rId1"/>
          <a:stretch/>
        </p:blipFill>
        <p:spPr>
          <a:xfrm>
            <a:off x="1143000" y="642960"/>
            <a:ext cx="3429000" cy="478620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5" descr="P1300014.JPG"/>
          <p:cNvPicPr/>
          <p:nvPr/>
        </p:nvPicPr>
        <p:blipFill>
          <a:blip r:embed="rId2"/>
          <a:stretch/>
        </p:blipFill>
        <p:spPr>
          <a:xfrm>
            <a:off x="4857840" y="1143000"/>
            <a:ext cx="3943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4280" y="15001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Тест тревожности.</a:t>
            </a:r>
            <a:br>
              <a:rPr sz="4000"/>
            </a:br>
            <a:r>
              <a:rPr b="1" lang="ru-RU" sz="2900" spc="-1" strike="noStrike">
                <a:solidFill>
                  <a:srgbClr val="572314"/>
                </a:solidFill>
                <a:latin typeface="Corbel"/>
              </a:rPr>
              <a:t>Авторы: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 Р. Тэммл, М.Дорки, В.Амен</a:t>
            </a:r>
            <a:br>
              <a:rPr sz="16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3920" y="428760"/>
            <a:ext cx="77202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сследование тревожности ребенка по отношению к ряду типичных для него жизненных ситуаций общения с другими людь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ревожность рассматривается как вид эмоционального состояния, функция которого состоит в обеспечении безопасности субъекта на личностном уровне. Тревожность, испытываемая человеком по отношению к определенной ситуации, зависит от его отрицательного эмоционального опыта в этой и подобных ей ситуациях. Повышенный уровень тревожности свидетельствует о недостаточной эмоциональной приспособленности ребенка к тем или иным социальным ситуациям. Экспериментальное определение степени тревожности раскрывает внутреннее отношение ребенка к определенной ситуации, дает косвенную информацию о характере взаимоотношений ребенка со сверстниками и взрослыми в семье, детском саду, шко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Содержимое 4" descr="test_amen-010.gif"/>
          <p:cNvPicPr/>
          <p:nvPr/>
        </p:nvPicPr>
        <p:blipFill>
          <a:blip r:embed="rId1"/>
          <a:stretch/>
        </p:blipFill>
        <p:spPr>
          <a:xfrm>
            <a:off x="357120" y="0"/>
            <a:ext cx="2214720" cy="38178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5" descr="test_amen-030.gif"/>
          <p:cNvPicPr/>
          <p:nvPr/>
        </p:nvPicPr>
        <p:blipFill>
          <a:blip r:embed="rId2"/>
          <a:stretch/>
        </p:blipFill>
        <p:spPr>
          <a:xfrm>
            <a:off x="2643120" y="3133800"/>
            <a:ext cx="2214720" cy="33336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test_amen-200.gif"/>
          <p:cNvPicPr/>
          <p:nvPr/>
        </p:nvPicPr>
        <p:blipFill>
          <a:blip r:embed="rId3"/>
          <a:stretch/>
        </p:blipFill>
        <p:spPr>
          <a:xfrm>
            <a:off x="4429080" y="0"/>
            <a:ext cx="2000160" cy="33336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7" descr="test_amen-220.gif"/>
          <p:cNvPicPr/>
          <p:nvPr/>
        </p:nvPicPr>
        <p:blipFill>
          <a:blip r:embed="rId4"/>
          <a:stretch/>
        </p:blipFill>
        <p:spPr>
          <a:xfrm>
            <a:off x="6443640" y="2405160"/>
            <a:ext cx="241452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000080" y="356760"/>
            <a:ext cx="77868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спытуемые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дети 4 -7 лет с нормальным развитием и с отклонениями в психическом развит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кспериментальный материал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едставляет собой 14 рисунков размером 8.5 х 11см.. Каждый рисунок представляет некоторую типичную для жизни ребенка – дошкольника (или младшего школьника) ситуац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тод предъявл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исунки предъявляются ребенку экспериментатором в строго перечисленном порядке один за другим. Беседа проходит в отдельной комнат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71360" y="285480"/>
            <a:ext cx="786276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Игра с младшими детьми (Ребенок играет с двумя малышам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2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Ребенок и мать с младенцем ( Ребенок идет рядом с матерью, которая везет коляску с младенцем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3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Объект агрессии (Ребенок убегает от нападающего на него сверстника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4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евание (Ребенок сидит на стуле и  обувает ботинк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5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Игра  со старшими детьми (Ребенок играет с двумя старшими детьм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6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Укладывание спать в одиночестве (Ребенок идет к своей кроватке, родители сидят в кресле спиной к нему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7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Умывание (Ребенок умывается в ванной комнате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8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Выговор (Мать, подняв указательный палей, строго выговаривает ребенку за что – то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9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Игнорирование (Отец играет с малышом; ребенок стоит в одиночестве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0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Агрессивное нападение (Сверстник отбирает у ребенка игрушку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1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Собирание игрушек (Мать и ребенок собирают игрушк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2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Изоляция (Двое сверстников убегают от ребенка, стоящего в одиночестве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3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Ребенок с родителями (Ребенок стоит между матерью и отцом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ис.14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Еда в одиночестве (Ребенок один сидит за столом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бразец протокола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43000" y="316080"/>
          <a:ext cx="7643880" cy="6411600"/>
        </p:xfrm>
        <a:graphic>
          <a:graphicData uri="http://schemas.openxmlformats.org/drawingml/2006/table">
            <a:tbl>
              <a:tblPr/>
              <a:tblGrid>
                <a:gridCol w="2143080"/>
                <a:gridCol w="2714760"/>
                <a:gridCol w="1357200"/>
                <a:gridCol w="1428840"/>
              </a:tblGrid>
              <a:tr h="213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мя: Николай                                  Возраст: 6 лет                  Дата:10.1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еселое 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чальное 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а с младшими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бенок и мать с младенцем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-------------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ъект агресс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чет ударить его стулом. У него грустное лиц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де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пойдет гуля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Игра  со старшими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игра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кладывание спать в одиноч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всегда беру спать игруш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Умы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Выгово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 его руга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Игнорир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весел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Агрессивное напа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него грустное лицо, потому что отбирают игрушк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обирание игруш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альное, потому что мама заставляет его, а он не хоч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Изоля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от него убегаю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Ребенок с родител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фотографируютс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Еда в одиночест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ое лицо, он же куша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00080" y="285480"/>
            <a:ext cx="79344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нализ данны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едлагаемые рисунки изображают типичные ситуации, отличающиеся по своей эмоциональной окраск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к, рис.1 (Игра с младшими детьми), рис.5 (Игра со старшими детьми) и рис.13 (Ребенок с родителями) имеют положительную эмоциональную окраску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с.3 (Объект агрессии), рис.8 (Выговор), рис.10 (Агрессивное нападение) и рис.12 (Изоляция) имеют отрицательную эмоциональную окраску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с.2 (Ребенок и мать с младенцем), рис.4 (Одевание), рис.6 (Укладывание спать в одиночестве), рис.7 (Умывание), рис.9 (Игнорирование), рис.11 (Уборка игрушек) и рис.14 (Еда в одиночестве) имеют двойной смыс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усмысленные рисунки несут основную «проективную нагрузку» - то, какой эмоциональный смысл придает им ребенок, указывает на его мироощущение и нормальный или травмирующий опыт обще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токолы каждого ребенка подвергаются качественному и количественному анализ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28800" y="356760"/>
            <a:ext cx="80056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чественный анализ.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аждый ответ ребенка анализируется отдельно. Делаются выводы относительно возможного характера эмоционального опыта ребенка в данной  (и подобной ей) ситуации. Особенно высоким проективным значением обладают рисунки 4 (Одевание), 6 (Укладывание спать в одиночестве) и 14 (Еда в одиночестве): дети, делающие в этих ситуациях отрицательный эмоциональный выбор, с высокой степенью вероятности будут обладать наивысшим ИТ: дети, делающие отрицательные эмоциональные выборы в ситуациях 2 (Ребенок и мать с младенцем), 7 (Умывание), 9 (Игнорирование) и 11 (Уборка игрушек) с большей вероятностью будут обладать высоким или средним И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ибольший уровень тревожности проявляется в ситуациях, моделирующих отношения «ребенок – ребенок» (Игра с младшими детьми. Объект агрессии. Игра со старшими детьми. Агрессивное нападение. Изоляция).Здесь имеет место наибольшее число отрицательных эмоциональных выборов, причем старшие дети (5 – 7 лет) проявляют уровень тревожности выше, чем младшие. Значительно ниже уровень тревожности в рисунках, моделирующих отношения «ребенок – взрослый» (Ребенок и мать с младенцем. Выговор. Игнорирование. Ребенок с родителями) и в ситуациях, моделирующих повседневные действия (Одевание. Укладывание спать в одиночестве. Умывание. Уборка игрушек. Еда в одиночестве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Примечание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Валидизация методики показала высокий уровень ее внешней валидности. Уровень тревожности, определяемый на основании методики, высоко коррелирует с уровнем тревожности, полученным на основании отзывов воспитателей и учителей начальных классов (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= 0.56), надежность методики также весьма значительна (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= 0.42)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56800" y="356760"/>
            <a:ext cx="80773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– выявление уровня готовности детей к обучению в школ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едъявляемые задания позволяют оценить уровень сформированности предпосылок к учебной деятельности: возможности работать в соответствии с фронтальной инструкцией, умения самостоятельно действовать по образцу и осуществлять контроль, обладать определенным уровнем работоспособности, а также вовремя остановиться в выполнении того или иного задания и переключиться на выполнение следующего. Таким образом оценивается сформированность регуляторного компонента деятельности в цело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ледует отметить, что выделение произвольной регуляции собственной деятельности как первостепенной составляющей готовности ребенка к началу обучения является основой данной программы, принципиальной позицией авторов (</a:t>
            </a: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Н.Я. Семаго, М.М. Семаг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2001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 другой стороны, задания позволяют оценить сформированность операций звукобуквенного анализа, соотнесение числа и количества, сформированность представлений «больше–меньше» — то есть собственно предпосылки к учебной деятельности, формирование которых происходит уже во время пребывания ребенка в старшей и подготовительной группах дошкольного учреждения. Задания №№ 2, 3 показывают в первую очередь усвоение ребенком программы подготовительной группы или даже специальной подготовки к школе, которая практикуется в большинстве дошкольных образовательных учреждений. И существенно реже — готовность самого ребенка к началу регулярного обуче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оличественный анали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 основании данных протокола вычисляется индекс тревожности ребенка (ИТ), который равен процентному отношению числа эмоционально – негативных выборов (печальное лицо) к общему числу рисунков (14)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Т=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число эмоционально – негативных выборо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*100%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 ИТ дети в возрасте от 3.5 до 7 лет подразделяются на 3 групп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) Высокий уровень тревожности (ИТ выше 50%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) Средний уровень тревожности (ИТ от 20% до 50%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) Низкий уровень тревожности (ИТ от 0% до 20%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/ 14 * 100%= 7.1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2/ 14 * 100%= 14.2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3/ 14 * 100%= 21.4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4/ 14 * 100%= 28.5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5/ 14 * 100%= 35.7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6/ 14 * 100%= 42.8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7/ 14 * 100%= 50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8/ 14 * 100%= 57.1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9/ 14 * 100%= 64.2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0/ 14 * 100%= 71.4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1/ 14 * 100%= 78.5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2/ 14 * 100%= 85.7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3/ 14 * 100%= 92.8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Т= 14/ 14 * 100%= 100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4280" y="1000080"/>
            <a:ext cx="7499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Методика «Лесенка»</a:t>
            </a:r>
            <a:br>
              <a:rPr sz="40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Автор: В.Г. Щур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142640" y="356760"/>
            <a:ext cx="77914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ая методика разработана В.Г. Щур и предназначена для выявления системы представлений ребенка о том, как он оценивает себя сам, как, по его мнению, его оценивают другие люди и как соотносятся эти представления между соб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Цель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пределить особенности самооценки ребенка (как общего отношения к себе) и представлений ребенка о том, как его оценивают другие люд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Материал и 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деревянная (или нарисованная) лесенка с семью ступеньками, фигурка человечка, лист бумаги, карандаш (ручк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Documents and Settings\Admin\Мои документы\МОЕ\Диагностические методики\Экспресс диагостика Павлова Руденко\Дидактический материал\18.jpg"/>
          <p:cNvPicPr/>
          <p:nvPr/>
        </p:nvPicPr>
        <p:blipFill>
          <a:blip r:embed="rId1"/>
          <a:stretch/>
        </p:blipFill>
        <p:spPr>
          <a:xfrm>
            <a:off x="1500120" y="1571760"/>
            <a:ext cx="3000600" cy="42433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7" descr="i.jpeg"/>
          <p:cNvPicPr/>
          <p:nvPr/>
        </p:nvPicPr>
        <p:blipFill>
          <a:blip r:embed="rId2"/>
          <a:stretch/>
        </p:blipFill>
        <p:spPr>
          <a:xfrm>
            <a:off x="1357200" y="357120"/>
            <a:ext cx="35006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000080" y="285840"/>
            <a:ext cx="7934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цедура исслед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етодика проводится индивидуально. Процедура исследования представляет собой беседу с ребенком с использованием определенной шкалы оценок, на которой он сам помещает себя и предположительно определяет то место, куда его поставят другие люд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еседа с ребенком начинается с непринужденного разговора о составе его семьи, о его близких родственниках, о друзьях и т.д. Затем экспериментатор показывает деревянную лесенку, на которой от центральной площадки идут три ступеньки вверх и три вниз. (В модифицированном варианте методики аналогичная лесенка рисуется экспериментатором на листе бумаги). При этом ребенку дается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инструкция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«Посмотри на эту лесенку. Если рассадить на ней всех детей, то на самой верхней ступеньке окажутся самые хорошие ребята, ниже – просто хорошие, затем – средние, но еще хорошие дети. Соответственно распределены и плохие дети, т. е. на самой нижней ступеньке – самые плохие и т. д.». После этого ребенку дается фигурка человечка (можно использовать фигурки мальчика или девочки, в зависимости от пола ребенка). Экспериментатор просит поставить эту фигурку на ту ступеньку, которой сам ребенок, по его мнению, соответствует: «Куда ты сам (сама) себя поставишь?» При этом обязательно выясняется, почему ребенок выбрал именно данную ступеньку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000080" y="356760"/>
            <a:ext cx="793440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тем ребенку предлагают поместить фигурку на ту ступеньку, куда, по его мнению, его поставит мама, а также другие близкие взрослые: «Как ты думаешь, на какую ступеньку тебя поставит мама? Почему ты так считаешь?» Далее в зависимости от состава семьи,  значимого окружения задаются примерно следующие вопросы: «Куда тебя поставят папа, бабушка, дедушка, брат, сестра, друг, учительница? Куда мама и папа поставят братика или сестренку?» Во всех случаях психолог просит ребенка дать пояснения своему выбору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бенка также спрашивают о том, кто поставит его на самую верхнюю ступеньку (особенно если он по каким-либо причинам считает, что мама его туда не поставит), и кто – на самую нижнюю ступеньку. Помимо этих основных вопросов с ребенком ведется подробная беседа о том, почему он считает так, а не иначе, и какие у него отношения с разными людь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 мере ответов ребенка психолог фиксирует названные позиции (в варианте нарисованной лесенки это можно делать прямо на ее ступеньках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еседа с одним ребенком занимает примерно 20-30 мину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71360" y="428760"/>
            <a:ext cx="7862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адекватно завышенная самооцен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раздумывая, ставит себя на самую высокую ступеньку; считает, что мама оценивает его также; аргументируя свой выбор, ссылается на мнение взрослого: «Я хороший. Хороший и больше никакой, это мама так сказала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вышенная самооцен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ле некоторых раздумий и колебаний ставит себя на самую высокую ступеньку, объясняя свои действия, называет какие-то свои недостатки и промахи, но объясняет их внешними, независящими от него, причинами, считает, что оценка взрослых в некоторых случаях может быть несколько ниже его собственной: «Я, конечно, хороший, но иногда ленюсь. Мама говорит, что я неаккуратный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Адекватная самооценк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думав задание, ставит себя на 2-ю или 3-ю ступеньку, объясняет свои действия, ссылаясь на реальные ситуации и достижения, считает, что оценка взрослого такая же либо несколько ниж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бработка и анализ результатов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ниженная самооценк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авит себя на нижние ступеньки, свой выбор не объясняет либо ссылается на мнение взрослого: «Мама так сказала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 ребенок ставит себя на среднюю ступеньку, это может говорить о том, что он либо не понял задание, либо не хочет его выполнят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ти с заниженной самооценкой из-за высокой тревожности и неуверенности в себе часто отказываются выполнять задание, на все вопросы отвечают: «Не знаю»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ти с задержкой развития не понимают и не принимают это задание, действуют наобум.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адекватно завышенная самооценка свойственна детям младшего и среднего дошкольного возраста: они не видят своих ошибок, не могут правильно оценить себя, свои поступки и действ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1428840"/>
            <a:ext cx="749952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Методика «Оценка мотивационной готовности» 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(Д. В. Солдатов)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42600" y="428400"/>
            <a:ext cx="80154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БЩИЕ ТРЕБОВАНИЯ К ПРОВЕДЕНИЮ ФРОНТАЛЬНОГО ОБСЛЕ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пециалист (педагог или психолог) работает с группой детей, состоящей не более чем из 12–15 человек. Дети рассаживаются за партой по одному. Каждому ребенку дается подписанный бланк с заданиями, два простых карандаша мягкости «М» без ластика и один цветной карандаш. Третье и четвертое задания при объяснении частично рисуются на доске. Инструкция подается короткими предложениями, четко, внятно и не быстро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142640" y="356760"/>
            <a:ext cx="77914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Стимульный материал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данного теста представляет собой комплект из 9 карточек с сюжетными рисунками: 3 кар­точки с сюжетами обучения, 3 карточки с сюжетами трудовых действий и 3 карточки с игровыми сюжет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цедура тестирования.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ложите перед ребенком все карточк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ри ряда, но так, чтобы в каждом ряду оказались изображения всех трех видов сюжетов. Предложите ему следующее задание: «Посмотри, пожалуйста, на эти картинки и выбери ту, где нарисовано занятие, которым ты хотел бы сейчас заниматься». Выбранная картинка откладывается в сторону, а ребенку предлагается сделать выбор из оставшихся еще два раза. Таким образом, определяются предпочтительные виды деятельности, к которым ваш ребенок мотивационно гот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142640" y="428760"/>
            <a:ext cx="779148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ле этого инструкция меняется. Перед ребенком лежат уже не девять, а шесть оставшихся карточек. Предложите ребенку выбрать среди них те изоб­ражения, где нарисовано то, чем ребенок не хочет заниматься: «А теперь по­кажи мне то, чем бы ты совсем не хотел заниматься». Выбранная карточка от­кладывается, а ребенку предлагается сделать такой же выбор еще два раза. Подобный отрицательный выбор определяет те виды деятельности, которые вашего ребенка в настоящее время не интересуют. В заключение из оставших­ся трех изображений детских действий предложите своему ребенку выбрать одно с предпочтительным видом деятельности, а затем одно — с отрицаемым видом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конце всей процедуры карточки должны быть разложены на три груп­пы: в первой группе — четыре с предпочитаемыми видами деятельности, во второй группе — четыре с отрицаемыми видами деятельности 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реть­ей — одна, оставшаяся не выбранн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3" descr="4-23.jpg"/>
          <p:cNvPicPr/>
          <p:nvPr/>
        </p:nvPicPr>
        <p:blipFill>
          <a:blip r:embed="rId1"/>
          <a:stretch/>
        </p:blipFill>
        <p:spPr>
          <a:xfrm>
            <a:off x="642960" y="428760"/>
            <a:ext cx="4257720" cy="39290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4-23`1.jpg"/>
          <p:cNvPicPr/>
          <p:nvPr/>
        </p:nvPicPr>
        <p:blipFill>
          <a:blip r:embed="rId2"/>
          <a:stretch/>
        </p:blipFill>
        <p:spPr>
          <a:xfrm>
            <a:off x="4857840" y="1285920"/>
            <a:ext cx="3911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856800" y="428760"/>
            <a:ext cx="80773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Обработка результатов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личественной обработке — суммарному подсчету — подлежат карточки с изображениями предпочитаемых видов деятельности. Так, каждая карточка с сюжетом учебной деятельности оценивается в 2 балла, каждая карточка с изображением трудовой деятельности — в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 балл и, наконец, игровой — 0 баллов. Таким образом, максимально возможное число баллов равно 7, а минимальное, которое ребенок теоретически может набрать, равно 0 бал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071360" y="428760"/>
            <a:ext cx="786276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пираясь на результаты многочисленных исследований, принятым критерием хорошей мотивационной готовности к учебной деятельности считается сумма,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авная 4—5 баллам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количество баллов превышает этот критический рубеж, то ваш ребенок имеет вполне сформированную готовность к обучению в шко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случае сниженной готовности — когда сумма баллов попадает в диапазон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т 1 до 3 — от ребенка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первые же месяцы школьной жизни можно ожидать проявления нежелания ходить в школу, учиться на уроках. При возникновении подобной ситуации вам необходимо активизировать усилия по формированию произвольности поведения ребенка и улучшения его работоспособности, а также заранее познакомить его (читать соответ­ствующую художественную литературу, рассказывать, объяснять) со спецификой школьной жизни и значением обучения в школе для дальнейшей его жиз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991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исуночная методика</a:t>
            </a:r>
            <a:br>
              <a:rPr sz="4300"/>
            </a:b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“Что тебе нравится в школе”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071360" y="285480"/>
            <a:ext cx="7862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нализ детских рисунков на тему: “Что тебе нравится в школе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Рисуночные методики с успехом используются для диагностики проблем, возникающих у детей с поступлением в школу. Эти методики, как никакие другие, позволяют выявить тревожность, негативное отношение к школе. Вот некоторые аспекты оценки рисунков на тему “Что тебе нравится в школе?”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соответствие теме указывает н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сутствие школьной мотивации и преобладание других мотивов, чаще всего игровых. На таких рисунках ребята изображают свои игрушки, дом, домашних любимцев, узоры. Это свидетельствует о мотивационной неготовности ребенка к школьному обучению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тский негативизм. Если ребенок категорически отказывается рисовать на заданную тему и рисует то, что он хорошо умеет рисовать, то это может свидетельствовать как о завышенных притязаниях, так и о возможных трудностях, которые могут возникнуть у него при выполнении школьных требован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верное понимание и толкование поставленной задачи. В этом случае ребенок вообще ничего не рисует или пытается “подсмотреть” у соседа. Такое поведение, по мнению психологов, свойственно ребятам с задержкой психического развит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928800" y="285480"/>
            <a:ext cx="800568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несоответствии рисунка заданной теме при подведении итогов за     рисунок проставляетс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0 бал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ответствие заданной теме свидетельствует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целом о том, что ребенок испытывает положительное отношение к школе. Но здесь есть несколько нюансов, которые связаны с сюжетами, выбранными ребятами для своих рисунк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Учебн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На таких рисунках ребята изображают фрагменты урока, учеников за партами, себя у доски и т.д. Это свидетельствует о высокой школьной мотивации. При количественной оценке таким рисункам проставляетс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30 балл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итуация неучебного характера, но, так или иначе, связана со школой. Дети рисуют школьный двор, школьное здание, школьный автобус, школьный музей и т.д. Такие рисунки характерны для детей с положительным отношением к школе, но на первый план у них выступает внешняя атрибутика. Для них очень важен статус ученика,  т.е. пока на первый план выступают социальные мотивы, которые при умелом воздействии со стороны учителя и родителей вполне могут перерасти в познавательные. Количественная оценка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0 бал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28800" y="428760"/>
            <a:ext cx="800568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ситуации, связанные со школой. На таких рисунках изображены  игры на переменах, игрушки и другие предметы, непосредственно не относящиеся к учебе, находящиеся в классе. Такие рисунки характерны для детей с положительным отношением к школе, но преобладающей игровой мотивацией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ая оцен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0 бал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2" descr="PB120001.JPG"/>
          <p:cNvPicPr/>
          <p:nvPr/>
        </p:nvPicPr>
        <p:blipFill>
          <a:blip r:embed="rId1"/>
          <a:stretch/>
        </p:blipFill>
        <p:spPr>
          <a:xfrm>
            <a:off x="1214280" y="285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PB120002.JPG"/>
          <p:cNvPicPr/>
          <p:nvPr/>
        </p:nvPicPr>
        <p:blipFill>
          <a:blip r:embed="rId2"/>
          <a:stretch/>
        </p:blipFill>
        <p:spPr>
          <a:xfrm>
            <a:off x="4786200" y="3429000"/>
            <a:ext cx="4015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Лист наблюдений за поведением детей в процессе группового обследован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46200" y="5221440"/>
          <a:ext cx="6095880" cy="182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ое учреждение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следования 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00040" y="1643040"/>
          <a:ext cx="8215200" cy="314316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173240"/>
                <a:gridCol w="1173240"/>
                <a:gridCol w="1172880"/>
                <a:gridCol w="1175040"/>
                <a:gridCol w="1172880"/>
              </a:tblGrid>
              <a:tr h="24638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ребенка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а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ется   в дополнительной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л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орможен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шает другим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523880" y="3319560"/>
          <a:ext cx="6096240" cy="218880"/>
        </p:xfrm>
        <a:graphic>
          <a:graphicData uri="http://schemas.openxmlformats.org/drawingml/2006/table">
            <a:tbl>
              <a:tblPr/>
              <a:tblGrid>
                <a:gridCol w="2989440"/>
                <a:gridCol w="3106800"/>
              </a:tblGrid>
              <a:tr h="218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и наблюдение проводил(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Rectangle 1"/>
          <p:cNvSpPr/>
          <p:nvPr/>
        </p:nvSpPr>
        <p:spPr>
          <a:xfrm>
            <a:off x="0" y="0"/>
            <a:ext cx="914400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-35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3" descr="PB090207.JPG"/>
          <p:cNvPicPr/>
          <p:nvPr/>
        </p:nvPicPr>
        <p:blipFill>
          <a:blip r:embed="rId1"/>
          <a:stretch/>
        </p:blipFill>
        <p:spPr>
          <a:xfrm>
            <a:off x="1071720" y="357120"/>
            <a:ext cx="4071960" cy="28875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2" descr="PB090213.JPG"/>
          <p:cNvPicPr/>
          <p:nvPr/>
        </p:nvPicPr>
        <p:blipFill>
          <a:blip r:embed="rId2"/>
          <a:stretch/>
        </p:blipFill>
        <p:spPr>
          <a:xfrm>
            <a:off x="4500720" y="3357720"/>
            <a:ext cx="42145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00080" y="356760"/>
            <a:ext cx="793440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ективная методика: «Рисунок школы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определение отношения ребенка к школе и уровня школьной тревож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нструкц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Ребенку дают лист А4, цветные карандаши и просят: «Здесь на листе бумаги нарисуй школу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седа, уточняющие вопросы о нарисованном, комментарии записываются на обратной стороне рисун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00080" y="428760"/>
            <a:ext cx="79344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работка результат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моциональное отношение к школе и учению оценивается по 3 показателям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) цветовая гамм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) линия и характер рисунк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) сюжет рисун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анализе рисунка по каждому из этих показателей выставляется балльная оценка, затем баллы складываютс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1) Цветовая гамм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 балла – в рисунке преобладают яркие, чистые, светлые тона и их сочетания (желтый, светло-зеленый, голубой, т.д.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0 баллов – рисунок выполнен в темных тонах (темно-коричневый, темно-зеленый, черный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 балл – в равной степени присутствуют светлые и темные то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000080" y="285480"/>
            <a:ext cx="79344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2) Линия и характер рисунк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 балла – объекты прорисованы тщательно и аккуратно; используются длинные, сложные линии различной толщины, нет «разрывов» конту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0 баллов – объекты изображены нарочито небрежно, схематично; линии двойные, прерывающиеся, одинаковой длины и толщины, слабая ли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 балл – в рисунке присутствуют обе характеристи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3) Сюжет рисунк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 балла – симметричное изображение (рисунок школы занимает центральное место на листе); наличие деталей и украшений, элементов декорирования, изображение различных предметов, оживляющих пейзаж (цветы, деревья, плакаты, флаги, занавески на окнах, др.); изображение детей, идущих в школу или сидящих за партами, учителя и «процесса учения»; время года – весна, лето (солнце, нет туч); изображение светлого времени суто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0 баллов – ассиметричность рисунка; отсутствие деталей и украшений; отсутствие людей или изображение детей, уходящих из школы; время года – осень, зима (темное небо, идет дождь или снег); время суток – ночь или вече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 балл – обе характеристики присутствую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142640" y="428760"/>
            <a:ext cx="779148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нализ результа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-5 баллов – у ребенка сложилось эмоционально благополучное отношение к школе и учению, он готов к принятию учебных задач и взаимодействию с учителе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-2 балла – у ребенка есть некоторая тревога по поводу школьного обучения как незнакомой для него ситуации, необходимо расширить круг его знаний и представлений о школьно-учебной деятельности, формировать положительное отношение к учителю и одноклассникам; причинами тревог может быть нервозность и необдуманные высказывания взрослых, негативный опыт обучения в школе старших де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-0 баллов – у ребенка явно выраженный страх перед школой, часто это приводит к неприятию учебных задач и отказу от учебной деятельности, трудностям в общении с учителем и одноклассник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ьрьрп.jpeg"/>
          <p:cNvPicPr/>
          <p:nvPr/>
        </p:nvPicPr>
        <p:blipFill>
          <a:blip r:embed="rId1"/>
          <a:stretch/>
        </p:blipFill>
        <p:spPr>
          <a:xfrm>
            <a:off x="2371680" y="1517760"/>
            <a:ext cx="49132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Задание № 1. «Продолжи узор»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 Оценка особенностей тонкой моторики и произвольного внимания (удержание как самой инструкции, так и двигательной программы), умения работать самостоятельно в режиме фронтальной инструкци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а бланке приведены образцы двух узоров, которые ребенок должен продолжить до конца листа, не отрывая карандаша от листа бумаг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ециалист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ни в коем случае не долже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при обращении внимания детей на узоры каким бы то ни было образом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называть элементы узоров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: «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похоже на П, Л», «большое М и маленькое Л»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и тому подобное. Такое грубое упрощение задания приводит к невозможности адекватной оценки выполнения поставленных целей задания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дание №2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1071720"/>
            <a:ext cx="78627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Оценка сформированности навыков пересчета в пределах 9, соотнесение цифры (графемы) и количества изображенных фигур. Оценка моторных навыков при изображении цифр. Определение сформированности понятия «больше—меньше» в ситуации «конфликтного» расположения элементов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Инструкция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Все нашли задание номер 2? Сосчитайте, сколько кружков нарисовано на листе, и напишите цифру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следует показ — где на бланке следует написать соответствующую цифру, обозначающую количество кружков)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, сколько квадратов нарисова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следует показ — где на бланке следует написать соответствующую цифру)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 и напишите число квадратиков. Поставьте цветным карандашом точку или галочку там, где фигур больше. Берите простой карандаш и начинайте работать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задание можно спокойно повторить дважды (разумеется, всей группе детей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Задание № 3. «Слова»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Цел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 Оценка сформированности у ребенка звукового и звукобуквенного анализа материала, подаваемого на слух, сформированность графической деятельности (в частности, написания графем), произвольная регуляция собственной деятельност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Для выполнения этого задания необходима предварительная ориентировка дете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ециалист на доске рисует четыре квадратика, расположенных рядом по горизонтали. Во время подачи инструкции он проставляет буквы в соответствующие квадраты, показывая детям, как следует ставить буквы (или знаки) в квадраты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5-1"/>
          <p:cNvPicPr/>
          <p:nvPr/>
        </p:nvPicPr>
        <p:blipFill>
          <a:blip r:embed="rId1"/>
          <a:stretch/>
        </p:blipFill>
        <p:spPr>
          <a:xfrm>
            <a:off x="2928960" y="857160"/>
            <a:ext cx="3814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6-08T07:00:24Z</dcterms:modified>
  <cp:revision>34</cp:revision>
  <dc:subject/>
  <dc:title>ПСИХОЛОГО-ПЕДАГОГИЧЕСКАЯ ОЦЕНКА ГОТОВНОСТИ К НАЧАЛУ  ШКОЛЬНОГО ОБУЧЕНИЯ Н.Я. Семаго, М.М. Семаго, 2001). </dc:title>
</cp:coreProperties>
</file>