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6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applause.wav" ContentType="audio/x-wav"/>
  <Override PartName="/ppt/media/image10.jpeg" ContentType="image/jpeg"/>
  <Override PartName="/ppt/media/image2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media/wind.wav" ContentType="audio/x-wav"/>
  <Override PartName="/ppt/media/image1.png" ContentType="image/png"/>
  <Override PartName="/ppt/media/image13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76B9-08E6-47C4-B82B-721CEF9F9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кнуть по карти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6E3B-4CA9-4CE3-8DEB-214994C5F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кнуть  мышкой - появится первый вопрос. Затем щелкаем по цифрам.  Есть музыкальное сопров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C273-E853-4E1D-ACF7-3D3178964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F3CD-0A9F-4EB4-8D4A-F81606875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4984-CD98-4A37-90CD-6B4504CF3D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4A5-1CE5-4F6A-B7CC-C7077E0B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76A-5BB0-4F0F-9A75-CFD51FDA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1E5-95CA-4928-849C-52F88EAA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AD1-E3DA-4E26-AF8B-BB5F5FF6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CE0-636D-4A24-9B66-B030B460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281-9E7A-4074-957C-E149C577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5B5-6CFC-4B45-843B-6A4D387C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454-B4A3-4AB8-9014-0C580698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B6E-2B36-4CA8-83CD-97831031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AC3-D3DF-404C-827D-5F8DF226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FC9-F74E-45F3-AE1A-0D6C01D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863-88AF-419D-ABFD-40BE5AC4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2647-E96C-4452-8502-8E08EF672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3.jpeg"/><Relationship Id="rId4" Type="http://schemas.openxmlformats.org/officeDocument/2006/relationships/image" Target="../media/image3.png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5.jpe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6.jpe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1187280" y="2997360"/>
            <a:ext cx="691200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3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"Серебряное  копытце"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4" descr="ramka023"/>
            <p:cNvPicPr/>
            <p:nvPr/>
          </p:nvPicPr>
          <p:blipFill>
            <a:blip r:embed="rId1">
              <a:lum bright="1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7"/>
            <p:cNvSpPr/>
            <p:nvPr/>
          </p:nvSpPr>
          <p:spPr>
            <a:xfrm>
              <a:off x="1258920" y="5373720"/>
              <a:ext cx="74883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WordArt 9"/>
          <p:cNvSpPr txBox="1"/>
          <p:nvPr/>
        </p:nvSpPr>
        <p:spPr>
          <a:xfrm>
            <a:off x="1332000" y="1557360"/>
            <a:ext cx="65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25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.П. Бажов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908000" y="486900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ьникова Н.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330"/>
          <p:cNvSpPr txBox="1"/>
          <p:nvPr/>
        </p:nvSpPr>
        <p:spPr>
          <a:xfrm>
            <a:off x="1785960" y="1143000"/>
            <a:ext cx="5572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рочитай отрыво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 иллюстрации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pic>
        <p:nvPicPr>
          <p:cNvPr id="88" name="Picture 2" descr="C:\Documents and Settings\UserXP\Мои документы\Мама картинки1\БАЖОВ\122.jpeg"/>
          <p:cNvPicPr/>
          <p:nvPr/>
        </p:nvPicPr>
        <p:blipFill>
          <a:blip r:embed="rId2"/>
          <a:stretch/>
        </p:blipFill>
        <p:spPr>
          <a:xfrm>
            <a:off x="857160" y="1000080"/>
            <a:ext cx="74296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30"/>
          <p:cNvSpPr txBox="1"/>
          <p:nvPr/>
        </p:nvSpPr>
        <p:spPr>
          <a:xfrm>
            <a:off x="1785960" y="1143000"/>
            <a:ext cx="5572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рочитай отрыво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 иллюстрации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pic>
        <p:nvPicPr>
          <p:cNvPr id="91" name="Picture 2" descr="C:\Documents and Settings\UserXP\Мои документы\Мама картинки1\БАЖОВ\Новая папка\serebryanoe-k.jpg"/>
          <p:cNvPicPr/>
          <p:nvPr/>
        </p:nvPicPr>
        <p:blipFill>
          <a:blip r:embed="rId2"/>
          <a:stretch/>
        </p:blipFill>
        <p:spPr>
          <a:xfrm>
            <a:off x="1357200" y="1000080"/>
            <a:ext cx="6397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330"/>
          <p:cNvSpPr txBox="1"/>
          <p:nvPr/>
        </p:nvSpPr>
        <p:spPr>
          <a:xfrm>
            <a:off x="1785960" y="1143000"/>
            <a:ext cx="5572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рочитай отрыво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 иллюстрации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pic>
        <p:nvPicPr>
          <p:cNvPr id="94" name="Picture 2" descr="C:\Documents and Settings\UserXP\Мои документы\Мама картинки1\БАЖОВ\scrt627-3.jpg"/>
          <p:cNvPicPr/>
          <p:nvPr/>
        </p:nvPicPr>
        <p:blipFill>
          <a:blip r:embed="rId2"/>
          <a:stretch/>
        </p:blipFill>
        <p:spPr>
          <a:xfrm>
            <a:off x="857160" y="1000080"/>
            <a:ext cx="74296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ramka02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330"/>
          <p:cNvSpPr txBox="1"/>
          <p:nvPr/>
        </p:nvSpPr>
        <p:spPr>
          <a:xfrm>
            <a:off x="1785960" y="1143000"/>
            <a:ext cx="5572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рочитай отрыво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 иллюстрации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grpSp>
        <p:nvGrpSpPr>
          <p:cNvPr id="97" name="Группа 5"/>
          <p:cNvGrpSpPr/>
          <p:nvPr/>
        </p:nvGrpSpPr>
        <p:grpSpPr>
          <a:xfrm>
            <a:off x="917640" y="1000080"/>
            <a:ext cx="7369200" cy="4853160"/>
            <a:chOff x="917640" y="1000080"/>
            <a:chExt cx="7369200" cy="4853160"/>
          </a:xfrm>
        </p:grpSpPr>
        <p:pic>
          <p:nvPicPr>
            <p:cNvPr id="98" name="Picture 3" descr="C:\Documents and Settings\UserXP\Мои документы\Мама картинки1\БАЖОВ\09labelan1235221282.jpg"/>
            <p:cNvPicPr/>
            <p:nvPr/>
          </p:nvPicPr>
          <p:blipFill>
            <a:blip r:embed="rId2"/>
            <a:stretch/>
          </p:blipFill>
          <p:spPr>
            <a:xfrm>
              <a:off x="917640" y="1000080"/>
              <a:ext cx="3796920" cy="485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C:\Documents and Settings\UserXP\Мои документы\Мама картинки1\БАЖОВ\09labelan1235221282.jpg"/>
            <p:cNvPicPr/>
            <p:nvPr/>
          </p:nvPicPr>
          <p:blipFill>
            <a:blip r:embed="rId3"/>
            <a:stretch/>
          </p:blipFill>
          <p:spPr>
            <a:xfrm>
              <a:off x="4714560" y="1000080"/>
              <a:ext cx="3572280" cy="485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ramka02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UserXP\Мои документы\Мама картинки1\БАЖОВ\Новая папка\Рисунок6.jpg"/>
          <p:cNvPicPr/>
          <p:nvPr/>
        </p:nvPicPr>
        <p:blipFill>
          <a:blip r:embed="rId2"/>
          <a:stretch/>
        </p:blipFill>
        <p:spPr>
          <a:xfrm>
            <a:off x="3605040" y="990720"/>
            <a:ext cx="4681800" cy="48672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6"/>
          <p:cNvSpPr txBox="1"/>
          <p:nvPr/>
        </p:nvSpPr>
        <p:spPr>
          <a:xfrm>
            <a:off x="928800" y="1071720"/>
            <a:ext cx="392904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Спасибо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за  урок !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serebryanoe-kopyitce"/>
          <p:cNvPicPr/>
          <p:nvPr/>
        </p:nvPicPr>
        <p:blipFill>
          <a:blip r:embed="rId1"/>
          <a:stretch/>
        </p:blipFill>
        <p:spPr>
          <a:xfrm>
            <a:off x="4629240" y="0"/>
            <a:ext cx="451476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81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6"/>
          <p:cNvSpPr txBox="1"/>
          <p:nvPr/>
        </p:nvSpPr>
        <p:spPr>
          <a:xfrm>
            <a:off x="1187280" y="981000"/>
            <a:ext cx="424836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"Серебряное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опытце"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ramka023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1571760" y="1357200"/>
            <a:ext cx="60721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Просмотр   видеофрагмента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pic>
        <p:nvPicPr>
          <p:cNvPr id="108" name="Фильм.wmv" descr=""/>
          <p:cNvPicPr/>
          <p:nvPr/>
        </p:nvPicPr>
        <p:blipFill>
          <a:blip r:embed="rId2"/>
          <a:stretch/>
        </p:blipFill>
        <p:spPr>
          <a:xfrm>
            <a:off x="2571840" y="250020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56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145360" y="0"/>
            <a:ext cx="99864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5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403280" y="2924280"/>
          <a:ext cx="6769080" cy="266364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3400"/>
                <a:gridCol w="565200"/>
                <a:gridCol w="563760"/>
                <a:gridCol w="563400"/>
                <a:gridCol w="565200"/>
                <a:gridCol w="563400"/>
                <a:gridCol w="563760"/>
                <a:gridCol w="565200"/>
                <a:gridCol w="563400"/>
              </a:tblGrid>
              <a:tr h="66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326"/>
          <p:cNvSpPr/>
          <p:nvPr/>
        </p:nvSpPr>
        <p:spPr>
          <a:xfrm>
            <a:off x="3635280" y="2924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  У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30"/>
          <p:cNvSpPr txBox="1"/>
          <p:nvPr/>
        </p:nvSpPr>
        <p:spPr>
          <a:xfrm>
            <a:off x="1214280" y="500040"/>
            <a:ext cx="669636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Разгадайте кроссворд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114" name="WordArt 346"/>
          <p:cNvSpPr txBox="1"/>
          <p:nvPr/>
        </p:nvSpPr>
        <p:spPr>
          <a:xfrm>
            <a:off x="1714680" y="1143000"/>
            <a:ext cx="37144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Как звали кошк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15" name="WordArt 347"/>
          <p:cNvSpPr txBox="1"/>
          <p:nvPr/>
        </p:nvSpPr>
        <p:spPr>
          <a:xfrm>
            <a:off x="2050920" y="5877000"/>
            <a:ext cx="576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6" name="Picture 30" descr="img_10"/>
          <p:cNvPicPr/>
          <p:nvPr/>
        </p:nvPicPr>
        <p:blipFill>
          <a:blip r:embed="rId3"/>
          <a:stretch/>
        </p:blipFill>
        <p:spPr>
          <a:xfrm>
            <a:off x="1428840" y="1285920"/>
            <a:ext cx="2081160" cy="2149560"/>
          </a:xfrm>
          <a:prstGeom prst="rect">
            <a:avLst/>
          </a:prstGeom>
          <a:ln w="0">
            <a:noFill/>
          </a:ln>
        </p:spPr>
      </p:pic>
      <p:sp>
        <p:nvSpPr>
          <p:cNvPr id="117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3929040" y="6143760"/>
            <a:ext cx="1214640" cy="357120"/>
          </a:xfrm>
          <a:custGeom>
            <a:avLst/>
            <a:gdLst>
              <a:gd name="textAreaLeft" fmla="*/ 23040 w 1214640"/>
              <a:gd name="textAreaRight" fmla="*/ 1191600 w 12146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3414" h="21600">
                <a:moveTo>
                  <a:pt x="0" y="0"/>
                </a:moveTo>
                <a:lnTo>
                  <a:pt x="73414" y="0"/>
                </a:lnTo>
                <a:lnTo>
                  <a:pt x="73414" y="21600"/>
                </a:lnTo>
                <a:lnTo>
                  <a:pt x="0" y="21600"/>
                </a:lnTo>
                <a:close/>
              </a:path>
              <a:path fill="lightenLess" w="73414" h="21600">
                <a:moveTo>
                  <a:pt x="0" y="0"/>
                </a:moveTo>
                <a:lnTo>
                  <a:pt x="73414" y="0"/>
                </a:lnTo>
                <a:lnTo>
                  <a:pt x="72014" y="1400"/>
                </a:lnTo>
                <a:lnTo>
                  <a:pt x="1400" y="1400"/>
                </a:lnTo>
                <a:close/>
              </a:path>
              <a:path fill="darken" w="73414" h="21600">
                <a:moveTo>
                  <a:pt x="73414" y="0"/>
                </a:moveTo>
                <a:lnTo>
                  <a:pt x="73414" y="21600"/>
                </a:lnTo>
                <a:lnTo>
                  <a:pt x="72014" y="20200"/>
                </a:lnTo>
                <a:lnTo>
                  <a:pt x="72014" y="1400"/>
                </a:lnTo>
                <a:close/>
              </a:path>
              <a:path fill="darkenLess" w="73414" h="21600">
                <a:moveTo>
                  <a:pt x="73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14" y="20200"/>
                </a:lnTo>
                <a:close/>
              </a:path>
              <a:path fill="lighten" w="73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14" h="21600">
                <a:moveTo>
                  <a:pt x="29700" y="3794"/>
                </a:moveTo>
                <a:lnTo>
                  <a:pt x="43713" y="10800"/>
                </a:lnTo>
                <a:lnTo>
                  <a:pt x="297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E. Morricone - Professhional (1).mp3" descr=""/>
          <p:cNvPicPr/>
          <p:nvPr/>
        </p:nvPicPr>
        <p:blipFill>
          <a:blip r:embed="rId4"/>
          <a:stretch/>
        </p:blipFill>
        <p:spPr>
          <a:xfrm>
            <a:off x="8358120" y="607212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56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145360" y="0"/>
            <a:ext cx="9986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5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403280" y="2924280"/>
          <a:ext cx="6769080" cy="266364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3400"/>
                <a:gridCol w="565200"/>
                <a:gridCol w="563760"/>
                <a:gridCol w="563400"/>
                <a:gridCol w="565200"/>
                <a:gridCol w="563400"/>
                <a:gridCol w="563760"/>
                <a:gridCol w="565200"/>
                <a:gridCol w="563400"/>
              </a:tblGrid>
              <a:tr h="66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326"/>
          <p:cNvSpPr/>
          <p:nvPr/>
        </p:nvSpPr>
        <p:spPr>
          <a:xfrm>
            <a:off x="3635280" y="2924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  У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7"/>
          <p:cNvSpPr/>
          <p:nvPr/>
        </p:nvSpPr>
        <p:spPr>
          <a:xfrm>
            <a:off x="1979640" y="3573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  О  Д  А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348"/>
          <p:cNvSpPr txBox="1"/>
          <p:nvPr/>
        </p:nvSpPr>
        <p:spPr>
          <a:xfrm>
            <a:off x="2071800" y="5929200"/>
            <a:ext cx="7189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351"/>
          <p:cNvSpPr txBox="1"/>
          <p:nvPr/>
        </p:nvSpPr>
        <p:spPr>
          <a:xfrm>
            <a:off x="1500120" y="500040"/>
            <a:ext cx="5184720" cy="23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ак старик назвал девочк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 первой встреч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6" name="Picture 7" descr="bscap05"/>
          <p:cNvPicPr/>
          <p:nvPr/>
        </p:nvPicPr>
        <p:blipFill>
          <a:blip r:embed="rId3"/>
          <a:stretch/>
        </p:blipFill>
        <p:spPr>
          <a:xfrm>
            <a:off x="1357200" y="1143000"/>
            <a:ext cx="2148120" cy="232740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3929040" y="6143760"/>
            <a:ext cx="1214640" cy="357120"/>
          </a:xfrm>
          <a:custGeom>
            <a:avLst/>
            <a:gdLst>
              <a:gd name="textAreaLeft" fmla="*/ 23040 w 1214640"/>
              <a:gd name="textAreaRight" fmla="*/ 1191600 w 12146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3414" h="21600">
                <a:moveTo>
                  <a:pt x="0" y="0"/>
                </a:moveTo>
                <a:lnTo>
                  <a:pt x="73414" y="0"/>
                </a:lnTo>
                <a:lnTo>
                  <a:pt x="73414" y="21600"/>
                </a:lnTo>
                <a:lnTo>
                  <a:pt x="0" y="21600"/>
                </a:lnTo>
                <a:close/>
              </a:path>
              <a:path fill="lightenLess" w="73414" h="21600">
                <a:moveTo>
                  <a:pt x="0" y="0"/>
                </a:moveTo>
                <a:lnTo>
                  <a:pt x="73414" y="0"/>
                </a:lnTo>
                <a:lnTo>
                  <a:pt x="72014" y="1400"/>
                </a:lnTo>
                <a:lnTo>
                  <a:pt x="1400" y="1400"/>
                </a:lnTo>
                <a:close/>
              </a:path>
              <a:path fill="darken" w="73414" h="21600">
                <a:moveTo>
                  <a:pt x="73414" y="0"/>
                </a:moveTo>
                <a:lnTo>
                  <a:pt x="73414" y="21600"/>
                </a:lnTo>
                <a:lnTo>
                  <a:pt x="72014" y="20200"/>
                </a:lnTo>
                <a:lnTo>
                  <a:pt x="72014" y="1400"/>
                </a:lnTo>
                <a:close/>
              </a:path>
              <a:path fill="darkenLess" w="73414" h="21600">
                <a:moveTo>
                  <a:pt x="73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14" y="20200"/>
                </a:lnTo>
                <a:close/>
              </a:path>
              <a:path fill="lighten" w="73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14" h="21600">
                <a:moveTo>
                  <a:pt x="29700" y="3794"/>
                </a:moveTo>
                <a:lnTo>
                  <a:pt x="43713" y="10800"/>
                </a:lnTo>
                <a:lnTo>
                  <a:pt x="297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56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145360" y="0"/>
            <a:ext cx="99864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55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403280" y="2924280"/>
          <a:ext cx="6769080" cy="266364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3400"/>
                <a:gridCol w="565200"/>
                <a:gridCol w="563760"/>
                <a:gridCol w="563400"/>
                <a:gridCol w="565200"/>
                <a:gridCol w="563400"/>
                <a:gridCol w="563760"/>
                <a:gridCol w="565200"/>
                <a:gridCol w="563400"/>
              </a:tblGrid>
              <a:tr h="66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326"/>
          <p:cNvSpPr/>
          <p:nvPr/>
        </p:nvSpPr>
        <p:spPr>
          <a:xfrm>
            <a:off x="3635280" y="2924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  У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7"/>
          <p:cNvSpPr/>
          <p:nvPr/>
        </p:nvSpPr>
        <p:spPr>
          <a:xfrm>
            <a:off x="1979640" y="3573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  О  Д  А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8"/>
          <p:cNvSpPr/>
          <p:nvPr/>
        </p:nvSpPr>
        <p:spPr>
          <a:xfrm>
            <a:off x="1403280" y="4292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 О  К  О  В  А  Н 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49"/>
          <p:cNvSpPr txBox="1"/>
          <p:nvPr/>
        </p:nvSpPr>
        <p:spPr>
          <a:xfrm>
            <a:off x="2143080" y="5929200"/>
            <a:ext cx="7207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WordArt 352"/>
          <p:cNvSpPr txBox="1"/>
          <p:nvPr/>
        </p:nvSpPr>
        <p:spPr>
          <a:xfrm>
            <a:off x="1428840" y="1428840"/>
            <a:ext cx="518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спомни прозвище старик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36" name="Picture 5" descr="p_F"/>
          <p:cNvPicPr/>
          <p:nvPr/>
        </p:nvPicPr>
        <p:blipFill>
          <a:blip r:embed="rId3"/>
          <a:srcRect l="0" t="0" r="0" b="-252"/>
          <a:stretch/>
        </p:blipFill>
        <p:spPr>
          <a:xfrm>
            <a:off x="1357200" y="857160"/>
            <a:ext cx="2117880" cy="257184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далее 27">
            <a:hlinkClick r:id="" action="ppaction://hlinkshowjump?jump=nextslide"/>
          </p:cNvPr>
          <p:cNvSpPr/>
          <p:nvPr/>
        </p:nvSpPr>
        <p:spPr>
          <a:xfrm>
            <a:off x="3929040" y="6143760"/>
            <a:ext cx="1214640" cy="357120"/>
          </a:xfrm>
          <a:custGeom>
            <a:avLst/>
            <a:gdLst>
              <a:gd name="textAreaLeft" fmla="*/ 23040 w 1214640"/>
              <a:gd name="textAreaRight" fmla="*/ 1191600 w 12146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3414" h="21600">
                <a:moveTo>
                  <a:pt x="0" y="0"/>
                </a:moveTo>
                <a:lnTo>
                  <a:pt x="73414" y="0"/>
                </a:lnTo>
                <a:lnTo>
                  <a:pt x="73414" y="21600"/>
                </a:lnTo>
                <a:lnTo>
                  <a:pt x="0" y="21600"/>
                </a:lnTo>
                <a:close/>
              </a:path>
              <a:path fill="lightenLess" w="73414" h="21600">
                <a:moveTo>
                  <a:pt x="0" y="0"/>
                </a:moveTo>
                <a:lnTo>
                  <a:pt x="73414" y="0"/>
                </a:lnTo>
                <a:lnTo>
                  <a:pt x="72014" y="1400"/>
                </a:lnTo>
                <a:lnTo>
                  <a:pt x="1400" y="1400"/>
                </a:lnTo>
                <a:close/>
              </a:path>
              <a:path fill="darken" w="73414" h="21600">
                <a:moveTo>
                  <a:pt x="73414" y="0"/>
                </a:moveTo>
                <a:lnTo>
                  <a:pt x="73414" y="21600"/>
                </a:lnTo>
                <a:lnTo>
                  <a:pt x="72014" y="20200"/>
                </a:lnTo>
                <a:lnTo>
                  <a:pt x="72014" y="1400"/>
                </a:lnTo>
                <a:close/>
              </a:path>
              <a:path fill="darkenLess" w="73414" h="21600">
                <a:moveTo>
                  <a:pt x="73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14" y="20200"/>
                </a:lnTo>
                <a:close/>
              </a:path>
              <a:path fill="lighten" w="73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14" h="21600">
                <a:moveTo>
                  <a:pt x="29700" y="3794"/>
                </a:moveTo>
                <a:lnTo>
                  <a:pt x="43713" y="10800"/>
                </a:lnTo>
                <a:lnTo>
                  <a:pt x="297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9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0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amka02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1143000" y="1214280"/>
            <a:ext cx="30718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Урок  первый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4929120" y="1214280"/>
            <a:ext cx="28576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Урок  второй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00080" y="2214360"/>
            <a:ext cx="3286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Биография П.П.Бажова  и его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0000"/>
                </a:solidFill>
                <a:latin typeface="Arial"/>
              </a:rPr>
              <a:t>Выборочное чтение  с опорой на иллю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86200" y="2285640"/>
            <a:ext cx="35006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Просмотр видео фрагмента к 4-5 части расс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россворд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далее 12">
            <a:hlinkClick r:id="rId2" action="ppaction://hlinksldjump"/>
          </p:cNvPr>
          <p:cNvSpPr/>
          <p:nvPr/>
        </p:nvSpPr>
        <p:spPr>
          <a:xfrm>
            <a:off x="1857240" y="4857840"/>
            <a:ext cx="1143000" cy="57132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далее 13">
            <a:hlinkClick r:id="rId3" action="ppaction://hlinksldjump"/>
          </p:cNvPr>
          <p:cNvSpPr/>
          <p:nvPr/>
        </p:nvSpPr>
        <p:spPr>
          <a:xfrm>
            <a:off x="5857920" y="4857840"/>
            <a:ext cx="1143000" cy="57132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56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145360" y="0"/>
            <a:ext cx="99864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55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1403280" y="2924280"/>
          <a:ext cx="6769080" cy="266364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3400"/>
                <a:gridCol w="565200"/>
                <a:gridCol w="563760"/>
                <a:gridCol w="563400"/>
                <a:gridCol w="565200"/>
                <a:gridCol w="563400"/>
                <a:gridCol w="563760"/>
                <a:gridCol w="565200"/>
                <a:gridCol w="563400"/>
              </a:tblGrid>
              <a:tr h="66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Text Box 326"/>
          <p:cNvSpPr/>
          <p:nvPr/>
        </p:nvSpPr>
        <p:spPr>
          <a:xfrm>
            <a:off x="3635280" y="2924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  У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7"/>
          <p:cNvSpPr/>
          <p:nvPr/>
        </p:nvSpPr>
        <p:spPr>
          <a:xfrm>
            <a:off x="1979640" y="3573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  О  Д  А  Р  Ё  Н  К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8"/>
          <p:cNvSpPr/>
          <p:nvPr/>
        </p:nvSpPr>
        <p:spPr>
          <a:xfrm>
            <a:off x="1403280" y="4292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 О  К  О  В  А  Н 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9"/>
          <p:cNvSpPr/>
          <p:nvPr/>
        </p:nvSpPr>
        <p:spPr>
          <a:xfrm>
            <a:off x="1403280" y="4941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  Р  И  З  О  Л  И  Т  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350"/>
          <p:cNvSpPr txBox="1"/>
          <p:nvPr/>
        </p:nvSpPr>
        <p:spPr>
          <a:xfrm>
            <a:off x="2143080" y="6000840"/>
            <a:ext cx="719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353"/>
          <p:cNvSpPr txBox="1"/>
          <p:nvPr/>
        </p:nvSpPr>
        <p:spPr>
          <a:xfrm>
            <a:off x="1928880" y="785880"/>
            <a:ext cx="518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Как люди называю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эти зелёные камешк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7" name="WordArt 354"/>
          <p:cNvSpPr txBox="1"/>
          <p:nvPr/>
        </p:nvSpPr>
        <p:spPr>
          <a:xfrm>
            <a:off x="1785960" y="1214280"/>
            <a:ext cx="535788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Молодцы !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148" name="WordArt 353"/>
          <p:cNvSpPr txBox="1"/>
          <p:nvPr/>
        </p:nvSpPr>
        <p:spPr>
          <a:xfrm>
            <a:off x="1428840" y="1071720"/>
            <a:ext cx="557208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Где родился П. П. Бажов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14880" y="2928960"/>
          <a:ext cx="571320" cy="2643120"/>
        </p:xfrm>
        <a:graphic>
          <a:graphicData uri="http://schemas.openxmlformats.org/drawingml/2006/table">
            <a:tbl>
              <a:tblPr/>
              <a:tblGrid>
                <a:gridCol w="571320"/>
              </a:tblGrid>
              <a:tr h="660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2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0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0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150" name="Picture 21" descr="03labveu31272270933"/>
          <p:cNvPicPr/>
          <p:nvPr/>
        </p:nvPicPr>
        <p:blipFill>
          <a:blip r:embed="rId3"/>
          <a:stretch/>
        </p:blipFill>
        <p:spPr>
          <a:xfrm>
            <a:off x="1357200" y="1214280"/>
            <a:ext cx="21034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ramka02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1042920" y="1341360"/>
            <a:ext cx="720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«Тоже ведь сказы не зря придуманы. Иные – в покор, иные в наученье, а есть и такие, что вместо фонарика вперед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.П.Баж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ramka02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3071880" y="1030320"/>
            <a:ext cx="5214960" cy="4832280"/>
          </a:xfrm>
          <a:prstGeom prst="rect">
            <a:avLst/>
          </a:prstGeom>
          <a:ln w="0">
            <a:noFill/>
          </a:ln>
        </p:spPr>
      </p:pic>
      <p:sp>
        <p:nvSpPr>
          <p:cNvPr id="155" name="WordArt 6"/>
          <p:cNvSpPr txBox="1"/>
          <p:nvPr/>
        </p:nvSpPr>
        <p:spPr>
          <a:xfrm>
            <a:off x="928800" y="1000080"/>
            <a:ext cx="357192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Спасибо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за  урок !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tuf6"/>
          <p:cNvPicPr/>
          <p:nvPr/>
        </p:nvPicPr>
        <p:blipFill>
          <a:blip r:embed="rId2"/>
          <a:stretch/>
        </p:blipFill>
        <p:spPr>
          <a:xfrm>
            <a:off x="900000" y="981000"/>
            <a:ext cx="3743280" cy="4896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643280" y="1197000"/>
            <a:ext cx="352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 писателя Павла Петровича Бажова счастливая судьба. Он родился 27 января 1879 года на Урале в семье рабочего. Благодаря случаю и своим способностям он получил возможность учиться. Закончил училище, затем духовную семинарию. Восемнадцать лет работал учителем. Счастливо женился  и стал главой большой семьи, в которой было семеро детей. Писал книги по истории Урала, собирал фольклорные записи. Всегда много работ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E. Morricone - Professhional (1).mp3" descr=""/>
          <p:cNvPicPr/>
          <p:nvPr/>
        </p:nvPicPr>
        <p:blipFill>
          <a:blip r:embed="rId3"/>
          <a:stretch/>
        </p:blipFill>
        <p:spPr>
          <a:xfrm>
            <a:off x="8215200" y="5929200"/>
            <a:ext cx="6526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tuf11"/>
          <p:cNvPicPr/>
          <p:nvPr/>
        </p:nvPicPr>
        <p:blipFill>
          <a:blip r:embed="rId2"/>
          <a:stretch/>
        </p:blipFill>
        <p:spPr>
          <a:xfrm>
            <a:off x="826920" y="907920"/>
            <a:ext cx="3754440" cy="4969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4716360" y="1125360"/>
            <a:ext cx="34560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вестность  пришла к нему в 1936 году, когда в журнале был опубликован его первый сказ "Девка Азовка»  - уральская  легенда о хранительнице сокровищ в пещерах Азов-горы.  В 1939 году вышел первый сборник сказов "Малахитовая шкатулка»  о Хозяйке Медной г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 1936 по 1950 год П.П. Бажов написал 52 ск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116000" y="1268280"/>
            <a:ext cx="302436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 1944 году  "Малахитовая шкатулка" переведена на английский язык и вышла в Лондоне и Нью-Йорке, потом в Праге, в 1947 году  - в Париже. Переведена на немецкий, венгерский, румынский, китайский, японский языки. Всего - на 100 языков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f-056"/>
          <p:cNvPicPr/>
          <p:nvPr/>
        </p:nvPicPr>
        <p:blipFill>
          <a:blip r:embed="rId2"/>
          <a:stretch/>
        </p:blipFill>
        <p:spPr>
          <a:xfrm>
            <a:off x="4572000" y="981000"/>
            <a:ext cx="3705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m1"/>
          <p:cNvPicPr/>
          <p:nvPr/>
        </p:nvPicPr>
        <p:blipFill>
          <a:blip r:embed="rId2"/>
          <a:stretch/>
        </p:blipFill>
        <p:spPr>
          <a:xfrm>
            <a:off x="4384800" y="981000"/>
            <a:ext cx="3936960" cy="4896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116000" y="1197000"/>
            <a:ext cx="309564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хоронили Бажова 10-го декабря 1950-го года в морозный день на высоком холме, с которого видны Уральские  леса и перелески, горы и пруды - все, что он любил, что всегда было дорого его сердцу… В доме ещё пахло табаком, на столе лежала его трубка, а в печатную машинку было заправлено незаконченное письм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ramka0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thumbnail"/>
          <p:cNvPicPr/>
          <p:nvPr/>
        </p:nvPicPr>
        <p:blipFill>
          <a:blip r:embed="rId2"/>
          <a:stretch/>
        </p:blipFill>
        <p:spPr>
          <a:xfrm>
            <a:off x="4129200" y="981000"/>
            <a:ext cx="4197240" cy="4896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971640" y="126828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«Живинка во всяком деле есть, впереди мастерства бежит и человека за собой тяне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.П.Баж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age0030"/>
          <p:cNvPicPr/>
          <p:nvPr/>
        </p:nvPicPr>
        <p:blipFill>
          <a:blip r:embed="rId1"/>
          <a:stretch/>
        </p:blipFill>
        <p:spPr>
          <a:xfrm>
            <a:off x="4356000" y="189000"/>
            <a:ext cx="4551480" cy="640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81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9785699015726"/>
          <p:cNvPicPr/>
          <p:nvPr/>
        </p:nvPicPr>
        <p:blipFill>
          <a:blip r:embed="rId3"/>
          <a:stretch/>
        </p:blipFill>
        <p:spPr>
          <a:xfrm rot="20918400">
            <a:off x="2987640" y="836640"/>
            <a:ext cx="3960720" cy="5113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0" name="Picture 5" descr="P_Bazhov__Kamennyj_tsvetok"/>
          <p:cNvPicPr/>
          <p:nvPr/>
        </p:nvPicPr>
        <p:blipFill>
          <a:blip r:embed="rId4"/>
          <a:stretch/>
        </p:blipFill>
        <p:spPr>
          <a:xfrm rot="20901000">
            <a:off x="3419640" y="620280"/>
            <a:ext cx="3508200" cy="5400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81" name="Picture 6" descr="p1110800"/>
          <p:cNvPicPr/>
          <p:nvPr/>
        </p:nvPicPr>
        <p:blipFill>
          <a:blip r:embed="rId5"/>
          <a:stretch/>
        </p:blipFill>
        <p:spPr>
          <a:xfrm rot="20922000">
            <a:off x="3276360" y="692280"/>
            <a:ext cx="3735360" cy="5472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82" name="Picture 7" descr="9785699110544"/>
          <p:cNvPicPr/>
          <p:nvPr/>
        </p:nvPicPr>
        <p:blipFill>
          <a:blip r:embed="rId6"/>
          <a:stretch/>
        </p:blipFill>
        <p:spPr>
          <a:xfrm rot="20900400">
            <a:off x="3419280" y="691920"/>
            <a:ext cx="3749400" cy="558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7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4624E-006 L -0.38177 -0.21502 E">
                                      <p:cBhvr>
                                        <p:cTn id="49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3000" fill="hold"/>
                                        <p:tgtEl>
                                          <p:spTgt spid="8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78035E-007 L -0.36511 0.22543 E">
                                      <p:cBhvr>
                                        <p:cTn id="61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3000" fill="hold"/>
                                        <p:tgtEl>
                                          <p:spTgt spid="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51445E-007 L -0.17274 -0.24092 E">
                                      <p:cBhvr>
                                        <p:cTn id="7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3699E-006 L -0.14982 0.20185 E">
                                      <p:cBhvr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erebryanoe-kopyitce"/>
          <p:cNvPicPr/>
          <p:nvPr/>
        </p:nvPicPr>
        <p:blipFill>
          <a:blip r:embed="rId1"/>
          <a:stretch/>
        </p:blipFill>
        <p:spPr>
          <a:xfrm>
            <a:off x="4629240" y="0"/>
            <a:ext cx="45147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ramka0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81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>
            <a:off x="1187280" y="981000"/>
            <a:ext cx="424836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"Серебряное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копытце"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2:31:55Z</dcterms:created>
  <dc:creator>UserXP</dc:creator>
  <dc:description/>
  <dc:language>en-US</dc:language>
  <cp:lastModifiedBy>01</cp:lastModifiedBy>
  <dcterms:modified xsi:type="dcterms:W3CDTF">2023-06-08T07:21:12Z</dcterms:modified>
  <cp:revision>93</cp:revision>
  <dc:subject/>
  <dc:title>Слайд 1</dc:title>
</cp:coreProperties>
</file>