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CAFA-031E-46CE-BCFE-E8C0B66AC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D85C-C52D-47CC-BC89-595C1476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F258-20DE-4D39-9802-2B35B4081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BFDE-CD0C-4259-8135-F38433877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A629-CA31-4CD0-9B5B-754FA79D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0121-3EBB-4A83-9321-0FA6604F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9275-72A6-4819-841D-901E5ABC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7FC0-4D4F-4A22-BB5E-AA0653D2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FAA8-530F-48AC-ACD9-694A5E69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DEB5-D426-4FEC-B106-68E04E65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20F1-A1C2-41FE-AFFD-D75C1678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A37B-5D01-4D37-98D6-39DF9B50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3736-2905-4B82-A64E-0CE141617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99ccff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19280" y="1341360"/>
            <a:ext cx="6134040" cy="382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29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Парнокопытные 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и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Непарнокопытные 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  </a:t>
            </a: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животные.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516720" y="4724280"/>
            <a:ext cx="2627280" cy="2133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708360" y="4749840"/>
            <a:ext cx="2808360" cy="2108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0" y="4724280"/>
            <a:ext cx="3708360" cy="2133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66"/>
                </a:solidFill>
                <a:latin typeface="Arial"/>
              </a:rPr>
              <a:t>Дикие представители непарнокопытных сегодня обитают в Центральной и Южной Америке, в Восточной и Южной Афр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66"/>
                </a:solidFill>
                <a:latin typeface="Arial"/>
              </a:rPr>
              <a:t>Охота и сокращение жизненного пространства привели к тому, что и сегодняшние дикие виды встречаются лишь в разрозненных реликтовых популяциях. В отличие от них, домашние лошади и домашние ослы обрели широкое распространение по всему миру и встречаются в наши дни в том числе и в регионах, где изначально не существовало непарнокопытных, например в Австрал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66"/>
                </a:solidFill>
                <a:latin typeface="Arial"/>
              </a:rPr>
              <a:t>В зависимости от среды обитания различные виды непарнокопытных ведут различный образ жизни. Они преимущественно активны в сумеречное или ночное время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66"/>
                </a:solidFill>
                <a:latin typeface="Arial"/>
              </a:rPr>
              <a:t>Непарнокопытные — исключительно растительноядные, питающиеся в разной степени травами, листьями и другими частями раст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692360" y="404640"/>
            <a:ext cx="63388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реда обитания и питание.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66"/>
                </a:solidFill>
                <a:latin typeface="Arial"/>
              </a:rPr>
              <a:t>Спасибо за внимани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4653000"/>
            <a:ext cx="3564000" cy="2205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564000" y="4653000"/>
            <a:ext cx="2952720" cy="2205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516720" y="4724280"/>
            <a:ext cx="2627280" cy="2133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0" y="2276640"/>
            <a:ext cx="3635280" cy="2433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132000" y="2276640"/>
            <a:ext cx="3670560" cy="2492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6156360" y="2349360"/>
            <a:ext cx="2987640" cy="2374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0" y="0"/>
            <a:ext cx="3492360" cy="2287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3059280" y="0"/>
            <a:ext cx="3384360" cy="2328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PecariTajacu.jpg"/>
          <p:cNvPicPr/>
          <p:nvPr/>
        </p:nvPicPr>
        <p:blipFill>
          <a:blip r:embed="rId9"/>
          <a:stretch/>
        </p:blipFill>
        <p:spPr>
          <a:xfrm>
            <a:off x="6012000" y="0"/>
            <a:ext cx="31320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6840" y="1557000"/>
            <a:ext cx="843588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 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Отряд плацентарных млекопитающих. Насчитывает примерно 220 современных видов, из которых некоторые, особенно из семейства полорогих, имеют большое экономическое  значение для человека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435640" y="4581360"/>
            <a:ext cx="3168720" cy="2276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2340000" y="765000"/>
            <a:ext cx="446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арнокопытные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Название отряду дано за наличие у этих животных развитых третьего и четвёртого пальцев, окончания которых покрыты толстым роговым копытом, как футляром или башмаком. Второй и пятый пальцы недоразвиты, а первый — редуциров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Животные в основном средние и крупные по величине. Живут в степях, лесостепях, пустынях, встречаются в лесах, заходят в тундру, поднимаются в горы. Морда парнокопытных удлинена, на голове у большинства из них имеются рога. Распространены по всем материкам, кроме Антарктиды и Австралии. В настоящее время в Австралии живут копытные, завезенные и акклиматизированные человеком. Общее число известных видов около 200, объединенных в подотряды: нежвачные, мозоленогие и жвачны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908000" y="333360"/>
            <a:ext cx="561672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Характерис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Подотряд нежвачных включает 3 семейства: свиньи, бегемоты, пекари, всего 23 вида. У нежвачных массивное тело, короткие четырёхпалые конечности. Клыки выдвинуты за пределы рта, на конце морды хрящевой пятачок. Всеяд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4076640"/>
            <a:ext cx="3203640" cy="2117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276720" y="4076640"/>
            <a:ext cx="2879640" cy="2089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PecariTajacu.jpg"/>
          <p:cNvPicPr/>
          <p:nvPr/>
        </p:nvPicPr>
        <p:blipFill>
          <a:blip r:embed="rId4"/>
          <a:stretch/>
        </p:blipFill>
        <p:spPr>
          <a:xfrm>
            <a:off x="6227640" y="4076640"/>
            <a:ext cx="2916360" cy="2089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2627280" y="404640"/>
            <a:ext cx="4049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ежвачные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9280" y="4076640"/>
            <a:ext cx="2343240" cy="2781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39280" y="907920"/>
            <a:ext cx="81471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В подотряде 1 семейство верблюдовые с тремя родами.</a:t>
            </a:r>
            <a:br>
              <a:rPr sz="2400"/>
            </a:b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В отличие от большинства парнокопытных, у верблюдовых вместо классических копыт — двухпалые конечности с тупыми искривлёнными когтями. Опираются верблюдовые не на концы пальцев, а на совокупность их фаланг. На нижней поверхности ступни располагается парная или непарная эластичная мозолистая подушка.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12000" y="4697280"/>
            <a:ext cx="2879640" cy="2160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2124000" y="0"/>
            <a:ext cx="547236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зологие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566768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Подотряд жвачных объединяет около 180 видов из 6 семейств: Оленьковые, Оленевые, Жирафовые, Вилорогие, Полорогие, Кабар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Подотряд назвали за наличие жвачки. Жвачка — комок отрыгнутой растительной пищи, требующей доработки в ротовой полости. Пища отрыгивается из сложного желудка, состоящего из 4 отделов: рубца, сетки, книжки и сыч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 </a:t>
            </a: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Жвачные имеют стройное тело и длинные конечности, позволяющие им перемещаться с большой скоростью. На коже растут длинные волосы различной густоты и окраски. Подкожный слой жира почти не образуется</a:t>
            </a:r>
            <a:r>
              <a:rPr b="0" i="1" lang="ru-RU" sz="2000" spc="-1" strike="noStrike">
                <a:solidFill>
                  <a:srgbClr val="666633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9280" y="4697280"/>
            <a:ext cx="2880000" cy="2160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564000" y="4653000"/>
            <a:ext cx="2519280" cy="2205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588000" y="462600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2700360" y="549360"/>
            <a:ext cx="4006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7700c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вачные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7700c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White Rhino.jpg"/>
          <p:cNvPicPr/>
          <p:nvPr/>
        </p:nvPicPr>
        <p:blipFill>
          <a:blip r:embed="rId1"/>
          <a:stretch/>
        </p:blipFill>
        <p:spPr>
          <a:xfrm>
            <a:off x="0" y="4740120"/>
            <a:ext cx="3564000" cy="2117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тряд крупных и очень крупных наземных млекопитающих. В отличие от парнокопытных для них характерно нечётное число пальцев, образующих копыта. Отряд содержит три современных семейства — лошадиных, носорогов и тапировых которые вместе насчитывают 17 видов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979640" y="620640"/>
            <a:ext cx="5175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епарнокопытные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5651640" y="4802040"/>
            <a:ext cx="349236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566768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0920" y="5013360"/>
            <a:ext cx="2874960" cy="1844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524720" y="5084640"/>
            <a:ext cx="1387440" cy="17733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0066"/>
                </a:solidFill>
                <a:latin typeface="Arial"/>
              </a:rPr>
              <a:t>Из-за приспособления к разным средам обитания, у непарнокопытных со временем возникли значительные различия в строении тела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0066"/>
                </a:solidFill>
                <a:latin typeface="Arial"/>
              </a:rPr>
              <a:t>В основном все животные в этом отряде круп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0066"/>
                </a:solidFill>
                <a:latin typeface="Arial"/>
              </a:rPr>
              <a:t>Основная нагрузка передних и задних конечностей приходится на центр, из-за чего самым длинным пальцем у всех видов является третий. Остальные пальцы в той или иной степени атрофировались, менее всего у тапиров. Эти животные из-за мягких почв в своей среде обитания имеют по четыре пальца на передних ногах и по три на задних. У лошадей атрофированность боковых пальцев зашла наиболее далеко, у них имеется всего один палец. На краях конечностей копыта, которые однако лишь у лошадей покрывают пальцы полностью. У носорогов и тапиров копытами покрыта только передняя часть ноги, а нижняя сторона мягкая. У носорогов ступня довольно мягк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124000" y="260280"/>
            <a:ext cx="49244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99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Характеристика</a:t>
            </a:r>
            <a:endParaRPr b="0" lang="en-US" sz="1800" spc="1" strike="noStrike">
              <a:ln w="0">
                <a:noFill/>
              </a:ln>
              <a:solidFill>
                <a:srgbClr val="cc99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4T17:54:32Z</dcterms:created>
  <dc:creator>Лена</dc:creator>
  <dc:description/>
  <dc:language>en-US</dc:language>
  <cp:lastModifiedBy>Лена</cp:lastModifiedBy>
  <dcterms:modified xsi:type="dcterms:W3CDTF">2014-04-24T19:42:30Z</dcterms:modified>
  <cp:revision>2</cp:revision>
  <dc:subject/>
  <dc:title>Парнокопытные и Непарнокопытные  животные </dc:title>
</cp:coreProperties>
</file>