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.png" ContentType="image/pn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780F-9EF4-47F9-8C2C-26EA084F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F0DE-471F-4EFD-AA52-548DE686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8AF2-650B-464F-97BA-5E8289E9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E263-F64E-4F39-A059-6D9D7595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5F5E-0AB2-47EA-9110-FDF75DCB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22D4-96A4-47DB-869B-29E49CEF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9604-88EB-4C8C-AB38-B5B0F6E4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DABA-4749-49F2-902B-5E9E5F17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69CD-68FF-48B4-A4A4-E0C5A34E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6611-5E9E-4181-9F86-FB8BD9E4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D3EA-C853-4D15-8C06-F98E5255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8D67-2044-434A-9A97-A8434324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BB22-9128-4E28-A0DE-447AC84D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72D4-3E8B-490A-A50B-061AF0F8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CF52-33E3-46BA-AF4E-3B3957CB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43C9-65F8-4EE2-A996-62823DFC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9DCC-31D8-4F51-AFE6-B279BFB3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68134-516F-4E9B-8ACF-5938CF27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1534E-DADE-4A38-8656-F93A945E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DD5C8-F4CE-4A9F-832A-5844ACDF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522CB-CBD8-4273-9E52-4918E7E5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B7E2B-59FA-469E-89FB-EBA2363E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3054-5A02-4096-83F5-A131D2EC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1E0AF-653A-4E49-9F45-B35454AF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5C9C4-5847-4F45-B472-A0D487BC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B6483-1539-4C7E-AF7C-6A5F6498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5103E-CA22-4107-8782-2CC5D26D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C57C3-D943-438B-9A35-E36FC4A0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7FCFE-95CC-434C-B18A-C13C4F3D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581E3-7C77-4AAA-B239-775741EE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75F39-723F-42BE-9FE2-A1EFFD12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8B1F5-78C3-4F49-8FBE-2B4A99DE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93CCE-A817-4B08-B19C-DD0E9E8B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DF9C-462E-4CFB-964B-6FE8437C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2EBF7-796E-4EF7-8DDF-236F7594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08F40-6A32-4098-AA7A-4C095702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86C7B-0417-43A6-9BBF-CFF773CD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4FDE2-741A-4014-A662-92CE4190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7AA22-7C63-40A8-B1D9-E522E11E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0FD6C-46F0-40A3-AD37-B617769D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1823F-ED31-4DC9-9CDD-BBA8E3F4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5836B-A2F9-4025-9B76-6037DCF4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36073-83F7-4482-9460-42C07F9A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D1D94-4F29-49F0-9883-8497F52E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F39-437C-4B7F-908B-B4824067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C0B38-9D26-4039-9C22-92D1BE7E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D9AAE-EDE1-4968-BD56-A399F7D5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B3476-F309-4E42-A9A2-5BF354E9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2295A-DCF7-4C9A-A189-59D028C4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3B471-2E12-47A2-9844-BA2B0E15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47FAE-7785-42C5-9D09-A4EBEC73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CBFC0-FE0E-4F5D-A543-F0D2C11C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994F3-4363-44DE-978E-A396C61B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A0F96-A20A-4836-A52A-2C32E62E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E55EF-5610-40AD-8408-F9974444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74DA-1EBE-49D2-A3F3-ED5675D9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C6F80-8E6B-48AF-8F16-F2FADA82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303D-225E-49EF-9585-6EBB6995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6D8-6AC6-4D95-8AA3-E214E443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DA57-D22E-4856-B69A-5EAEB16D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D526-F913-49F9-B392-70A7F98094F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69A2-0E22-4396-927C-EDE4B8FC9E3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15E1-98B2-4043-802A-D2224D7DB0C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07A1-9B1B-4EDD-B4B3-7E57BF53933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A26C-62BE-46FC-80D6-2EE84A9C407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жарная безопасность. Причины возникновения пожара, правила поведения при пожа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strah_bg"/>
          <p:cNvPicPr/>
          <p:nvPr/>
        </p:nvPicPr>
        <p:blipFill>
          <a:blip r:embed="rId1"/>
          <a:stretch/>
        </p:blipFill>
        <p:spPr>
          <a:xfrm>
            <a:off x="1979640" y="1844640"/>
            <a:ext cx="5329080" cy="3879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395280" y="260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ричины возникновения пожара в быт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250920" y="5373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Шалости детей: игра спичками, электроприборами и др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7" descr="spichky"/>
          <p:cNvPicPr/>
          <p:nvPr/>
        </p:nvPicPr>
        <p:blipFill>
          <a:blip r:embed="rId1"/>
          <a:stretch/>
        </p:blipFill>
        <p:spPr>
          <a:xfrm>
            <a:off x="2411280" y="1413000"/>
            <a:ext cx="4027680" cy="4098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4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684360" y="55897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ызовите службу спасения 01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drkin"/>
          <p:cNvPicPr/>
          <p:nvPr/>
        </p:nvPicPr>
        <p:blipFill>
          <a:blip r:embed="rId1"/>
          <a:stretch/>
        </p:blipFill>
        <p:spPr>
          <a:xfrm>
            <a:off x="2124000" y="1341360"/>
            <a:ext cx="4894200" cy="37782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4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539640" y="479736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 телефону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назови свое имя и фамилию; укажи, что именно горит; сообщи адрес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1231918833_15893"/>
          <p:cNvPicPr/>
          <p:nvPr/>
        </p:nvPicPr>
        <p:blipFill>
          <a:blip r:embed="rId1"/>
          <a:stretch/>
        </p:blipFill>
        <p:spPr>
          <a:xfrm>
            <a:off x="1835280" y="1341360"/>
            <a:ext cx="4489200" cy="3367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11280" y="5373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общи о возгорании любому взрослому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01_11"/>
          <p:cNvPicPr/>
          <p:nvPr/>
        </p:nvPicPr>
        <p:blipFill>
          <a:blip r:embed="rId1"/>
          <a:stretch/>
        </p:blipFill>
        <p:spPr>
          <a:xfrm>
            <a:off x="1979640" y="1052640"/>
            <a:ext cx="5432400" cy="40748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4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250920" y="537372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тключи газ, электроэнергию, закрой окна и двер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45"/>
          <p:cNvPicPr/>
          <p:nvPr/>
        </p:nvPicPr>
        <p:blipFill>
          <a:blip r:embed="rId1"/>
          <a:stretch/>
        </p:blipFill>
        <p:spPr>
          <a:xfrm>
            <a:off x="611280" y="1052640"/>
            <a:ext cx="3744720" cy="24699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76417_1"/>
          <p:cNvPicPr/>
          <p:nvPr/>
        </p:nvPicPr>
        <p:blipFill>
          <a:blip r:embed="rId2"/>
          <a:stretch/>
        </p:blipFill>
        <p:spPr>
          <a:xfrm>
            <a:off x="4500720" y="2133720"/>
            <a:ext cx="3816360" cy="31906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08000" y="530064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емедленно покиньте помещение, не бегите наугад, не мешкайте на выход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P6260076"/>
          <p:cNvPicPr/>
          <p:nvPr/>
        </p:nvPicPr>
        <p:blipFill>
          <a:blip r:embed="rId1"/>
          <a:stretch/>
        </p:blipFill>
        <p:spPr>
          <a:xfrm>
            <a:off x="1979640" y="1125360"/>
            <a:ext cx="5288040" cy="3965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4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79280" y="486900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акройтесь мокрой тканью (одеялом, полотенцем). Дышите через мокрый носовой платок, ткань, одежду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6" descr="shcola_fair_01"/>
          <p:cNvPicPr/>
          <p:nvPr/>
        </p:nvPicPr>
        <p:blipFill>
          <a:blip r:embed="rId1"/>
          <a:stretch/>
        </p:blipFill>
        <p:spPr>
          <a:xfrm>
            <a:off x="3348000" y="1052640"/>
            <a:ext cx="5235480" cy="38192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24141"/>
          <p:cNvPicPr/>
          <p:nvPr/>
        </p:nvPicPr>
        <p:blipFill>
          <a:blip r:embed="rId2"/>
          <a:stretch/>
        </p:blipFill>
        <p:spPr>
          <a:xfrm>
            <a:off x="971640" y="1628640"/>
            <a:ext cx="1798560" cy="26971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4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250920" y="530064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вигайтесь к выходу или в сторону незадымленной лестничной клетк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25"/>
          <p:cNvPicPr/>
          <p:nvPr/>
        </p:nvPicPr>
        <p:blipFill>
          <a:blip r:embed="rId1"/>
          <a:stretch/>
        </p:blipFill>
        <p:spPr>
          <a:xfrm>
            <a:off x="2124000" y="1268280"/>
            <a:ext cx="5338800" cy="4003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4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468360" y="573408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ельзя использовать лиф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2_4"/>
          <p:cNvPicPr/>
          <p:nvPr/>
        </p:nvPicPr>
        <p:blipFill>
          <a:blip r:embed="rId1"/>
          <a:stretch/>
        </p:blipFill>
        <p:spPr>
          <a:xfrm>
            <a:off x="2124000" y="1197000"/>
            <a:ext cx="4686480" cy="40114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250920" y="494172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 задымленного помещения выбирайтесь пригнувшись или ползком - внизу дыма меньш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400x320_lepya3"/>
          <p:cNvPicPr/>
          <p:nvPr/>
        </p:nvPicPr>
        <p:blipFill>
          <a:blip r:embed="rId1"/>
          <a:stretch/>
        </p:blipFill>
        <p:spPr>
          <a:xfrm>
            <a:off x="2050920" y="1125360"/>
            <a:ext cx="4746600" cy="37976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395280" y="260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ричины возникновения пожара в быт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68360" y="59500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епотушенные спички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shapsel_bytovaja_himija_24111_1"/>
          <p:cNvPicPr/>
          <p:nvPr/>
        </p:nvPicPr>
        <p:blipFill>
          <a:blip r:embed="rId1"/>
          <a:stretch/>
        </p:blipFill>
        <p:spPr>
          <a:xfrm>
            <a:off x="1979640" y="1341360"/>
            <a:ext cx="5278320" cy="45133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4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250920" y="3933720"/>
            <a:ext cx="871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сли нельзя использовать лестницы, прыгайте в окно. Сократите высоту прыжка, связав простыни. Прыгайте на полотняное покрытие грузовика, крышу машины, цветник, навес или на предварительно сброшенные матрасы, подушки, ковры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6" descr="1193304265_prygali_iz_okon_02"/>
          <p:cNvPicPr/>
          <p:nvPr/>
        </p:nvPicPr>
        <p:blipFill>
          <a:blip r:embed="rId1"/>
          <a:stretch/>
        </p:blipFill>
        <p:spPr>
          <a:xfrm>
            <a:off x="2411280" y="836640"/>
            <a:ext cx="4098960" cy="30402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4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395280" y="450864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сли выйти из помещения невозможно, заткните все зазоры под дверьми мокрыми тряпками; наполните водой ванну и другие большие емкости облейте пол и двери водо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6" descr="14_01"/>
          <p:cNvPicPr/>
          <p:nvPr/>
        </p:nvPicPr>
        <p:blipFill>
          <a:blip r:embed="rId1"/>
          <a:stretch/>
        </p:blipFill>
        <p:spPr>
          <a:xfrm>
            <a:off x="395280" y="907920"/>
            <a:ext cx="4486320" cy="32371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48478"/>
          <p:cNvPicPr/>
          <p:nvPr/>
        </p:nvPicPr>
        <p:blipFill>
          <a:blip r:embed="rId2"/>
          <a:stretch/>
        </p:blipFill>
        <p:spPr>
          <a:xfrm>
            <a:off x="5292720" y="1197000"/>
            <a:ext cx="2997360" cy="30020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4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468360" y="5229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е раскрывайте окна, т.к. приток воздуха только усилит горе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img86"/>
          <p:cNvPicPr/>
          <p:nvPr/>
        </p:nvPicPr>
        <p:blipFill>
          <a:blip r:embed="rId1"/>
          <a:stretch/>
        </p:blipFill>
        <p:spPr>
          <a:xfrm>
            <a:off x="2411280" y="907920"/>
            <a:ext cx="4106880" cy="41068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4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395280" y="50846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если есть возможность выйти на балкон, зови на помощ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6" descr="Peppi38"/>
          <p:cNvPicPr/>
          <p:nvPr/>
        </p:nvPicPr>
        <p:blipFill>
          <a:blip r:embed="rId1"/>
          <a:stretch/>
        </p:blipFill>
        <p:spPr>
          <a:xfrm>
            <a:off x="2340000" y="836640"/>
            <a:ext cx="4583160" cy="42084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4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395280" y="54450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 прибытии пожарных полностью подчинитесь их командам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DSC03615"/>
          <p:cNvPicPr/>
          <p:nvPr/>
        </p:nvPicPr>
        <p:blipFill>
          <a:blip r:embed="rId1"/>
          <a:stretch/>
        </p:blipFill>
        <p:spPr>
          <a:xfrm>
            <a:off x="1835280" y="1844640"/>
            <a:ext cx="4752720" cy="35625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79028194"/>
          <p:cNvPicPr/>
          <p:nvPr/>
        </p:nvPicPr>
        <p:blipFill>
          <a:blip r:embed="rId2"/>
          <a:stretch/>
        </p:blipFill>
        <p:spPr>
          <a:xfrm>
            <a:off x="468360" y="1197000"/>
            <a:ext cx="1873080" cy="18730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36_02_00"/>
          <p:cNvPicPr/>
          <p:nvPr/>
        </p:nvPicPr>
        <p:blipFill>
          <a:blip r:embed="rId3"/>
          <a:stretch/>
        </p:blipFill>
        <p:spPr>
          <a:xfrm>
            <a:off x="5292720" y="1125360"/>
            <a:ext cx="3205080" cy="22654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395280" y="260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ричины возникновения пожара в быт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324000" y="5516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еосторожное использование керосиновых ламп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95"/>
          <p:cNvPicPr/>
          <p:nvPr/>
        </p:nvPicPr>
        <p:blipFill>
          <a:blip r:embed="rId1"/>
          <a:stretch/>
        </p:blipFill>
        <p:spPr>
          <a:xfrm>
            <a:off x="3048120" y="1397160"/>
            <a:ext cx="3047760" cy="40636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4"/>
          <p:cNvSpPr/>
          <p:nvPr/>
        </p:nvSpPr>
        <p:spPr>
          <a:xfrm>
            <a:off x="395280" y="260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ричины возникновения пожара в быт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24000" y="537372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ебрежность при хранении легковоспламеняющихся материалов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6" descr="49268B0A00865"/>
          <p:cNvPicPr/>
          <p:nvPr/>
        </p:nvPicPr>
        <p:blipFill>
          <a:blip r:embed="rId1"/>
          <a:stretch/>
        </p:blipFill>
        <p:spPr>
          <a:xfrm>
            <a:off x="1979640" y="1484280"/>
            <a:ext cx="5000760" cy="37656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395280" y="18900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причины возникновения пожара в быт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0" y="5445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пользование металлических печей, не отвечающих правилам пожарной безопасности, оставлении печи без присмотр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76"/>
          <p:cNvPicPr/>
          <p:nvPr/>
        </p:nvPicPr>
        <p:blipFill>
          <a:blip r:embed="rId1"/>
          <a:stretch/>
        </p:blipFill>
        <p:spPr>
          <a:xfrm>
            <a:off x="2638440" y="1197000"/>
            <a:ext cx="332424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395280" y="260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ричины возникновения пожара в быт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24000" y="544500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арушение правил пользования электрическими приборам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fin09bb"/>
          <p:cNvPicPr/>
          <p:nvPr/>
        </p:nvPicPr>
        <p:blipFill>
          <a:blip r:embed="rId1"/>
          <a:stretch/>
        </p:blipFill>
        <p:spPr>
          <a:xfrm>
            <a:off x="684360" y="1628640"/>
            <a:ext cx="3743280" cy="2994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122175879309561"/>
          <p:cNvPicPr/>
          <p:nvPr/>
        </p:nvPicPr>
        <p:blipFill>
          <a:blip r:embed="rId2"/>
          <a:stretch/>
        </p:blipFill>
        <p:spPr>
          <a:xfrm>
            <a:off x="5219640" y="1628640"/>
            <a:ext cx="3273480" cy="28814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395280" y="260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ричины возникновения пожара в быт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24000" y="551664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ключение нескольких бытовых приборов в одну розетку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2_418203_1"/>
          <p:cNvPicPr/>
          <p:nvPr/>
        </p:nvPicPr>
        <p:blipFill>
          <a:blip r:embed="rId1"/>
          <a:stretch/>
        </p:blipFill>
        <p:spPr>
          <a:xfrm>
            <a:off x="250920" y="907920"/>
            <a:ext cx="1903320" cy="2016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56998"/>
          <p:cNvPicPr/>
          <p:nvPr/>
        </p:nvPicPr>
        <p:blipFill>
          <a:blip r:embed="rId2"/>
          <a:stretch/>
        </p:blipFill>
        <p:spPr>
          <a:xfrm>
            <a:off x="1547640" y="3141720"/>
            <a:ext cx="2376720" cy="2376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zik_enl"/>
          <p:cNvPicPr/>
          <p:nvPr/>
        </p:nvPicPr>
        <p:blipFill>
          <a:blip r:embed="rId3"/>
          <a:stretch/>
        </p:blipFill>
        <p:spPr>
          <a:xfrm>
            <a:off x="6877080" y="1052640"/>
            <a:ext cx="1811160" cy="3419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lg_32lg6000_11"/>
          <p:cNvPicPr/>
          <p:nvPr/>
        </p:nvPicPr>
        <p:blipFill>
          <a:blip r:embed="rId4"/>
          <a:stretch/>
        </p:blipFill>
        <p:spPr>
          <a:xfrm>
            <a:off x="4067280" y="2637000"/>
            <a:ext cx="2546280" cy="27781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4"/>
          <p:cNvSpPr/>
          <p:nvPr/>
        </p:nvSpPr>
        <p:spPr>
          <a:xfrm>
            <a:off x="395280" y="260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ричины возникновения пожара в быт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50920" y="486900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ороткое замыкание, возникающее вследствие соединения двух проводников без изоляци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11"/>
          <p:cNvPicPr/>
          <p:nvPr/>
        </p:nvPicPr>
        <p:blipFill>
          <a:blip r:embed="rId1"/>
          <a:stretch/>
        </p:blipFill>
        <p:spPr>
          <a:xfrm>
            <a:off x="2843280" y="1484280"/>
            <a:ext cx="3124080" cy="3384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395280" y="260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ричины возникновения пожара в быт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179280" y="537372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еисправность бытовых газовых приборов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264761"/>
          <p:cNvPicPr/>
          <p:nvPr/>
        </p:nvPicPr>
        <p:blipFill>
          <a:blip r:embed="rId1"/>
          <a:stretch/>
        </p:blipFill>
        <p:spPr>
          <a:xfrm>
            <a:off x="2050920" y="1557360"/>
            <a:ext cx="4891320" cy="3668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7:43:29Z</dcterms:created>
  <dc:creator>Ershova</dc:creator>
  <dc:description/>
  <dc:language>en-US</dc:language>
  <cp:lastModifiedBy>Admin</cp:lastModifiedBy>
  <dcterms:modified xsi:type="dcterms:W3CDTF">2023-06-08T17:27:34Z</dcterms:modified>
  <cp:revision>51</cp:revision>
  <dc:subject/>
  <dc:title>Слайд 1</dc:title>
</cp:coreProperties>
</file>