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111-2926-4FD9-98EA-A986E230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1F0-DB4D-4ECF-8109-8B02158F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DAF-E5B6-4EC2-B3BB-6EAD25F4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3DE-826E-4D7D-B7C1-EE497E97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D2E7-009D-437F-A5AC-CA4B69D1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3710-CD99-45B9-AA33-3B4A911A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9779-77C9-4EC9-87EB-A53DABEC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54F9-634D-4C21-ABFE-C2BBFE70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1D2D-20CD-4EC2-9715-E53B5464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9148-2F17-49A4-B9C1-48D684DB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6198-3995-4109-A1F9-498B474F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D47-7B58-40D4-ABEE-7CB4CF23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D299-6703-4AFD-BAC2-938CC4BA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DB89-C88A-4FD6-AB02-71F5480D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201D-E42F-4932-B528-7FEB2123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0772-8620-4C2B-A0A4-D5021A72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1E78-1E3F-428B-94D7-C04B2B0B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8CCF-2C01-467D-A5CA-2E792C7C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7F201-C357-4883-A328-DF20F0E5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AF95-875B-4B57-B6D8-38C9B4D9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4B1C-C821-4C0E-AA97-45C2B166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9268-6CB4-42EB-B3EB-BFDF783B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958-02D2-4ED0-B4B1-7A7A9B93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C9F2-2EF4-4C34-BCE3-825983E9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70D0-C7CF-44C3-A74D-096C0EF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62E4-870E-45AD-96A2-C603C866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AB83-2BDD-465F-BC14-7F8E7253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4B2B9-F535-4698-9599-949C38DB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DE5B-6240-47F8-8280-D0F6BA1F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3B72-EF60-4F53-999F-4AFCA464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35E2F-1DF3-4BA8-B2FD-332B053B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4ED8-8927-4672-899B-498E4E77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DD697-564B-413A-BBB0-F3F013FF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1BF-CA86-4B54-913D-7ACDEAE9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22B3C-03C9-40AD-B4DC-1C7AD81C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86A75-649D-4291-9644-A8A865DC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C9FBA-48A1-4DD5-AFA5-3FF0E7AD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D2FC9-BC96-4496-A7F1-AC465DBF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492A5-52E2-438F-B942-F1D39E9F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3FF0E-3D7E-442A-87C2-20708141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C1254-C0F9-4BB5-AAB8-A168650A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A456-5350-49CC-B9B8-82684CF7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F8A0E-5A0D-4CFC-9ED5-F962B932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4BFDE-141A-48DE-AD19-24C5C4BF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4DE-CB82-4212-831D-063F9A77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B626-5541-47AE-AA29-067858A2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89C7-1B75-433E-B6A5-452DE36F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6039E-768D-45B6-8946-BAB1E540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BC569-0A30-4974-82DD-6FD9690F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2F413-5134-4D34-90C8-2F1C0FF5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8E6E-BB3E-425B-B491-9425ADE6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D47A-35FA-42D9-93D9-D8936463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EE351-CF11-4F7D-8AF6-BD037719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5F31E-C20F-4FB5-8922-F636986D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A8611-2A7C-463C-BF5E-B80BE610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508-D836-442D-9A31-81A95A7C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49559-26A5-4012-ACB4-815737D6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5DB-A7D5-446C-9F22-4E272006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9F1-8A7D-4FE2-BB4B-1BE9D69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714-92C7-467A-A325-788F44C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A28C-FEB6-45F8-AD07-2B1700141B5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B193-F1B2-4EC9-A918-A77CD873B1A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1955-8929-48B0-9B98-9D429BC816D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E5E3-321B-4979-A474-404EC941046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629B-04E2-484A-A690-13F278394CC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жарная безопасность. Причины возникновения пожара, 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strah_bg"/>
          <p:cNvPicPr/>
          <p:nvPr/>
        </p:nvPicPr>
        <p:blipFill>
          <a:blip r:embed="rId1"/>
          <a:stretch/>
        </p:blipFill>
        <p:spPr>
          <a:xfrm>
            <a:off x="1979640" y="1844640"/>
            <a:ext cx="5329080" cy="3879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92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Шалости детей: игра спичками, электроприборами и др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spichky"/>
          <p:cNvPicPr/>
          <p:nvPr/>
        </p:nvPicPr>
        <p:blipFill>
          <a:blip r:embed="rId1"/>
          <a:stretch/>
        </p:blipFill>
        <p:spPr>
          <a:xfrm>
            <a:off x="2411280" y="1413000"/>
            <a:ext cx="4027680" cy="4098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84360" y="5589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зовите службу спасения 01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drkin"/>
          <p:cNvPicPr/>
          <p:nvPr/>
        </p:nvPicPr>
        <p:blipFill>
          <a:blip r:embed="rId1"/>
          <a:stretch/>
        </p:blipFill>
        <p:spPr>
          <a:xfrm>
            <a:off x="2124000" y="1341360"/>
            <a:ext cx="4894200" cy="3778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9640" y="479736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телефон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назови свое имя и фамилию; укажи, что именно горит; сообщи адрес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1231918833_15893"/>
          <p:cNvPicPr/>
          <p:nvPr/>
        </p:nvPicPr>
        <p:blipFill>
          <a:blip r:embed="rId1"/>
          <a:stretch/>
        </p:blipFill>
        <p:spPr>
          <a:xfrm>
            <a:off x="1835280" y="1341360"/>
            <a:ext cx="4489200" cy="3367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11280" y="537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общи о возгорании любому взрослому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01_11"/>
          <p:cNvPicPr/>
          <p:nvPr/>
        </p:nvPicPr>
        <p:blipFill>
          <a:blip r:embed="rId1"/>
          <a:stretch/>
        </p:blipFill>
        <p:spPr>
          <a:xfrm>
            <a:off x="1979640" y="1052640"/>
            <a:ext cx="5432400" cy="4074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0920" y="537372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ключи газ, электроэнергию, закрой окна и двер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45"/>
          <p:cNvPicPr/>
          <p:nvPr/>
        </p:nvPicPr>
        <p:blipFill>
          <a:blip r:embed="rId1"/>
          <a:stretch/>
        </p:blipFill>
        <p:spPr>
          <a:xfrm>
            <a:off x="611280" y="1052640"/>
            <a:ext cx="3744720" cy="2469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76417_1"/>
          <p:cNvPicPr/>
          <p:nvPr/>
        </p:nvPicPr>
        <p:blipFill>
          <a:blip r:embed="rId2"/>
          <a:stretch/>
        </p:blipFill>
        <p:spPr>
          <a:xfrm>
            <a:off x="4500720" y="2133720"/>
            <a:ext cx="3816360" cy="3190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08000" y="53006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медленно покиньте помещение, не бегите наугад, не мешкайте на выход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P6260076"/>
          <p:cNvPicPr/>
          <p:nvPr/>
        </p:nvPicPr>
        <p:blipFill>
          <a:blip r:embed="rId1"/>
          <a:stretch/>
        </p:blipFill>
        <p:spPr>
          <a:xfrm>
            <a:off x="1979640" y="1125360"/>
            <a:ext cx="5288040" cy="3965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79280" y="486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кройтесь мокрой тканью (одеялом, полотенцем). Дышите через мокрый носовой платок, ткань, одежду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shcola_fair_01"/>
          <p:cNvPicPr/>
          <p:nvPr/>
        </p:nvPicPr>
        <p:blipFill>
          <a:blip r:embed="rId1"/>
          <a:stretch/>
        </p:blipFill>
        <p:spPr>
          <a:xfrm>
            <a:off x="3348000" y="1052640"/>
            <a:ext cx="5235480" cy="3819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24141"/>
          <p:cNvPicPr/>
          <p:nvPr/>
        </p:nvPicPr>
        <p:blipFill>
          <a:blip r:embed="rId2"/>
          <a:stretch/>
        </p:blipFill>
        <p:spPr>
          <a:xfrm>
            <a:off x="971640" y="1628640"/>
            <a:ext cx="1798560" cy="2697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50920" y="5300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вигайтесь к выходу или в сторону незадымленной лестничной клетк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25"/>
          <p:cNvPicPr/>
          <p:nvPr/>
        </p:nvPicPr>
        <p:blipFill>
          <a:blip r:embed="rId1"/>
          <a:stretch/>
        </p:blipFill>
        <p:spPr>
          <a:xfrm>
            <a:off x="2124000" y="1268280"/>
            <a:ext cx="5338800" cy="4003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468360" y="57340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льзя использовать лиф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2_4"/>
          <p:cNvPicPr/>
          <p:nvPr/>
        </p:nvPicPr>
        <p:blipFill>
          <a:blip r:embed="rId1"/>
          <a:stretch/>
        </p:blipFill>
        <p:spPr>
          <a:xfrm>
            <a:off x="2124000" y="1197000"/>
            <a:ext cx="4686480" cy="4011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5092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 задымленного помещения выбирайтесь пригнувшись или ползком - внизу дыма меньш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400x320_lepya3"/>
          <p:cNvPicPr/>
          <p:nvPr/>
        </p:nvPicPr>
        <p:blipFill>
          <a:blip r:embed="rId1"/>
          <a:stretch/>
        </p:blipFill>
        <p:spPr>
          <a:xfrm>
            <a:off x="2050920" y="1125360"/>
            <a:ext cx="4746600" cy="3797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68360" y="59500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потушенные спички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shapsel_bytovaja_himija_24111_1"/>
          <p:cNvPicPr/>
          <p:nvPr/>
        </p:nvPicPr>
        <p:blipFill>
          <a:blip r:embed="rId1"/>
          <a:stretch/>
        </p:blipFill>
        <p:spPr>
          <a:xfrm>
            <a:off x="1979640" y="1341360"/>
            <a:ext cx="5278320" cy="4513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50920" y="3933720"/>
            <a:ext cx="87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сли нельзя использовать лестницы, прыгайте в окно. Сократите высоту прыжка, связав простыни. Прыгайте на полотняное покрытие грузовика, крышу машины, цветник, навес или на предварительно сброшенные матрасы, подушки, ковры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1193304265_prygali_iz_okon_02"/>
          <p:cNvPicPr/>
          <p:nvPr/>
        </p:nvPicPr>
        <p:blipFill>
          <a:blip r:embed="rId1"/>
          <a:stretch/>
        </p:blipFill>
        <p:spPr>
          <a:xfrm>
            <a:off x="2411280" y="836640"/>
            <a:ext cx="4098960" cy="3040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395280" y="450864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сли выйти из помещения невозможно, заткните все зазоры под дверьми мокрыми тряпками; наполните водой ванну и другие большие емкости облейте пол и двери водо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14_01"/>
          <p:cNvPicPr/>
          <p:nvPr/>
        </p:nvPicPr>
        <p:blipFill>
          <a:blip r:embed="rId1"/>
          <a:stretch/>
        </p:blipFill>
        <p:spPr>
          <a:xfrm>
            <a:off x="395280" y="907920"/>
            <a:ext cx="4486320" cy="3237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48478"/>
          <p:cNvPicPr/>
          <p:nvPr/>
        </p:nvPicPr>
        <p:blipFill>
          <a:blip r:embed="rId2"/>
          <a:stretch/>
        </p:blipFill>
        <p:spPr>
          <a:xfrm>
            <a:off x="5292720" y="1197000"/>
            <a:ext cx="2997360" cy="30020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468360" y="5229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 раскрывайте окна, т.к. приток воздуха только усилит гор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img86"/>
          <p:cNvPicPr/>
          <p:nvPr/>
        </p:nvPicPr>
        <p:blipFill>
          <a:blip r:embed="rId1"/>
          <a:stretch/>
        </p:blipFill>
        <p:spPr>
          <a:xfrm>
            <a:off x="2411280" y="90792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95280" y="5084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если есть возможность выйти на балкон, зови на помощ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Peppi38"/>
          <p:cNvPicPr/>
          <p:nvPr/>
        </p:nvPicPr>
        <p:blipFill>
          <a:blip r:embed="rId1"/>
          <a:stretch/>
        </p:blipFill>
        <p:spPr>
          <a:xfrm>
            <a:off x="2340000" y="836640"/>
            <a:ext cx="4583160" cy="4208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95280" y="5445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прибытии пожарных полностью подчинитесь их команда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03615"/>
          <p:cNvPicPr/>
          <p:nvPr/>
        </p:nvPicPr>
        <p:blipFill>
          <a:blip r:embed="rId1"/>
          <a:stretch/>
        </p:blipFill>
        <p:spPr>
          <a:xfrm>
            <a:off x="1835280" y="1844640"/>
            <a:ext cx="4752720" cy="3562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79028194"/>
          <p:cNvPicPr/>
          <p:nvPr/>
        </p:nvPicPr>
        <p:blipFill>
          <a:blip r:embed="rId2"/>
          <a:stretch/>
        </p:blipFill>
        <p:spPr>
          <a:xfrm>
            <a:off x="468360" y="119700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36_02_00"/>
          <p:cNvPicPr/>
          <p:nvPr/>
        </p:nvPicPr>
        <p:blipFill>
          <a:blip r:embed="rId3"/>
          <a:stretch/>
        </p:blipFill>
        <p:spPr>
          <a:xfrm>
            <a:off x="5292720" y="1125360"/>
            <a:ext cx="3205080" cy="2265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2400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осторожное использование керосиновых ламп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95"/>
          <p:cNvPicPr/>
          <p:nvPr/>
        </p:nvPicPr>
        <p:blipFill>
          <a:blip r:embed="rId1"/>
          <a:stretch/>
        </p:blipFill>
        <p:spPr>
          <a:xfrm>
            <a:off x="3048120" y="1397160"/>
            <a:ext cx="3047760" cy="4063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537372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брежность при хранении легковоспламеняющихся материал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49268B0A00865"/>
          <p:cNvPicPr/>
          <p:nvPr/>
        </p:nvPicPr>
        <p:blipFill>
          <a:blip r:embed="rId1"/>
          <a:stretch/>
        </p:blipFill>
        <p:spPr>
          <a:xfrm>
            <a:off x="1979640" y="1484280"/>
            <a:ext cx="5000760" cy="3765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395280" y="1890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0" y="544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льзование металлических печей, не отвечающих правилам пожарной безопасности, оставлении печи без присмотр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76"/>
          <p:cNvPicPr/>
          <p:nvPr/>
        </p:nvPicPr>
        <p:blipFill>
          <a:blip r:embed="rId1"/>
          <a:stretch/>
        </p:blipFill>
        <p:spPr>
          <a:xfrm>
            <a:off x="2638440" y="1197000"/>
            <a:ext cx="33242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24000" y="544500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рушение правил пользования электрическими приборам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fin09bb"/>
          <p:cNvPicPr/>
          <p:nvPr/>
        </p:nvPicPr>
        <p:blipFill>
          <a:blip r:embed="rId1"/>
          <a:stretch/>
        </p:blipFill>
        <p:spPr>
          <a:xfrm>
            <a:off x="684360" y="1628640"/>
            <a:ext cx="3743280" cy="2994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122175879309561"/>
          <p:cNvPicPr/>
          <p:nvPr/>
        </p:nvPicPr>
        <p:blipFill>
          <a:blip r:embed="rId2"/>
          <a:stretch/>
        </p:blipFill>
        <p:spPr>
          <a:xfrm>
            <a:off x="5219640" y="1628640"/>
            <a:ext cx="327348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24000" y="55166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ключение нескольких бытовых приборов в одну розетку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2_418203_1"/>
          <p:cNvPicPr/>
          <p:nvPr/>
        </p:nvPicPr>
        <p:blipFill>
          <a:blip r:embed="rId1"/>
          <a:stretch/>
        </p:blipFill>
        <p:spPr>
          <a:xfrm>
            <a:off x="250920" y="907920"/>
            <a:ext cx="1903320" cy="201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56998"/>
          <p:cNvPicPr/>
          <p:nvPr/>
        </p:nvPicPr>
        <p:blipFill>
          <a:blip r:embed="rId2"/>
          <a:stretch/>
        </p:blipFill>
        <p:spPr>
          <a:xfrm>
            <a:off x="1547640" y="314172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zik_enl"/>
          <p:cNvPicPr/>
          <p:nvPr/>
        </p:nvPicPr>
        <p:blipFill>
          <a:blip r:embed="rId3"/>
          <a:stretch/>
        </p:blipFill>
        <p:spPr>
          <a:xfrm>
            <a:off x="6877080" y="1052640"/>
            <a:ext cx="1811160" cy="3419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lg_32lg6000_11"/>
          <p:cNvPicPr/>
          <p:nvPr/>
        </p:nvPicPr>
        <p:blipFill>
          <a:blip r:embed="rId4"/>
          <a:stretch/>
        </p:blipFill>
        <p:spPr>
          <a:xfrm>
            <a:off x="4067280" y="2637000"/>
            <a:ext cx="2546280" cy="2778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50920" y="486900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роткое замыкание, возникающее вследствие соединения двух проводников без изоляци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11"/>
          <p:cNvPicPr/>
          <p:nvPr/>
        </p:nvPicPr>
        <p:blipFill>
          <a:blip r:embed="rId1"/>
          <a:stretch/>
        </p:blipFill>
        <p:spPr>
          <a:xfrm>
            <a:off x="2843280" y="1484280"/>
            <a:ext cx="312408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79280" y="537372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исправность бытовых газовых прибор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264761"/>
          <p:cNvPicPr/>
          <p:nvPr/>
        </p:nvPicPr>
        <p:blipFill>
          <a:blip r:embed="rId1"/>
          <a:stretch/>
        </p:blipFill>
        <p:spPr>
          <a:xfrm>
            <a:off x="2050920" y="1557360"/>
            <a:ext cx="4891320" cy="3668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7:43:29Z</dcterms:created>
  <dc:creator>Ershova</dc:creator>
  <dc:description/>
  <dc:language>en-US</dc:language>
  <cp:lastModifiedBy>Admin</cp:lastModifiedBy>
  <dcterms:modified xsi:type="dcterms:W3CDTF">2023-06-08T17:27:34Z</dcterms:modified>
  <cp:revision>51</cp:revision>
  <dc:subject/>
  <dc:title>Слайд 1</dc:title>
</cp:coreProperties>
</file>