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BEA5-62F5-492B-BDD1-89DAB455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2FAD-6AF8-4F74-8E5B-C37AD76C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1209-3ECB-4755-AEC3-780BC375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0E44-6335-4A14-B9E8-B1E0A961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BD4CA-30E8-4EF4-BDF8-1614B115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CA4D4-BB11-451F-8AAB-A665ABD2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D9476-74E7-4D3E-825C-C1A981F2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A325C-8D87-4322-A544-71AD744E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B5DF2-2A71-4E6B-86AC-FF790140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6900B-BE13-4A23-B7BC-105CC3EE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38FC6-7A96-4B15-A6FF-51F0850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9A89-6863-4BC0-9693-29552DA7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3F4A2-D60E-4333-9B8B-75545420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49486-E7D4-4F11-8296-EC51A8E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70760-584A-4640-B99A-DB34A96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B7481-3501-42BC-BA7F-8C1DDCA2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B8583-F9D5-4002-96CC-6722859D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E47C4-B536-422B-92ED-4E28945F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D86E3-9A79-400B-AB25-DD1F2DF1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D7851-4268-4CBB-9E0D-82A2EAB3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314A1-6B24-4418-A335-1467E5AC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E423A-6CD0-4D7A-A49C-D1220072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E148-BD2A-4788-B0E6-FBD14938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2BA18-AA21-4E0D-9619-2761A1B5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437AA-001D-4A14-8746-DAE95A73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C5C57-7F37-494A-ABDB-8872C56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1900E-9C12-4B03-86B2-2214EB43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B9328-6757-4FAA-BF2E-44AB7F72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E451E-7D25-41F5-A9C1-1C1EA556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36E61-0483-44A4-8CF8-604EADE4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B30D-0D64-4BE4-A754-81DCDE96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3920-8A41-40E0-8822-B4EF4D92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6D05-9CE5-41CD-8FC0-068F7C30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8CE3-3739-4120-B83D-3E19F99C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1517-E456-4375-BF30-908A8CD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8805-CE5E-40B0-A822-0F04EAD2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4875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6920" cy="855720"/>
            <a:chOff x="0" y="6019920"/>
            <a:chExt cx="7846920" cy="85572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1880" cy="849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0240" cy="855720"/>
              <a:chOff x="3946680" y="6019920"/>
              <a:chExt cx="3900240" cy="85572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79320" cy="84456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3760" cy="6253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598680" cy="4287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480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480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0440" cy="847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547-1D0B-4390-9798-08529E5679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2560" cy="6856560"/>
            <a:chOff x="-6480" y="20520"/>
            <a:chExt cx="9142560" cy="685656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2560" cy="48754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2240" cy="849600"/>
            <a:chOff x="-1440" y="6033960"/>
            <a:chExt cx="7842240" cy="84960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0440" cy="8496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5920" cy="849600"/>
              <a:chOff x="3944880" y="6033960"/>
              <a:chExt cx="3895920" cy="84960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800" y="6045120"/>
                <a:ext cx="1575000" cy="83844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2320" cy="6256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598680" cy="4284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444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372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0080" cy="8478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5E4C-D622-4C23-841C-2AA75F2E3C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487692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9142560" cy="4875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6019920"/>
            <a:ext cx="7846920" cy="855720"/>
            <a:chOff x="0" y="6019920"/>
            <a:chExt cx="7846920" cy="855720"/>
          </a:xfrm>
        </p:grpSpPr>
        <p:sp>
          <p:nvSpPr>
            <p:cNvPr id="127" name=""/>
            <p:cNvSpPr/>
            <p:nvPr/>
          </p:nvSpPr>
          <p:spPr>
            <a:xfrm>
              <a:off x="2362320" y="6019920"/>
              <a:ext cx="5141880" cy="849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946680" y="6019920"/>
              <a:ext cx="3900240" cy="855720"/>
              <a:chOff x="3946680" y="6019920"/>
              <a:chExt cx="3900240" cy="855720"/>
            </a:xfrm>
          </p:grpSpPr>
          <p:sp>
            <p:nvSpPr>
              <p:cNvPr id="129" name=""/>
              <p:cNvSpPr/>
              <p:nvPr/>
            </p:nvSpPr>
            <p:spPr>
              <a:xfrm>
                <a:off x="6267600" y="6031080"/>
                <a:ext cx="1579320" cy="84456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49800" y="6019920"/>
                <a:ext cx="293760" cy="6253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09960" y="6180120"/>
                <a:ext cx="598680" cy="4287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59280" y="6137280"/>
                <a:ext cx="24480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46680" y="6126120"/>
                <a:ext cx="6480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0" y="6019920"/>
              <a:ext cx="6310440" cy="847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136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7F6B-DF03-4394-AD88-4FF081E488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908000" y="0"/>
          <a:ext cx="5264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264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4872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124000" y="0"/>
          <a:ext cx="47959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47959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692360" y="0"/>
          <a:ext cx="5807160" cy="78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807160" cy="78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195640" y="0"/>
          <a:ext cx="4795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4795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92360" y="0"/>
          <a:ext cx="5754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754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35280" y="0"/>
          <a:ext cx="51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0"/>
                    <a:ext cx="51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19280" y="-171360"/>
          <a:ext cx="6165720" cy="80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-171360"/>
                    <a:ext cx="616572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124000" y="0"/>
          <a:ext cx="4891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4891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иктор Петруня 1955 - 1987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700360" y="115920"/>
          <a:ext cx="354492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15920"/>
                    <a:ext cx="354492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18"/>
                </a:solidFill>
                <a:latin typeface="Arial"/>
              </a:rPr>
              <a:t>Нет героев от рождения,</a:t>
            </a:r>
            <a:br>
              <a:rPr sz="3000"/>
            </a:br>
            <a:r>
              <a:rPr b="0" lang="ru-RU" sz="3000" spc="-1" strike="noStrike">
                <a:solidFill>
                  <a:srgbClr val="000018"/>
                </a:solidFill>
                <a:latin typeface="Arial"/>
              </a:rPr>
              <a:t>                 Они рождаются в боях</a:t>
            </a:r>
            <a:br>
              <a:rPr sz="3000"/>
            </a:br>
            <a:r>
              <a:rPr b="0" lang="ru-RU" sz="3000" spc="-1" strike="noStrike">
                <a:solidFill>
                  <a:srgbClr val="000018"/>
                </a:solidFill>
                <a:latin typeface="Arial"/>
              </a:rPr>
              <a:t>                    А. Твардовский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23760" y="2347920"/>
            <a:ext cx="7363080" cy="1285920"/>
          </a:xfrm>
          <a:prstGeom prst="rect">
            <a:avLst/>
          </a:prstGeom>
        </p:spPr>
        <p:txBody>
          <a:bodyPr wrap="none" lIns="90000" rIns="90000" tIns="46800" bIns="46800" anchor="ctr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Афганистан болит в моей душе</a:t>
            </a:r>
            <a:endParaRPr b="0" lang="en-US" sz="40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ергей Клишин 1967 - 1986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12920" y="0"/>
          <a:ext cx="4359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0"/>
                    <a:ext cx="4359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3745080" cy="5182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195640" y="115920"/>
          <a:ext cx="4878360" cy="67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15920"/>
                    <a:ext cx="487836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195640" y="0"/>
          <a:ext cx="5041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041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4000"/>
            </a:b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рденом Красной Звезды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арнавский Виктор Иванович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18"/>
                </a:solidFill>
                <a:latin typeface="Arial"/>
              </a:rPr>
              <a:t>Клишин Сергей Николаевич </a:t>
            </a:r>
            <a:r>
              <a:rPr b="0" lang="ru-RU" sz="4000" spc="-1" strike="noStrike">
                <a:solidFill>
                  <a:srgbClr val="000018"/>
                </a:solidFill>
                <a:latin typeface="Arial"/>
              </a:rPr>
              <a:t>(посмертно)</a:t>
            </a:r>
            <a:br>
              <a:rPr sz="4000"/>
            </a:br>
            <a:r>
              <a:rPr b="0" lang="ru-RU" sz="4000" spc="-1" strike="noStrike">
                <a:solidFill>
                  <a:srgbClr val="000018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анарин Владимир Николаевич</a:t>
            </a:r>
            <a:br>
              <a:rPr sz="4000"/>
            </a:br>
            <a:r>
              <a:rPr b="1" lang="ru-RU" sz="4000" spc="-1" strike="noStrike">
                <a:solidFill>
                  <a:srgbClr val="000018"/>
                </a:solidFill>
                <a:latin typeface="Arial"/>
              </a:rPr>
              <a:t>Петруня Виктор Иванович</a:t>
            </a:r>
            <a:r>
              <a:rPr b="1" lang="ru-RU" sz="4000" spc="-1" strike="noStrike" u="sng">
                <a:solidFill>
                  <a:srgbClr val="000018"/>
                </a:solidFill>
                <a:uFillTx/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18"/>
                </a:solidFill>
                <a:uFillTx/>
                <a:latin typeface="Arial"/>
              </a:rPr>
              <a:t>(посмертно)</a:t>
            </a: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000018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далью «За отвагу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18"/>
                </a:solidFill>
                <a:latin typeface="Arial"/>
              </a:rPr>
              <a:t>Батищев Виктор Николае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динов Петр Ивано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ксимов Александр Семено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вельев Владимир Михайло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вельев Александр Михайло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льянов Владимир Николае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Медалью «За боевые заслуги»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иев Малашахбан Салман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18"/>
                </a:solidFill>
                <a:latin typeface="Arial"/>
              </a:rPr>
              <a:t>Воропаев Геннадий Павл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анков Владимир Его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злов Виктор Андре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осков Олег Александ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овалов Юрий Викто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трюков Владимир Дмитри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динов Петр Иван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дрявцев Владимир Владими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знецов Геннадий Александ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рная Ольга Леонидовн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пыкин Александр Никола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бников Андрей Анатоль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ьяно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00000" y="333360"/>
          <a:ext cx="7488360" cy="59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33360"/>
                    <a:ext cx="748836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908000" y="0"/>
          <a:ext cx="5046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04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832720" cy="4375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050920" y="115920"/>
          <a:ext cx="4800600" cy="62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15920"/>
                    <a:ext cx="48006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340000" y="189000"/>
          <a:ext cx="437508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9000"/>
                    <a:ext cx="437508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68360" y="260280"/>
          <a:ext cx="424836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0280"/>
                    <a:ext cx="424836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979640" y="0"/>
          <a:ext cx="4968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0"/>
                    <a:ext cx="4968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 Роенко</cp:lastModifiedBy>
  <dcterms:modified xsi:type="dcterms:W3CDTF">2023-02-15T09:56:2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