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FE0E-F6F6-47E4-90D3-F7C520C7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9439-0648-4B5A-B413-91457128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99CC-8D73-4764-A1B9-93E9799F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5297-C6D2-4D5F-9F37-D6F7E88A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2F1DD-6AD8-4354-8E1A-2180BDE0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B3065-DF9E-4399-AB5A-F45EA7A1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98AA4-BAA4-4C53-8AB3-AF02E350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4D056-7ADE-4C96-8E8F-D9F666C2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7D127-360E-4379-B320-0238F92B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80C12-487B-4A59-BE69-5098E62F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7C420-2708-4B0A-AF81-7544649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08B8-31A3-4E55-B634-A05E1133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A2031-1A3D-4710-95C9-53CAFAEA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A3CEF-02BB-4827-9C43-D8B6CFDB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0C6B7-B852-41A4-AE27-8D58330D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05374-5750-4930-A949-449F210B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CD227-9A39-4B75-A10E-C6E96F35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D764E-C5A6-4907-A338-2D95AB5A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846D5-08DA-4E8F-9558-C5103B48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AE5D6-FCE5-40F7-8B6C-0C790AF1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68357-2CE1-4AC5-8F3C-8A489336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AF920-9038-43AE-8B66-D37CEEAB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B852-DED5-4FBB-8EB2-1C614754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C080A-59B5-4A9D-813F-1E72AAB8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01E3F-5BCD-467A-90A8-3F73495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88342-565D-453B-8A6F-8585494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57504-42CC-4D42-B8A7-8B72702A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013D9-94E9-4400-AEDE-4E26CE82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DF483-1702-4D1F-AA8A-B4A00A2A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A246A-7914-4ABA-85B5-8533E40F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92C8-831A-4D80-B888-FC7394EE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61F10-E8D2-4F56-A249-8C7A505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577E-C9BD-4F6B-87C3-8339B28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7E29-2D9B-4822-9DFE-14363E6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CDC9-A1E6-4C46-9E70-8DE075E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F8A0-5362-4378-A435-95D9D889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4875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6920" cy="855720"/>
            <a:chOff x="0" y="6019920"/>
            <a:chExt cx="7846920" cy="85572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1880" cy="849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0240" cy="855720"/>
              <a:chOff x="3946680" y="6019920"/>
              <a:chExt cx="3900240" cy="85572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79320" cy="84456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3760" cy="6253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598680" cy="4287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480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480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0440" cy="847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EAFA-CFFA-4172-962F-4036114D19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2560" cy="6856560"/>
            <a:chOff x="-6480" y="20520"/>
            <a:chExt cx="9142560" cy="685656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2560" cy="48754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2240" cy="849600"/>
            <a:chOff x="-1440" y="6033960"/>
            <a:chExt cx="7842240" cy="84960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0440" cy="8496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5920" cy="849600"/>
              <a:chOff x="3944880" y="6033960"/>
              <a:chExt cx="3895920" cy="84960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800" y="6045120"/>
                <a:ext cx="1575000" cy="83844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2320" cy="6256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598680" cy="4284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444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372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0080" cy="8478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4FC4-9E9D-42D5-85FD-F284D850F4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487692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9142560" cy="4875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6019920"/>
            <a:ext cx="7846920" cy="855720"/>
            <a:chOff x="0" y="6019920"/>
            <a:chExt cx="7846920" cy="855720"/>
          </a:xfrm>
        </p:grpSpPr>
        <p:sp>
          <p:nvSpPr>
            <p:cNvPr id="127" name=""/>
            <p:cNvSpPr/>
            <p:nvPr/>
          </p:nvSpPr>
          <p:spPr>
            <a:xfrm>
              <a:off x="2362320" y="6019920"/>
              <a:ext cx="5141880" cy="849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946680" y="6019920"/>
              <a:ext cx="3900240" cy="855720"/>
              <a:chOff x="3946680" y="6019920"/>
              <a:chExt cx="3900240" cy="855720"/>
            </a:xfrm>
          </p:grpSpPr>
          <p:sp>
            <p:nvSpPr>
              <p:cNvPr id="129" name=""/>
              <p:cNvSpPr/>
              <p:nvPr/>
            </p:nvSpPr>
            <p:spPr>
              <a:xfrm>
                <a:off x="6267600" y="6031080"/>
                <a:ext cx="1579320" cy="84456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49800" y="6019920"/>
                <a:ext cx="293760" cy="6253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09960" y="6180120"/>
                <a:ext cx="598680" cy="4287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59280" y="6137280"/>
                <a:ext cx="24480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46680" y="6126120"/>
                <a:ext cx="6480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0" y="6019920"/>
              <a:ext cx="6310440" cy="847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136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C86C-0C20-4F9D-915A-74B60C5E15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908000" y="0"/>
          <a:ext cx="5264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264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4872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124000" y="0"/>
          <a:ext cx="47959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47959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692360" y="0"/>
          <a:ext cx="5807160" cy="78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807160" cy="78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195640" y="0"/>
          <a:ext cx="4795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4795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92360" y="0"/>
          <a:ext cx="5754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754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35280" y="0"/>
          <a:ext cx="51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0"/>
                    <a:ext cx="51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19280" y="-171360"/>
          <a:ext cx="6165720" cy="80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-171360"/>
                    <a:ext cx="616572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124000" y="0"/>
          <a:ext cx="4891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4891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иктор Петруня 1955 - 1987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700360" y="115920"/>
          <a:ext cx="354492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15920"/>
                    <a:ext cx="354492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18"/>
                </a:solidFill>
                <a:latin typeface="Arial"/>
              </a:rPr>
              <a:t>Нет героев от рождения,</a:t>
            </a:r>
            <a:br>
              <a:rPr sz="3000"/>
            </a:br>
            <a:r>
              <a:rPr b="0" lang="ru-RU" sz="3000" spc="-1" strike="noStrike">
                <a:solidFill>
                  <a:srgbClr val="000018"/>
                </a:solidFill>
                <a:latin typeface="Arial"/>
              </a:rPr>
              <a:t>                 Они рождаются в боях</a:t>
            </a:r>
            <a:br>
              <a:rPr sz="3000"/>
            </a:br>
            <a:r>
              <a:rPr b="0" lang="ru-RU" sz="3000" spc="-1" strike="noStrike">
                <a:solidFill>
                  <a:srgbClr val="000018"/>
                </a:solidFill>
                <a:latin typeface="Arial"/>
              </a:rPr>
              <a:t>                    А. Твардовский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23760" y="2347920"/>
            <a:ext cx="7363080" cy="1285920"/>
          </a:xfrm>
          <a:prstGeom prst="rect">
            <a:avLst/>
          </a:prstGeom>
        </p:spPr>
        <p:txBody>
          <a:bodyPr wrap="none" lIns="90000" rIns="90000" tIns="46800" bIns="46800" anchor="ctr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Афганистан болит в моей душе</a:t>
            </a:r>
            <a:endParaRPr b="0" lang="en-US" sz="40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ергей Клишин 1967 - 1986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12920" y="0"/>
          <a:ext cx="4359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0"/>
                    <a:ext cx="4359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3745080" cy="5182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195640" y="115920"/>
          <a:ext cx="4878360" cy="67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15920"/>
                    <a:ext cx="487836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195640" y="0"/>
          <a:ext cx="5041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041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4000"/>
            </a:b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рденом Красной Звезды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арнавский Виктор Иванович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18"/>
                </a:solidFill>
                <a:latin typeface="Arial"/>
              </a:rPr>
              <a:t>Клишин Сергей Николаевич </a:t>
            </a:r>
            <a:r>
              <a:rPr b="0" lang="ru-RU" sz="4000" spc="-1" strike="noStrike">
                <a:solidFill>
                  <a:srgbClr val="000018"/>
                </a:solidFill>
                <a:latin typeface="Arial"/>
              </a:rPr>
              <a:t>(посмертно)</a:t>
            </a:r>
            <a:br>
              <a:rPr sz="4000"/>
            </a:br>
            <a:r>
              <a:rPr b="0" lang="ru-RU" sz="4000" spc="-1" strike="noStrike">
                <a:solidFill>
                  <a:srgbClr val="000018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анарин Владимир Николаевич</a:t>
            </a:r>
            <a:br>
              <a:rPr sz="4000"/>
            </a:br>
            <a:r>
              <a:rPr b="1" lang="ru-RU" sz="4000" spc="-1" strike="noStrike">
                <a:solidFill>
                  <a:srgbClr val="000018"/>
                </a:solidFill>
                <a:latin typeface="Arial"/>
              </a:rPr>
              <a:t>Петруня Виктор Иванович</a:t>
            </a:r>
            <a:r>
              <a:rPr b="1" lang="ru-RU" sz="4000" spc="-1" strike="noStrike" u="sng">
                <a:solidFill>
                  <a:srgbClr val="000018"/>
                </a:solidFill>
                <a:uFillTx/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18"/>
                </a:solidFill>
                <a:uFillTx/>
                <a:latin typeface="Arial"/>
              </a:rPr>
              <a:t>(посмертно)</a:t>
            </a: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000018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далью «За отвагу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18"/>
                </a:solidFill>
                <a:latin typeface="Arial"/>
              </a:rPr>
              <a:t>Батищев Виктор Николае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динов Петр Ивано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ксимов Александр Семено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вельев Владимир Михайло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вельев Александр Михайло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льянов Владимир Николаевич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Медалью «За боевые заслуги»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иев Малашахбан Салман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18"/>
                </a:solidFill>
                <a:latin typeface="Arial"/>
              </a:rPr>
              <a:t>Воропаев Геннадий Павл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анков Владимир Его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злов Виктор Андре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осков Олег Александ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овалов Юрий Викто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трюков Владимир Дмитри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динов Петр Иван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дрявцев Владимир Владими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знецов Геннадий Александро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рная Ольга Леонидовн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пыкин Александр Никола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бников Андрей Анатоль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ьяно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00000" y="333360"/>
          <a:ext cx="7488360" cy="59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33360"/>
                    <a:ext cx="748836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908000" y="0"/>
          <a:ext cx="5046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04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832720" cy="4375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050920" y="115920"/>
          <a:ext cx="4800600" cy="62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15920"/>
                    <a:ext cx="48006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340000" y="189000"/>
          <a:ext cx="437508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9000"/>
                    <a:ext cx="437508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68360" y="260280"/>
          <a:ext cx="424836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0280"/>
                    <a:ext cx="424836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979640" y="0"/>
          <a:ext cx="4968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0"/>
                    <a:ext cx="4968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 Роенко</cp:lastModifiedBy>
  <dcterms:modified xsi:type="dcterms:W3CDTF">2023-02-15T09:56:2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