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3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media/image38.jpeg" ContentType="image/jpeg"/>
  <Override PartName="/ppt/media/image40.jpeg" ContentType="image/jpeg"/>
  <Override PartName="/ppt/media/image11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35.jpeg" ContentType="image/jpeg"/>
  <Override PartName="/ppt/media/image39.jpeg" ContentType="image/jpeg"/>
  <Override PartName="/ppt/media/image8.png" ContentType="image/png"/>
  <Override PartName="/ppt/media/image5.jpeg" ContentType="image/jpeg"/>
  <Override PartName="/ppt/media/image36.jpeg" ContentType="image/jpeg"/>
  <Override PartName="/ppt/media/image2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49E-61C4-4E20-8AA6-AFDB9788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8378-902E-4C47-B4BB-00DD57D7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6F5-9F11-4743-AFB6-2EDDC3E2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5972-3A96-4E77-8E15-40B55D8F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9397-1221-4593-91F6-C19EE0C7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8F66-FAB3-4003-A17B-81F62D72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3BF2-6C0B-4BD3-AE32-B6078846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F988-A0D5-424C-9B1A-A5E26CF8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56CD-26C3-4F8A-B26E-DDE84A87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A3E0-C758-4C81-A73A-3C185A8F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BF28-3042-4F5C-94DC-95736A74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36B-55F0-4F9D-BFB6-230FA13A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1719-7261-416E-98F9-28CC859A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67ED-2B8A-4C4B-B02B-C0765AAF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9A31-45FD-4F39-9B1C-5CC91956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68B2-E83C-4BA4-86FA-919D58F3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4FEA-D67F-4DCA-853D-1B57007C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D6AAC-9A60-4986-9BDE-539D17FA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CAE36-CF31-4954-AB01-7DC9EE46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41C3A-C68E-423A-82EE-DFF5F85A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07E45-A4E5-42E7-806E-3EDA2354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B14F9-D7A9-4359-87C9-67677E2B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125-7004-4BA3-96A4-F2BBCE0B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4F8E6-F2B0-4FAA-BBC6-DC7017D7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14A1F-E2AA-4416-9ED3-8282331E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2193C-B555-4A28-B523-9D43F710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F57F6-07AD-40FE-80F9-EA810BE8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5534B-F9E8-4582-B716-F2901D24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F58D4-6530-4393-AA1D-C78B88F5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5F410-A3CA-42AD-A7AA-56E6860B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947B6-247B-4E95-8A91-15A2DE45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1F180-C0B7-445B-83D2-CC279D3C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5FD15-81F9-4730-B5E3-C8FD63DD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3CC2-F74F-4849-A9F9-C80D72A9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66630-59AD-460B-9914-B8EA12D3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826FC-12D5-497C-ADEA-2A702093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A4617-F80D-4D94-AB81-CC04D594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070AF-B4DD-4260-8D48-3682C2E6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6F4E1-CD46-43F9-B58F-69FB2D05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29687-CBAF-400A-92AF-992F646E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3F86C-9D52-4206-AE78-E17EFC1B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F5A5C-C157-4512-93F8-8C75AF05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3F2BA-5466-4646-B68C-D17A0F95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34AB9-CB5C-4430-9941-A3530524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A32-7189-49CC-8319-219901A3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F2622-BF88-4A12-818F-497ACEE2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5A351-09AC-4FED-A4E0-1A771955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D4DFB-DAFA-4F2B-AA5F-A7763904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E7278-BB28-476B-8EB9-32395698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01163-A5A2-447B-8EBD-606C1A6A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4CEA2-6AD3-4782-8B3B-7D0B7BB5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493DF-5101-4CCE-9229-5B4DD143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F0B15-E011-48FB-9237-CCD27212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E89CC-A5E4-4562-BE8E-A1DBA9D2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2A595-F77D-4589-B225-1096223E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51CE-00ED-4AF4-A6E2-818F1BB6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8DB78-8FB8-4DB7-8D40-FD718E2A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4B124-23F7-459D-B169-CEEE8AB0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1794D-8EB7-47C4-AAB4-9DEA9C90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2F0FC-DA84-4D98-A2BA-B2B34B69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F37C0-4BFA-4B04-B09A-D1742846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0E99D-B438-4402-8803-A82EA310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BD6A8-B8E6-4321-B4F3-34C71D9A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39D0B-9BA4-4B67-873E-930D241A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6DC53-CF71-444E-A1CC-A19E83C7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E009E-7877-4890-8BC0-17345338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AC2-46A5-4513-8A7E-4E8687B3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892D1-62D6-4418-9579-D3DEA6C8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20D53-9CB8-41EF-AC4E-652CC8CC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D557E-756F-4953-8B14-489AB3C6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50D5D-B3B4-483D-AC3B-2964D79F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6A5D5-72F1-43FA-8ADD-AD120F49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C009F-0143-48D3-B56D-D3934E92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70381-1A50-4697-A588-5F310737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52E78-7AA4-416A-BD82-62D995D6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886CB-ACC8-4B7E-BAA2-1FF555F1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4AB18-B544-4827-B116-07D65493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078-A089-43AF-8839-981F7C66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F926E-758D-4E3E-825B-79D87F47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46EEF-9E0A-481D-8943-20B99DBC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ED466-25AD-4805-9AEC-3152B144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C1B2B-414B-4195-9BE3-8F9A55AC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DE90E-BEE1-4332-85F6-E562AF6B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16EC-933E-4DB1-BCB3-C10A3CDD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7FE4-B94F-4E45-A5C3-752581AC2C3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F263-C2D6-477E-938D-B787B3BA100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DB6C-22C2-4CB6-9ABB-25BB37972D8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87FE-D6D9-4D37-85E7-30F588237B0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E204-D97C-47B4-9FF3-5E1AE207211C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2C26-D32F-48EF-A89D-B2D4C182C3B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9520" y="12175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9520" y="12823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32520" y="1370160"/>
              <a:ext cx="658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3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32520" y="1434960"/>
              <a:ext cx="658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4400" y="14731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4400" y="15379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07C4-CECD-4B67-A21C-1FCD356768D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2340000" y="6237000"/>
            <a:ext cx="4410000" cy="4316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Санкт-Петербург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2023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69" name="Прямоугольник 4" descr=""/>
          <p:cNvPicPr/>
          <p:nvPr/>
        </p:nvPicPr>
        <p:blipFill>
          <a:blip r:embed="rId1"/>
          <a:stretch/>
        </p:blipFill>
        <p:spPr>
          <a:xfrm>
            <a:off x="324000" y="1285920"/>
            <a:ext cx="8820000" cy="2584440"/>
          </a:xfrm>
          <a:prstGeom prst="rect">
            <a:avLst/>
          </a:prstGeom>
          <a:ln w="0">
            <a:noFill/>
          </a:ln>
        </p:spPr>
      </p:pic>
      <p:sp>
        <p:nvSpPr>
          <p:cNvPr id="370" name="Подзаголовок 2"/>
          <p:cNvSpPr/>
          <p:nvPr/>
        </p:nvSpPr>
        <p:spPr>
          <a:xfrm>
            <a:off x="4886280" y="4229280"/>
            <a:ext cx="44100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езентацию выполни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Баранова Е.П., Лапина Е.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78688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Задание 2</a:t>
            </a:r>
            <a:br>
              <a:rPr sz="3600"/>
            </a:b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 Решить задачу (лист 3)</a:t>
            </a:r>
            <a:br>
              <a:rPr sz="3600"/>
            </a:b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5" name="Таблица 3" descr=""/>
          <p:cNvPicPr/>
          <p:nvPr/>
        </p:nvPicPr>
        <p:blipFill>
          <a:blip r:embed="rId1"/>
          <a:stretch/>
        </p:blipFill>
        <p:spPr>
          <a:xfrm>
            <a:off x="420840" y="1809720"/>
            <a:ext cx="8753400" cy="47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78688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Задание 2</a:t>
            </a:r>
            <a:br>
              <a:rPr sz="3600"/>
            </a:b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 Решить задачу (лист 3)</a:t>
            </a:r>
            <a:br>
              <a:rPr sz="3600"/>
            </a:b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7" name="Таблица 3" descr=""/>
          <p:cNvPicPr/>
          <p:nvPr/>
        </p:nvPicPr>
        <p:blipFill>
          <a:blip r:embed="rId1"/>
          <a:stretch/>
        </p:blipFill>
        <p:spPr>
          <a:xfrm>
            <a:off x="420840" y="1809720"/>
            <a:ext cx="8753400" cy="47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Задание 2</a:t>
            </a:r>
            <a:br>
              <a:rPr sz="3600"/>
            </a:b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 Решить задачу (лист 3)</a:t>
            </a:r>
            <a:br>
              <a:rPr sz="3600"/>
            </a:b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9" name="Таблица 3" descr=""/>
          <p:cNvPicPr/>
          <p:nvPr/>
        </p:nvPicPr>
        <p:blipFill>
          <a:blip r:embed="rId1"/>
          <a:stretch/>
        </p:blipFill>
        <p:spPr>
          <a:xfrm>
            <a:off x="420840" y="1809720"/>
            <a:ext cx="8753400" cy="47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7120" y="1890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Задание 3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93480" y="1196640"/>
            <a:ext cx="87865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траектории движения ИСЗ (лист 4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2" name="Рисунок 2" descr=""/>
          <p:cNvPicPr/>
          <p:nvPr/>
        </p:nvPicPr>
        <p:blipFill>
          <a:blip r:embed="rId1"/>
          <a:stretch/>
        </p:blipFill>
        <p:spPr>
          <a:xfrm>
            <a:off x="657360" y="2448000"/>
            <a:ext cx="8235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78688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Задание 4.</a:t>
            </a:r>
            <a:r>
              <a:rPr b="1" i="1" lang="ru-RU" sz="24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 Проставьте против каждого пункта буквенное обозначение соответствующего значения скорости ИСЗ, необходимой для:</a:t>
            </a:r>
            <a:br>
              <a:rPr sz="2400"/>
            </a:br>
            <a:r>
              <a:rPr b="1" i="1" lang="ru-RU" sz="2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1 – скорость, меньше первой космической;</a:t>
            </a:r>
            <a:br>
              <a:rPr sz="2400"/>
            </a:br>
            <a:r>
              <a:rPr b="1" i="1" lang="ru-RU" sz="2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2 – скорость, равная первой космической;</a:t>
            </a:r>
            <a:br>
              <a:rPr sz="2400"/>
            </a:br>
            <a:r>
              <a:rPr b="1" i="1" lang="ru-RU" sz="2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3 – скорость, больше первой космической;</a:t>
            </a:r>
            <a:br>
              <a:rPr sz="2400"/>
            </a:br>
            <a:r>
              <a:rPr b="1" i="1" lang="ru-RU" sz="2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4 – скорость, равную второй космической  </a:t>
            </a:r>
            <a:r>
              <a:rPr b="0" i="1" lang="ru-RU" sz="2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(лист 5)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28400" y="2852640"/>
            <a:ext cx="871524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длительных метеорологических наблюдений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пографической съёмки поверхности Луны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ёта на Марс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авки зонда на Юпитер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игационных наблюдений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ования атмосферы Солнца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уска космического телескопа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ования атмосферы  Земли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высадки человека на Луну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5" name="Рисунок 2" descr=""/>
          <p:cNvPicPr/>
          <p:nvPr/>
        </p:nvPicPr>
        <p:blipFill>
          <a:blip r:embed="rId1"/>
          <a:stretch/>
        </p:blipFill>
        <p:spPr>
          <a:xfrm>
            <a:off x="6875640" y="981000"/>
            <a:ext cx="21081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828720" y="1268280"/>
            <a:ext cx="87868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Задание 5.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94920" y="2911320"/>
            <a:ext cx="8572680" cy="25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ать текст (лист 6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новите хронологическую последовательность событий в области космонавтик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8" name="Рисунок 2" descr=""/>
          <p:cNvPicPr/>
          <p:nvPr/>
        </p:nvPicPr>
        <p:blipFill>
          <a:blip r:embed="rId1"/>
          <a:stretch/>
        </p:blipFill>
        <p:spPr>
          <a:xfrm>
            <a:off x="5335560" y="30240"/>
            <a:ext cx="380844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3" descr="912462.jpg"/>
          <p:cNvPicPr/>
          <p:nvPr/>
        </p:nvPicPr>
        <p:blipFill>
          <a:blip r:embed="rId1"/>
          <a:stretch/>
        </p:blipFill>
        <p:spPr>
          <a:xfrm>
            <a:off x="500040" y="0"/>
            <a:ext cx="4357800" cy="345600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2"/>
          <p:cNvSpPr/>
          <p:nvPr/>
        </p:nvSpPr>
        <p:spPr>
          <a:xfrm>
            <a:off x="4857840" y="0"/>
            <a:ext cx="42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4 октября 1957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Прямоугольник 3"/>
          <p:cNvSpPr/>
          <p:nvPr/>
        </p:nvSpPr>
        <p:spPr>
          <a:xfrm>
            <a:off x="4857840" y="942840"/>
            <a:ext cx="428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ущен первый искусственный спутник Земли Спутник-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5"/>
          <p:cNvSpPr/>
          <p:nvPr/>
        </p:nvSpPr>
        <p:spPr>
          <a:xfrm>
            <a:off x="392040" y="461160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ущен второй искусственный спутник Земли Спутник-2, впервые выведший в космос живое существо, — собаку Лайк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7"/>
          <p:cNvSpPr/>
          <p:nvPr/>
        </p:nvSpPr>
        <p:spPr>
          <a:xfrm>
            <a:off x="500040" y="3824280"/>
            <a:ext cx="380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3 ноября 195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Рисунок 8" descr=""/>
          <p:cNvPicPr/>
          <p:nvPr/>
        </p:nvPicPr>
        <p:blipFill>
          <a:blip r:embed="rId2"/>
          <a:stretch/>
        </p:blipFill>
        <p:spPr>
          <a:xfrm>
            <a:off x="4964040" y="3689280"/>
            <a:ext cx="39420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Прямоугольник 3"/>
          <p:cNvSpPr/>
          <p:nvPr/>
        </p:nvSpPr>
        <p:spPr>
          <a:xfrm>
            <a:off x="3419640" y="4292640"/>
            <a:ext cx="538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в истории орбитальный полёт в космос живых существ с успешным возвращением на Землю.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абле «Спутник-5» этот полёт совершили собаки Белка и Стрел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2" descr="http://im7-tub-ru.yandex.net/i?id=92454747-18-72&amp;n=21"/>
          <p:cNvPicPr/>
          <p:nvPr/>
        </p:nvPicPr>
        <p:blipFill>
          <a:blip r:embed="rId1"/>
          <a:stretch/>
        </p:blipFill>
        <p:spPr>
          <a:xfrm>
            <a:off x="573120" y="541440"/>
            <a:ext cx="5694480" cy="3222360"/>
          </a:xfrm>
          <a:prstGeom prst="rect">
            <a:avLst/>
          </a:prstGeom>
          <a:ln w="0">
            <a:noFill/>
          </a:ln>
        </p:spPr>
      </p:pic>
      <p:sp>
        <p:nvSpPr>
          <p:cNvPr id="437" name="Прямоугольник 7"/>
          <p:cNvSpPr/>
          <p:nvPr/>
        </p:nvSpPr>
        <p:spPr>
          <a:xfrm>
            <a:off x="5940360" y="2033640"/>
            <a:ext cx="32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19 августа 1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Рисунок 3" descr=""/>
          <p:cNvPicPr/>
          <p:nvPr/>
        </p:nvPicPr>
        <p:blipFill>
          <a:blip r:embed="rId1"/>
          <a:stretch/>
        </p:blipFill>
        <p:spPr>
          <a:xfrm>
            <a:off x="468360" y="4897440"/>
            <a:ext cx="2303280" cy="179064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4" descr=""/>
          <p:cNvPicPr/>
          <p:nvPr/>
        </p:nvPicPr>
        <p:blipFill>
          <a:blip r:embed="rId2"/>
          <a:stretch/>
        </p:blipFill>
        <p:spPr>
          <a:xfrm>
            <a:off x="6300720" y="4897440"/>
            <a:ext cx="2627280" cy="1886040"/>
          </a:xfrm>
          <a:prstGeom prst="rect">
            <a:avLst/>
          </a:prstGeom>
          <a:ln w="0">
            <a:noFill/>
          </a:ln>
        </p:spPr>
      </p:pic>
      <p:pic>
        <p:nvPicPr>
          <p:cNvPr id="440" name="Содержимое 3" descr="2.jpeg"/>
          <p:cNvPicPr/>
          <p:nvPr/>
        </p:nvPicPr>
        <p:blipFill>
          <a:blip r:embed="rId3"/>
          <a:stretch/>
        </p:blipFill>
        <p:spPr>
          <a:xfrm>
            <a:off x="3059280" y="15840"/>
            <a:ext cx="3500280" cy="2714760"/>
          </a:xfrm>
          <a:prstGeom prst="rect">
            <a:avLst/>
          </a:prstGeom>
          <a:ln w="0">
            <a:noFill/>
          </a:ln>
        </p:spPr>
      </p:pic>
      <p:sp>
        <p:nvSpPr>
          <p:cNvPr id="441" name="Прямоугольник 6"/>
          <p:cNvSpPr/>
          <p:nvPr/>
        </p:nvSpPr>
        <p:spPr>
          <a:xfrm>
            <a:off x="716040" y="3645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полёт человека в космос (Юрий Гагарин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орабле Восток-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Прямоугольник 8"/>
          <p:cNvSpPr/>
          <p:nvPr/>
        </p:nvSpPr>
        <p:spPr>
          <a:xfrm>
            <a:off x="3147480" y="2936880"/>
            <a:ext cx="37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12 апреля  196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Рисунок 4" descr="4.jpeg"/>
          <p:cNvPicPr/>
          <p:nvPr/>
        </p:nvPicPr>
        <p:blipFill>
          <a:blip r:embed="rId1"/>
          <a:stretch/>
        </p:blipFill>
        <p:spPr>
          <a:xfrm>
            <a:off x="4808520" y="217440"/>
            <a:ext cx="4181400" cy="263520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5" descr="5.jpeg"/>
          <p:cNvPicPr/>
          <p:nvPr/>
        </p:nvPicPr>
        <p:blipFill>
          <a:blip r:embed="rId2"/>
          <a:stretch/>
        </p:blipFill>
        <p:spPr>
          <a:xfrm>
            <a:off x="684360" y="3000240"/>
            <a:ext cx="2571480" cy="3710160"/>
          </a:xfrm>
          <a:prstGeom prst="rect">
            <a:avLst/>
          </a:prstGeom>
          <a:ln w="0">
            <a:noFill/>
          </a:ln>
        </p:spPr>
      </p:pic>
      <p:sp>
        <p:nvSpPr>
          <p:cNvPr id="445" name="Прямоугольник 1"/>
          <p:cNvSpPr/>
          <p:nvPr/>
        </p:nvSpPr>
        <p:spPr>
          <a:xfrm>
            <a:off x="4057560" y="50133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монавт Алексей Леонов совершил выход в открытый космос из корабля Восход-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Прямоугольник 4"/>
          <p:cNvSpPr/>
          <p:nvPr/>
        </p:nvSpPr>
        <p:spPr>
          <a:xfrm>
            <a:off x="715320" y="21744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16 июня 196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Прямоугольник 6"/>
          <p:cNvSpPr/>
          <p:nvPr/>
        </p:nvSpPr>
        <p:spPr>
          <a:xfrm>
            <a:off x="468360" y="1117440"/>
            <a:ext cx="45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в мире полёт в космос женщины-космонавта (Валентина Терешкова) на космическом корабле Восток-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Прямоугольник 8"/>
          <p:cNvSpPr/>
          <p:nvPr/>
        </p:nvSpPr>
        <p:spPr>
          <a:xfrm>
            <a:off x="4579920" y="400536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18 марта  1965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2592360" y="434520"/>
            <a:ext cx="5688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ео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ев земное притяженье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кета от Земли оторвалась…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е было счастливее мгновенья –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есь новая эпоха началась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упень… вторая…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тья отделилась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горая в атмосфере без следа…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над Землей внезапно появилась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емительно летящая звезда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Человечество застыло в изумленье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тящий в небе серебристый шар –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 человеческих великое творень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 послан от Земли Вселенной в дар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2" name="Рисунок 1" descr=""/>
          <p:cNvPicPr/>
          <p:nvPr/>
        </p:nvPicPr>
        <p:blipFill>
          <a:blip r:embed="rId1"/>
          <a:stretch/>
        </p:blipFill>
        <p:spPr>
          <a:xfrm>
            <a:off x="409680" y="5097600"/>
            <a:ext cx="2197080" cy="176040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2" descr=""/>
          <p:cNvPicPr/>
          <p:nvPr/>
        </p:nvPicPr>
        <p:blipFill>
          <a:blip r:embed="rId2"/>
          <a:stretch/>
        </p:blipFill>
        <p:spPr>
          <a:xfrm>
            <a:off x="7074000" y="20520"/>
            <a:ext cx="204768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Рисунок 5" descr="8576070_0s265_1302499356.jpg"/>
          <p:cNvPicPr/>
          <p:nvPr/>
        </p:nvPicPr>
        <p:blipFill>
          <a:blip r:embed="rId1"/>
          <a:stretch/>
        </p:blipFill>
        <p:spPr>
          <a:xfrm>
            <a:off x="2286000" y="335772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3"/>
          <p:cNvSpPr/>
          <p:nvPr/>
        </p:nvSpPr>
        <p:spPr>
          <a:xfrm>
            <a:off x="3313800" y="549360"/>
            <a:ext cx="32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21 июля 1969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Прямоугольник 4"/>
          <p:cNvSpPr/>
          <p:nvPr/>
        </p:nvSpPr>
        <p:spPr>
          <a:xfrm>
            <a:off x="755640" y="1484280"/>
            <a:ext cx="77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ая высадка человека на Луну (Н. Армстронг) в рамках лунной экспедиции корабля Аполлон-11, доставившей на Землю, в том числе и первые пробы лунного гру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Содержимое 3" descr="907630.jpg"/>
          <p:cNvPicPr/>
          <p:nvPr/>
        </p:nvPicPr>
        <p:blipFill>
          <a:blip r:embed="rId1"/>
          <a:stretch/>
        </p:blipFill>
        <p:spPr>
          <a:xfrm>
            <a:off x="5435640" y="115920"/>
            <a:ext cx="3497400" cy="354960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1"/>
          <p:cNvSpPr/>
          <p:nvPr/>
        </p:nvSpPr>
        <p:spPr>
          <a:xfrm>
            <a:off x="1042920" y="1413000"/>
            <a:ext cx="3027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 на орбиту базового модуля орбитальной станции Ми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3"/>
          <p:cNvSpPr/>
          <p:nvPr/>
        </p:nvSpPr>
        <p:spPr>
          <a:xfrm>
            <a:off x="1052280" y="404640"/>
            <a:ext cx="372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20 февраля 198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5"/>
          <p:cNvSpPr/>
          <p:nvPr/>
        </p:nvSpPr>
        <p:spPr>
          <a:xfrm>
            <a:off x="5521680" y="3828960"/>
            <a:ext cx="34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20 ноября 199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6"/>
          <p:cNvSpPr/>
          <p:nvPr/>
        </p:nvSpPr>
        <p:spPr>
          <a:xfrm>
            <a:off x="5292720" y="4797360"/>
            <a:ext cx="35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уск первого блока «Заря» Международной космической станци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4" descr="File:STS-134 International Space Station after undocking.jpg"/>
          <p:cNvPicPr/>
          <p:nvPr/>
        </p:nvPicPr>
        <p:blipFill>
          <a:blip r:embed="rId2"/>
          <a:stretch/>
        </p:blipFill>
        <p:spPr>
          <a:xfrm>
            <a:off x="468360" y="3656160"/>
            <a:ext cx="482436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78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Выводы по теме урока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57120" y="1571400"/>
            <a:ext cx="878688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 может  стать любое тело, выведенное на орбиту  со скоростью, равной первой космической, направленной по касательной к орбите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ория К.Э. Циолковского и деятельность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.П. Королёва позволили человечеству преодолеть земное притяжение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Задание на самоподготовку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граф 2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№ 238, 242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8200" y="25992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8ac8"/>
                </a:solidFill>
                <a:latin typeface="Times New Roman"/>
                <a:ea typeface="Times New Roman"/>
              </a:rPr>
              <a:t>Цель урока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61600" y="980640"/>
            <a:ext cx="8572680" cy="9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Изучить движение тел в гравитационном поле Земли, ознакомить учащихся с историей запусков искусственных спутников Земли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Заголовок 1"/>
          <p:cNvSpPr/>
          <p:nvPr/>
        </p:nvSpPr>
        <p:spPr>
          <a:xfrm>
            <a:off x="561960" y="2205000"/>
            <a:ext cx="878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8ac8"/>
                </a:solidFill>
                <a:latin typeface="Times New Roman"/>
                <a:ea typeface="Times New Roman"/>
              </a:rPr>
              <a:t>Задачи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Содержимое 2"/>
          <p:cNvSpPr/>
          <p:nvPr/>
        </p:nvSpPr>
        <p:spPr>
          <a:xfrm>
            <a:off x="571680" y="3500280"/>
            <a:ext cx="857232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Заголовок 1"/>
          <p:cNvSpPr/>
          <p:nvPr/>
        </p:nvSpPr>
        <p:spPr>
          <a:xfrm>
            <a:off x="647640" y="2924280"/>
            <a:ext cx="8678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6ecff"/>
                </a:solidFill>
                <a:uFillTx/>
                <a:latin typeface="Times New Roman"/>
                <a:ea typeface="Times New Roman"/>
              </a:rPr>
              <a:t>Знать</a:t>
            </a: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:  закон всемирного тяготения, движение ИС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6ecff"/>
                </a:solidFill>
                <a:uFillTx/>
                <a:latin typeface="Times New Roman"/>
                <a:ea typeface="Times New Roman"/>
              </a:rPr>
              <a:t>Понимать:</a:t>
            </a: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 взаимосвязь закона всемирного тяготения с движением космических аппара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6ecff"/>
                </a:solidFill>
                <a:uFillTx/>
                <a:latin typeface="Times New Roman"/>
                <a:ea typeface="Times New Roman"/>
              </a:rPr>
              <a:t>Уметь:</a:t>
            </a: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- </a:t>
            </a:r>
            <a:r>
              <a:rPr b="0" i="1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отбирать</a:t>
            </a: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 нужную информацию из различных источ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анализировать</a:t>
            </a: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 информацию по те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представлять</a:t>
            </a: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 результаты работы в структурированной фор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оценивать</a:t>
            </a: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 роль основных направлений  развития космонавт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Содержимое 3" descr="3111.jpeg"/>
          <p:cNvPicPr/>
          <p:nvPr/>
        </p:nvPicPr>
        <p:blipFill>
          <a:blip r:embed="rId1"/>
          <a:stretch/>
        </p:blipFill>
        <p:spPr>
          <a:xfrm>
            <a:off x="826920" y="425520"/>
            <a:ext cx="3130560" cy="396216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4" descr="i.jpeg"/>
          <p:cNvPicPr/>
          <p:nvPr/>
        </p:nvPicPr>
        <p:blipFill>
          <a:blip r:embed="rId2"/>
          <a:stretch/>
        </p:blipFill>
        <p:spPr>
          <a:xfrm>
            <a:off x="4241880" y="620640"/>
            <a:ext cx="4714920" cy="35719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3640" y="4724280"/>
            <a:ext cx="391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Константин Эдуардович Циолковский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1857-1935)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Заголовок 1"/>
          <p:cNvSpPr/>
          <p:nvPr/>
        </p:nvSpPr>
        <p:spPr>
          <a:xfrm>
            <a:off x="4870440" y="4653000"/>
            <a:ext cx="34783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Сергей Павлович Королё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(1907 — 1966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692000" y="78840"/>
            <a:ext cx="697068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Задание 1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Содержимое 2"/>
          <p:cNvSpPr/>
          <p:nvPr/>
        </p:nvSpPr>
        <p:spPr>
          <a:xfrm>
            <a:off x="455760" y="1484280"/>
            <a:ext cx="5537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знакомиться с мыслительным экспериментом, предложенным Ньютоном. (лист 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знакомиться с определением искусственного спутника Земли (ИСЗ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явить условия, при которых тело становиться ИС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лнить структурно-логическую схе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Рисунок 2" descr=""/>
          <p:cNvPicPr/>
          <p:nvPr/>
        </p:nvPicPr>
        <p:blipFill>
          <a:blip r:embed="rId1"/>
          <a:stretch/>
        </p:blipFill>
        <p:spPr>
          <a:xfrm>
            <a:off x="5724360" y="1341360"/>
            <a:ext cx="310068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901800" y="1427040"/>
            <a:ext cx="2590560" cy="792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971640" y="25992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Вывод формулы скорости ИСЗ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8" name="Заголовок 1" descr=""/>
          <p:cNvPicPr/>
          <p:nvPr/>
        </p:nvPicPr>
        <p:blipFill>
          <a:blip r:embed="rId2"/>
          <a:stretch/>
        </p:blipFill>
        <p:spPr>
          <a:xfrm>
            <a:off x="2230560" y="1468440"/>
            <a:ext cx="1298520" cy="793800"/>
          </a:xfrm>
          <a:prstGeom prst="rect">
            <a:avLst/>
          </a:prstGeom>
          <a:ln w="0">
            <a:noFill/>
          </a:ln>
        </p:spPr>
      </p:pic>
      <p:pic>
        <p:nvPicPr>
          <p:cNvPr id="389" name="Заголовок 1" descr=""/>
          <p:cNvPicPr/>
          <p:nvPr/>
        </p:nvPicPr>
        <p:blipFill>
          <a:blip r:embed="rId3"/>
          <a:stretch/>
        </p:blipFill>
        <p:spPr>
          <a:xfrm>
            <a:off x="835200" y="1457280"/>
            <a:ext cx="1590480" cy="792360"/>
          </a:xfrm>
          <a:prstGeom prst="rect">
            <a:avLst/>
          </a:prstGeom>
          <a:ln w="0">
            <a:noFill/>
          </a:ln>
        </p:spPr>
      </p:pic>
      <p:pic>
        <p:nvPicPr>
          <p:cNvPr id="390" name="Заголовок 1" descr=""/>
          <p:cNvPicPr/>
          <p:nvPr/>
        </p:nvPicPr>
        <p:blipFill>
          <a:blip r:embed="rId4"/>
          <a:stretch/>
        </p:blipFill>
        <p:spPr>
          <a:xfrm>
            <a:off x="981000" y="2487600"/>
            <a:ext cx="2274840" cy="792000"/>
          </a:xfrm>
          <a:prstGeom prst="rect">
            <a:avLst/>
          </a:prstGeom>
          <a:ln w="0">
            <a:noFill/>
          </a:ln>
        </p:spPr>
      </p:pic>
      <p:pic>
        <p:nvPicPr>
          <p:cNvPr id="391" name="Заголовок 1" descr=""/>
          <p:cNvPicPr/>
          <p:nvPr/>
        </p:nvPicPr>
        <p:blipFill>
          <a:blip r:embed="rId5"/>
          <a:stretch/>
        </p:blipFill>
        <p:spPr>
          <a:xfrm>
            <a:off x="1200240" y="2487600"/>
            <a:ext cx="2274840" cy="792000"/>
          </a:xfrm>
          <a:prstGeom prst="rect">
            <a:avLst/>
          </a:prstGeom>
          <a:ln w="0">
            <a:noFill/>
          </a:ln>
        </p:spPr>
      </p:pic>
      <p:pic>
        <p:nvPicPr>
          <p:cNvPr id="392" name="Заголовок 1" descr=""/>
          <p:cNvPicPr/>
          <p:nvPr/>
        </p:nvPicPr>
        <p:blipFill>
          <a:blip r:embed="rId6"/>
          <a:stretch/>
        </p:blipFill>
        <p:spPr>
          <a:xfrm>
            <a:off x="231840" y="2487600"/>
            <a:ext cx="2273400" cy="792000"/>
          </a:xfrm>
          <a:prstGeom prst="rect">
            <a:avLst/>
          </a:prstGeom>
          <a:ln w="0">
            <a:noFill/>
          </a:ln>
        </p:spPr>
      </p:pic>
      <p:sp>
        <p:nvSpPr>
          <p:cNvPr id="393" name="Заголовок 1"/>
          <p:cNvSpPr/>
          <p:nvPr/>
        </p:nvSpPr>
        <p:spPr>
          <a:xfrm>
            <a:off x="31680" y="920880"/>
            <a:ext cx="8070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Какая сила действует на спутник? Чему она рав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Заголовок 1"/>
          <p:cNvSpPr/>
          <p:nvPr/>
        </p:nvSpPr>
        <p:spPr>
          <a:xfrm>
            <a:off x="309600" y="2133720"/>
            <a:ext cx="5414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По 2 закону Ньютона сила рав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Заголовок 1"/>
          <p:cNvSpPr/>
          <p:nvPr/>
        </p:nvSpPr>
        <p:spPr>
          <a:xfrm>
            <a:off x="-19080" y="3279600"/>
            <a:ext cx="314316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Как находится ускорение при движении по окруж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Заголовок 1" descr=""/>
          <p:cNvPicPr/>
          <p:nvPr/>
        </p:nvPicPr>
        <p:blipFill>
          <a:blip r:embed="rId7"/>
          <a:stretch/>
        </p:blipFill>
        <p:spPr>
          <a:xfrm>
            <a:off x="6345360" y="2700360"/>
            <a:ext cx="1725480" cy="566640"/>
          </a:xfrm>
          <a:prstGeom prst="rect">
            <a:avLst/>
          </a:prstGeom>
          <a:ln w="0">
            <a:noFill/>
          </a:ln>
        </p:spPr>
      </p:pic>
      <p:sp>
        <p:nvSpPr>
          <p:cNvPr id="397" name="Заголовок 1"/>
          <p:cNvSpPr/>
          <p:nvPr/>
        </p:nvSpPr>
        <p:spPr>
          <a:xfrm>
            <a:off x="92160" y="5102280"/>
            <a:ext cx="316368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Как находится уско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свободного пад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Заголовок 1" descr=""/>
          <p:cNvPicPr/>
          <p:nvPr/>
        </p:nvPicPr>
        <p:blipFill>
          <a:blip r:embed="rId8"/>
          <a:stretch/>
        </p:blipFill>
        <p:spPr>
          <a:xfrm>
            <a:off x="2859120" y="3438360"/>
            <a:ext cx="2262240" cy="938520"/>
          </a:xfrm>
          <a:prstGeom prst="rect">
            <a:avLst/>
          </a:prstGeom>
          <a:ln w="0">
            <a:noFill/>
          </a:ln>
        </p:spPr>
      </p:pic>
      <p:pic>
        <p:nvPicPr>
          <p:cNvPr id="399" name="Заголовок 1" descr=""/>
          <p:cNvPicPr/>
          <p:nvPr/>
        </p:nvPicPr>
        <p:blipFill>
          <a:blip r:embed="rId9"/>
          <a:stretch/>
        </p:blipFill>
        <p:spPr>
          <a:xfrm>
            <a:off x="3468600" y="3438360"/>
            <a:ext cx="1693800" cy="938520"/>
          </a:xfrm>
          <a:prstGeom prst="rect">
            <a:avLst/>
          </a:prstGeom>
          <a:ln w="0">
            <a:noFill/>
          </a:ln>
        </p:spPr>
      </p:pic>
      <p:pic>
        <p:nvPicPr>
          <p:cNvPr id="400" name="Заголовок 1" descr=""/>
          <p:cNvPicPr/>
          <p:nvPr/>
        </p:nvPicPr>
        <p:blipFill>
          <a:blip r:embed="rId10"/>
          <a:stretch/>
        </p:blipFill>
        <p:spPr>
          <a:xfrm>
            <a:off x="2859120" y="5237280"/>
            <a:ext cx="2262240" cy="944280"/>
          </a:xfrm>
          <a:prstGeom prst="rect">
            <a:avLst/>
          </a:prstGeom>
          <a:ln w="0">
            <a:noFill/>
          </a:ln>
        </p:spPr>
      </p:pic>
      <p:pic>
        <p:nvPicPr>
          <p:cNvPr id="401" name="Заголовок 1" descr=""/>
          <p:cNvPicPr/>
          <p:nvPr/>
        </p:nvPicPr>
        <p:blipFill>
          <a:blip r:embed="rId11"/>
          <a:stretch/>
        </p:blipFill>
        <p:spPr>
          <a:xfrm>
            <a:off x="2938320" y="5237280"/>
            <a:ext cx="2425680" cy="85860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21" descr=""/>
          <p:cNvPicPr/>
          <p:nvPr/>
        </p:nvPicPr>
        <p:blipFill>
          <a:blip r:embed="rId12"/>
          <a:stretch/>
        </p:blipFill>
        <p:spPr>
          <a:xfrm>
            <a:off x="5999040" y="4363920"/>
            <a:ext cx="2303640" cy="920880"/>
          </a:xfrm>
          <a:prstGeom prst="rect">
            <a:avLst/>
          </a:prstGeom>
          <a:ln w="0">
            <a:noFill/>
          </a:ln>
        </p:spPr>
      </p:pic>
      <p:pic>
        <p:nvPicPr>
          <p:cNvPr id="403" name="Прямоугольник 24" descr=""/>
          <p:cNvPicPr/>
          <p:nvPr/>
        </p:nvPicPr>
        <p:blipFill>
          <a:blip r:embed="rId13"/>
          <a:stretch/>
        </p:blipFill>
        <p:spPr>
          <a:xfrm>
            <a:off x="6010200" y="5211720"/>
            <a:ext cx="268920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16185E-006 L 0.55816 -0.00069 E">
                                      <p:cBhvr>
                                        <p:cTn id="79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39306E-006 L -2.77778E-006 -0.0763 C -2.77778E-006 -0.11005 0.19132 -0.15121 0.34844 -0.15121 L 0.69688 -0.15121 E">
                                      <p:cBhvr>
                                        <p:cTn id="83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188 -0.00254 L 0.25973 -0.00254 C 0.32153 -0.00254 0.39757 0.02035 0.39757 0.03931 L 0.39757 0.08139 E">
                                      <p:cBhvr>
                                        <p:cTn id="87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39306E-006 L 0.59097 -0.06728 E">
                                      <p:cBhvr>
                                        <p:cTn id="95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87283E-006 L 0.24045 -0.00648 E">
                                      <p:cBhvr>
                                        <p:cTn id="137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52601E-006 L 0.36893 -0.25248 E">
                                      <p:cBhvr>
                                        <p:cTn id="141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4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4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Выпишите в тетрадь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74640" y="996840"/>
            <a:ext cx="777240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ение ИСЗ (лист 1)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улу для расчета первой космической скорости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6" name="Рисунок 2" descr=""/>
          <p:cNvPicPr/>
          <p:nvPr/>
        </p:nvPicPr>
        <p:blipFill>
          <a:blip r:embed="rId1"/>
          <a:stretch/>
        </p:blipFill>
        <p:spPr>
          <a:xfrm>
            <a:off x="4560840" y="34005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07" name="Прямоугольник 6" descr=""/>
          <p:cNvPicPr/>
          <p:nvPr/>
        </p:nvPicPr>
        <p:blipFill>
          <a:blip r:embed="rId2"/>
          <a:stretch/>
        </p:blipFill>
        <p:spPr>
          <a:xfrm>
            <a:off x="1085760" y="4468680"/>
            <a:ext cx="2687760" cy="15480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8"/>
          <p:cNvSpPr/>
          <p:nvPr/>
        </p:nvSpPr>
        <p:spPr>
          <a:xfrm>
            <a:off x="826920" y="33908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улу для расчета скорости И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Прямоугольник 10" descr=""/>
          <p:cNvPicPr/>
          <p:nvPr/>
        </p:nvPicPr>
        <p:blipFill>
          <a:blip r:embed="rId3"/>
          <a:stretch/>
        </p:blipFill>
        <p:spPr>
          <a:xfrm>
            <a:off x="1158840" y="2700360"/>
            <a:ext cx="253512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78688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Задание 2</a:t>
            </a:r>
            <a:br>
              <a:rPr sz="3600"/>
            </a:b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Решить задачу (лист 3)</a:t>
            </a:r>
            <a:br>
              <a:rPr sz="3600"/>
            </a:b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1" name="Таблица 3" descr=""/>
          <p:cNvPicPr/>
          <p:nvPr/>
        </p:nvPicPr>
        <p:blipFill>
          <a:blip r:embed="rId1"/>
          <a:stretch/>
        </p:blipFill>
        <p:spPr>
          <a:xfrm>
            <a:off x="420840" y="1809720"/>
            <a:ext cx="8753400" cy="47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7868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Задание 2</a:t>
            </a:r>
            <a:br>
              <a:rPr sz="3600"/>
            </a:b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 Решить задачу (лист 3)</a:t>
            </a:r>
            <a:br>
              <a:rPr sz="3600"/>
            </a:b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3" name="Таблица 3" descr=""/>
          <p:cNvPicPr/>
          <p:nvPr/>
        </p:nvPicPr>
        <p:blipFill>
          <a:blip r:embed="rId1"/>
          <a:stretch/>
        </p:blipFill>
        <p:spPr>
          <a:xfrm>
            <a:off x="420840" y="1809720"/>
            <a:ext cx="8753400" cy="4756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13:22:52Z</dcterms:created>
  <dc:creator>Зоя</dc:creator>
  <dc:description/>
  <dc:language>en-US</dc:language>
  <cp:lastModifiedBy>User</cp:lastModifiedBy>
  <dcterms:modified xsi:type="dcterms:W3CDTF">2023-06-08T08:08:49Z</dcterms:modified>
  <cp:revision>78</cp:revision>
  <dc:subject/>
  <dc:title>Слайд 1</dc:title>
</cp:coreProperties>
</file>