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A9C-0121-4393-BDE7-A7DA72FB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5C5-78DA-41BD-9883-AD26FAA2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192-9AAE-4D1D-B238-0973374F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2AA-DAAB-4A96-B57C-F1C5B18E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315F-1C90-49C4-93DF-94311939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1C8-67B8-4EAD-B03D-928686A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039-4946-4F4B-B992-ED96ABFB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977-047A-4BF3-B874-DC5FE3EC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CC33-A7CA-45A4-9132-12F264A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1924-673B-4AC0-9C6E-5E1F0F4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0654-C907-4972-9171-458832E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7BD-301A-470D-AD10-138787F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93F-3765-4AD8-B189-A14E7A3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125-D750-4E28-8A47-2909E92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D03-C623-4164-B558-0CA3FE74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2258-0231-48A2-B88C-39094D9D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767-2F20-4E7B-8B83-37909809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9936-18AA-4987-ACD6-55E1365D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A853-C039-46A2-9364-5FD2180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00F2-AF36-4E1C-A02F-5696DB0A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3799-DABD-4EE1-AE71-BA97CB1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FBA7-4978-450B-899E-702AC71F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93-F72F-43BB-B9A1-B7A7E693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84EC-27F0-42F4-869F-60A8C4A4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1851-EBEE-4780-9FF9-2BD5402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8BA6-72FA-4E69-8C57-1AC177D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2E4E-728E-458A-9303-773ED89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46B0-A388-4EE6-BF65-0919D59B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B0AD-0F9C-4C28-BFEC-133ADC7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97A3-82E9-46E4-94E4-59E872BD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BA31-1447-473B-83B5-2D3397AA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E609-A843-4402-8924-5F78D910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1564-F9FF-4962-9F31-AF6180F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D60-A42B-4C9B-A353-BA4B5F11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8B09-96F9-4B10-85DF-696994E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B874-C220-4971-BA38-1A1E88A4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C738-64A8-4770-A132-0E2BE477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748B-4FD6-420A-94F3-DB89AACB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BFE7-97ED-4C39-AA29-8D42815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D82F-032D-4425-BC13-2E3336E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0E3D-ABC4-4FA5-AE57-A1CE65F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D641-0C60-4831-8896-E13E82D5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C478-3685-4E71-AFBB-B49D25D4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1736-49D2-4D4D-835F-865E9B23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D2E-2132-4A0D-9939-91FC676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3715C-5FA4-4DD5-9DEA-E2B9E5F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E514-4496-4E40-AA55-611B0EE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D2F6-9383-45A4-A1CC-9E78DDE4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A59F-1047-4860-BB2D-C22DC89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E2C0-5803-47F8-AC6C-B010110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A243-1B7F-481E-999C-ED17FE8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DB49-6C60-4744-9F50-66DBD79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B409-4552-4A02-A9FB-88179E3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6128-CEA5-4C68-BD81-A997A984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0F45-ADB1-4C91-997C-77F414AC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E9C-0A03-48AB-9857-AD09DEE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C13A-65FA-428D-B129-145FE669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B206-BB26-444A-919A-9DF6D352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D41D-5735-4E3F-9EA9-4F657452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F261-906A-42EF-B865-4802C60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50EA-B148-4E87-841C-16D62B7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F2F2-E50B-4FF9-8CDE-42A3EA25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317F-A175-475E-A084-465D790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5F44-18CD-447B-92D1-4A5F5F41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AFB1-99EC-4F75-BA28-A13C2FB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D83B-1624-4663-801F-B60530F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57E-2A28-4461-86F7-1919C51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C856-1939-4D9D-9C05-41B001E9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C1B9-03E5-4147-81D5-B484274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FA56-BCE2-40F9-AD79-1E883E7E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EFA5-E1B0-454D-89F1-793EC1F8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90F7-5DE7-4C2B-94ED-22C30DF8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D3C0-54CB-414E-BD9A-FD049B3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2979-3F64-45D7-9197-AA52590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22F0-29FC-45A1-8563-85237DBE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E8AB-B29A-4F51-83B3-2E9F030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B580-E814-4BA8-9AED-973DEF0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F7F-C92E-432E-8262-6A2519E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AA3C-AE2D-463B-8DF4-1ED1C1F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BC801-0E8D-4FAB-B9CB-F65644A6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89ED-82B2-445A-BE2D-BEC00972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7D03-22B3-495B-BBDF-08E3A516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D4D36-0CEF-4828-94BA-0FBD757A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A27-7349-484C-AF06-1012FEB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D425-7286-438D-8880-95037576963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BE3-C4FD-4C88-BE93-00F523E2234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A77-F8EF-46DA-9AD7-A9D6E22B7A5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5366-4DC9-4CD0-8F1E-65E2DA0B074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254-31AB-4318-9FB9-FEA2A3F4B20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907-A464-4780-9C5A-A05E202126E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F6F-0AA6-4606-8098-5CF6BB71D07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340000" y="6237000"/>
            <a:ext cx="4410000" cy="4316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2023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324000" y="1285920"/>
            <a:ext cx="8820000" cy="2584440"/>
          </a:xfrm>
          <a:prstGeom prst="rect">
            <a:avLst/>
          </a:prstGeom>
          <a:ln w="0">
            <a:noFill/>
          </a:ln>
        </p:spPr>
      </p:pic>
      <p:sp>
        <p:nvSpPr>
          <p:cNvPr id="370" name="Подзаголовок 2"/>
          <p:cNvSpPr/>
          <p:nvPr/>
        </p:nvSpPr>
        <p:spPr>
          <a:xfrm>
            <a:off x="4886280" y="4229280"/>
            <a:ext cx="4410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езентацию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Баранова Е.П., Лапина Е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7868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189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3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93480" y="1196640"/>
            <a:ext cx="8786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траектории движения ИСЗ (лист 4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Рисунок 2" descr=""/>
          <p:cNvPicPr/>
          <p:nvPr/>
        </p:nvPicPr>
        <p:blipFill>
          <a:blip r:embed="rId1"/>
          <a:stretch/>
        </p:blipFill>
        <p:spPr>
          <a:xfrm>
            <a:off x="657360" y="2448000"/>
            <a:ext cx="8235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4.</a:t>
            </a:r>
            <a:r>
              <a:rPr b="1" i="1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Проставьте против каждого пункта буквенное обозначение соответствующего значения скорости ИСЗ, необходимой для: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1 – скорость, меньше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2 – скорость, равная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3 – скорость, больше первой космической;</a:t>
            </a:r>
            <a:br>
              <a:rPr sz="2400"/>
            </a:br>
            <a:r>
              <a:rPr b="1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4 – скорость, равную второй космической  </a:t>
            </a:r>
            <a:r>
              <a:rPr b="0" i="1" lang="ru-RU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лист 5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8400" y="2852640"/>
            <a:ext cx="871524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лительных метеорологических наблюдени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пографической съёмки поверхности Луны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а на Марс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авки зонда на Юпитер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игационных наблюдени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атмосферы Солнц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ска космического телескоп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атмосферы  Земли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садки человека на Луну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Рисунок 2" descr=""/>
          <p:cNvPicPr/>
          <p:nvPr/>
        </p:nvPicPr>
        <p:blipFill>
          <a:blip r:embed="rId1"/>
          <a:stretch/>
        </p:blipFill>
        <p:spPr>
          <a:xfrm>
            <a:off x="6875640" y="981000"/>
            <a:ext cx="2108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828720" y="1268280"/>
            <a:ext cx="87868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5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4920" y="2911320"/>
            <a:ext cx="857268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ть текст (лист 6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хронологическую последовательность событий в области космонавт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Рисунок 2" descr=""/>
          <p:cNvPicPr/>
          <p:nvPr/>
        </p:nvPicPr>
        <p:blipFill>
          <a:blip r:embed="rId1"/>
          <a:stretch/>
        </p:blipFill>
        <p:spPr>
          <a:xfrm>
            <a:off x="5335560" y="30240"/>
            <a:ext cx="38084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912462.jpg"/>
          <p:cNvPicPr/>
          <p:nvPr/>
        </p:nvPicPr>
        <p:blipFill>
          <a:blip r:embed="rId1"/>
          <a:stretch/>
        </p:blipFill>
        <p:spPr>
          <a:xfrm>
            <a:off x="500040" y="0"/>
            <a:ext cx="4357800" cy="34560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2"/>
          <p:cNvSpPr/>
          <p:nvPr/>
        </p:nvSpPr>
        <p:spPr>
          <a:xfrm>
            <a:off x="4857840" y="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4 октября 195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4857840" y="94284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щен первый искусственный спутник Земли Спутник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5"/>
          <p:cNvSpPr/>
          <p:nvPr/>
        </p:nvSpPr>
        <p:spPr>
          <a:xfrm>
            <a:off x="392040" y="46116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щен второй искусственный спутник Земли Спутник-2, впервые выведший в космос живое существо, — собаку Лай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500040" y="3824280"/>
            <a:ext cx="38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3 ноября 19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8" descr=""/>
          <p:cNvPicPr/>
          <p:nvPr/>
        </p:nvPicPr>
        <p:blipFill>
          <a:blip r:embed="rId2"/>
          <a:stretch/>
        </p:blipFill>
        <p:spPr>
          <a:xfrm>
            <a:off x="4964040" y="3689280"/>
            <a:ext cx="3942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3419640" y="4292640"/>
            <a:ext cx="53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истории орбитальный полёт в космос живых существ с успешным возвращением на Землю.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е «Спутник-5» этот полёт совершили собаки Белка и Стрел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http://im7-tub-ru.yandex.net/i?id=92454747-18-72&amp;n=21"/>
          <p:cNvPicPr/>
          <p:nvPr/>
        </p:nvPicPr>
        <p:blipFill>
          <a:blip r:embed="rId1"/>
          <a:stretch/>
        </p:blipFill>
        <p:spPr>
          <a:xfrm>
            <a:off x="573120" y="541440"/>
            <a:ext cx="5694480" cy="322236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7"/>
          <p:cNvSpPr/>
          <p:nvPr/>
        </p:nvSpPr>
        <p:spPr>
          <a:xfrm>
            <a:off x="5940360" y="2033640"/>
            <a:ext cx="32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9 августа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3" descr=""/>
          <p:cNvPicPr/>
          <p:nvPr/>
        </p:nvPicPr>
        <p:blipFill>
          <a:blip r:embed="rId1"/>
          <a:stretch/>
        </p:blipFill>
        <p:spPr>
          <a:xfrm>
            <a:off x="468360" y="4897440"/>
            <a:ext cx="2303280" cy="1790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2"/>
          <a:stretch/>
        </p:blipFill>
        <p:spPr>
          <a:xfrm>
            <a:off x="6300720" y="4897440"/>
            <a:ext cx="2627280" cy="1886040"/>
          </a:xfrm>
          <a:prstGeom prst="rect">
            <a:avLst/>
          </a:prstGeom>
          <a:ln w="0">
            <a:noFill/>
          </a:ln>
        </p:spPr>
      </p:pic>
      <p:pic>
        <p:nvPicPr>
          <p:cNvPr id="440" name="Содержимое 3" descr="2.jpeg"/>
          <p:cNvPicPr/>
          <p:nvPr/>
        </p:nvPicPr>
        <p:blipFill>
          <a:blip r:embed="rId3"/>
          <a:stretch/>
        </p:blipFill>
        <p:spPr>
          <a:xfrm>
            <a:off x="3059280" y="15840"/>
            <a:ext cx="3500280" cy="271476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6"/>
          <p:cNvSpPr/>
          <p:nvPr/>
        </p:nvSpPr>
        <p:spPr>
          <a:xfrm>
            <a:off x="716040" y="36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полёт человека в космос (Юрий Гагарин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рабле Восток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3147480" y="293688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2 апреля  19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4" descr="4.jpeg"/>
          <p:cNvPicPr/>
          <p:nvPr/>
        </p:nvPicPr>
        <p:blipFill>
          <a:blip r:embed="rId1"/>
          <a:stretch/>
        </p:blipFill>
        <p:spPr>
          <a:xfrm>
            <a:off x="4808520" y="217440"/>
            <a:ext cx="4181400" cy="263520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5" descr="5.jpeg"/>
          <p:cNvPicPr/>
          <p:nvPr/>
        </p:nvPicPr>
        <p:blipFill>
          <a:blip r:embed="rId2"/>
          <a:stretch/>
        </p:blipFill>
        <p:spPr>
          <a:xfrm>
            <a:off x="684360" y="3000240"/>
            <a:ext cx="2571480" cy="371016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1"/>
          <p:cNvSpPr/>
          <p:nvPr/>
        </p:nvSpPr>
        <p:spPr>
          <a:xfrm>
            <a:off x="4057560" y="5013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навт Алексей Леонов совершил выход в открытый космос из корабля Восход-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715320" y="21744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6 июня 196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468360" y="111744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мире полёт в космос женщины-космонавта (Валентина Терешкова) на космическом корабле Восток-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579920" y="4005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18 марта  196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92360" y="434520"/>
            <a:ext cx="568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е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ев земное притяженье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ета от Земли оторвалась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е было счастливее мгновенья –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пень… вторая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отделилась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рая в атмосфере без следа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д Землей внезапно появилас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Человечество застыло в изумленье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ящий в небе серебристый шар –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 человеческих великое творень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послан от Земли Вселенной в дар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409680" y="5097600"/>
            <a:ext cx="2197080" cy="17604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" descr=""/>
          <p:cNvPicPr/>
          <p:nvPr/>
        </p:nvPicPr>
        <p:blipFill>
          <a:blip r:embed="rId2"/>
          <a:stretch/>
        </p:blipFill>
        <p:spPr>
          <a:xfrm>
            <a:off x="7074000" y="20520"/>
            <a:ext cx="20476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5" descr="8576070_0s265_1302499356.jpg"/>
          <p:cNvPicPr/>
          <p:nvPr/>
        </p:nvPicPr>
        <p:blipFill>
          <a:blip r:embed="rId1"/>
          <a:stretch/>
        </p:blipFill>
        <p:spPr>
          <a:xfrm>
            <a:off x="22860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3313800" y="54936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1 июля 196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755640" y="148428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высадка человека на Луну (Н. Армстронг) в рамках лунной экспедиции корабля Аполлон-11, доставившей на Землю, в том числе и первые пробы лунного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Содержимое 3" descr="907630.jpg"/>
          <p:cNvPicPr/>
          <p:nvPr/>
        </p:nvPicPr>
        <p:blipFill>
          <a:blip r:embed="rId1"/>
          <a:stretch/>
        </p:blipFill>
        <p:spPr>
          <a:xfrm>
            <a:off x="5435640" y="115920"/>
            <a:ext cx="3497400" cy="35496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"/>
          <p:cNvSpPr/>
          <p:nvPr/>
        </p:nvSpPr>
        <p:spPr>
          <a:xfrm>
            <a:off x="1042920" y="1413000"/>
            <a:ext cx="302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 на орбиту базового модуля орбитальной станции Ми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1052280" y="404640"/>
            <a:ext cx="37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0 февраля 198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5521680" y="3828960"/>
            <a:ext cx="34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20 ноября 199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6"/>
          <p:cNvSpPr/>
          <p:nvPr/>
        </p:nvSpPr>
        <p:spPr>
          <a:xfrm>
            <a:off x="5292720" y="4797360"/>
            <a:ext cx="35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уск первого блока «Заря» Международной космической станц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4" descr="File:STS-134 International Space Station after undocking.jpg"/>
          <p:cNvPicPr/>
          <p:nvPr/>
        </p:nvPicPr>
        <p:blipFill>
          <a:blip r:embed="rId2"/>
          <a:stretch/>
        </p:blipFill>
        <p:spPr>
          <a:xfrm>
            <a:off x="468360" y="3656160"/>
            <a:ext cx="48243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78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воды по теме урока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7120" y="1571400"/>
            <a:ext cx="87868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 может  стать любое тело, выведенное на орбиту  со скоростью, равной первой космической, направленной по касательной к орбит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я К.Э. Циолковского и деятельность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П. Королёва позволили человечеству преодолеть земное притяжение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на самоподготов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граф 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№ 238, 24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8200" y="25992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8ac8"/>
                </a:solidFill>
                <a:latin typeface="Times New Roman"/>
                <a:ea typeface="Times New Roman"/>
              </a:rPr>
              <a:t>Цель урока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61600" y="980640"/>
            <a:ext cx="857268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Изучить движение тел в гравитационном поле Земли, ознакомить учащихся с историей запусков искусственных спутников Земл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561960" y="2205000"/>
            <a:ext cx="87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8ac8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одержимое 2"/>
          <p:cNvSpPr/>
          <p:nvPr/>
        </p:nvSpPr>
        <p:spPr>
          <a:xfrm>
            <a:off x="571680" y="3500280"/>
            <a:ext cx="85723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647640" y="2924280"/>
            <a:ext cx="8678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Зн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:  закон всемирного тяготения, движение ИС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Понимать: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взаимосвязь закона всемирного тяготения с движением космических аппар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Times New Roman"/>
                <a:ea typeface="Times New Roman"/>
              </a:rPr>
              <a:t>Уметь: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тбир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нужную информацию из различных источ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анализиров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информацию по т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представля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результаты работы в структурированной фор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оценивать</a:t>
            </a:r>
            <a:r>
              <a:rPr b="0" lang="ru-RU" sz="2400" spc="-1" strike="noStrike">
                <a:solidFill>
                  <a:srgbClr val="d6ecff"/>
                </a:solidFill>
                <a:latin typeface="Times New Roman"/>
                <a:ea typeface="Times New Roman"/>
              </a:rPr>
              <a:t> роль основных направлений  развития космонав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3" descr="3111.jpeg"/>
          <p:cNvPicPr/>
          <p:nvPr/>
        </p:nvPicPr>
        <p:blipFill>
          <a:blip r:embed="rId1"/>
          <a:stretch/>
        </p:blipFill>
        <p:spPr>
          <a:xfrm>
            <a:off x="826920" y="425520"/>
            <a:ext cx="3130560" cy="39621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i.jpeg"/>
          <p:cNvPicPr/>
          <p:nvPr/>
        </p:nvPicPr>
        <p:blipFill>
          <a:blip r:embed="rId2"/>
          <a:stretch/>
        </p:blipFill>
        <p:spPr>
          <a:xfrm>
            <a:off x="4241880" y="62064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4724280"/>
            <a:ext cx="391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онстантин Эдуардович Циолковски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1857-1935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Заголовок 1"/>
          <p:cNvSpPr/>
          <p:nvPr/>
        </p:nvSpPr>
        <p:spPr>
          <a:xfrm>
            <a:off x="4870440" y="4653000"/>
            <a:ext cx="34783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Сергей Павлович Королё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(1907 — 196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92000" y="78840"/>
            <a:ext cx="69706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Содержимое 2"/>
          <p:cNvSpPr/>
          <p:nvPr/>
        </p:nvSpPr>
        <p:spPr>
          <a:xfrm>
            <a:off x="455760" y="1484280"/>
            <a:ext cx="5537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комиться с мыслительным экспериментом, предложенным Ньютоном. (лист 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комиться с определением искусственного спутника Земли (ИС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ить условия, при которых тело становиться ИС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ить структурно-логическую сх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10068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901800" y="1427040"/>
            <a:ext cx="259056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971640" y="2599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вод формулы скорости ИСЗ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2230560" y="1468440"/>
            <a:ext cx="1298520" cy="793800"/>
          </a:xfrm>
          <a:prstGeom prst="rect">
            <a:avLst/>
          </a:prstGeom>
          <a:ln w="0">
            <a:noFill/>
          </a:ln>
        </p:spPr>
      </p:pic>
      <p:pic>
        <p:nvPicPr>
          <p:cNvPr id="389" name="Заголовок 1" descr=""/>
          <p:cNvPicPr/>
          <p:nvPr/>
        </p:nvPicPr>
        <p:blipFill>
          <a:blip r:embed="rId3"/>
          <a:stretch/>
        </p:blipFill>
        <p:spPr>
          <a:xfrm>
            <a:off x="835200" y="1457280"/>
            <a:ext cx="1590480" cy="792360"/>
          </a:xfrm>
          <a:prstGeom prst="rect">
            <a:avLst/>
          </a:prstGeom>
          <a:ln w="0">
            <a:noFill/>
          </a:ln>
        </p:spPr>
      </p:pic>
      <p:pic>
        <p:nvPicPr>
          <p:cNvPr id="390" name="Заголовок 1" descr=""/>
          <p:cNvPicPr/>
          <p:nvPr/>
        </p:nvPicPr>
        <p:blipFill>
          <a:blip r:embed="rId4"/>
          <a:stretch/>
        </p:blipFill>
        <p:spPr>
          <a:xfrm>
            <a:off x="981000" y="2487600"/>
            <a:ext cx="2274840" cy="792000"/>
          </a:xfrm>
          <a:prstGeom prst="rect">
            <a:avLst/>
          </a:prstGeom>
          <a:ln w="0">
            <a:noFill/>
          </a:ln>
        </p:spPr>
      </p:pic>
      <p:pic>
        <p:nvPicPr>
          <p:cNvPr id="391" name="Заголовок 1" descr=""/>
          <p:cNvPicPr/>
          <p:nvPr/>
        </p:nvPicPr>
        <p:blipFill>
          <a:blip r:embed="rId5"/>
          <a:stretch/>
        </p:blipFill>
        <p:spPr>
          <a:xfrm>
            <a:off x="1200240" y="2487600"/>
            <a:ext cx="2274840" cy="792000"/>
          </a:xfrm>
          <a:prstGeom prst="rect">
            <a:avLst/>
          </a:prstGeom>
          <a:ln w="0">
            <a:noFill/>
          </a:ln>
        </p:spPr>
      </p:pic>
      <p:pic>
        <p:nvPicPr>
          <p:cNvPr id="392" name="Заголовок 1" descr=""/>
          <p:cNvPicPr/>
          <p:nvPr/>
        </p:nvPicPr>
        <p:blipFill>
          <a:blip r:embed="rId6"/>
          <a:stretch/>
        </p:blipFill>
        <p:spPr>
          <a:xfrm>
            <a:off x="231840" y="2487600"/>
            <a:ext cx="2273400" cy="792000"/>
          </a:xfrm>
          <a:prstGeom prst="rect">
            <a:avLst/>
          </a:prstGeom>
          <a:ln w="0">
            <a:noFill/>
          </a:ln>
        </p:spPr>
      </p:pic>
      <p:sp>
        <p:nvSpPr>
          <p:cNvPr id="393" name="Заголовок 1"/>
          <p:cNvSpPr/>
          <p:nvPr/>
        </p:nvSpPr>
        <p:spPr>
          <a:xfrm>
            <a:off x="31680" y="920880"/>
            <a:ext cx="8070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ая сила действует на спутник? Чему она рав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309600" y="2133720"/>
            <a:ext cx="5414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По 2 закону Ньютона сила рав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-19080" y="3279600"/>
            <a:ext cx="314316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 находится ускорение при движении по окруж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7"/>
          <a:stretch/>
        </p:blipFill>
        <p:spPr>
          <a:xfrm>
            <a:off x="6345360" y="2700360"/>
            <a:ext cx="1725480" cy="566640"/>
          </a:xfrm>
          <a:prstGeom prst="rect">
            <a:avLst/>
          </a:prstGeom>
          <a:ln w="0">
            <a:noFill/>
          </a:ln>
        </p:spPr>
      </p:pic>
      <p:sp>
        <p:nvSpPr>
          <p:cNvPr id="397" name="Заголовок 1"/>
          <p:cNvSpPr/>
          <p:nvPr/>
        </p:nvSpPr>
        <p:spPr>
          <a:xfrm>
            <a:off x="92160" y="5102280"/>
            <a:ext cx="31636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к находится уск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вободного пад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8"/>
          <a:stretch/>
        </p:blipFill>
        <p:spPr>
          <a:xfrm>
            <a:off x="2859120" y="3438360"/>
            <a:ext cx="2262240" cy="938520"/>
          </a:xfrm>
          <a:prstGeom prst="rect">
            <a:avLst/>
          </a:prstGeom>
          <a:ln w="0">
            <a:noFill/>
          </a:ln>
        </p:spPr>
      </p:pic>
      <p:pic>
        <p:nvPicPr>
          <p:cNvPr id="399" name="Заголовок 1" descr=""/>
          <p:cNvPicPr/>
          <p:nvPr/>
        </p:nvPicPr>
        <p:blipFill>
          <a:blip r:embed="rId9"/>
          <a:stretch/>
        </p:blipFill>
        <p:spPr>
          <a:xfrm>
            <a:off x="3468600" y="3438360"/>
            <a:ext cx="1693800" cy="93852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10"/>
          <a:stretch/>
        </p:blipFill>
        <p:spPr>
          <a:xfrm>
            <a:off x="2859120" y="5237280"/>
            <a:ext cx="2262240" cy="94428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11"/>
          <a:stretch/>
        </p:blipFill>
        <p:spPr>
          <a:xfrm>
            <a:off x="2938320" y="5237280"/>
            <a:ext cx="2425680" cy="858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21" descr=""/>
          <p:cNvPicPr/>
          <p:nvPr/>
        </p:nvPicPr>
        <p:blipFill>
          <a:blip r:embed="rId12"/>
          <a:stretch/>
        </p:blipFill>
        <p:spPr>
          <a:xfrm>
            <a:off x="5999040" y="4363920"/>
            <a:ext cx="2303640" cy="92088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24" descr=""/>
          <p:cNvPicPr/>
          <p:nvPr/>
        </p:nvPicPr>
        <p:blipFill>
          <a:blip r:embed="rId13"/>
          <a:stretch/>
        </p:blipFill>
        <p:spPr>
          <a:xfrm>
            <a:off x="6010200" y="5211720"/>
            <a:ext cx="2689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6185E-006 L 0.55816 -0.00069 E">
                                      <p:cBhvr>
                                        <p:cTn id="7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9306E-006 L -2.77778E-006 -0.0763 C -2.77778E-006 -0.11005 0.19132 -0.15121 0.34844 -0.15121 L 0.69688 -0.15121 E">
                                      <p:cBhvr>
                                        <p:cTn id="8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88 -0.00254 L 0.25973 -0.00254 C 0.32153 -0.00254 0.39757 0.02035 0.39757 0.03931 L 0.39757 0.08139 E">
                                      <p:cBhvr>
                                        <p:cTn id="8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39306E-006 L 0.59097 -0.06728 E">
                                      <p:cBhvr>
                                        <p:cTn id="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87283E-006 L 0.24045 -0.00648 E">
                                      <p:cBhvr>
                                        <p:cTn id="137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52601E-006 L 0.36893 -0.25248 E">
                                      <p:cBhvr>
                                        <p:cTn id="14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Выпишите в тетрадь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74640" y="996840"/>
            <a:ext cx="777240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ие ИСЗ (лист 1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у для расчета первой космической скорост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Рисунок 2" descr=""/>
          <p:cNvPicPr/>
          <p:nvPr/>
        </p:nvPicPr>
        <p:blipFill>
          <a:blip r:embed="rId1"/>
          <a:stretch/>
        </p:blipFill>
        <p:spPr>
          <a:xfrm>
            <a:off x="4560840" y="3400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6" descr=""/>
          <p:cNvPicPr/>
          <p:nvPr/>
        </p:nvPicPr>
        <p:blipFill>
          <a:blip r:embed="rId2"/>
          <a:stretch/>
        </p:blipFill>
        <p:spPr>
          <a:xfrm>
            <a:off x="1085760" y="4468680"/>
            <a:ext cx="2687760" cy="1548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8"/>
          <p:cNvSpPr/>
          <p:nvPr/>
        </p:nvSpPr>
        <p:spPr>
          <a:xfrm>
            <a:off x="826920" y="33908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у для расчета скорости И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Прямоугольник 10" descr=""/>
          <p:cNvPicPr/>
          <p:nvPr/>
        </p:nvPicPr>
        <p:blipFill>
          <a:blip r:embed="rId3"/>
          <a:stretch/>
        </p:blipFill>
        <p:spPr>
          <a:xfrm>
            <a:off x="1158840" y="2700360"/>
            <a:ext cx="25351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1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7868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Задание 2</a:t>
            </a:r>
            <a:br>
              <a:rPr sz="3600"/>
            </a:br>
            <a:r>
              <a:rPr b="0" lang="ru-RU" sz="36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Решить задачу (лист 3)</a:t>
            </a:r>
            <a:br>
              <a:rPr sz="36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3" name="Таблица 3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753400" cy="475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3:22:52Z</dcterms:created>
  <dc:creator>Зоя</dc:creator>
  <dc:description/>
  <dc:language>en-US</dc:language>
  <cp:lastModifiedBy>User</cp:lastModifiedBy>
  <dcterms:modified xsi:type="dcterms:W3CDTF">2023-06-08T08:08:49Z</dcterms:modified>
  <cp:revision>78</cp:revision>
  <dc:subject/>
  <dc:title>Слайд 1</dc:title>
</cp:coreProperties>
</file>