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D65-3C88-4DB3-BD49-F558E451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5FE-5429-44FC-955C-9B93602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F24-F503-4728-9316-FD16A288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5AC-CDCC-400A-8654-D712A0DF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4CAA-E890-482A-A96A-4D60DB07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6738-8167-4607-9578-6AC87D63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9096-E802-4B1A-A315-7B0E3BD0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4E48-EBBE-4C9E-8F3D-405DCD72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9538-D779-4A61-BC4D-547BFB49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95E7-B746-4431-8720-642F16FB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9E8A-F9B4-4184-8B1D-0E16DF89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2A0-2399-4446-9BAD-8C4A0193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04E-F4C8-400F-BCFF-63EA34AD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265B-7ADF-4CFA-8BF1-08C298DB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688E-6FEA-4915-86DA-9A416482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BEEF-7282-4A99-A715-EF91AE12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AF16-EF7F-4D53-83C5-67EDE7D9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18F-03E6-46A8-98EF-B45F4614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816-4412-4400-89A1-60C32401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935-CDEC-40B1-85CF-9184284B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39F-99C7-4ABD-AFFA-21ED0CAB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486-CDDE-49A4-A0A6-528DB1E6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4CF-90F1-4459-82B7-56695563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8DD-B12B-4201-ABEC-314A8386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52540A-BF11-48A5-9ADF-FF96EB34C3A3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02BEC5-A811-4CB9-BBBE-7A4B881F99DF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3640" y="4005000"/>
            <a:ext cx="7772040" cy="1928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Родительское собрание</a:t>
            </a:r>
            <a:r>
              <a:rPr b="1" lang="en-US" sz="4500" spc="-1" strike="noStrike">
                <a:solidFill>
                  <a:srgbClr val="ff0000"/>
                </a:solidFill>
                <a:latin typeface="Verdana"/>
              </a:rPr>
              <a:t>:</a:t>
            </a:r>
            <a:br>
              <a:rPr sz="4500"/>
            </a:b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Наркотики: как от них уберечься?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Рисунок 3" descr="stop.jpg"/>
          <p:cNvPicPr/>
          <p:nvPr/>
        </p:nvPicPr>
        <p:blipFill>
          <a:blip r:embed="rId1"/>
          <a:stretch/>
        </p:blipFill>
        <p:spPr>
          <a:xfrm>
            <a:off x="3132000" y="620640"/>
            <a:ext cx="2642760" cy="26427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algn="ctr"/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3000"/>
          </a:bodyPr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заимодействие с алкоголем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лкоголь потенцирует действие наркотика. Человек «дуреет», отключается его вестибулярный аппарат, теряет пространственную и временную ориентацию, память. Иногда алкоголь подростки используют для «прикрытия» употребления наркотических веществ, чтобы симулировать алкогольное опьянение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21420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>
                <a:solidFill>
                  <a:srgbClr val="ff9257"/>
                </a:solidFill>
                <a:latin typeface="Verdana"/>
              </a:rPr>
              <a:t>Клинические признаки опьянения спайсом</a:t>
            </a: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643280" cy="535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3000"/>
          </a:bodyPr>
          <a:p>
            <a:pPr marL="255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Кашель (обжигает слизистую)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Сухость во рту (требуется постоянное употребление жидкости) 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красневшие белки глаз (подростки, употребляющие «спайс», носят с собой «Визин» или другие глазные капли)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Нарушение координации движений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Дефекты речи (заторможенность, невнятность)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Заторможенность мышления (тупят)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Бледность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Учащенный пульс 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вышение настроения, эйфория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ступы смеха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Неадекватное поведение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Рисунок 4" descr="net.jpg"/>
          <p:cNvPicPr/>
          <p:nvPr/>
        </p:nvPicPr>
        <p:blipFill>
          <a:blip r:embed="rId1"/>
          <a:stretch/>
        </p:blipFill>
        <p:spPr>
          <a:xfrm>
            <a:off x="4929120" y="1357200"/>
            <a:ext cx="3642840" cy="409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571320"/>
            <a:ext cx="818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После употребления, в течение нескольких дней и дольше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500120"/>
            <a:ext cx="8183520" cy="4000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док общего физического состояни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концентрация внимани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патия (особенно к работе и учебе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рушение сн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пады настроения (из крайности в крайность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мптомы употребления спайс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8183520" cy="3642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8000"/>
          </a:bodyPr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сширение зрачков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краснение конъюнктивы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вышенный аппетит, жажда, тяга к сладкому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ухость во рту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краснение лиц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вышение артериального давления, учащение пульс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183520" cy="4612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3000"/>
          </a:bodyPr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урение спайсов, как и курение обычных сигарет, вызывает раздражение дыхательных путей. Как следствие продолжительного вдыхания дыма: осиплость голоса, кашель, слезотечение. Возможно развитие хронических воспалительных заболеваний дыхательных путей: ларингиты, бронхиты, фарингиты. Не исключено возникновение злокачественных опухолей бронхов, гортани, глотки и ротовой полост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2"/>
          <p:cNvSpPr/>
          <p:nvPr/>
        </p:nvSpPr>
        <p:spPr>
          <a:xfrm>
            <a:off x="611640" y="404640"/>
            <a:ext cx="79203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входит в состав сню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ркотик состоит и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 т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бака;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ды (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жна для увлажнения и более комфортного рассасывания),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ли (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ает роль природного консерванта и усилителя вкуса),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сервантов (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гие компании используют консерванты для разбавления табака и снижения стоимости смеси, а также для более долгого хранения),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оматизаторов и пищевых добавок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усиливают вкус и придают наркотику приятный зап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ешне снюс выглядит как кашеобразная растительная смесь белого или коричневого отте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кие бывают разновидности сню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типу упаковки и наличию добавок различают такие 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снюс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рционны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Для удобства приема производители фасуют табачную смесь в небольшие полупрозрачные пак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сыпной.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Недозированную табачную смесь фасуют в плотные коробочки из вощеного кар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 добавками.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Многие производители добавляют в табачную смесь ароматизаторы и усилители вк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0040" y="714240"/>
            <a:ext cx="4068720" cy="554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6000"/>
          </a:bodyPr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ступы смеха, веселости, которые могут сменяться тревогой, испугом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ыраженная потребность двигатьс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щущение «невесомости»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олтливость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зменение восприятия пространства, времени, звука, цве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личие окурков, свернутых вручную, тяжелый травяной «запах» от одежды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Объект 4" descr=""/>
          <p:cNvPicPr/>
          <p:nvPr/>
        </p:nvPicPr>
        <p:blipFill>
          <a:blip r:embed="rId1"/>
          <a:stretch/>
        </p:blipFill>
        <p:spPr>
          <a:xfrm>
            <a:off x="4786200" y="928800"/>
            <a:ext cx="34005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Tahoma"/>
              </a:rPr>
              <a:t>Смеси для курения становятся первым шагом на пути перехода к</a:t>
            </a:r>
            <a:r>
              <a:rPr b="1" lang="en-US" sz="3600" spc="-1" strike="noStrike">
                <a:solidFill>
                  <a:srgbClr val="ff9257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9257"/>
                </a:solidFill>
                <a:latin typeface="Tahoma"/>
              </a:rPr>
              <a:t>другим видам наркотиков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Объект 5" descr=""/>
          <p:cNvPicPr/>
          <p:nvPr/>
        </p:nvPicPr>
        <p:blipFill>
          <a:blip r:embed="rId1"/>
          <a:stretch/>
        </p:blipFill>
        <p:spPr>
          <a:xfrm>
            <a:off x="1357200" y="2357280"/>
            <a:ext cx="3047760" cy="295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0" y="2643120"/>
            <a:ext cx="3714480" cy="257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9000"/>
          </a:bodyPr>
          <a:p>
            <a:pPr marL="235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урительные смеси все чаще стали причиной подростковых смертей. Подростки попадают в зависимость гораздо быстрее взрослых людей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2755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3000"/>
          </a:bodyPr>
          <a:p>
            <a:pPr marL="24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3100" spc="-1" strike="noStrike">
                <a:solidFill>
                  <a:srgbClr val="000000"/>
                </a:solidFill>
                <a:latin typeface="Tahoma"/>
              </a:rPr>
              <a:t>Человек, употребляющий наркотики, нуждается в профессиональной помощи! Он должен пройти 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Tahoma"/>
              </a:rPr>
              <a:t>курс лечения от зависимости</a:t>
            </a:r>
            <a:r>
              <a:rPr b="1" lang="ru-RU" sz="3100" spc="-1" strike="noStrike">
                <a:solidFill>
                  <a:srgbClr val="000000"/>
                </a:solidFill>
                <a:latin typeface="Tahoma"/>
              </a:rPr>
              <a:t>. Даже на ранних стадиях употребления консультация у нарколога будет очень полезна. Только так можно добиться полного освобождения от зависимости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600"/>
            </a:b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Объект 4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35744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428760"/>
            <a:ext cx="818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Помните, если мы не защитим наших детей – мы потеряем наше будущее!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32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/>
                </a:solidFill>
                <a:latin typeface="Verdana"/>
              </a:rPr>
              <a:t>	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Рисунок 3" descr="bbebaa45590e.jpg"/>
          <p:cNvPicPr/>
          <p:nvPr/>
        </p:nvPicPr>
        <p:blipFill>
          <a:blip r:embed="rId1"/>
          <a:stretch/>
        </p:blipFill>
        <p:spPr>
          <a:xfrm>
            <a:off x="1928880" y="2143080"/>
            <a:ext cx="4976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«Наркоман - не человек, ибо он потерял то, что отличает человека от скотины - разум» </a:t>
            </a:r>
            <a:endParaRPr b="0" lang="ru-RU" sz="66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(Т. Пен)</a:t>
            </a:r>
            <a:endParaRPr b="0" lang="ru-RU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500040"/>
            <a:ext cx="8183520" cy="55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                                                              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                          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3cb4"/>
                </a:solidFill>
                <a:latin typeface="Cambria Math"/>
                <a:ea typeface="Cambria Math"/>
              </a:rPr>
              <a:t>И.П.Павлов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214280"/>
            <a:ext cx="8183520" cy="27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52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en-US" sz="5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ru-RU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1285920" y="928800"/>
            <a:ext cx="6071760" cy="61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4400" spc="-1" strike="noStrike">
                <a:solidFill>
                  <a:srgbClr val="003cb4"/>
                </a:solidFill>
                <a:latin typeface="Monotype Corsiva"/>
                <a:ea typeface="Cambria Math"/>
              </a:rPr>
              <a:t>Мы сокращаем свою жизнь своей невоздержанностью, своей беспорядочностью, своим безобразным отношением с собственным организм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5786280"/>
            <a:ext cx="8183520" cy="2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29000"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760" y="530280"/>
            <a:ext cx="8257680" cy="532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003cb4"/>
                </a:solidFill>
                <a:latin typeface="Verdana"/>
              </a:rPr>
              <a:t>Общие положени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айс (от англ. «spice» — специя, пряность) – разновидность травяной курительной смеси, в состав которой входят синтетические вещества, энтеогены (растения, в состав которых входят вещества психотропного действия) и обыкновенные травы. Появились спайсы в начале 21 века в Европе и продавались под видом благовоний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«Спайс» и его последствия. 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183520" cy="478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7000"/>
          </a:bodyPr>
          <a:p>
            <a:pPr marL="253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Спайсом называют любой вид растения, обработанный синтетическим канабиойдом JWH-018. Спайс используется в качестве курительных смесей и ароматических трав.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  <a:p>
            <a:pPr marL="253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Вред, который наносят здоровью курение гашиша и конопли несоизмерим с вредом, который может случиться при курении спайса.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  <a:p>
            <a:pPr marL="253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Наркологи единодушно причисляют спайс к тяжелым наркотикам,  он наносит колоссальный вред психическому и физическому здоровью человека.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  <a:p>
            <a:pPr marL="253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В 2008 году было установлено, что действующим компонентом смесей являются не вещества растительного происхождения, а синтетические аналоги марихуаны.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Tahoma"/>
              </a:rPr>
              <a:t>Смесь реализуется в виде высушенных и измельченных частей растений, порошков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928800" y="2714760"/>
            <a:ext cx="3419280" cy="266580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5" descr=""/>
          <p:cNvPicPr/>
          <p:nvPr/>
        </p:nvPicPr>
        <p:blipFill>
          <a:blip r:embed="rId2"/>
          <a:stretch/>
        </p:blipFill>
        <p:spPr>
          <a:xfrm>
            <a:off x="4857840" y="2714760"/>
            <a:ext cx="3419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0040" y="785880"/>
            <a:ext cx="3711600" cy="4327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5000"/>
          </a:bodyPr>
          <a:p>
            <a:pPr marL="256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уществуют разные способы приема спайса в организм. Все они связаны с вдыханием дыма, начиная от простой сигареты (самокрутки) и заканчивая сжиганием курительных смесей в ароматических лампах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Рисунок 5" descr="1fbbba53-2161-4adc-9df0-f1d9e858101b.jpg"/>
          <p:cNvPicPr/>
          <p:nvPr/>
        </p:nvPicPr>
        <p:blipFill>
          <a:blip r:embed="rId1"/>
          <a:stretch/>
        </p:blipFill>
        <p:spPr>
          <a:xfrm>
            <a:off x="4000320" y="1214280"/>
            <a:ext cx="44319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261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8000"/>
          </a:bodyPr>
          <a:p>
            <a:pPr marL="243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рган, на который спайс оказывает самое сильное влияние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мозг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Химический яд заставляет резко сужаться капилляры, мозг перестает насыщаться кислородом в нормальном количестве. В результат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клетки погибаю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а человек ощущает состояние легкости и беззаботности. Именно этот эффект и нравится подросткам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Объект 3" descr=""/>
          <p:cNvPicPr/>
          <p:nvPr/>
        </p:nvPicPr>
        <p:blipFill>
          <a:blip r:embed="rId1"/>
          <a:stretch/>
        </p:blipFill>
        <p:spPr>
          <a:xfrm>
            <a:off x="2857320" y="3071880"/>
            <a:ext cx="38574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556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2000"/>
          </a:bodyPr>
          <a:p>
            <a:pPr marL="26280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Сколько никотина содержится в снюсе?</a:t>
            </a: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  <a:p>
            <a:pPr marL="2628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28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состав снюса – сортовой мелкорубленый табак, поэтому чистое </a:t>
            </a: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одержание никотина в порции наркотика в 5 раз выше, чем в обычной сигарете. 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реди курильщиков широко распространен миф о том, что замена сигарет на жевательный снюс помогает справиться с никотиновой зависимостью. Это не так. 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висимость лишь усиливается из-за более высокого содержания никотина в снюсе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 и более продолжительного времени употребления. Так, снюс держат в ротовой полости от 30 минут до часа, и все это время организм впитывает никотин. А сигарету курят за несколько минут, и при этом часть никотина в виде дыма растворяется в воздухе.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464</TotalTime>
  <Application>LibreOffice/7.4.7.2$Linux_X86_64 LibreOffice_project/40$Build-2</Application>
  <AppVersion>15.0000</AppVersion>
  <Words>349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hkevich</cp:lastModifiedBy>
  <dcterms:modified xsi:type="dcterms:W3CDTF">2019-12-30T08:35:39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