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3747-1AA4-4581-A13B-9F10973D8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2920" y="271764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3AC1-4832-4A4D-B76F-7C98D7C0C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292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56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5E8D-A344-47D0-867F-33382C899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69880" y="530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6840" y="530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2920" y="271764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69880" y="271764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6840" y="271764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36CD-6F90-44D5-8FFC-3BE254FB7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1D43F-BF14-457E-9E57-87DA44FAD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170A4-85F9-4141-A575-1CEFC5AAF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24BC0-1109-462F-AB4A-7AE57E258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38772-9767-4E61-93D1-A4336C144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5110B-A173-4B37-BE6B-F20D5601B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02920" y="4983480"/>
            <a:ext cx="8183520" cy="487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5915A-61DE-44B0-9508-867F12676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292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BDD15-867B-40B3-B271-5FBA87BC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EB4A-86C8-445B-9ED9-D1287F401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9656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26268-8FB6-4F11-8273-10864D2C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2920" y="271764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44116-B32E-4FE3-B8D9-FD96B05C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2920" y="271764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04DC3-0F94-4D7A-AAB7-05801679D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292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9656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2B4CA-5EA1-4D73-90AB-D6B89E1CE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69880" y="530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6840" y="530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2920" y="271764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69880" y="271764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6840" y="271764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CBA02-BE14-4D92-A56F-263027029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0C21-E387-42B9-90F1-E79433921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49FD-6686-4768-A68A-A80F1F03F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135F-17F6-43E6-8762-C826CD9F9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2920" y="4983480"/>
            <a:ext cx="8183520" cy="487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F136-8CD2-4EEC-9FDC-C13CC00F2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20C6-82D8-4194-BE36-1D98DC16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56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F686-74A6-4E84-9CA7-1096EF8A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2920" y="271764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1DAC-349A-459A-BD4D-AB606710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 hidden="1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" name="Скругленный прямоугольник 8" hidden="1"/>
          <p:cNvSpPr/>
          <p:nvPr/>
        </p:nvSpPr>
        <p:spPr>
          <a:xfrm>
            <a:off x="418680" y="434160"/>
            <a:ext cx="8306280" cy="5486040"/>
          </a:xfrm>
          <a:prstGeom prst="roundRect">
            <a:avLst>
              <a:gd name="adj" fmla="val 212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" name="Скругленный прямоугольник 14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" name="Скругленный прямоугольник 9"/>
          <p:cNvSpPr/>
          <p:nvPr/>
        </p:nvSpPr>
        <p:spPr>
          <a:xfrm>
            <a:off x="418680" y="434160"/>
            <a:ext cx="8306280" cy="3108600"/>
          </a:xfrm>
          <a:prstGeom prst="roundRect">
            <a:avLst>
              <a:gd name="adj" fmla="val 4578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22520" y="182016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500" spc="-1" strike="noStrike">
                <a:solidFill>
                  <a:srgbClr val="ff9257"/>
                </a:solidFill>
                <a:latin typeface="Verdana"/>
              </a:rPr>
              <a:t>Образец заголовка</a:t>
            </a:r>
            <a:endParaRPr b="0" lang="ru-RU" sz="4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3776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a7a49a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6062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5A14CB4-299B-4C21-A039-D6E9A5780402}" type="slidenum">
              <a:rPr b="0" lang="ru-RU" sz="1000" spc="-1" strike="noStrike">
                <a:solidFill>
                  <a:srgbClr val="a7a49a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ru-RU" sz="2200" spc="-1" strike="noStrike">
              <a:solidFill>
                <a:srgbClr val="000000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ru-RU" sz="1900" spc="-1" strike="noStrike">
              <a:solidFill>
                <a:srgbClr val="000000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6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6" name="Скругленный прямоугольник 8"/>
          <p:cNvSpPr/>
          <p:nvPr/>
        </p:nvSpPr>
        <p:spPr>
          <a:xfrm>
            <a:off x="418680" y="434160"/>
            <a:ext cx="8306280" cy="5486040"/>
          </a:xfrm>
          <a:prstGeom prst="roundRect">
            <a:avLst>
              <a:gd name="adj" fmla="val 212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9257"/>
                </a:solidFill>
                <a:latin typeface="Verdana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Третий уровень</a:t>
            </a:r>
            <a:endParaRPr b="0" lang="ru-RU" sz="2200" spc="-1" strike="noStrike">
              <a:solidFill>
                <a:srgbClr val="000000"/>
              </a:solidFill>
              <a:latin typeface="Verdana"/>
            </a:endParaRPr>
          </a:p>
          <a:p>
            <a:pPr lvl="3" marL="1024200" indent="-182880">
              <a:lnSpc>
                <a:spcPct val="100000"/>
              </a:lnSpc>
              <a:spcBef>
                <a:spcPts val="230"/>
              </a:spcBef>
              <a:buClr>
                <a:srgbClr val="ea3a45"/>
              </a:buClr>
              <a:buSzPct val="112000"/>
              <a:buFont typeface="Verdana"/>
              <a:buChar char="◦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Четвертый уровень</a:t>
            </a:r>
            <a:endParaRPr b="0" lang="ru-RU" sz="1900" spc="-1" strike="noStrike">
              <a:solidFill>
                <a:srgbClr val="000000"/>
              </a:solidFill>
              <a:latin typeface="Verdana"/>
            </a:endParaRPr>
          </a:p>
          <a:p>
            <a:pPr lvl="4" marL="1280160" indent="-182880">
              <a:lnSpc>
                <a:spcPct val="100000"/>
              </a:lnSpc>
              <a:spcBef>
                <a:spcPts val="249"/>
              </a:spcBef>
              <a:buClr>
                <a:srgbClr val="4e82bc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776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a7a49a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62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1DD164F-5260-420F-9FFF-FD8E162F44F9}" type="slidenum">
              <a:rPr b="0" lang="ru-RU" sz="1000" spc="-1" strike="noStrike">
                <a:solidFill>
                  <a:srgbClr val="a7a49a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3640" y="4005000"/>
            <a:ext cx="7772040" cy="1928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anchor="b">
            <a:normAutofit fontScale="67000"/>
          </a:bodyPr>
          <a:p>
            <a:pPr indent="0" algn="ctr">
              <a:lnSpc>
                <a:spcPct val="100000"/>
              </a:lnSpc>
              <a:buNone/>
            </a:pPr>
            <a:br>
              <a:rPr sz="4500"/>
            </a:br>
            <a:br>
              <a:rPr sz="4500"/>
            </a:br>
            <a:r>
              <a:rPr b="1" lang="ru-RU" sz="4500" spc="-1" strike="noStrike">
                <a:solidFill>
                  <a:srgbClr val="ff0000"/>
                </a:solidFill>
                <a:latin typeface="Verdana"/>
              </a:rPr>
              <a:t>Родительское собрание</a:t>
            </a:r>
            <a:r>
              <a:rPr b="1" lang="en-US" sz="4500" spc="-1" strike="noStrike">
                <a:solidFill>
                  <a:srgbClr val="ff0000"/>
                </a:solidFill>
                <a:latin typeface="Verdana"/>
              </a:rPr>
              <a:t>:</a:t>
            </a:r>
            <a:br>
              <a:rPr sz="4500"/>
            </a:br>
            <a:r>
              <a:rPr b="1" lang="ru-RU" sz="4500" spc="-1" strike="noStrike">
                <a:solidFill>
                  <a:srgbClr val="ff9257"/>
                </a:solidFill>
                <a:latin typeface="Verdana"/>
              </a:rPr>
              <a:t>Наркотики: как от них уберечься?</a:t>
            </a:r>
            <a:endParaRPr b="0" lang="ru-RU" sz="4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Рисунок 3" descr="stop.jpg"/>
          <p:cNvPicPr/>
          <p:nvPr/>
        </p:nvPicPr>
        <p:blipFill>
          <a:blip r:embed="rId1"/>
          <a:stretch/>
        </p:blipFill>
        <p:spPr>
          <a:xfrm>
            <a:off x="3132000" y="620640"/>
            <a:ext cx="2642760" cy="26427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22520" y="368496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5000" anchor="t">
            <a:noAutofit/>
          </a:bodyPr>
          <a:p>
            <a:pPr algn="ctr"/>
            <a:endParaRPr b="0" lang="en-US" sz="2000" spc="-1" strike="noStrike">
              <a:solidFill>
                <a:srgbClr val="7c79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00040" y="85716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93000"/>
          </a:bodyPr>
          <a:p>
            <a:pPr marL="2664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заимодействие с алкоголем: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64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лкоголь потенцирует действие наркотика. Человек «дуреет», отключается его вестибулярный аппарат, теряет пространственную и временную ориентацию, память. Иногда алкоголь подростки используют для «прикрытия» употребления наркотических веществ, чтобы симулировать алкогольное опьянение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2920" y="214200"/>
            <a:ext cx="81835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3000" spc="-1" strike="noStrike">
                <a:solidFill>
                  <a:srgbClr val="ff9257"/>
                </a:solidFill>
                <a:latin typeface="Verdana"/>
              </a:rPr>
              <a:t>Клинические признаки опьянения спайсом</a:t>
            </a: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57120" y="1000080"/>
            <a:ext cx="4643280" cy="535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53000"/>
          </a:bodyPr>
          <a:p>
            <a:pPr marL="2556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55600" indent="-2556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Кашель (обжигает слизистую)</a:t>
            </a:r>
            <a:endParaRPr b="0" lang="ru-RU" sz="3300" spc="-1" strike="noStrike">
              <a:solidFill>
                <a:srgbClr val="000000"/>
              </a:solidFill>
              <a:latin typeface="Verdana"/>
            </a:endParaRPr>
          </a:p>
          <a:p>
            <a:pPr marL="255600" indent="-2556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Сухость во рту (требуется постоянное употребление жидкости) </a:t>
            </a:r>
            <a:endParaRPr b="0" lang="ru-RU" sz="3300" spc="-1" strike="noStrike">
              <a:solidFill>
                <a:srgbClr val="000000"/>
              </a:solidFill>
              <a:latin typeface="Verdana"/>
            </a:endParaRPr>
          </a:p>
          <a:p>
            <a:pPr marL="255600" indent="-2556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Покрасневшие белки глаз (подростки, употребляющие «спайс», носят с собой «Визин» или другие глазные капли)</a:t>
            </a:r>
            <a:endParaRPr b="0" lang="ru-RU" sz="3300" spc="-1" strike="noStrike">
              <a:solidFill>
                <a:srgbClr val="000000"/>
              </a:solidFill>
              <a:latin typeface="Verdana"/>
            </a:endParaRPr>
          </a:p>
          <a:p>
            <a:pPr marL="255600" indent="-2556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Нарушение координации движений</a:t>
            </a:r>
            <a:endParaRPr b="0" lang="ru-RU" sz="3300" spc="-1" strike="noStrike">
              <a:solidFill>
                <a:srgbClr val="000000"/>
              </a:solidFill>
              <a:latin typeface="Verdana"/>
            </a:endParaRPr>
          </a:p>
          <a:p>
            <a:pPr marL="255600" indent="-2556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Дефекты речи (заторможенность, невнятность)</a:t>
            </a:r>
            <a:endParaRPr b="0" lang="ru-RU" sz="3300" spc="-1" strike="noStrike">
              <a:solidFill>
                <a:srgbClr val="000000"/>
              </a:solidFill>
              <a:latin typeface="Verdana"/>
            </a:endParaRPr>
          </a:p>
          <a:p>
            <a:pPr marL="255600" indent="-2556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Заторможенность мышления (тупят)</a:t>
            </a:r>
            <a:endParaRPr b="0" lang="ru-RU" sz="3300" spc="-1" strike="noStrike">
              <a:solidFill>
                <a:srgbClr val="000000"/>
              </a:solidFill>
              <a:latin typeface="Verdana"/>
            </a:endParaRPr>
          </a:p>
          <a:p>
            <a:pPr marL="255600" indent="-2556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Бледность</a:t>
            </a:r>
            <a:endParaRPr b="0" lang="ru-RU" sz="3300" spc="-1" strike="noStrike">
              <a:solidFill>
                <a:srgbClr val="000000"/>
              </a:solidFill>
              <a:latin typeface="Verdana"/>
            </a:endParaRPr>
          </a:p>
          <a:p>
            <a:pPr marL="255600" indent="-2556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Учащенный пульс </a:t>
            </a:r>
            <a:endParaRPr b="0" lang="ru-RU" sz="3300" spc="-1" strike="noStrike">
              <a:solidFill>
                <a:srgbClr val="000000"/>
              </a:solidFill>
              <a:latin typeface="Verdana"/>
            </a:endParaRPr>
          </a:p>
          <a:p>
            <a:pPr marL="255600" indent="-2556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Повышение настроения, эйфория</a:t>
            </a:r>
            <a:endParaRPr b="0" lang="ru-RU" sz="3300" spc="-1" strike="noStrike">
              <a:solidFill>
                <a:srgbClr val="000000"/>
              </a:solidFill>
              <a:latin typeface="Verdana"/>
            </a:endParaRPr>
          </a:p>
          <a:p>
            <a:pPr marL="255600" indent="-2556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Приступы смеха</a:t>
            </a:r>
            <a:endParaRPr b="0" lang="ru-RU" sz="3300" spc="-1" strike="noStrike">
              <a:solidFill>
                <a:srgbClr val="000000"/>
              </a:solidFill>
              <a:latin typeface="Verdana"/>
            </a:endParaRPr>
          </a:p>
          <a:p>
            <a:pPr marL="255600" indent="-2556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Неадекватное поведение</a:t>
            </a:r>
            <a:endParaRPr b="0" lang="ru-RU" sz="3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Рисунок 4" descr="net.jpg"/>
          <p:cNvPicPr/>
          <p:nvPr/>
        </p:nvPicPr>
        <p:blipFill>
          <a:blip r:embed="rId1"/>
          <a:stretch/>
        </p:blipFill>
        <p:spPr>
          <a:xfrm>
            <a:off x="4929120" y="1357200"/>
            <a:ext cx="3642840" cy="409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2920" y="571320"/>
            <a:ext cx="81835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5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9257"/>
                </a:solidFill>
                <a:latin typeface="Verdana"/>
              </a:rPr>
              <a:t>После употребления, в течение нескольких дней и дольше: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2920" y="1500120"/>
            <a:ext cx="8183520" cy="4000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падок общего физического состояния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концентрация внимания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патия (особенно к работе и учебе)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рушение сна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епады настроения (из крайности в крайность)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1320" y="35712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9257"/>
                </a:solidFill>
                <a:latin typeface="Verdana"/>
              </a:rPr>
              <a:t>Симптомы употребления спайса</a:t>
            </a: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0040" y="1357200"/>
            <a:ext cx="8183520" cy="3642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98000"/>
          </a:bodyPr>
          <a:p>
            <a:pPr marL="259920" indent="-2599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Расширение зрачков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59920" indent="-2599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окраснение конъюнктивы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59920" indent="-2599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овышенный аппетит, жажда, тяга к сладкому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59920" indent="-2599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Сухость во рту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59920" indent="-2599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окраснение лица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59920" indent="-2599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овышение артериального давления, учащение пульса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85840" y="500040"/>
            <a:ext cx="8183520" cy="4612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93000"/>
          </a:bodyPr>
          <a:p>
            <a:pPr marL="2664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Курение спайсов, как и курение обычных сигарет, вызывает раздражение дыхательных путей. Как следствие продолжительного вдыхания дыма: осиплость голоса, кашель, слезотечение. Возможно развитие хронических воспалительных заболеваний дыхательных путей: ларингиты, бронхиты, фарингиты. Не исключено возникновение злокачественных опухолей бронхов, гортани, глотки и ротовой полости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12"/>
          <p:cNvSpPr/>
          <p:nvPr/>
        </p:nvSpPr>
        <p:spPr>
          <a:xfrm>
            <a:off x="611640" y="404640"/>
            <a:ext cx="7920360" cy="53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Что входит в состав снюс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аркотик состоит из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: т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бака;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оды (н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жна для увлажнения и более комфортного рассасывания),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ли (и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рает роль природного консерванта и усилителя вкуса),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нсервантов (м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огие компании используют консерванты для разбавления табака и снижения стоимости смеси, а также для более долгого хранения),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роматизаторов и пищевых добавок 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 усиливают вкус и придают наркотику приятный зап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нешне снюс выглядит как кашеобразная растительная смесь белого или коричневого оттен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акие бывают разновидности снюс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 типу упаковки и наличию добавок различают такие 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иды снюс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рционный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 Для удобства приема производители фасуют табачную смесь в небольшие полупрозрачные пакет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Рассыпной. 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 Недозированную табачную смесь фасуют в плотные коробочки из вощеного карт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 добавками. 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 Многие производители добавляют в табачную смесь ароматизаторы и усилители вку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00040" y="714240"/>
            <a:ext cx="4068720" cy="5541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76000"/>
          </a:bodyPr>
          <a:p>
            <a:pPr marL="280080" indent="-280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риступы смеха, веселости, которые могут сменяться тревогой, испугом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80080" indent="-280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ыраженная потребность двигаться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80080" indent="-280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Ощущение «невесомости»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80080" indent="-280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Болтливость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80080" indent="-280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Изменение восприятия пространства, времени, звука, цвета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80080" indent="-280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Наличие окурков, свернутых вручную, тяжелый травяной «запах» от одежды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Объект 4" descr=""/>
          <p:cNvPicPr/>
          <p:nvPr/>
        </p:nvPicPr>
        <p:blipFill>
          <a:blip r:embed="rId1"/>
          <a:stretch/>
        </p:blipFill>
        <p:spPr>
          <a:xfrm>
            <a:off x="4786200" y="928800"/>
            <a:ext cx="340056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0040" y="85716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66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9257"/>
                </a:solidFill>
                <a:latin typeface="Tahoma"/>
              </a:rPr>
              <a:t>Смеси для курения становятся первым шагом на пути перехода к</a:t>
            </a:r>
            <a:r>
              <a:rPr b="1" lang="en-US" sz="3600" spc="-1" strike="noStrike">
                <a:solidFill>
                  <a:srgbClr val="ff9257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9257"/>
                </a:solidFill>
                <a:latin typeface="Tahoma"/>
              </a:rPr>
              <a:t>другим видам наркотиков</a:t>
            </a: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Объект 5" descr=""/>
          <p:cNvPicPr/>
          <p:nvPr/>
        </p:nvPicPr>
        <p:blipFill>
          <a:blip r:embed="rId1"/>
          <a:stretch/>
        </p:blipFill>
        <p:spPr>
          <a:xfrm>
            <a:off x="1357200" y="2357280"/>
            <a:ext cx="3047760" cy="2952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0" y="2643120"/>
            <a:ext cx="3714480" cy="2574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69000"/>
          </a:bodyPr>
          <a:p>
            <a:pPr marL="2358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Курительные смеси все чаще стали причиной подростковых смертей. Подростки попадают в зависимость гораздо быстрее взрослых людей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02920" y="530280"/>
            <a:ext cx="8183520" cy="2755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73000"/>
          </a:bodyPr>
          <a:p>
            <a:pPr marL="24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ru-RU" sz="3100" spc="-1" strike="noStrike">
                <a:solidFill>
                  <a:srgbClr val="000000"/>
                </a:solidFill>
                <a:latin typeface="Tahoma"/>
              </a:rPr>
              <a:t>Человек, употребляющий наркотики, нуждается в профессиональной помощи! Он должен пройти </a:t>
            </a:r>
            <a:r>
              <a:rPr b="1" lang="ru-RU" sz="3100" spc="-1" strike="noStrike" u="sng">
                <a:solidFill>
                  <a:srgbClr val="000000"/>
                </a:solidFill>
                <a:uFillTx/>
                <a:latin typeface="Tahoma"/>
              </a:rPr>
              <a:t>курс лечения от зависимости</a:t>
            </a:r>
            <a:r>
              <a:rPr b="1" lang="ru-RU" sz="3100" spc="-1" strike="noStrike">
                <a:solidFill>
                  <a:srgbClr val="000000"/>
                </a:solidFill>
                <a:latin typeface="Tahoma"/>
              </a:rPr>
              <a:t>. Даже на ранних стадиях употребления консультация у нарколога будет очень полезна. Только так можно добиться полного освобождения от зависимости</a:t>
            </a:r>
            <a:r>
              <a:rPr b="1" lang="en-US" sz="3100" spc="-1" strike="noStrike">
                <a:solidFill>
                  <a:srgbClr val="000000"/>
                </a:solidFill>
                <a:latin typeface="Tahoma"/>
              </a:rPr>
              <a:t>.</a:t>
            </a:r>
            <a:br>
              <a:rPr sz="3600"/>
            </a:br>
            <a:endParaRPr b="0" lang="ru-RU" sz="3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Объект 4" descr=""/>
          <p:cNvPicPr/>
          <p:nvPr/>
        </p:nvPicPr>
        <p:blipFill>
          <a:blip r:embed="rId1"/>
          <a:stretch/>
        </p:blipFill>
        <p:spPr>
          <a:xfrm>
            <a:off x="2286000" y="3000240"/>
            <a:ext cx="4357440" cy="29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2920" y="428760"/>
            <a:ext cx="81835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6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9257"/>
                </a:solidFill>
                <a:latin typeface="Verdana"/>
              </a:rPr>
              <a:t>Помните, если мы не защитим наших детей – мы потеряем наше будущее!</a:t>
            </a: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1326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accent3"/>
                </a:solidFill>
                <a:latin typeface="Verdana"/>
              </a:rPr>
              <a:t>	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Рисунок 3" descr="bbebaa45590e.jpg"/>
          <p:cNvPicPr/>
          <p:nvPr/>
        </p:nvPicPr>
        <p:blipFill>
          <a:blip r:embed="rId1"/>
          <a:stretch/>
        </p:blipFill>
        <p:spPr>
          <a:xfrm>
            <a:off x="1928880" y="2143080"/>
            <a:ext cx="497664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i="1" lang="ru-RU" sz="6600" spc="-1" strike="noStrike">
                <a:solidFill>
                  <a:srgbClr val="000000"/>
                </a:solidFill>
                <a:latin typeface="Monotype Corsiva"/>
              </a:rPr>
              <a:t>«Наркоман - не человек, ибо он потерял то, что отличает человека от скотины - разум» </a:t>
            </a:r>
            <a:endParaRPr b="0" lang="ru-RU" sz="6600" spc="-1" strike="noStrike">
              <a:solidFill>
                <a:srgbClr val="000000"/>
              </a:solidFill>
              <a:latin typeface="Verdana"/>
            </a:endParaRPr>
          </a:p>
          <a:p>
            <a:pPr marL="26532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i="1" lang="ru-RU" sz="6600" spc="-1" strike="noStrike">
                <a:solidFill>
                  <a:srgbClr val="000000"/>
                </a:solidFill>
                <a:latin typeface="Monotype Corsiva"/>
              </a:rPr>
              <a:t>(Т. Пен)</a:t>
            </a:r>
            <a:endParaRPr b="0" lang="ru-RU" sz="6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920" y="500040"/>
            <a:ext cx="8183520" cy="55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9257"/>
                </a:solidFill>
                <a:latin typeface="Verdana"/>
              </a:rPr>
              <a:t>                                                                </a:t>
            </a: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                           </a:t>
            </a: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	</a:t>
            </a:r>
            <a:r>
              <a:rPr b="1" i="1" lang="ru-RU" sz="2000" spc="-1" strike="noStrike">
                <a:solidFill>
                  <a:srgbClr val="003cb4"/>
                </a:solidFill>
                <a:latin typeface="Cambria Math"/>
                <a:ea typeface="Cambria Math"/>
              </a:rPr>
              <a:t>И.П.Павлов</a:t>
            </a:r>
            <a:br>
              <a:rPr sz="2000"/>
            </a:b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2920" y="1214280"/>
            <a:ext cx="8183520" cy="271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ru-RU" sz="5200" spc="-1" strike="noStrike">
              <a:solidFill>
                <a:srgbClr val="000000"/>
              </a:solidFill>
              <a:latin typeface="Verdana"/>
            </a:endParaRPr>
          </a:p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i="1" lang="en-US" sz="5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ru-RU" sz="5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Прямоугольник 3"/>
          <p:cNvSpPr/>
          <p:nvPr/>
        </p:nvSpPr>
        <p:spPr>
          <a:xfrm>
            <a:off x="1285920" y="928800"/>
            <a:ext cx="6071760" cy="61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4400" spc="-1" strike="noStrike">
                <a:solidFill>
                  <a:srgbClr val="003cb4"/>
                </a:solidFill>
                <a:latin typeface="Monotype Corsiva"/>
                <a:ea typeface="Cambria Math"/>
              </a:rPr>
              <a:t>Мы сокращаем свою жизнь своей невоздержанностью, своей беспорядочностью, своим безобразным отношением с собственным организм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5786280"/>
            <a:ext cx="8183520" cy="24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29000"/>
          </a:bodyPr>
          <a:p>
            <a:pPr indent="0">
              <a:buNone/>
            </a:pPr>
            <a:endParaRPr b="1" lang="ru-RU" sz="3600" spc="-1" strike="noStrike">
              <a:solidFill>
                <a:srgbClr val="ff9257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28760" y="530280"/>
            <a:ext cx="8257680" cy="532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2800" spc="-1" strike="noStrike">
                <a:solidFill>
                  <a:srgbClr val="003cb4"/>
                </a:solidFill>
                <a:latin typeface="Verdana"/>
              </a:rPr>
              <a:t>Общие положения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айс (от англ. «spice» — специя, пряность) – разновидность травяной курительной смеси, в состав которой входят синтетические вещества, энтеогены (растения, в состав которых входят вещества психотропного действия) и обыкновенные травы. Появились спайсы в начале 21 века в Европе и продавались под видом благовоний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9257"/>
                </a:solidFill>
                <a:latin typeface="Verdana"/>
              </a:rPr>
              <a:t>«Спайс» и его последствия. </a:t>
            </a: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8183520" cy="478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67000"/>
          </a:bodyPr>
          <a:p>
            <a:pPr marL="2534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100" spc="-1" strike="noStrike">
                <a:solidFill>
                  <a:srgbClr val="000000"/>
                </a:solidFill>
                <a:latin typeface="Verdana"/>
              </a:rPr>
              <a:t>Спайсом называют любой вид растения, обработанный синтетическим канабиойдом JWH-018. Спайс используется в качестве курительных смесей и ароматических трав.</a:t>
            </a:r>
            <a:endParaRPr b="0" lang="ru-RU" sz="3100" spc="-1" strike="noStrike">
              <a:solidFill>
                <a:srgbClr val="000000"/>
              </a:solidFill>
              <a:latin typeface="Verdana"/>
            </a:endParaRPr>
          </a:p>
          <a:p>
            <a:pPr marL="2534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ru-RU" sz="3100" spc="-1" strike="noStrike">
                <a:solidFill>
                  <a:srgbClr val="000000"/>
                </a:solidFill>
                <a:latin typeface="Verdana"/>
              </a:rPr>
              <a:t>Вред, который наносят здоровью курение гашиша и конопли несоизмерим с вредом, который может случиться при курении спайса.</a:t>
            </a:r>
            <a:endParaRPr b="0" lang="ru-RU" sz="3100" spc="-1" strike="noStrike">
              <a:solidFill>
                <a:srgbClr val="000000"/>
              </a:solidFill>
              <a:latin typeface="Verdana"/>
            </a:endParaRPr>
          </a:p>
          <a:p>
            <a:pPr marL="2534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3100" spc="-1" strike="noStrike">
                <a:solidFill>
                  <a:srgbClr val="000000"/>
                </a:solidFill>
                <a:latin typeface="Verdana"/>
              </a:rPr>
              <a:t>Наркологи единодушно причисляют спайс к тяжелым наркотикам,  он наносит колоссальный вред психическому и физическому здоровью человека.</a:t>
            </a:r>
            <a:endParaRPr b="0" lang="ru-RU" sz="3100" spc="-1" strike="noStrike">
              <a:solidFill>
                <a:srgbClr val="000000"/>
              </a:solidFill>
              <a:latin typeface="Verdana"/>
            </a:endParaRPr>
          </a:p>
          <a:p>
            <a:pPr marL="2534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3100" spc="-1" strike="noStrike">
                <a:solidFill>
                  <a:srgbClr val="000000"/>
                </a:solidFill>
                <a:latin typeface="Verdana"/>
              </a:rPr>
              <a:t>В 2008 году было установлено, что действующим компонентом смесей являются не вещества растительного происхождения, а синтетические аналоги марихуаны.</a:t>
            </a:r>
            <a:endParaRPr b="0" lang="ru-RU" sz="3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85716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76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9257"/>
                </a:solidFill>
                <a:latin typeface="Tahoma"/>
              </a:rPr>
              <a:t>Смесь реализуется в виде высушенных и измельченных частей растений, порошков</a:t>
            </a: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Объект 4" descr=""/>
          <p:cNvPicPr/>
          <p:nvPr/>
        </p:nvPicPr>
        <p:blipFill>
          <a:blip r:embed="rId1"/>
          <a:stretch/>
        </p:blipFill>
        <p:spPr>
          <a:xfrm>
            <a:off x="928800" y="2714760"/>
            <a:ext cx="3419280" cy="2665800"/>
          </a:xfrm>
          <a:prstGeom prst="rect">
            <a:avLst/>
          </a:prstGeom>
          <a:ln w="0">
            <a:noFill/>
          </a:ln>
        </p:spPr>
      </p:pic>
      <p:pic>
        <p:nvPicPr>
          <p:cNvPr id="102" name="Объект 5" descr=""/>
          <p:cNvPicPr/>
          <p:nvPr/>
        </p:nvPicPr>
        <p:blipFill>
          <a:blip r:embed="rId2"/>
          <a:stretch/>
        </p:blipFill>
        <p:spPr>
          <a:xfrm>
            <a:off x="4857840" y="2714760"/>
            <a:ext cx="34192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1" lang="ru-RU" sz="3600" spc="-1" strike="noStrike">
              <a:solidFill>
                <a:srgbClr val="ff9257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0040" y="785880"/>
            <a:ext cx="3711600" cy="4327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75000"/>
          </a:bodyPr>
          <a:p>
            <a:pPr marL="256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уществуют разные способы приема спайса в организм. Все они связаны с вдыханием дыма, начиная от простой сигареты (самокрутки) и заканчивая сжиганием курительных смесей в ароматических лампах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Рисунок 5" descr="1fbbba53-2161-4adc-9df0-f1d9e858101b.jpg"/>
          <p:cNvPicPr/>
          <p:nvPr/>
        </p:nvPicPr>
        <p:blipFill>
          <a:blip r:embed="rId1"/>
          <a:stretch/>
        </p:blipFill>
        <p:spPr>
          <a:xfrm>
            <a:off x="4000320" y="1214280"/>
            <a:ext cx="443196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1" lang="ru-RU" sz="3600" spc="-1" strike="noStrike">
              <a:solidFill>
                <a:srgbClr val="ff9257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2612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78000"/>
          </a:bodyPr>
          <a:p>
            <a:pPr marL="2433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Орган, на который спайс оказывает самое сильное влияние –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мозг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. Химический яд заставляет резко сужаться капилляры, мозг перестает насыщаться кислородом в нормальном количестве. В результате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клетки погибают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 а человек ощущает состояние легкости и беззаботности. Именно этот эффект и нравится подросткам. 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Объект 3" descr=""/>
          <p:cNvPicPr/>
          <p:nvPr/>
        </p:nvPicPr>
        <p:blipFill>
          <a:blip r:embed="rId1"/>
          <a:stretch/>
        </p:blipFill>
        <p:spPr>
          <a:xfrm>
            <a:off x="2857320" y="3071880"/>
            <a:ext cx="385740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502920" y="530280"/>
            <a:ext cx="8183520" cy="5562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62000"/>
          </a:bodyPr>
          <a:p>
            <a:pPr marL="26280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Сколько никотина содержится в снюсе?</a:t>
            </a: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  <a:p>
            <a:pPr marL="26280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280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Основной состав снюса – сортовой мелкорубленый табак, поэтому чистое </a:t>
            </a:r>
            <a:r>
              <a:rPr b="1" i="1" lang="ru-RU" sz="3600" spc="-1" strike="noStrike">
                <a:solidFill>
                  <a:srgbClr val="000000"/>
                </a:solidFill>
                <a:latin typeface="Verdana"/>
              </a:rPr>
              <a:t>содержание никотина в порции наркотика в 5 раз выше, чем в обычной сигарете. 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Среди курильщиков широко распространен миф о том, что замена сигарет на жевательный снюс помогает справиться с никотиновой зависимостью. Это не так. 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Зависимость лишь усиливается из-за более высокого содержания никотина в снюсе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 и более продолжительного времени употребления. Так, снюс держат в ротовой полости от 30 минут до часа, и все это время организм впитывает никотин. А сигарету курят за несколько минут, и при этом часть никотина в виде дыма растворяется в воздухе.</a:t>
            </a: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  <a:p>
            <a:pPr marL="2628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Аспект">
  <a:themeElements>
    <a:clrScheme name="Аспект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Аспект">
  <a:themeElements>
    <a:clrScheme name="Аспект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spect</Template>
  <TotalTime>464</TotalTime>
  <Application>LibreOffice/7.4.7.2$Linux_X86_64 LibreOffice_project/40$Build-2</Application>
  <AppVersion>15.0000</AppVersion>
  <Words>349</Words>
  <Paragraphs>7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shkevich</cp:lastModifiedBy>
  <dcterms:modified xsi:type="dcterms:W3CDTF">2019-12-30T08:35:39Z</dcterms:modified>
  <cp:revision>5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9</vt:r8>
  </property>
</Properties>
</file>