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2346-349A-45D0-A884-24889615E1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1C9F-6865-4712-B3EB-B29C1EA7C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8C8-B94C-4E35-AA61-F95E6BE1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C0F-9767-41A8-AC86-52F22743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5D8-490E-498C-8EF0-CD1D3005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0A1-9869-4E69-8BD2-4B1A15D4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BE4-160E-403A-9745-24D013D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378-EA33-437F-9384-F0AFE0BE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4CB-4201-449B-932F-A6CFF09A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67A-CCBA-43EC-91AA-30BD45B0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612-75BA-4122-8734-E8455A5A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43F-0901-47F6-A477-E1ACC2E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2AC-A9D3-49A8-B9DE-11730C3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890-F586-4484-9B4D-1D41448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BD20-7D34-4B4D-8424-C5B3A3305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989000"/>
            <a:ext cx="799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жем ли мы увидеть музыку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11640" y="3357360"/>
            <a:ext cx="24476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3573000"/>
            <a:ext cx="216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зито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32108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3528720" cy="2646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2987640" y="6165720"/>
            <a:ext cx="2448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4987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миль Сен-Са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4473360" cy="5842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"/>
          <p:cNvPicPr/>
          <p:nvPr/>
        </p:nvPicPr>
        <p:blipFill>
          <a:blip r:embed="rId1"/>
          <a:stretch/>
        </p:blipFill>
        <p:spPr>
          <a:xfrm>
            <a:off x="179280" y="1052640"/>
            <a:ext cx="8720280" cy="5616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611280" y="3333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Карнавал животны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00"/>
            </a:gs>
            <a:gs pos="50000">
              <a:srgbClr val="00ff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Включи воображен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5" descr="E:\18-19\аттестация\можем ли мы увидеть музыку\черепаха.jpg"/>
          <p:cNvPicPr/>
          <p:nvPr/>
        </p:nvPicPr>
        <p:blipFill>
          <a:blip r:embed="rId1"/>
          <a:stretch/>
        </p:blipFill>
        <p:spPr>
          <a:xfrm>
            <a:off x="250920" y="1290600"/>
            <a:ext cx="3384360" cy="250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рнавал животны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https://ds04.infourok.ru/uploads/ex/10a2/0001e561-09084dfb/img15.jpg"/>
          <p:cNvPicPr/>
          <p:nvPr/>
        </p:nvPicPr>
        <p:blipFill>
          <a:blip r:embed="rId2"/>
          <a:stretch/>
        </p:blipFill>
        <p:spPr>
          <a:xfrm>
            <a:off x="0" y="4319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http://pedagog39.ru/wp-content/uploads/2014/01/%D0%A1%D0%B5%D0%BD-%D0%A1%D0%B0%D0%BD%D1%81-%D0%94%D0%BB%D0%B8%D0%BD%D0%BD%D0%BE%D1%83%D1%85%D0%BE%D0%B5-%D0%B6%D0%B8%D0%B2%D0%BE%D1%82%D0%BD%D0%BE%D0%B5.jpg"/>
          <p:cNvPicPr/>
          <p:nvPr/>
        </p:nvPicPr>
        <p:blipFill>
          <a:blip r:embed="rId3"/>
          <a:stretch/>
        </p:blipFill>
        <p:spPr>
          <a:xfrm>
            <a:off x="3203640" y="2565360"/>
            <a:ext cx="3606840" cy="259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https://ds02.infourok.ru/uploads/ex/134b/00088b42-c164cc69/640/img5.jpg"/>
          <p:cNvPicPr/>
          <p:nvPr/>
        </p:nvPicPr>
        <p:blipFill>
          <a:blip r:embed="rId4"/>
          <a:stretch/>
        </p:blipFill>
        <p:spPr>
          <a:xfrm>
            <a:off x="5651640" y="1125360"/>
            <a:ext cx="3168360" cy="237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http://100-bal.ru/pars_docs/refs/219/218445/218445_html_702d84ca.jpg"/>
          <p:cNvPicPr/>
          <p:nvPr/>
        </p:nvPicPr>
        <p:blipFill>
          <a:blip r:embed="rId5"/>
          <a:stretch/>
        </p:blipFill>
        <p:spPr>
          <a:xfrm>
            <a:off x="5867280" y="4668840"/>
            <a:ext cx="302256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«Дорога добра»</a:t>
            </a:r>
            <a:br>
              <a:rPr sz="80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сл Юрия Энтина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Муз Михаил Мин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76"/>
            </a:gs>
            <a:gs pos="50000">
              <a:srgbClr val="3399ff"/>
            </a:gs>
            <a:gs pos="100000">
              <a:srgbClr val="1847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До встречи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76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.УСП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411280" y="2349360"/>
            <a:ext cx="441036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КАРТИНАХ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5000"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.5"/>
                                  </p:iterate>
                                  <p:childTnLst>
                                    <p:set>
                                      <p:cBhvr>
                                        <p:cTn id="2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видиш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картине нарисована ре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ли ель и белый ин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ли сад и обла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ли снежная лави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ли поле и шалаш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язательно картина называется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280" y="52293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юньский ден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аак Лев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589720"/>
            <a:ext cx="54864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ff"/>
                </a:solidFill>
                <a:latin typeface="Bodoni MT Black"/>
              </a:rPr>
              <a:t>пейза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6913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сли видишь на карт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чашку кофе на стол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морс в большом графин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розу в хрустал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бронзовую вод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грушу, или тор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ли все предметы сраз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най, что это 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5280" y="508428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ренний натюрмор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. С. Петров-Вод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92440" y="189000"/>
            <a:ext cx="6051240" cy="4538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Arial Black"/>
              </a:rPr>
              <a:t>натюрмор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Если видишь, что с картин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мотрит кто-нибудь на нас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ли принц в плаще старинном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ли Колька, твой сосед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бязательно карти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зывается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23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24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1000" autoRev="1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28" dur="1000" autoRev="1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29" dur="1000" autoRev="1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1000" autoRev="1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33" dur="1000" autoRev="1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34" dur="1000" autoRev="1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0" autoRev="1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38" dur="1000" autoRev="1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39" dur="1000" autoRev="1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1000" autoRev="1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43" dur="1000" autoRev="1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44" dur="1000" autoRev="1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0" autoRev="1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48" dur="1000" autoRev="1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49" dur="1000" autoRev="1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1000" autoRev="1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153" dur="1000" autoRev="1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154" dur="1000" autoRev="1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508428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вочка с персикам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Arial Black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403280" y="2127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рисунок2"/>
          <p:cNvPicPr/>
          <p:nvPr/>
        </p:nvPicPr>
        <p:blipFill>
          <a:blip r:embed="rId1"/>
          <a:stretch/>
        </p:blipFill>
        <p:spPr>
          <a:xfrm>
            <a:off x="971640" y="0"/>
            <a:ext cx="237636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youpainter.ru/sites/default/files/styles/painting_page/public/users/svetlana_komarova/svetlana_komarova_carevna_lebed.jpg?itok=qvjkglYp"/>
          <p:cNvPicPr/>
          <p:nvPr/>
        </p:nvPicPr>
        <p:blipFill>
          <a:blip r:embed="rId2"/>
          <a:stretch/>
        </p:blipFill>
        <p:spPr>
          <a:xfrm>
            <a:off x="6875640" y="189000"/>
            <a:ext cx="2100240" cy="305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youpainter.ru/sites/default/files/styles/painting_page/public/users/irina_martynova/irina_martynova_carevna_lebed.jpg?itok=w5OuFV-I"/>
          <p:cNvPicPr/>
          <p:nvPr/>
        </p:nvPicPr>
        <p:blipFill>
          <a:blip r:embed="rId3"/>
          <a:stretch/>
        </p:blipFill>
        <p:spPr>
          <a:xfrm>
            <a:off x="2843280" y="1989000"/>
            <a:ext cx="3759120" cy="26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www.birmaga.ru/dosta/%D0%A3%D1%80%D0%BE%D0%BA+%D0%BF%D0%BE+%D0%BB%D0%B8%D1%82%D0%B5%D1%80%D0%B0%D1%82%D1%83%D1%80%D0%BD%D0%BE%D0%BC%D1%83+%D1%87%D1%82%D0%B5%D0%BD%D0%B8%D1%8E+%D0%B8+%D0%B8%D0%B7%D0%BE%D0%B1%D1%80%D0%B0%D0%B7%D0%B8%D1%82%D0%B5%D0%BB%D1%8C%D0%BD%D0%BE%D0%BC%D1%83+%D0%B8%D1%81%D0%BA%D1%83%D1%81%D1%81%D1%82%D0%B2%D1%83+%D0%B0.+%D0%A1.+%D0%9F%D1%83%D1%88%D0%BA%D0%B8%D0%BD.+%C2%AB%D0%A1%D0%BA%D0%B0%D0%B7%D0%BA%D0%B0+%D0%BE+%D1%86%D0%B0%D1%80%D0%B5+%D0%A1%D0%B0%D0%BB%D1%82%D0%B0%D0%BD%D0%B5%2C+%D0%BE+%D0%B5%D0%B3%D0%BE+%D1%81%D0%BB%D0%B0%D0%B2%D0%BD%D0%BE%D0%BC+%D0%B8+%D0%BC%D0%BE%D0%B3%D1%83%D1%87%D0%B5%D0%BC+%D0%B1%D0%BE%D0%B3%D0%B0%D1%82%D1%8B%D1%80%D0%B5+%D0%BA%D0%BD%D1%8F%D0%B7%D0%B5+%D0%93%D0%B2%D0%B8%D0%B4%D0%BE%D0%BD%D0%B5+%D0%A1%D0%B0%D0%BB%D1%82%D0%B0%D0%BD%D0%BE%D0%B2%D0%B8%D1%87%D0%B5+%D0%B8+%D0%BE+%D0%BF%D1%80%D0%B5%D0%BA%D1%80%D0%B0%D1%81%D0%BD%D0%BE%D0%B9+%D0%A6%D0%B0%D1%80%D0%B5%D0%B2%D0%BD%D0%B5+%D0%9B%D0%B5%D0%B1%D0%B5%D0%B4%D0%B8%C2%BBa/369947_html_m1a51afa0.png"/>
          <p:cNvPicPr/>
          <p:nvPr/>
        </p:nvPicPr>
        <p:blipFill>
          <a:blip r:embed="rId4"/>
          <a:stretch/>
        </p:blipFill>
        <p:spPr>
          <a:xfrm>
            <a:off x="6012000" y="3429000"/>
            <a:ext cx="2232000" cy="3246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ttp://cdn01.ru/files/users/images/b4/ba/b4ba9e90d595893a3c33ddc503d9ee03.jpg"/>
          <p:cNvPicPr/>
          <p:nvPr/>
        </p:nvPicPr>
        <p:blipFill>
          <a:blip r:embed="rId5"/>
          <a:stretch/>
        </p:blipFill>
        <p:spPr>
          <a:xfrm>
            <a:off x="324000" y="3645000"/>
            <a:ext cx="2457360" cy="321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5:39:24Z</dcterms:created>
  <dc:creator>дом</dc:creator>
  <dc:description/>
  <dc:language>en-US</dc:language>
  <cp:lastModifiedBy>Елена</cp:lastModifiedBy>
  <dcterms:modified xsi:type="dcterms:W3CDTF">2018-11-28T16:19:26Z</dcterms:modified>
  <cp:revision>19</cp:revision>
  <dc:subject/>
  <dc:title>Можем ли мы увидеть музыку?</dc:title>
</cp:coreProperties>
</file>