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9CCF-4830-4779-BC97-615B8A511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20A-E074-4EDE-99BC-DB1073EDD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22D-6938-4D11-AA24-02B86C19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1E2-AC1A-40A8-BCB8-BEFA1187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0FD-E28C-4382-9F63-249789BD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973-152C-4DAE-94D5-8968DBB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1E1-FB27-4480-B741-BFFD32E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029-95E4-4AD0-A1E5-08200C13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890-7947-4DB3-82E8-8B42603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F99-91F1-4890-9094-68058FE5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126-EAB0-4049-9B8C-2904F95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513-715D-40FD-A5F0-90883FE7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307-1933-4A0B-8A0C-AAE0A0E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4FA-BB43-44CC-A0F5-2A4B1F7F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14AA-AF15-4419-8890-10B6941C1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989000"/>
            <a:ext cx="799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жем ли мы увидеть музыку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1640" y="3357360"/>
            <a:ext cx="24476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3573000"/>
            <a:ext cx="216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3528720" cy="2646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987640" y="6165720"/>
            <a:ext cx="244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4987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миль Сен-С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4473360" cy="584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"/>
          <p:cNvPicPr/>
          <p:nvPr/>
        </p:nvPicPr>
        <p:blipFill>
          <a:blip r:embed="rId1"/>
          <a:stretch/>
        </p:blipFill>
        <p:spPr>
          <a:xfrm>
            <a:off x="179280" y="1052640"/>
            <a:ext cx="8720280" cy="5616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611280" y="333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арнавал животны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00"/>
            </a:gs>
            <a:gs pos="5000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Включи воображ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E:\18-19\аттестация\можем ли мы увидеть музыку\черепаха.jpg"/>
          <p:cNvPicPr/>
          <p:nvPr/>
        </p:nvPicPr>
        <p:blipFill>
          <a:blip r:embed="rId1"/>
          <a:stretch/>
        </p:blipFill>
        <p:spPr>
          <a:xfrm>
            <a:off x="250920" y="1290600"/>
            <a:ext cx="3384360" cy="250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навал животны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https://ds04.infourok.ru/uploads/ex/10a2/0001e561-09084dfb/img15.jpg"/>
          <p:cNvPicPr/>
          <p:nvPr/>
        </p:nvPicPr>
        <p:blipFill>
          <a:blip r:embed="rId2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://pedagog39.ru/wp-content/uploads/2014/01/%D0%A1%D0%B5%D0%BD-%D0%A1%D0%B0%D0%BD%D1%81-%D0%94%D0%BB%D0%B8%D0%BD%D0%BD%D0%BE%D1%83%D1%85%D0%BE%D0%B5-%D0%B6%D0%B8%D0%B2%D0%BE%D1%82%D0%BD%D0%BE%D0%B5.jpg"/>
          <p:cNvPicPr/>
          <p:nvPr/>
        </p:nvPicPr>
        <p:blipFill>
          <a:blip r:embed="rId3"/>
          <a:stretch/>
        </p:blipFill>
        <p:spPr>
          <a:xfrm>
            <a:off x="3203640" y="2565360"/>
            <a:ext cx="360684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https://ds02.infourok.ru/uploads/ex/134b/00088b42-c164cc69/640/img5.jpg"/>
          <p:cNvPicPr/>
          <p:nvPr/>
        </p:nvPicPr>
        <p:blipFill>
          <a:blip r:embed="rId4"/>
          <a:stretch/>
        </p:blipFill>
        <p:spPr>
          <a:xfrm>
            <a:off x="5651640" y="1125360"/>
            <a:ext cx="3168360" cy="237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http://100-bal.ru/pars_docs/refs/219/218445/218445_html_702d84ca.jpg"/>
          <p:cNvPicPr/>
          <p:nvPr/>
        </p:nvPicPr>
        <p:blipFill>
          <a:blip r:embed="rId5"/>
          <a:stretch/>
        </p:blipFill>
        <p:spPr>
          <a:xfrm>
            <a:off x="5867280" y="4668840"/>
            <a:ext cx="302256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«Дорога добра»</a:t>
            </a:r>
            <a:br>
              <a:rPr sz="80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сл Юрия Энтина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уз Михаил Мин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До встреч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411280" y="2349360"/>
            <a:ext cx="441036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КАРТИНАХ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5000"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.5"/>
                                  </p:iterate>
                                  <p:childTnLst>
                                    <p:set>
                                      <p:cBhvr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видиш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картине нарисована ре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ель и белый ин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сад и обла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снежная лав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поле и шалаш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язательно картина называется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52293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юньский ден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аак 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589720"/>
            <a:ext cx="54864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ff"/>
                </a:solidFill>
                <a:latin typeface="Bodoni MT Black"/>
              </a:rPr>
              <a:t>пейза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91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сли видишь на карт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чашку кофе на стол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морс в большом графин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розу в хрустал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бронзовую вод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грушу, или тор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все предметы сраз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най, что это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508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енний натюрмор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. С. Петров-Вод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440" y="189000"/>
            <a:ext cx="6051240" cy="4538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Arial Black"/>
              </a:rPr>
              <a:t>натюрмо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Если видишь, что с карти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мотрит кто-нибудь на нас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ли принц в плаще старинно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ли Колька, твой сосе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бязательно карт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зывается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23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24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28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29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33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34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38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39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43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44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48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49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53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508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вочка с персик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Arial Black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03280" y="2127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рисунок2"/>
          <p:cNvPicPr/>
          <p:nvPr/>
        </p:nvPicPr>
        <p:blipFill>
          <a:blip r:embed="rId1"/>
          <a:stretch/>
        </p:blipFill>
        <p:spPr>
          <a:xfrm>
            <a:off x="971640" y="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youpainter.ru/sites/default/files/styles/painting_page/public/users/svetlana_komarova/svetlana_komarova_carevna_lebed.jpg?itok=qvjkglYp"/>
          <p:cNvPicPr/>
          <p:nvPr/>
        </p:nvPicPr>
        <p:blipFill>
          <a:blip r:embed="rId2"/>
          <a:stretch/>
        </p:blipFill>
        <p:spPr>
          <a:xfrm>
            <a:off x="6875640" y="189000"/>
            <a:ext cx="2100240" cy="305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youpainter.ru/sites/default/files/styles/painting_page/public/users/irina_martynova/irina_martynova_carevna_lebed.jpg?itok=w5OuFV-I"/>
          <p:cNvPicPr/>
          <p:nvPr/>
        </p:nvPicPr>
        <p:blipFill>
          <a:blip r:embed="rId3"/>
          <a:stretch/>
        </p:blipFill>
        <p:spPr>
          <a:xfrm>
            <a:off x="2843280" y="1989000"/>
            <a:ext cx="3759120" cy="26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birmaga.ru/dosta/%D0%A3%D1%80%D0%BE%D0%BA+%D0%BF%D0%BE+%D0%BB%D0%B8%D1%82%D0%B5%D1%80%D0%B0%D1%82%D1%83%D1%80%D0%BD%D0%BE%D0%BC%D1%83+%D1%87%D1%82%D0%B5%D0%BD%D0%B8%D1%8E+%D0%B8+%D0%B8%D0%B7%D0%BE%D0%B1%D1%80%D0%B0%D0%B7%D0%B8%D1%82%D0%B5%D0%BB%D1%8C%D0%BD%D0%BE%D0%BC%D1%83+%D0%B8%D1%81%D0%BA%D1%83%D1%81%D1%81%D1%82%D0%B2%D1%83+%D0%B0.+%D0%A1.+%D0%9F%D1%83%D1%88%D0%BA%D0%B8%D0%BD.+%C2%AB%D0%A1%D0%BA%D0%B0%D0%B7%D0%BA%D0%B0+%D0%BE+%D1%86%D0%B0%D1%80%D0%B5+%D0%A1%D0%B0%D0%BB%D1%82%D0%B0%D0%BD%D0%B5%2C+%D0%BE+%D0%B5%D0%B3%D0%BE+%D1%81%D0%BB%D0%B0%D0%B2%D0%BD%D0%BE%D0%BC+%D0%B8+%D0%BC%D0%BE%D0%B3%D1%83%D1%87%D0%B5%D0%BC+%D0%B1%D0%BE%D0%B3%D0%B0%D1%82%D1%8B%D1%80%D0%B5+%D0%BA%D0%BD%D1%8F%D0%B7%D0%B5+%D0%93%D0%B2%D0%B8%D0%B4%D0%BE%D0%BD%D0%B5+%D0%A1%D0%B0%D0%BB%D1%82%D0%B0%D0%BD%D0%BE%D0%B2%D0%B8%D1%87%D0%B5+%D0%B8+%D0%BE+%D0%BF%D1%80%D0%B5%D0%BA%D1%80%D0%B0%D1%81%D0%BD%D0%BE%D0%B9+%D0%A6%D0%B0%D1%80%D0%B5%D0%B2%D0%BD%D0%B5+%D0%9B%D0%B5%D0%B1%D0%B5%D0%B4%D0%B8%C2%BBa/369947_html_m1a51afa0.png"/>
          <p:cNvPicPr/>
          <p:nvPr/>
        </p:nvPicPr>
        <p:blipFill>
          <a:blip r:embed="rId4"/>
          <a:stretch/>
        </p:blipFill>
        <p:spPr>
          <a:xfrm>
            <a:off x="6012000" y="3429000"/>
            <a:ext cx="2232000" cy="324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cdn01.ru/files/users/images/b4/ba/b4ba9e90d595893a3c33ddc503d9ee03.jpg"/>
          <p:cNvPicPr/>
          <p:nvPr/>
        </p:nvPicPr>
        <p:blipFill>
          <a:blip r:embed="rId5"/>
          <a:stretch/>
        </p:blipFill>
        <p:spPr>
          <a:xfrm>
            <a:off x="324000" y="3645000"/>
            <a:ext cx="2457360" cy="32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39:24Z</dcterms:created>
  <dc:creator>дом</dc:creator>
  <dc:description/>
  <dc:language>en-US</dc:language>
  <cp:lastModifiedBy>Елена</cp:lastModifiedBy>
  <dcterms:modified xsi:type="dcterms:W3CDTF">2018-11-28T16:19:26Z</dcterms:modified>
  <cp:revision>19</cp:revision>
  <dc:subject/>
  <dc:title>Можем ли мы увидеть музыку?</dc:title>
</cp:coreProperties>
</file>