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8.png" ContentType="image/png"/>
  <Override PartName="/ppt/media/image1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B7498-BB39-4DE0-A30C-721ADC1F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31EDE-859C-4420-AA39-DA05FC7D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451E-A2CA-4CF4-8189-1A539FD85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625D-F988-4FAA-A63F-5DC16516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97B7B-B8D2-49C4-A894-C0BF0295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42635-24D6-4501-B8F9-4467608E4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2826F-6888-44F2-AEAB-494DE4EB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089DC-770A-48E3-BF8A-F93A0EE4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FB043-D733-4BE1-9864-387DAE18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D83E0-0102-4856-945B-D84A3062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7F480-8A76-433B-8DB6-0ED319F8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621C7-0A94-48B6-88D6-20E092024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"/>
          <p:cNvSpPr txBox="1"/>
          <p:nvPr/>
        </p:nvSpPr>
        <p:spPr>
          <a:xfrm>
            <a:off x="776160" y="214200"/>
            <a:ext cx="8082000" cy="20322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12500"/>
                <a:gd name="adj2" fmla="val -90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30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ff0000"/>
              </a:solidFill>
              <a:effectLst>
                <a:outerShdw dist="1730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950760" y="1322280"/>
            <a:ext cx="2048040" cy="1401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214800" y="5786280"/>
            <a:ext cx="52862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готовила воспитатель МКДОУ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 Манинский   детский сад №1 Босюк О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214880" y="214200"/>
            <a:ext cx="457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КДОУ « Манинский детский сад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357880" y="2000160"/>
            <a:ext cx="183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3"/>
          <a:stretch/>
        </p:blipFill>
        <p:spPr>
          <a:xfrm>
            <a:off x="3627360" y="603360"/>
            <a:ext cx="56451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s://gas-kvas.com/uploads/posts/2023-02/1676865389_gas-kvas-com-p-risunki-na-temu-teremok-iz-skazki-23.jpg"/>
          <p:cNvPicPr/>
          <p:nvPr/>
        </p:nvPicPr>
        <p:blipFill>
          <a:blip r:embed="rId1"/>
          <a:stretch/>
        </p:blipFill>
        <p:spPr>
          <a:xfrm>
            <a:off x="4572000" y="214200"/>
            <a:ext cx="4572000" cy="3071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https://i.ytimg.com/vi/FRfBM7TevYY/maxresdefault.jpg"/>
          <p:cNvPicPr/>
          <p:nvPr/>
        </p:nvPicPr>
        <p:blipFill>
          <a:blip r:embed="rId2"/>
          <a:stretch/>
        </p:blipFill>
        <p:spPr>
          <a:xfrm>
            <a:off x="0" y="0"/>
            <a:ext cx="4622760" cy="3340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https://i.ytimg.com/vi/da6SinYzXMo/maxresdefault.jpg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s://cdn1.ozone.ru/s3/multimedia-5/6126648005.jpg"/>
          <p:cNvPicPr/>
          <p:nvPr/>
        </p:nvPicPr>
        <p:blipFill>
          <a:blip r:embed="rId4"/>
          <a:stretch/>
        </p:blipFill>
        <p:spPr>
          <a:xfrm>
            <a:off x="4786200" y="342900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i.mycdn.me/i?r=AzEPZsRbOZEKgBhR0XGMT1Rkz3aEd8KADo53fBXa77Ygz6aKTM5SRkZCeTgDn6uOyic"/>
          <p:cNvPicPr/>
          <p:nvPr/>
        </p:nvPicPr>
        <p:blipFill>
          <a:blip r:embed="rId1"/>
          <a:stretch/>
        </p:blipFill>
        <p:spPr>
          <a:xfrm>
            <a:off x="428760" y="714240"/>
            <a:ext cx="8215200" cy="5786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285840"/>
            <a:ext cx="900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ша малая Родина – село Манино Калачеевский р-н Воронеж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upload.wikimedia.org/wikipedia/commons/6/61/Flag_of_Maninskoe.png"/>
          <p:cNvPicPr/>
          <p:nvPr/>
        </p:nvPicPr>
        <p:blipFill>
          <a:blip r:embed="rId1"/>
          <a:stretch/>
        </p:blipFill>
        <p:spPr>
          <a:xfrm>
            <a:off x="142920" y="785880"/>
            <a:ext cx="891540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43000" y="214200"/>
            <a:ext cx="6357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Греб Манинского сельского по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tv-gubernia.ru/images/news/2021/10/manino10.jpg"/>
          <p:cNvPicPr/>
          <p:nvPr/>
        </p:nvPicPr>
        <p:blipFill>
          <a:blip r:embed="rId1"/>
          <a:stretch/>
        </p:blipFill>
        <p:spPr>
          <a:xfrm>
            <a:off x="250920" y="1324080"/>
            <a:ext cx="8678880" cy="4890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357200" y="571680"/>
            <a:ext cx="6286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Стела на въезде в село Ман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s://riavrn.ru/i/82/82d51884e56810a2fce450601e90ba2b.jpg"/>
          <p:cNvPicPr/>
          <p:nvPr/>
        </p:nvPicPr>
        <p:blipFill>
          <a:blip r:embed="rId1"/>
          <a:stretch/>
        </p:blipFill>
        <p:spPr>
          <a:xfrm>
            <a:off x="714240" y="1357200"/>
            <a:ext cx="757260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357200" y="500040"/>
            <a:ext cx="6715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Наша малая любимая Род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https://sun9-36.userapi.com/impf/c855228/v855228177/d43eb/B8d8z_yPba0.jpg?size=604x402&amp;quality=90&amp;sign=c381d5602a2a90d7b7beea9775eff6a0&amp;c_uniq_tag=6SOPCAkZ9jndQoIU1FhLxnZNI1tBx4p2p0kTDckjzYA"/>
          <p:cNvPicPr/>
          <p:nvPr/>
        </p:nvPicPr>
        <p:blipFill>
          <a:blip r:embed="rId1"/>
          <a:stretch/>
        </p:blipFill>
        <p:spPr>
          <a:xfrm>
            <a:off x="0" y="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https://riavrn.ru/i/88/8814cffd2bc41d179baa73b1d69def3e.jpg"/>
          <p:cNvPicPr/>
          <p:nvPr/>
        </p:nvPicPr>
        <p:blipFill>
          <a:blip r:embed="rId2"/>
          <a:stretch/>
        </p:blipFill>
        <p:spPr>
          <a:xfrm>
            <a:off x="5072040" y="4037040"/>
            <a:ext cx="4071960" cy="2820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https://sdelanounas.ru/i/c/2/r/f_c2RlbGFub3VuYXMucnUvdXBsb2Fkcy83LzkvNzk0MTU4ODUwNjI5MF9vcmlnLmpwZWc_X19pZD0xMzIyODA=.jpeg"/>
          <p:cNvPicPr/>
          <p:nvPr/>
        </p:nvPicPr>
        <p:blipFill>
          <a:blip r:embed="rId3"/>
          <a:stretch/>
        </p:blipFill>
        <p:spPr>
          <a:xfrm>
            <a:off x="2714760" y="2000160"/>
            <a:ext cx="400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826920" y="2205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не должны гордиться своей страной, защищать ее, любить ее, прославлять своими достижениями и побе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2011320" y="-1474920"/>
            <a:ext cx="4834080" cy="662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12600" y="5761080"/>
            <a:ext cx="670572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12600" y="-42840"/>
            <a:ext cx="683280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792000" y="1006560"/>
            <a:ext cx="7851960" cy="495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325080" y="5013360"/>
            <a:ext cx="359964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621360" y="1146240"/>
            <a:ext cx="299736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0960" y="2049480"/>
            <a:ext cx="3961080" cy="263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883240" cy="311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932440" y="44280"/>
            <a:ext cx="2352600" cy="64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4105440" y="696960"/>
            <a:ext cx="520056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916360" y="17928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03480" y="250920"/>
            <a:ext cx="1985760" cy="10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7697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42960" y="5157720"/>
            <a:ext cx="1049400" cy="104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08000" y="2133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Родина – Россия, а главный город – Москва. Мы гордимся нашей великой Родиной, но у всех есть и своя малая Родина. Это место, где родился и вырос человек, где живут его друзья, где он ходит в детский сад, гуляет с друзьями во дворе. Родной город – это наша малая Род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Младшая группа</cp:lastModifiedBy>
  <dcterms:modified xsi:type="dcterms:W3CDTF">2023-06-09T12:11:30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4d0000000000010291210207f7000400038000</vt:lpwstr>
  </property>
</Properties>
</file>