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9.jpeg" ContentType="image/jpeg"/>
  <Override PartName="/ppt/media/image28.png" ContentType="image/png"/>
  <Override PartName="/ppt/media/image1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22.png" ContentType="image/png"/>
  <Override PartName="/ppt/media/image1.jpeg" ContentType="image/jpeg"/>
  <Override PartName="/ppt/media/image20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0.png" ContentType="image/png"/>
  <Override PartName="/ppt/media/image2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EB1CE-3F31-46A7-8AD9-E01786D55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F1DE0-A351-4678-9625-2CDFB9E47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51F01-CDA2-49D1-976A-568F4441E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27B1E-644B-4A08-8E41-8269F3CD2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592F0-B062-4F1D-AEB6-6ED247DCC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A7467-EB0D-40C7-9447-2A38C0894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948E0-F573-4BA0-9A41-F7AA72243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3FBA1-5D07-4E0A-94D0-BE2556FD3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852AB-31A7-4B64-8FB8-C17ADEBAF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C45E8-22A0-40ED-BC1E-372C6E4CD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AEEB7-91A2-4CE4-BFC6-A6A3F03BE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C6250-A9BA-4A0D-94F6-C7F4F9243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1"/>
          <p:cNvSpPr txBox="1"/>
          <p:nvPr/>
        </p:nvSpPr>
        <p:spPr>
          <a:xfrm>
            <a:off x="776160" y="214200"/>
            <a:ext cx="8082000" cy="20322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12500"/>
                <a:gd name="adj2" fmla="val -903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30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endParaRPr b="1" lang="en-US" sz="6600" spc="1" strike="noStrike">
              <a:ln w="0">
                <a:noFill/>
              </a:ln>
              <a:solidFill>
                <a:srgbClr val="ff0000"/>
              </a:solidFill>
              <a:effectLst>
                <a:outerShdw dist="1730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950760" y="1322280"/>
            <a:ext cx="2048040" cy="14018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3214800" y="5786280"/>
            <a:ext cx="52862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дготовила воспитатель МКДОУ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 Манинский   детский сад №1 Босюк О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4214880" y="214200"/>
            <a:ext cx="457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КДОУ « Манинский детский сад №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5357880" y="2000160"/>
            <a:ext cx="183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Прямоугольник 6" descr=""/>
          <p:cNvPicPr/>
          <p:nvPr/>
        </p:nvPicPr>
        <p:blipFill>
          <a:blip r:embed="rId3"/>
          <a:stretch/>
        </p:blipFill>
        <p:spPr>
          <a:xfrm>
            <a:off x="3627360" y="603360"/>
            <a:ext cx="5645160" cy="1914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https://gas-kvas.com/uploads/posts/2023-02/1676865389_gas-kvas-com-p-risunki-na-temu-teremok-iz-skazki-23.jpg"/>
          <p:cNvPicPr/>
          <p:nvPr/>
        </p:nvPicPr>
        <p:blipFill>
          <a:blip r:embed="rId1"/>
          <a:stretch/>
        </p:blipFill>
        <p:spPr>
          <a:xfrm>
            <a:off x="4572000" y="214200"/>
            <a:ext cx="4572000" cy="30718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https://i.ytimg.com/vi/FRfBM7TevYY/maxresdefault.jpg"/>
          <p:cNvPicPr/>
          <p:nvPr/>
        </p:nvPicPr>
        <p:blipFill>
          <a:blip r:embed="rId2"/>
          <a:stretch/>
        </p:blipFill>
        <p:spPr>
          <a:xfrm>
            <a:off x="0" y="0"/>
            <a:ext cx="4622760" cy="33400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https://i.ytimg.com/vi/da6SinYzXMo/maxresdefault.jpg"/>
          <p:cNvPicPr/>
          <p:nvPr/>
        </p:nvPicPr>
        <p:blipFill>
          <a:blip r:embed="rId3"/>
          <a:stretch/>
        </p:blipFill>
        <p:spPr>
          <a:xfrm>
            <a:off x="0" y="3429000"/>
            <a:ext cx="4643280" cy="31431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https://cdn1.ozone.ru/s3/multimedia-5/6126648005.jpg"/>
          <p:cNvPicPr/>
          <p:nvPr/>
        </p:nvPicPr>
        <p:blipFill>
          <a:blip r:embed="rId4"/>
          <a:stretch/>
        </p:blipFill>
        <p:spPr>
          <a:xfrm>
            <a:off x="4786200" y="3429000"/>
            <a:ext cx="43578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s://i.mycdn.me/i?r=AzEPZsRbOZEKgBhR0XGMT1Rkz3aEd8KADo53fBXa77Ygz6aKTM5SRkZCeTgDn6uOyic"/>
          <p:cNvPicPr/>
          <p:nvPr/>
        </p:nvPicPr>
        <p:blipFill>
          <a:blip r:embed="rId1"/>
          <a:stretch/>
        </p:blipFill>
        <p:spPr>
          <a:xfrm>
            <a:off x="428760" y="714240"/>
            <a:ext cx="8215200" cy="5786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0" y="285840"/>
            <a:ext cx="9001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Наша малая Родина – село Манино Калачеевский р-н Воронежская обла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s://upload.wikimedia.org/wikipedia/commons/6/61/Flag_of_Maninskoe.png"/>
          <p:cNvPicPr/>
          <p:nvPr/>
        </p:nvPicPr>
        <p:blipFill>
          <a:blip r:embed="rId1"/>
          <a:stretch/>
        </p:blipFill>
        <p:spPr>
          <a:xfrm>
            <a:off x="142920" y="785880"/>
            <a:ext cx="8915400" cy="594360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143000" y="214200"/>
            <a:ext cx="63579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262699"/>
                </a:solidFill>
                <a:latin typeface="Arial"/>
              </a:rPr>
              <a:t>Греб Манинского сельского по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s://tv-gubernia.ru/images/news/2021/10/manino10.jpg"/>
          <p:cNvPicPr/>
          <p:nvPr/>
        </p:nvPicPr>
        <p:blipFill>
          <a:blip r:embed="rId1"/>
          <a:stretch/>
        </p:blipFill>
        <p:spPr>
          <a:xfrm>
            <a:off x="250920" y="1324080"/>
            <a:ext cx="8678880" cy="489096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357200" y="571680"/>
            <a:ext cx="62866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262699"/>
                </a:solidFill>
                <a:latin typeface="Arial"/>
              </a:rPr>
              <a:t>Стела на въезде в село Мани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https://riavrn.ru/i/82/82d51884e56810a2fce450601e90ba2b.jpg"/>
          <p:cNvPicPr/>
          <p:nvPr/>
        </p:nvPicPr>
        <p:blipFill>
          <a:blip r:embed="rId1"/>
          <a:stretch/>
        </p:blipFill>
        <p:spPr>
          <a:xfrm>
            <a:off x="714240" y="1357200"/>
            <a:ext cx="7572600" cy="485784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1357200" y="500040"/>
            <a:ext cx="671508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Arial"/>
              </a:rPr>
              <a:t>Наша малая любимая Роди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https://sun9-36.userapi.com/impf/c855228/v855228177/d43eb/B8d8z_yPba0.jpg?size=604x402&amp;quality=90&amp;sign=c381d5602a2a90d7b7beea9775eff6a0&amp;c_uniq_tag=6SOPCAkZ9jndQoIU1FhLxnZNI1tBx4p2p0kTDckjzYA"/>
          <p:cNvPicPr/>
          <p:nvPr/>
        </p:nvPicPr>
        <p:blipFill>
          <a:blip r:embed="rId1"/>
          <a:stretch/>
        </p:blipFill>
        <p:spPr>
          <a:xfrm>
            <a:off x="0" y="0"/>
            <a:ext cx="4214880" cy="29289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https://riavrn.ru/i/88/8814cffd2bc41d179baa73b1d69def3e.jpg"/>
          <p:cNvPicPr/>
          <p:nvPr/>
        </p:nvPicPr>
        <p:blipFill>
          <a:blip r:embed="rId2"/>
          <a:stretch/>
        </p:blipFill>
        <p:spPr>
          <a:xfrm>
            <a:off x="5072040" y="4037040"/>
            <a:ext cx="4071960" cy="28209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https://sdelanounas.ru/i/c/2/r/f_c2RlbGFub3VuYXMucnUvdXBsb2Fkcy83LzkvNzk0MTU4ODUwNjI5MF9vcmlnLmpwZWc_X19pZD0xMzIyODA=.jpeg"/>
          <p:cNvPicPr/>
          <p:nvPr/>
        </p:nvPicPr>
        <p:blipFill>
          <a:blip r:embed="rId3"/>
          <a:stretch/>
        </p:blipFill>
        <p:spPr>
          <a:xfrm>
            <a:off x="2714760" y="2000160"/>
            <a:ext cx="4000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826920" y="2205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сияне должны гордиться своей страной, защищать ее, любить ее, прославлять своими достижениями и побед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2011320" y="-1474920"/>
            <a:ext cx="4834080" cy="662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2"/>
          <a:stretch/>
        </p:blipFill>
        <p:spPr>
          <a:xfrm>
            <a:off x="12600" y="5761080"/>
            <a:ext cx="6705720" cy="884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2"/>
          <a:stretch/>
        </p:blipFill>
        <p:spPr>
          <a:xfrm>
            <a:off x="12600" y="-42840"/>
            <a:ext cx="6832800" cy="19875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2"/>
          <a:stretch/>
        </p:blipFill>
        <p:spPr>
          <a:xfrm>
            <a:off x="792000" y="1006560"/>
            <a:ext cx="7851960" cy="4956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1"/>
          <p:cNvSpPr/>
          <p:nvPr/>
        </p:nvSpPr>
        <p:spPr>
          <a:xfrm>
            <a:off x="325080" y="5013360"/>
            <a:ext cx="3599640" cy="1557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елый цвет – берёз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ний - неба ц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расная полоск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лнечный расс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"/>
          <p:cNvSpPr/>
          <p:nvPr/>
        </p:nvSpPr>
        <p:spPr>
          <a:xfrm>
            <a:off x="621360" y="1146240"/>
            <a:ext cx="2997360" cy="581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Флаг  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10960" y="2049480"/>
            <a:ext cx="3961080" cy="2639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5724360" y="3573360"/>
            <a:ext cx="2883240" cy="3110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5932440" y="44280"/>
            <a:ext cx="2352600" cy="640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4"/>
          <a:stretch/>
        </p:blipFill>
        <p:spPr>
          <a:xfrm>
            <a:off x="4105440" y="696960"/>
            <a:ext cx="5200560" cy="2468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2916360" y="179280"/>
            <a:ext cx="5976720" cy="72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1.Россия - священная наша держава,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оссия - любимая наша страна.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огучая воля, великая слава -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вое  достоянье на  все  времена!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ипев: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лавься, Отечество наше свободное,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Братских народов союз вековой,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едками данная мудрость народная!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лавься, страна! Мы гордимся тобой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2.От южных морей до полярного края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аскинулись наши леса и поля.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дна ты на свете! Одна ты такая -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Хранимая Богом родная земля!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ипе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.Широкий простор для мечты и для жизни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Грядущие нам открывают года.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м силу дает наша верность Отчизне.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к было, так есть и так будет всегда!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ипев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"/>
          <p:cNvSpPr/>
          <p:nvPr/>
        </p:nvSpPr>
        <p:spPr>
          <a:xfrm>
            <a:off x="303480" y="250920"/>
            <a:ext cx="1985760" cy="1068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Гим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50920" y="1769760"/>
            <a:ext cx="251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узыка - Георгия Александрова, новый текст - Сергея Михалкова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642960" y="5157720"/>
            <a:ext cx="1049400" cy="10479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108000" y="213372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ша Родина – Россия, а главный город – Москва. Мы гордимся нашей великой Родиной, но у всех есть и своя малая Родина. Это место, где родился и вырос человек, где живут его друзья, где он ходит в детский сад, гуляет с друзьями во дворе. Родной город – это наша малая Род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6:31:21Z</dcterms:created>
  <dc:creator>Берюхова</dc:creator>
  <dc:description/>
  <dc:language>en-US</dc:language>
  <cp:lastModifiedBy>Младшая группа</cp:lastModifiedBy>
  <dcterms:modified xsi:type="dcterms:W3CDTF">2023-06-09T12:11:30Z</dcterms:modified>
  <cp:revision>6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4d0000000000010291210207f7000400038000</vt:lpwstr>
  </property>
</Properties>
</file>