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22.jpeg" ContentType="image/jpeg"/>
  <Override PartName="/ppt/media/image4.gif" ContentType="image/gif"/>
  <Override PartName="/ppt/media/image33.jpeg" ContentType="image/jpeg"/>
  <Override PartName="/ppt/media/image27.jpeg" ContentType="image/jpeg"/>
  <Override PartName="/ppt/media/image29.jpeg" ContentType="image/jpeg"/>
  <Override PartName="/ppt/media/image8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7.png" ContentType="image/png"/>
  <Override PartName="/ppt/media/image34.jpeg" ContentType="image/jpeg"/>
  <Override PartName="/ppt/media/image36.png" ContentType="image/png"/>
  <Override PartName="/ppt/media/image6.gif" ContentType="image/gif"/>
  <Override PartName="/ppt/media/image28.png" ContentType="image/png"/>
  <Override PartName="/ppt/media/image5.gif" ContentType="image/gif"/>
  <Override PartName="/ppt/media/image14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FAC-8323-4199-82F8-51C800D5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D5F-1D64-4C42-8681-7932CEDD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2171-B4C7-4E4B-9D5F-BEE088F2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E237-110A-48B4-8140-4AE3AB27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44E3-3D48-43DC-8B5C-A000BF70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F96D-2751-4FFB-8E67-70A94AFC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1DF5-02DE-4897-8292-347B26E5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F066-3D0C-4EA8-BDB3-22C320F6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DC41-5823-49E2-9845-71F1C1F6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EC75-8646-45AE-A57F-A837F08C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C24C-5A08-43B9-9114-1B452A61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094A-74E2-4A97-B95A-93FED9FF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190D-F5F5-4EAF-B2A8-D4F27D3F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64CA-B0C6-475C-A0D5-CFE8E377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A9DB-8F50-4F6B-88C1-422CA19B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72AB-228A-4D7A-80AB-63CFFE4D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3B61-55E8-488C-ABAF-DBC37307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8AAB-77BC-46CE-9A2D-40824D96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673-0C29-4E0F-90E8-383FC690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D1A-FBDD-46F7-BF5D-B22101C7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BE33-AB1B-4DA4-9F14-9C531454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673C-473A-4E9D-8597-9D6444FB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BB1E-871D-48A3-9AAF-FAF066DF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EE37-5D90-4010-9EFF-B3DB5747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3C3C-4CB8-4235-9F69-043D02E3B1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B673-8C84-4159-BC5D-875727EC0B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&#1079;&#1072;&#1075;&#1072;&#1076;&#1082;&#1080;%20&#1086;%20&#1093;&#1083;&#1077;&#1073;&#1077;.ppt" TargetMode="External"/><Relationship Id="rId2" Type="http://schemas.openxmlformats.org/officeDocument/2006/relationships/image" Target="../media/image5.gif"/><Relationship Id="rId3" Type="http://schemas.openxmlformats.org/officeDocument/2006/relationships/hyperlink" Target="&#1079;&#1072;&#1075;&#1072;&#1076;&#1082;&#1080;%20&#1086;%20&#1093;&#1083;&#1077;&#1073;&#1077;.ppt" TargetMode="External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&#1079;&#1072;&#1075;&#1072;&#1076;&#1082;&#1080;%20&#1086;%20&#1093;&#1083;&#1077;&#1073;&#1077;.ppt" TargetMode="External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&#1079;&#1072;&#1075;&#1072;&#1076;&#1082;&#1080;%20&#1086;%20&#1093;&#1083;&#1077;&#1073;&#1077;.ppt" TargetMode="External"/><Relationship Id="rId2" Type="http://schemas.openxmlformats.org/officeDocument/2006/relationships/image" Target="../media/image4.gif"/><Relationship Id="rId3" Type="http://schemas.openxmlformats.org/officeDocument/2006/relationships/hyperlink" Target="&#1079;&#1072;&#1075;&#1072;&#1076;&#1082;&#1080;%20&#1086;%20&#1093;&#1083;&#1077;&#1073;&#1077;.ppt" TargetMode="External"/><Relationship Id="rId4" Type="http://schemas.openxmlformats.org/officeDocument/2006/relationships/image" Target="../media/image6.gif"/><Relationship Id="rId5" Type="http://schemas.openxmlformats.org/officeDocument/2006/relationships/hyperlink" Target="&#1079;&#1072;&#1075;&#1072;&#1076;&#1082;&#1080;%20&#1086;%20&#1093;&#1083;&#1077;&#1073;&#1077;.ppt" TargetMode="External"/><Relationship Id="rId6" Type="http://schemas.openxmlformats.org/officeDocument/2006/relationships/image" Target="../media/image5.gif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&#1079;&#1072;&#1075;&#1072;&#1076;&#1082;&#1080;%20&#1086;%20&#1093;&#1083;&#1077;&#1073;&#1077;.ppt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&#1079;&#1072;&#1075;&#1072;&#1076;&#1082;&#1080;%20&#1086;%20&#1093;&#1083;&#1077;&#1073;&#1077;.ppt" TargetMode="External"/><Relationship Id="rId2" Type="http://schemas.openxmlformats.org/officeDocument/2006/relationships/image" Target="../media/image4.gif"/><Relationship Id="rId3" Type="http://schemas.openxmlformats.org/officeDocument/2006/relationships/hyperlink" Target="&#1079;&#1072;&#1075;&#1072;&#1076;&#1082;&#1080;%20&#1086;%20&#1093;&#1083;&#1077;&#1073;&#1077;.ppt" TargetMode="External"/><Relationship Id="rId4" Type="http://schemas.openxmlformats.org/officeDocument/2006/relationships/image" Target="../media/image6.gif"/><Relationship Id="rId5" Type="http://schemas.openxmlformats.org/officeDocument/2006/relationships/hyperlink" Target="&#1079;&#1072;&#1075;&#1072;&#1076;&#1082;&#1080;%20&#1086;%20&#1093;&#1083;&#1077;&#1073;&#1077;.ppt" TargetMode="External"/><Relationship Id="rId6" Type="http://schemas.openxmlformats.org/officeDocument/2006/relationships/image" Target="../media/image5.gif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&#1079;&#1072;&#1075;&#1072;&#1076;&#1082;&#1080;%20&#1086;%20&#1093;&#1083;&#1077;&#1073;&#1077;.ppt" TargetMode="External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&#1079;&#1072;&#1075;&#1072;&#1076;&#1082;&#1080;%20&#1086;%20&#1093;&#1083;&#1077;&#1073;&#1077;.ppt" TargetMode="External"/><Relationship Id="rId3" Type="http://schemas.openxmlformats.org/officeDocument/2006/relationships/image" Target="../media/image4.gif"/><Relationship Id="rId4" Type="http://schemas.openxmlformats.org/officeDocument/2006/relationships/hyperlink" Target="&#1079;&#1072;&#1075;&#1072;&#1076;&#1082;&#1080;%20&#1086;%20&#1093;&#1083;&#1077;&#1073;&#1077;.ppt" TargetMode="External"/><Relationship Id="rId5" Type="http://schemas.openxmlformats.org/officeDocument/2006/relationships/image" Target="../media/image6.gif"/><Relationship Id="rId6" Type="http://schemas.openxmlformats.org/officeDocument/2006/relationships/hyperlink" Target="&#1079;&#1072;&#1075;&#1072;&#1076;&#1082;&#1080;%20&#1086;%20&#1093;&#1083;&#1077;&#1073;&#1077;.ppt" TargetMode="Externa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&#1079;&#1072;&#1075;&#1072;&#1076;&#1082;&#1080;%20&#1086;%20&#1093;&#1083;&#1077;&#1073;&#1077;.ppt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&#1079;&#1072;&#1075;&#1072;&#1076;&#1082;&#1080;%20&#1086;%20&#1093;&#1083;&#1077;&#1073;&#1077;.ppt" TargetMode="External"/><Relationship Id="rId2" Type="http://schemas.openxmlformats.org/officeDocument/2006/relationships/image" Target="../media/image4.gif"/><Relationship Id="rId3" Type="http://schemas.openxmlformats.org/officeDocument/2006/relationships/hyperlink" Target="&#1079;&#1072;&#1075;&#1072;&#1076;&#1082;&#1080;%20&#1086;%20&#1093;&#1083;&#1077;&#1073;&#1077;.ppt" TargetMode="External"/><Relationship Id="rId4" Type="http://schemas.openxmlformats.org/officeDocument/2006/relationships/image" Target="../media/image6.gif"/><Relationship Id="rId5" Type="http://schemas.openxmlformats.org/officeDocument/2006/relationships/hyperlink" Target="&#1079;&#1072;&#1075;&#1072;&#1076;&#1082;&#1080;%20&#1086;%20&#1093;&#1083;&#1077;&#1073;&#1077;.ppt" TargetMode="External"/><Relationship Id="rId6" Type="http://schemas.openxmlformats.org/officeDocument/2006/relationships/image" Target="../media/image5.gif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&#1079;&#1072;&#1075;&#1072;&#1076;&#1082;&#1080;%20&#1086;%20&#1093;&#1083;&#1077;&#1073;&#1077;.ppt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&#1079;&#1072;&#1075;&#1072;&#1076;&#1082;&#1080;%20&#1086;%20&#1093;&#1083;&#1077;&#1073;&#1077;.ppt" TargetMode="External"/><Relationship Id="rId2" Type="http://schemas.openxmlformats.org/officeDocument/2006/relationships/image" Target="../media/image4.gif"/><Relationship Id="rId3" Type="http://schemas.openxmlformats.org/officeDocument/2006/relationships/hyperlink" Target="&#1079;&#1072;&#1075;&#1072;&#1076;&#1082;&#1080;%20&#1086;%20&#1093;&#1083;&#1077;&#1073;&#1077;.ppt" TargetMode="External"/><Relationship Id="rId4" Type="http://schemas.openxmlformats.org/officeDocument/2006/relationships/image" Target="../media/image5.gif"/><Relationship Id="rId5" Type="http://schemas.openxmlformats.org/officeDocument/2006/relationships/hyperlink" Target="&#1079;&#1072;&#1075;&#1072;&#1076;&#1082;&#1080;%20&#1086;%20&#1093;&#1083;&#1077;&#1073;&#1077;.ppt" TargetMode="External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&#1079;&#1072;&#1075;&#1072;&#1076;&#1082;&#1080;%20&#1086;%20&#1093;&#1083;&#1077;&#1073;&#1077;.ppt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&#1079;&#1072;&#1075;&#1072;&#1076;&#1082;&#1080;%20&#1086;%20&#1093;&#1083;&#1077;&#1073;&#1077;.ppt" TargetMode="External"/><Relationship Id="rId2" Type="http://schemas.openxmlformats.org/officeDocument/2006/relationships/image" Target="../media/image5.gif"/><Relationship Id="rId3" Type="http://schemas.openxmlformats.org/officeDocument/2006/relationships/hyperlink" Target="&#1079;&#1072;&#1075;&#1072;&#1076;&#1082;&#1080;%20&#1086;%20&#1093;&#1083;&#1077;&#1073;&#1077;.ppt" TargetMode="External"/><Relationship Id="rId4" Type="http://schemas.openxmlformats.org/officeDocument/2006/relationships/image" Target="../media/image4.gif"/><Relationship Id="rId5" Type="http://schemas.openxmlformats.org/officeDocument/2006/relationships/hyperlink" Target="&#1079;&#1072;&#1075;&#1072;&#1076;&#1082;&#1080;%20&#1086;%20&#1093;&#1083;&#1077;&#1073;&#1077;.ppt" TargetMode="External"/><Relationship Id="rId6" Type="http://schemas.openxmlformats.org/officeDocument/2006/relationships/image" Target="../media/image6.gif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&#1079;&#1072;&#1075;&#1072;&#1076;&#1082;&#1080;%20&#1086;%20&#1093;&#1083;&#1077;&#1073;&#1077;.ppt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&#1079;&#1072;&#1075;&#1072;&#1076;&#1082;&#1080;%20&#1086;%20&#1093;&#1083;&#1077;&#1073;&#1077;.ppt" TargetMode="External"/><Relationship Id="rId2" Type="http://schemas.openxmlformats.org/officeDocument/2006/relationships/image" Target="../media/image5.gif"/><Relationship Id="rId3" Type="http://schemas.openxmlformats.org/officeDocument/2006/relationships/hyperlink" Target="&#1079;&#1072;&#1075;&#1072;&#1076;&#1082;&#1080;%20&#1086;%20&#1093;&#1083;&#1077;&#1073;&#1077;.ppt" TargetMode="External"/><Relationship Id="rId4" Type="http://schemas.openxmlformats.org/officeDocument/2006/relationships/image" Target="../media/image4.gif"/><Relationship Id="rId5" Type="http://schemas.openxmlformats.org/officeDocument/2006/relationships/hyperlink" Target="&#1079;&#1072;&#1075;&#1072;&#1076;&#1082;&#1080;%20&#1086;%20&#1093;&#1083;&#1077;&#1073;&#1077;.ppt" TargetMode="External"/><Relationship Id="rId6" Type="http://schemas.openxmlformats.org/officeDocument/2006/relationships/image" Target="../media/image6.gif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&#1079;&#1072;&#1075;&#1072;&#1076;&#1082;&#1080;%20&#1086;%20&#1093;&#1083;&#1077;&#1073;&#1077;.ppt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&#1079;&#1072;&#1075;&#1072;&#1076;&#1082;&#1080;%20&#1086;%20&#1093;&#1083;&#1077;&#1073;&#1077;.ppt" TargetMode="External"/><Relationship Id="rId2" Type="http://schemas.openxmlformats.org/officeDocument/2006/relationships/image" Target="../media/image6.gif"/><Relationship Id="rId3" Type="http://schemas.openxmlformats.org/officeDocument/2006/relationships/hyperlink" Target="&#1079;&#1072;&#1075;&#1072;&#1076;&#1082;&#1080;%20&#1086;%20&#1093;&#1083;&#1077;&#1073;&#1077;.ppt" TargetMode="External"/><Relationship Id="rId4" Type="http://schemas.openxmlformats.org/officeDocument/2006/relationships/image" Target="../media/image4.gif"/><Relationship Id="rId5" Type="http://schemas.openxmlformats.org/officeDocument/2006/relationships/hyperlink" Target="&#1079;&#1072;&#1075;&#1072;&#1076;&#1082;&#1080;%20&#1086;%20&#1093;&#1083;&#1077;&#1073;&#1077;.ppt" TargetMode="External"/><Relationship Id="rId6" Type="http://schemas.openxmlformats.org/officeDocument/2006/relationships/image" Target="../media/image5.gif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&#1079;&#1072;&#1075;&#1072;&#1076;&#1082;&#1080;%20&#1086;%20&#1093;&#1083;&#1077;&#1073;&#1077;.ppt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-533520" y="-625320"/>
            <a:ext cx="8915400" cy="2925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www.fotookna.by/assets/images/15.Eda/15.069_resize.jpg"/>
          <p:cNvPicPr/>
          <p:nvPr/>
        </p:nvPicPr>
        <p:blipFill>
          <a:blip r:embed="rId2"/>
          <a:stretch/>
        </p:blipFill>
        <p:spPr>
          <a:xfrm>
            <a:off x="2743200" y="2590920"/>
            <a:ext cx="3809880" cy="2859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i="1" lang="ru-RU" sz="5400" spc="-1" strike="noStrike">
                <a:solidFill>
                  <a:srgbClr val="cc99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8284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садила бабка в печь</a:t>
            </a:r>
            <a:br>
              <a:rPr sz="3600"/>
            </a:b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Кое - что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с капустой в печь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Для Наташи, Маши, Тани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оли, Оли, Гали, Ван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4" descr="C:\Documents and Settings\User\Рабочий стол\99020941_smailiki87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C:\Documents and Settings\User\Рабочий стол\smailiki-30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4876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C:\Documents and Settings\User\Рабочий стол\smiley4.gif"/>
          <p:cNvPicPr/>
          <p:nvPr/>
        </p:nvPicPr>
        <p:blipFill>
          <a:blip r:embed="rId5"/>
          <a:stretch/>
        </p:blipFill>
        <p:spPr>
          <a:xfrm>
            <a:off x="762120" y="4419720"/>
            <a:ext cx="1452600" cy="1957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1"/>
                            </p:stCondLst>
                            <p:childTnLst>
                              <p:par>
                                <p:cTn id="17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9900"/>
                </a:solidFill>
                <a:latin typeface="Times New Roman"/>
              </a:rPr>
              <a:t>Пиро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6" descr="i?id=76405074&amp;tov=3"/>
          <p:cNvPicPr/>
          <p:nvPr/>
        </p:nvPicPr>
        <p:blipFill>
          <a:blip r:embed="rId1"/>
          <a:stretch/>
        </p:blipFill>
        <p:spPr>
          <a:xfrm>
            <a:off x="2514600" y="3886200"/>
            <a:ext cx="2438280" cy="2394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User\Рабочий стол\phot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&amp;Kcy;&amp;acy;&amp;kcy; &amp;pcy;&amp;rcy;&amp;icy;&amp;gcy;&amp;ocy;&amp;tcy;&amp;ocy;&amp;vcy;&amp;icy;&amp;tcy;&amp;softcy; &amp;kcy;&amp;ucy;&amp;lcy;&amp;iecy;&amp;bcy;&amp;yacy;&amp;kcy;&amp;ucy; &amp;scy; &amp;tcy;&amp;rcy;&amp;iecy;&amp;mcy;&amp;yacy; &amp;ncy;&amp;acy;&amp;chcy;&amp;icy;&amp;ncy;&amp;kcy;&amp;acy;&amp;mcy;&amp;icy;: &amp;vcy;&amp;icy;&amp;dcy;&amp;iecy;&amp;ocy;"/>
          <p:cNvPicPr/>
          <p:nvPr/>
        </p:nvPicPr>
        <p:blipFill>
          <a:blip r:embed="rId4"/>
          <a:stretch/>
        </p:blipFill>
        <p:spPr>
          <a:xfrm>
            <a:off x="1371600" y="1447920"/>
            <a:ext cx="6343560" cy="2030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cc99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142640"/>
            <a:ext cx="4267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узырюсь я и пыхчу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Жить в квашне я не хочу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доела мне квашня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адите в печь меня.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11" descr="C:\Documents and Settings\User\Рабочий стол\smiley4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495680"/>
            <a:ext cx="1447920" cy="1951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C:\Documents and Settings\User\Рабочий стол\smailiki-30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4876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C:\Documents and Settings\User\Рабочий стол\99020941_smailiki87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43200" y="-30492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http://www.vishivay.com/uploads/schemes/341/natjur.jpg"/>
          <p:cNvPicPr/>
          <p:nvPr/>
        </p:nvPicPr>
        <p:blipFill>
          <a:blip r:embed="rId7"/>
          <a:stretch/>
        </p:blipFill>
        <p:spPr>
          <a:xfrm>
            <a:off x="4876920" y="1600200"/>
            <a:ext cx="34495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9900"/>
                </a:solidFill>
                <a:latin typeface="Times New Roman"/>
              </a:rPr>
              <a:t>Тес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C:\Documents and Settings\User\Рабочий стол\phot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4197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http://foodmarkets.ru/upload/news/6726/5b42ipDC.jpg"/>
          <p:cNvPicPr/>
          <p:nvPr/>
        </p:nvPicPr>
        <p:blipFill>
          <a:blip r:embed="rId3"/>
          <a:stretch/>
        </p:blipFill>
        <p:spPr>
          <a:xfrm>
            <a:off x="2666880" y="1676520"/>
            <a:ext cx="4999320" cy="3570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99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120" y="1219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есной в земле теряет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Летом над землёй возвышает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сенью к хозяину возвращает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11" descr="C:\Documents and Settings\User\Рабочий стол\smiley4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724280"/>
            <a:ext cx="1222560" cy="164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C:\Documents and Settings\User\Рабочий стол\smailiki-30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4876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C:\Documents and Settings\User\Рабочий стол\99020941_smailiki87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90920" y="-2286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http://sp07.ru/ollelukoe/images/stories/russian/legchyhleb/4.jpg"/>
          <p:cNvPicPr/>
          <p:nvPr/>
        </p:nvPicPr>
        <p:blipFill>
          <a:blip r:embed="rId7"/>
          <a:stretch/>
        </p:blipFill>
        <p:spPr>
          <a:xfrm>
            <a:off x="4800600" y="2209680"/>
            <a:ext cx="3606840" cy="2067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9900"/>
                </a:solidFill>
                <a:latin typeface="Times New Roman"/>
              </a:rPr>
              <a:t>Зер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6" descr="i?id=52608499&amp;tov=6"/>
          <p:cNvPicPr/>
          <p:nvPr/>
        </p:nvPicPr>
        <p:blipFill>
          <a:blip r:embed="rId1"/>
          <a:stretch/>
        </p:blipFill>
        <p:spPr>
          <a:xfrm>
            <a:off x="1371600" y="175248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i?id=81568182&amp;tov=7"/>
          <p:cNvPicPr/>
          <p:nvPr/>
        </p:nvPicPr>
        <p:blipFill>
          <a:blip r:embed="rId2"/>
          <a:stretch/>
        </p:blipFill>
        <p:spPr>
          <a:xfrm>
            <a:off x="167652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Documents and Settings\User\Рабочий стол\phot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4724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&amp;Tcy;&amp;yucy;&amp;mcy;&amp;iecy;&amp;ncy;&amp;scy;&amp;kcy;&amp;icy;&amp;iecy; &amp;acy;&amp;gcy;&amp;rcy;&amp;acy;&amp;rcy;&amp;icy;&amp;icy; &amp;scy;&amp;ocy;&amp;bcy;&amp;rcy;&amp;acy;&amp;lcy;&amp;icy; &amp;bcy;&amp;ocy;&amp;lcy;&amp;iecy;&amp;iecy; &amp;mcy;&amp;icy;&amp;lcy;&amp;lcy;&amp;icy;&amp;ocy;&amp;ncy;&amp;acy; &amp;tcy;&amp;ocy;&amp;ncy;&amp;ncy; &amp;zcy;&amp;iecy;&amp;rcy;&amp;ncy;&amp;acy;. . &quot;&amp;IEcy;&amp;scy;&amp;tcy;&amp;softcy; &amp;vcy;&amp;ocy;&amp;zcy;&amp;mcy;&amp;ocy;&amp;zhcy;&amp;ncy;&amp;ocy;&amp;scy;&amp;tcy;&amp;softcy; &amp;pcy;&amp;rcy;&amp;iecy;&amp;dcy;&amp;lcy;&amp;ocy;&amp;zhcy;&amp;icy;&amp;tcy;&amp;softcy; &amp;scy;&amp;ycy;&amp;rcy;&amp;softcy;&amp;iecy; &amp;ncy;&amp;acy; &amp;pcy;&amp;rcy;&amp;ocy;&amp;dcy;&amp;acy;&amp;zhcy;&amp;ucy;&quot; &amp;Rcy;&amp;Icy;&amp;Acy; &amp;Fcy;&amp;iecy;&amp;dcy;&amp;iecy;&amp;rcy;&amp;acy;&amp;lcy;&amp;Pcy;&amp;rcy;&amp;iecy;&amp;scy;&amp;scy;"/>
          <p:cNvPicPr/>
          <p:nvPr/>
        </p:nvPicPr>
        <p:blipFill>
          <a:blip r:embed="rId5"/>
          <a:stretch/>
        </p:blipFill>
        <p:spPr>
          <a:xfrm>
            <a:off x="4952880" y="160020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cc99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088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орабль-великан не по морю плывет.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орабль-великан по земле идет.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ле пройдет - урожай соберет.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8" descr="Изображение 002"/>
          <p:cNvPicPr/>
          <p:nvPr/>
        </p:nvPicPr>
        <p:blipFill>
          <a:blip r:embed="rId1"/>
          <a:stretch/>
        </p:blipFill>
        <p:spPr>
          <a:xfrm>
            <a:off x="2514600" y="4343400"/>
            <a:ext cx="4379760" cy="1573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C:\Documents and Settings\User\Рабочий стол\smiley4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4495680"/>
            <a:ext cx="1447920" cy="1951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C:\Documents and Settings\User\Рабочий стол\smailiki-30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62920" y="4876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C:\Documents and Settings\User\Рабочий стол\99020941_smailiki87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90920" y="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9900"/>
                </a:solidFill>
                <a:latin typeface="Times New Roman"/>
              </a:rPr>
              <a:t>Комбай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6" descr="C:\Documents and Settings\User\Рабочий стол\комбайн.jpg"/>
          <p:cNvPicPr/>
          <p:nvPr/>
        </p:nvPicPr>
        <p:blipFill>
          <a:blip r:embed="rId1"/>
          <a:stretch/>
        </p:blipFill>
        <p:spPr>
          <a:xfrm>
            <a:off x="3048120" y="1447920"/>
            <a:ext cx="5181480" cy="4144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Documents and Settings\User\Рабочий стол\phot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99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3160" y="1904760"/>
            <a:ext cx="4267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ладкий и слоё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верху наряжённы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11" descr="C:\Documents and Settings\User\Рабочий стол\smiley4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4419720"/>
            <a:ext cx="1447560" cy="1950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C:\Documents and Settings\User\Рабочий стол\smailiki-30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4876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C:\Documents and Settings\User\Рабочий стол\99020941_smailiki87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66880" y="152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http://img0.liveinternet.ru/images/attach/b/4/103/128/103128548_large_chaepitie4.jpg"/>
          <p:cNvPicPr/>
          <p:nvPr/>
        </p:nvPicPr>
        <p:blipFill>
          <a:blip r:embed="rId7"/>
          <a:stretch/>
        </p:blipFill>
        <p:spPr>
          <a:xfrm>
            <a:off x="5105520" y="1143000"/>
            <a:ext cx="288756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9900"/>
                </a:solidFill>
                <a:latin typeface="Times New Roman"/>
              </a:rPr>
              <a:t>Т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Documents and Settings\User\Рабочий стол\phot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4724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http://picdom.ru/i/1280x800/d/3/ec46ab690.jpg"/>
          <p:cNvPicPr/>
          <p:nvPr/>
        </p:nvPicPr>
        <p:blipFill>
          <a:blip r:embed="rId3"/>
          <a:stretch/>
        </p:blipFill>
        <p:spPr>
          <a:xfrm>
            <a:off x="3276720" y="1447920"/>
            <a:ext cx="5181480" cy="4600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i="1" lang="ru-RU" sz="800" spc="-1" strike="noStrike">
                <a:solidFill>
                  <a:srgbClr val="c00000"/>
                </a:solidFill>
                <a:latin typeface="Times New Roman"/>
              </a:rPr>
              <a:t>       </a:t>
            </a:r>
            <a:br>
              <a:rPr sz="800"/>
            </a:br>
            <a:r>
              <a:rPr b="1" i="1" lang="ru-RU" sz="800" spc="-1" strike="noStrike">
                <a:solidFill>
                  <a:srgbClr val="c00000"/>
                </a:solidFill>
                <a:latin typeface="Times New Roman"/>
              </a:rPr>
              <a:t>                                 </a:t>
            </a:r>
            <a:r>
              <a:rPr b="1" i="1" lang="ru-RU" sz="6000" spc="-1" strike="noStrike">
                <a:solidFill>
                  <a:srgbClr val="cc9900"/>
                </a:solidFill>
                <a:latin typeface="Times New Roman"/>
              </a:rPr>
              <a:t>1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тгадать мы сможем быстро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ягкий, пышный и душистый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н и черный, он и белый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 бывает подгорелы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C:\Documents and Settings\User\Рабочий стол\smiley4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4572000"/>
            <a:ext cx="1447920" cy="1951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C:\Documents and Settings\User\Рабочий стол\99020941_smailiki87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C:\Documents and Settings\User\Рабочий стол\smailiki-30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34320" y="4876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C:\Documents and Settings\User\Рабочий стол\cusPuuWipiE.jpg"/>
          <p:cNvPicPr/>
          <p:nvPr/>
        </p:nvPicPr>
        <p:blipFill>
          <a:blip r:embed="rId1"/>
          <a:stretch/>
        </p:blipFill>
        <p:spPr>
          <a:xfrm>
            <a:off x="7315200" y="990720"/>
            <a:ext cx="65880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Users\Natali\Desktop\Рисунок1.gif"/>
          <p:cNvPicPr/>
          <p:nvPr/>
        </p:nvPicPr>
        <p:blipFill>
          <a:blip r:embed="rId2"/>
          <a:stretch/>
        </p:blipFill>
        <p:spPr>
          <a:xfrm>
            <a:off x="457200" y="609480"/>
            <a:ext cx="8134200" cy="5515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9900"/>
                </a:solidFill>
                <a:latin typeface="Times New Roman"/>
              </a:rPr>
              <a:t>Хле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Documents and Settings\User\Рабочий стол\phot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49528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http://i.iplsc.com/-/0002A5EQHNRYJSEK-C116-F4.jpg"/>
          <p:cNvPicPr/>
          <p:nvPr/>
        </p:nvPicPr>
        <p:blipFill>
          <a:blip r:embed="rId3"/>
          <a:stretch/>
        </p:blipFill>
        <p:spPr>
          <a:xfrm>
            <a:off x="2133720" y="1219320"/>
            <a:ext cx="595296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"/>
                            </p:stCondLst>
                            <p:childTnLst>
                              <p:par>
                                <p:cTn id="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"/>
                            </p:stCondLst>
                            <p:childTnLst>
                              <p:par>
                                <p:cTn id="3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9880" y="3045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cc99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520" y="159984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Кольцо не простое,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Кольцо золотое,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Блестящее, хрустящее,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Всем на загляденье…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Ну и объеденье!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4" descr="C:\Documents and Settings\User\Рабочий стол\99020941_smailiki87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C:\Documents and Settings\User\Рабочий стол\smiley4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4495680"/>
            <a:ext cx="1447920" cy="1951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C:\Documents and Settings\User\Рабочий стол\smailiki-30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34320" y="4876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http://ruskhleb.com/files/karavaj.jpg"/>
          <p:cNvPicPr/>
          <p:nvPr/>
        </p:nvPicPr>
        <p:blipFill>
          <a:blip r:embed="rId7"/>
          <a:stretch/>
        </p:blipFill>
        <p:spPr>
          <a:xfrm>
            <a:off x="4343400" y="2057400"/>
            <a:ext cx="4086360" cy="2921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аран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уш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убл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Documents and Settings\User\Рабочий стол\phot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41148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sroki.net/wp-content/uploads/2013/12/PR20101018140930.jpg"/>
          <p:cNvPicPr/>
          <p:nvPr/>
        </p:nvPicPr>
        <p:blipFill>
          <a:blip r:embed="rId3"/>
          <a:stretch/>
        </p:blipFill>
        <p:spPr>
          <a:xfrm>
            <a:off x="4419720" y="685800"/>
            <a:ext cx="3848040" cy="2886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ttps://newfork.com/system/photo/recipes/image/medium/9731/medium_c86f39d9-677a-4dfd-8c0f-ef7aedc8c272.jpg"/>
          <p:cNvPicPr/>
          <p:nvPr/>
        </p:nvPicPr>
        <p:blipFill>
          <a:blip r:embed="rId4"/>
          <a:stretch/>
        </p:blipFill>
        <p:spPr>
          <a:xfrm>
            <a:off x="838080" y="3505320"/>
            <a:ext cx="4114800" cy="2732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cc99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343400" y="1523880"/>
            <a:ext cx="40384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Что на сковородк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ливают, да вчетверо сгибают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4" descr="C:\Documents and Settings\User\Рабочий стол\99020941_smailiki87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C:\Documents and Settings\User\Рабочий стол\smiley4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4267080"/>
            <a:ext cx="1447560" cy="1951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C:\Documents and Settings\User\Рабочий стол\smailiki-30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34320" y="4876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http://almaty.freeads.kz/content/root/users/2013/20130922/u8993/images/201309/f20130922190042-f_1239853927yl2hd_20121101132956.jpg"/>
          <p:cNvPicPr/>
          <p:nvPr/>
        </p:nvPicPr>
        <p:blipFill>
          <a:blip r:embed="rId7"/>
          <a:stretch/>
        </p:blipFill>
        <p:spPr>
          <a:xfrm>
            <a:off x="2514600" y="2209680"/>
            <a:ext cx="2282760" cy="3219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Monotype Corsiva"/>
              </a:rPr>
              <a:t>Блин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http://makartsov.ru/sites/default/files/styles/large740x400/public/467014.jpg?itok=P2alOS4f"/>
          <p:cNvPicPr/>
          <p:nvPr/>
        </p:nvPicPr>
        <p:blipFill>
          <a:blip r:embed="rId1"/>
          <a:stretch/>
        </p:blipFill>
        <p:spPr>
          <a:xfrm>
            <a:off x="1066680" y="1523880"/>
            <a:ext cx="7048800" cy="3810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ocuments and Settings\User\Рабочий стол\phot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48769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ru-RU" sz="4400" spc="-1" strike="noStrike">
                <a:solidFill>
                  <a:srgbClr val="cc99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523880"/>
            <a:ext cx="4572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ырос в поле до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лон дом зерно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ены позолочен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авни заколочен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одит дом ходу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 столбе золо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5" descr="C:\Documents and Settings\User\Рабочий стол\smailiki-3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C:\Documents and Settings\User\Рабочий стол\smiley4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4572000"/>
            <a:ext cx="1447920" cy="1951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C:\Documents and Settings\User\Рабочий стол\99020941_smailiki87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https://im1-tub-ru.yandex.net/i?id=307e286a13c76185a41bca3e1a945c8a&amp;n=21"/>
          <p:cNvPicPr/>
          <p:nvPr/>
        </p:nvPicPr>
        <p:blipFill>
          <a:blip r:embed="rId7"/>
          <a:stretch/>
        </p:blipFill>
        <p:spPr>
          <a:xfrm>
            <a:off x="5334120" y="2133720"/>
            <a:ext cx="292104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9900"/>
                </a:solidFill>
                <a:latin typeface="Times New Roman"/>
              </a:rPr>
              <a:t>Кол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Documents and Settings\User\Рабочий стол\phot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42670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http://specagro.ru/wyswyg/image/wheat-field-landscape-picture_640x480_79595.jpg"/>
          <p:cNvPicPr/>
          <p:nvPr/>
        </p:nvPicPr>
        <p:blipFill>
          <a:blip r:embed="rId3"/>
          <a:stretch/>
        </p:blipFill>
        <p:spPr>
          <a:xfrm>
            <a:off x="914400" y="1447920"/>
            <a:ext cx="467352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09T19:25:10Z</dcterms:created>
  <dc:creator>Natali</dc:creator>
  <dc:description/>
  <dc:language>en-US</dc:language>
  <cp:lastModifiedBy>1</cp:lastModifiedBy>
  <dcterms:modified xsi:type="dcterms:W3CDTF">2023-06-09T19:33:19Z</dcterms:modified>
  <cp:revision>1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1AC1DE78BBBF4B1FAD9C4BF5F7853AB8</vt:lpwstr>
  </property>
  <property fmtid="{D5CDD505-2E9C-101B-9397-08002B2CF9AE}" pid="3" name="KSOProductBuildVer">
    <vt:lpwstr>1049-11.2.0.11417</vt:lpwstr>
  </property>
  <property fmtid="{D5CDD505-2E9C-101B-9397-08002B2CF9AE}" pid="4" name="Version">
    <vt:r8>1</vt:r8>
  </property>
</Properties>
</file>