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6.gif" ContentType="image/gif"/>
  <Override PartName="/ppt/media/image28.png" ContentType="image/png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36B-89EC-4383-9A53-81AFB6DA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DE9-A5B8-429D-962C-9A3B46AD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CF9-DD67-4CFC-8A9B-1671D6B0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721-1522-4E0B-AF93-0DB61EC8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6E9-1A5D-4AF1-AAF3-D0C7962D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81A-6DF4-4497-A2E9-EB769D1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4F0E-0EEC-4051-A869-4DB1EB1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847-056B-486F-B4B3-B9B10A1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814-A054-4E99-877B-0092C07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36B9-2310-42FB-8D9D-B878BD4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4B78-CF9A-4CFB-BB06-02E2BDD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E3C-B3E9-4429-B863-743E0EAB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8082-D478-45EC-B08D-42E9277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62FE-0C86-45E8-943E-5424DE3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A03C-D07D-4F95-BD1B-E248DE5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FA08-9AE1-4733-BC32-716F4505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0EE-B3B5-48ED-BE94-1EC1EC41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52-BE55-4078-AFD7-5240B3D3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6A4-2F7B-4542-846B-DDAD2E23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53B-E825-4605-BF12-4578F0E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99B-D422-4AEB-883C-5911E550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9EB-E483-410D-A410-DE87C9A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274-2945-4D40-A0ED-D013FBF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9B3-4797-4C80-95BF-945B716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8758-93F6-4DFD-920D-11B442AD9D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BBC-52D2-4D04-AE5F-3DD76BB707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4.gif"/><Relationship Id="rId4" Type="http://schemas.openxmlformats.org/officeDocument/2006/relationships/hyperlink" Target="&#1079;&#1072;&#1075;&#1072;&#1076;&#1082;&#1080;%20&#1086;%20&#1093;&#1083;&#1077;&#1073;&#1077;.ppt" TargetMode="External"/><Relationship Id="rId5" Type="http://schemas.openxmlformats.org/officeDocument/2006/relationships/image" Target="../media/image6.gif"/><Relationship Id="rId6" Type="http://schemas.openxmlformats.org/officeDocument/2006/relationships/hyperlink" Target="&#1079;&#1072;&#1075;&#1072;&#1076;&#1082;&#1080;%20&#1086;%20&#1093;&#1083;&#1077;&#1073;&#1077;.ppt" TargetMode="Externa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5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6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533520" y="-625320"/>
            <a:ext cx="8915400" cy="2925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www.fotookna.by/assets/images/15.Eda/15.069_resize.jpg"/>
          <p:cNvPicPr/>
          <p:nvPr/>
        </p:nvPicPr>
        <p:blipFill>
          <a:blip r:embed="rId2"/>
          <a:stretch/>
        </p:blipFill>
        <p:spPr>
          <a:xfrm>
            <a:off x="2743200" y="259092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5400" spc="-1" strike="noStrike">
                <a:solidFill>
                  <a:srgbClr val="cc99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садила бабка в печь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е - что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с капустой в печь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ля Наташи, Маши, Тан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ли, Оли, Гали, Ван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Documents and Settings\User\Рабочий стол\smiley4.gif"/>
          <p:cNvPicPr/>
          <p:nvPr/>
        </p:nvPicPr>
        <p:blipFill>
          <a:blip r:embed="rId5"/>
          <a:stretch/>
        </p:blipFill>
        <p:spPr>
          <a:xfrm>
            <a:off x="762120" y="4419720"/>
            <a:ext cx="145260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1"/>
                            </p:stCondLst>
                            <p:childTnLst>
                              <p:par>
                                <p:cTn id="17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Пи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?id=76405074&amp;tov=3"/>
          <p:cNvPicPr/>
          <p:nvPr/>
        </p:nvPicPr>
        <p:blipFill>
          <a:blip r:embed="rId1"/>
          <a:stretch/>
        </p:blipFill>
        <p:spPr>
          <a:xfrm>
            <a:off x="2514600" y="3886200"/>
            <a:ext cx="2438280" cy="239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&amp;Kcy;&amp;acy;&amp;kcy; &amp;pcy;&amp;rcy;&amp;icy;&amp;gcy;&amp;ocy;&amp;tcy;&amp;ocy;&amp;vcy;&amp;icy;&amp;tcy;&amp;softcy; &amp;kcy;&amp;ucy;&amp;lcy;&amp;iecy;&amp;bcy;&amp;yacy;&amp;kcy;&amp;ucy; &amp;scy; &amp;tcy;&amp;rcy;&amp;iecy;&amp;mcy;&amp;yacy; &amp;ncy;&amp;acy;&amp;chcy;&amp;icy;&amp;ncy;&amp;kcy;&amp;acy;&amp;mcy;&amp;icy;: &amp;vcy;&amp;icy;&amp;dcy;&amp;iecy;&amp;ocy;"/>
          <p:cNvPicPr/>
          <p:nvPr/>
        </p:nvPicPr>
        <p:blipFill>
          <a:blip r:embed="rId4"/>
          <a:stretch/>
        </p:blipFill>
        <p:spPr>
          <a:xfrm>
            <a:off x="1371600" y="1447920"/>
            <a:ext cx="6343560" cy="203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26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зырюсь я и пыхчу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ть в квашне я не хочу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доела мне квашня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адите в печь меня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-3049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www.vishivay.com/uploads/schemes/341/natjur.jpg"/>
          <p:cNvPicPr/>
          <p:nvPr/>
        </p:nvPicPr>
        <p:blipFill>
          <a:blip r:embed="rId7"/>
          <a:stretch/>
        </p:blipFill>
        <p:spPr>
          <a:xfrm>
            <a:off x="4876920" y="1600200"/>
            <a:ext cx="34495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Те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19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foodmarkets.ru/upload/news/6726/5b42ipDC.jpg"/>
          <p:cNvPicPr/>
          <p:nvPr/>
        </p:nvPicPr>
        <p:blipFill>
          <a:blip r:embed="rId3"/>
          <a:stretch/>
        </p:blipFill>
        <p:spPr>
          <a:xfrm>
            <a:off x="2666880" y="1676520"/>
            <a:ext cx="4999320" cy="3570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ой в земле теря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етом над землёй возвыша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енью к хозяину возвраща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724280"/>
            <a:ext cx="1222560" cy="164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-228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sp07.ru/ollelukoe/images/stories/russian/legchyhleb/4.jpg"/>
          <p:cNvPicPr/>
          <p:nvPr/>
        </p:nvPicPr>
        <p:blipFill>
          <a:blip r:embed="rId7"/>
          <a:stretch/>
        </p:blipFill>
        <p:spPr>
          <a:xfrm>
            <a:off x="4800600" y="2209680"/>
            <a:ext cx="36068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9900"/>
                </a:solidFill>
                <a:latin typeface="Times New Roman"/>
              </a:rPr>
              <a:t>З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i?id=52608499&amp;tov=6"/>
          <p:cNvPicPr/>
          <p:nvPr/>
        </p:nvPicPr>
        <p:blipFill>
          <a:blip r:embed="rId1"/>
          <a:stretch/>
        </p:blipFill>
        <p:spPr>
          <a:xfrm>
            <a:off x="1371600" y="17524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?id=81568182&amp;tov=7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User\Рабочий стол\phot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&amp;Tcy;&amp;yucy;&amp;mcy;&amp;iecy;&amp;ncy;&amp;scy;&amp;kcy;&amp;icy;&amp;iecy; &amp;acy;&amp;gcy;&amp;rcy;&amp;acy;&amp;rcy;&amp;icy;&amp;icy; &amp;scy;&amp;ocy;&amp;bcy;&amp;rcy;&amp;acy;&amp;lcy;&amp;icy; &amp;bcy;&amp;ocy;&amp;lcy;&amp;iecy;&amp;iecy; &amp;mcy;&amp;icy;&amp;lcy;&amp;lcy;&amp;icy;&amp;ocy;&amp;ncy;&amp;acy; &amp;tcy;&amp;ocy;&amp;ncy;&amp;ncy; &amp;zcy;&amp;iecy;&amp;rcy;&amp;ncy;&amp;acy;. . &quot;&amp;IEcy;&amp;scy;&amp;tcy;&amp;softcy; &amp;vcy;&amp;ocy;&amp;zcy;&amp;mcy;&amp;ocy;&amp;zhcy;&amp;ncy;&amp;ocy;&amp;scy;&amp;tcy;&amp;softcy; &amp;pcy;&amp;rcy;&amp;iecy;&amp;dcy;&amp;lcy;&amp;ocy;&amp;zhcy;&amp;icy;&amp;tcy;&amp;softcy; &amp;scy;&amp;ycy;&amp;rcy;&amp;softcy;&amp;iecy; &amp;ncy;&amp;acy; &amp;pcy;&amp;rcy;&amp;ocy;&amp;dcy;&amp;acy;&amp;zhcy;&amp;ucy;&quot; &amp;Rcy;&amp;Icy;&amp;Acy; &amp;Fcy;&amp;iecy;&amp;dcy;&amp;iecy;&amp;rcy;&amp;acy;&amp;lcy;&amp;Pcy;&amp;rcy;&amp;iecy;&amp;scy;&amp;scy;"/>
          <p:cNvPicPr/>
          <p:nvPr/>
        </p:nvPicPr>
        <p:blipFill>
          <a:blip r:embed="rId5"/>
          <a:stretch/>
        </p:blipFill>
        <p:spPr>
          <a:xfrm>
            <a:off x="4952880" y="16002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абль-великан не по морю плывет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абль-великан по земле идет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е пройдет - урожай соберет.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2514600" y="4343400"/>
            <a:ext cx="4379760" cy="157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C:\Documents and Settings\User\Рабочий стол\smiley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C:\Documents and Settings\User\Рабочий стол\smailiki-30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User\Рабочий стол\99020941_smailiki87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90920" y="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Комба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C:\Documents and Settings\User\Рабочий стол\комбайн.jpg"/>
          <p:cNvPicPr/>
          <p:nvPr/>
        </p:nvPicPr>
        <p:blipFill>
          <a:blip r:embed="rId1"/>
          <a:stretch/>
        </p:blipFill>
        <p:spPr>
          <a:xfrm>
            <a:off x="3048120" y="1447920"/>
            <a:ext cx="5181480" cy="414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19047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ладкий и слоё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ерху наряжён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419720"/>
            <a:ext cx="1447560" cy="1950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img0.liveinternet.ru/images/attach/b/4/103/128/103128548_large_chaepitie4.jpg"/>
          <p:cNvPicPr/>
          <p:nvPr/>
        </p:nvPicPr>
        <p:blipFill>
          <a:blip r:embed="rId7"/>
          <a:stretch/>
        </p:blipFill>
        <p:spPr>
          <a:xfrm>
            <a:off x="5105520" y="1143000"/>
            <a:ext cx="288756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Т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24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picdom.ru/i/1280x800/d/3/ec46ab690.jpg"/>
          <p:cNvPicPr/>
          <p:nvPr/>
        </p:nvPicPr>
        <p:blipFill>
          <a:blip r:embed="rId3"/>
          <a:stretch/>
        </p:blipFill>
        <p:spPr>
          <a:xfrm>
            <a:off x="3276720" y="1447920"/>
            <a:ext cx="5181480" cy="460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8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br>
              <a:rPr sz="800"/>
            </a:br>
            <a:r>
              <a:rPr b="1" i="1" lang="ru-RU" sz="800" spc="-1" strike="noStrike">
                <a:solidFill>
                  <a:srgbClr val="c00000"/>
                </a:solidFill>
                <a:latin typeface="Times New Roman"/>
              </a:rPr>
              <a:t>                                 </a:t>
            </a:r>
            <a:r>
              <a:rPr b="1" i="1" lang="ru-RU" sz="6000" spc="-1" strike="noStrike">
                <a:solidFill>
                  <a:srgbClr val="cc9900"/>
                </a:solidFill>
                <a:latin typeface="Times New Roman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гадать мы сможем быстр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ягкий, пышный и душист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н и черный, он и бел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бывает подгорел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57200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C:\Documents and Settings\User\Рабочий стол\99020941_smailiki87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:\Documents and Settings\User\Рабочий стол\cusPuuWipiE.jpg"/>
          <p:cNvPicPr/>
          <p:nvPr/>
        </p:nvPicPr>
        <p:blipFill>
          <a:blip r:embed="rId1"/>
          <a:stretch/>
        </p:blipFill>
        <p:spPr>
          <a:xfrm>
            <a:off x="7315200" y="990720"/>
            <a:ext cx="65880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Natali\Desktop\Рисунок1.gif"/>
          <p:cNvPicPr/>
          <p:nvPr/>
        </p:nvPicPr>
        <p:blipFill>
          <a:blip r:embed="rId2"/>
          <a:stretch/>
        </p:blipFill>
        <p:spPr>
          <a:xfrm>
            <a:off x="457200" y="609480"/>
            <a:ext cx="8134200" cy="551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Хле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i.iplsc.com/-/0002A5EQHNRYJSEK-C116-F4.jpg"/>
          <p:cNvPicPr/>
          <p:nvPr/>
        </p:nvPicPr>
        <p:blipFill>
          <a:blip r:embed="rId3"/>
          <a:stretch/>
        </p:blipFill>
        <p:spPr>
          <a:xfrm>
            <a:off x="2133720" y="1219320"/>
            <a:ext cx="595296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5998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Кольцо не просто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Кольцо золото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Блестящее, хрустяще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сем на загляденье…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Ну и объеденье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ruskhleb.com/files/karavaj.jpg"/>
          <p:cNvPicPr/>
          <p:nvPr/>
        </p:nvPicPr>
        <p:blipFill>
          <a:blip r:embed="rId7"/>
          <a:stretch/>
        </p:blipFill>
        <p:spPr>
          <a:xfrm>
            <a:off x="4343400" y="2057400"/>
            <a:ext cx="4086360" cy="292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ран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ш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б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114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sroki.net/wp-content/uploads/2013/12/PR20101018140930.jpg"/>
          <p:cNvPicPr/>
          <p:nvPr/>
        </p:nvPicPr>
        <p:blipFill>
          <a:blip r:embed="rId3"/>
          <a:stretch/>
        </p:blipFill>
        <p:spPr>
          <a:xfrm>
            <a:off x="4419720" y="6858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s://newfork.com/system/photo/recipes/image/medium/9731/medium_c86f39d9-677a-4dfd-8c0f-ef7aedc8c272.jpg"/>
          <p:cNvPicPr/>
          <p:nvPr/>
        </p:nvPicPr>
        <p:blipFill>
          <a:blip r:embed="rId4"/>
          <a:stretch/>
        </p:blipFill>
        <p:spPr>
          <a:xfrm>
            <a:off x="838080" y="350532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99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3400" y="15238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 на сковородк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ливают, да вчетверо сгиб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267080"/>
            <a:ext cx="1447560" cy="195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ttp://almaty.freeads.kz/content/root/users/2013/20130922/u8993/images/201309/f20130922190042-f_1239853927yl2hd_20121101132956.jpg"/>
          <p:cNvPicPr/>
          <p:nvPr/>
        </p:nvPicPr>
        <p:blipFill>
          <a:blip r:embed="rId7"/>
          <a:stretch/>
        </p:blipFill>
        <p:spPr>
          <a:xfrm>
            <a:off x="2514600" y="2209680"/>
            <a:ext cx="228276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Monotype Corsiva"/>
              </a:rPr>
              <a:t>Бл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http://makartsov.ru/sites/default/files/styles/large740x400/public/467014.jpg?itok=P2alOS4f"/>
          <p:cNvPicPr/>
          <p:nvPr/>
        </p:nvPicPr>
        <p:blipFill>
          <a:blip r:embed="rId1"/>
          <a:stretch/>
        </p:blipFill>
        <p:spPr>
          <a:xfrm>
            <a:off x="1066680" y="1523880"/>
            <a:ext cx="7048800" cy="381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5238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ос в поле д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он дом зерн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ны позолоче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вни заколоче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ит дом ходу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столбе золо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C:\Documents and Settings\User\Рабочий стол\smailiki-3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457200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s://im1-tub-ru.yandex.net/i?id=307e286a13c76185a41bca3e1a945c8a&amp;n=21"/>
          <p:cNvPicPr/>
          <p:nvPr/>
        </p:nvPicPr>
        <p:blipFill>
          <a:blip r:embed="rId7"/>
          <a:stretch/>
        </p:blipFill>
        <p:spPr>
          <a:xfrm>
            <a:off x="5334120" y="2133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Кол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2670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specagro.ru/wyswyg/image/wheat-field-landscape-picture_640x480_79595.jpg"/>
          <p:cNvPicPr/>
          <p:nvPr/>
        </p:nvPicPr>
        <p:blipFill>
          <a:blip r:embed="rId3"/>
          <a:stretch/>
        </p:blipFill>
        <p:spPr>
          <a:xfrm>
            <a:off x="914400" y="14479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9T19:25:10Z</dcterms:created>
  <dc:creator>Natali</dc:creator>
  <dc:description/>
  <dc:language>en-US</dc:language>
  <cp:lastModifiedBy>1</cp:lastModifiedBy>
  <dcterms:modified xsi:type="dcterms:W3CDTF">2023-06-09T19:33:19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AC1DE78BBBF4B1FAD9C4BF5F7853AB8</vt:lpwstr>
  </property>
  <property fmtid="{D5CDD505-2E9C-101B-9397-08002B2CF9AE}" pid="3" name="KSOProductBuildVer">
    <vt:lpwstr>1049-11.2.0.11417</vt:lpwstr>
  </property>
  <property fmtid="{D5CDD505-2E9C-101B-9397-08002B2CF9AE}" pid="4" name="Version">
    <vt:r8>1</vt:r8>
  </property>
</Properties>
</file>