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FB5-9042-4FB2-B939-56689CAA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7E6-6323-47D6-8020-EE7E0123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599-6666-4628-B9B6-E4B0EF9D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194-B451-43FB-8610-EC7E3317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3E9-751A-4227-AF5F-C7B6214F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7D4-F98C-4FE0-A71F-27C10741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BF1-7EA8-43BF-BA8F-6AF9FCC4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C16-F992-4035-A001-FCC04B28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0AD-9942-4C65-917C-2D7CF44F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CD1-806D-4EC7-A90A-1AAF2F6C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DEA-769E-47E8-BBE7-56979868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F27-24C9-4ED0-B237-DE252C1C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7DA2-8A70-4AF2-A711-3A381A347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Индивидуальная работа по развитию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314316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log.jpg"/>
          <p:cNvPicPr/>
          <p:nvPr/>
        </p:nvPicPr>
        <p:blipFill>
          <a:blip r:embed="rId1"/>
          <a:stretch/>
        </p:blipFill>
        <p:spPr>
          <a:xfrm>
            <a:off x="428760" y="3357720"/>
            <a:ext cx="2690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Планирование индивидуа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Распределение учебного материала по             трём направления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воспитание произносительных навы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словар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грамматических умений и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Нарушение звукопроизно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Развитие фонематического слух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Развитие артикуляционного аппара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тработка опорных зву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остановка нарушенных зву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Автоматизация поставленных зв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rrow-blue-rounded-down"/>
          <p:cNvPicPr/>
          <p:nvPr/>
        </p:nvPicPr>
        <p:blipFill>
          <a:blip r:embed="rId1"/>
          <a:stretch/>
        </p:blipFill>
        <p:spPr>
          <a:xfrm>
            <a:off x="3708360" y="112536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Формирование сло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одбирается лексический материал по программе детского сад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- слова, обозначающие предме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лова, обозначающие качества и свойства предмет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лова, обозначающие различные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Формирование грамматических умений и навы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редложные конструк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равнительные и превосходные степени  прилагательны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вязь слов в предложении (управление и согласование)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Организация индивидуальной работы по развитию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384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Comic Sans MS"/>
              </a:rPr>
              <a:t>Индивидуальный подход на фронтальных занятиях, в игровых и режимных момен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2852280"/>
            <a:ext cx="40384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Comic Sans MS"/>
              </a:rPr>
              <a:t>Собственно индивидуа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arrow-blue-rounded-down"/>
          <p:cNvPicPr/>
          <p:nvPr/>
        </p:nvPicPr>
        <p:blipFill>
          <a:blip r:embed="rId1"/>
          <a:stretch/>
        </p:blipFill>
        <p:spPr>
          <a:xfrm>
            <a:off x="2050920" y="1700280"/>
            <a:ext cx="1141560" cy="1141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arrow-blue-rounded-down"/>
          <p:cNvPicPr/>
          <p:nvPr/>
        </p:nvPicPr>
        <p:blipFill>
          <a:blip r:embed="rId2"/>
          <a:stretch/>
        </p:blipFill>
        <p:spPr>
          <a:xfrm>
            <a:off x="615636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Gu3.jpg"/>
          <p:cNvPicPr/>
          <p:nvPr/>
        </p:nvPicPr>
        <p:blipFill>
          <a:blip r:embed="rId3"/>
          <a:stretch/>
        </p:blipFill>
        <p:spPr>
          <a:xfrm>
            <a:off x="1357200" y="4643280"/>
            <a:ext cx="2529000" cy="16304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9" descr="logoped3.jpg"/>
          <p:cNvPicPr/>
          <p:nvPr/>
        </p:nvPicPr>
        <p:blipFill>
          <a:blip r:embed="rId4"/>
          <a:stretch/>
        </p:blipFill>
        <p:spPr>
          <a:xfrm>
            <a:off x="5643720" y="400068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Взаимодействие с логопе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тсутствие положительной динамики  при систематической индивидуальной работе в течение трёх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           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Консультация лого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rrow-blue-outline-down"/>
          <p:cNvPicPr/>
          <p:nvPr/>
        </p:nvPicPr>
        <p:blipFill>
          <a:blip r:embed="rId1"/>
          <a:stretch/>
        </p:blipFill>
        <p:spPr>
          <a:xfrm>
            <a:off x="3995640" y="3141720"/>
            <a:ext cx="828720" cy="10792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tab-kab-m.jpg"/>
          <p:cNvPicPr/>
          <p:nvPr/>
        </p:nvPicPr>
        <p:blipFill>
          <a:blip r:embed="rId2"/>
          <a:stretch/>
        </p:blipFill>
        <p:spPr>
          <a:xfrm>
            <a:off x="2643120" y="5000760"/>
            <a:ext cx="376704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Работа по формированию и исправлению звукопроизно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40384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Формирование звукопроиз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Воспит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3213000"/>
            <a:ext cx="4038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Исправление звукопроиз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arrow-blue-rounded-down"/>
          <p:cNvPicPr/>
          <p:nvPr/>
        </p:nvPicPr>
        <p:blipFill>
          <a:blip r:embed="rId1"/>
          <a:stretch/>
        </p:blipFill>
        <p:spPr>
          <a:xfrm>
            <a:off x="1908000" y="162864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arrow-blue-rounded-down"/>
          <p:cNvPicPr/>
          <p:nvPr/>
        </p:nvPicPr>
        <p:blipFill>
          <a:blip r:embed="rId2"/>
          <a:stretch/>
        </p:blipFill>
        <p:spPr>
          <a:xfrm>
            <a:off x="601200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arrow-blue-rounded-down"/>
          <p:cNvPicPr/>
          <p:nvPr/>
        </p:nvPicPr>
        <p:blipFill>
          <a:blip r:embed="rId3"/>
          <a:stretch/>
        </p:blipFill>
        <p:spPr>
          <a:xfrm>
            <a:off x="2124000" y="422100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arrow-blue-rounded-down"/>
          <p:cNvPicPr/>
          <p:nvPr/>
        </p:nvPicPr>
        <p:blipFill>
          <a:blip r:embed="rId4"/>
          <a:stretch/>
        </p:blipFill>
        <p:spPr>
          <a:xfrm>
            <a:off x="6372360" y="4221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Воспит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Уточняет движения органов артикуляционного ап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Логопед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Создаёт определённые положения и тренирует движения органов артикуляционного ап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Этап появления зв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Воспит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Уточняет звук или вызывает его по подраж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Логопе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Процесс постановки 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arrow-blue-rounded-down"/>
          <p:cNvPicPr/>
          <p:nvPr/>
        </p:nvPicPr>
        <p:blipFill>
          <a:blip r:embed="rId1"/>
          <a:stretch/>
        </p:blipFill>
        <p:spPr>
          <a:xfrm>
            <a:off x="1979640" y="220500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arrow-blue-rounded-down"/>
          <p:cNvPicPr/>
          <p:nvPr/>
        </p:nvPicPr>
        <p:blipFill>
          <a:blip r:embed="rId2"/>
          <a:stretch/>
        </p:blipFill>
        <p:spPr>
          <a:xfrm>
            <a:off x="6372360" y="213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231.jpg"/>
          <p:cNvPicPr/>
          <p:nvPr/>
        </p:nvPicPr>
        <p:blipFill>
          <a:blip r:embed="rId3"/>
          <a:stretch/>
        </p:blipFill>
        <p:spPr>
          <a:xfrm>
            <a:off x="5214960" y="4214880"/>
            <a:ext cx="28335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Этап усвоения зв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Воспит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Уточняет  правильное произно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557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Автоматизир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       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arrow-blue-rounded-down"/>
          <p:cNvPicPr/>
          <p:nvPr/>
        </p:nvPicPr>
        <p:blipFill>
          <a:blip r:embed="rId1"/>
          <a:stretch/>
        </p:blipFill>
        <p:spPr>
          <a:xfrm>
            <a:off x="1692360" y="2349360"/>
            <a:ext cx="923760" cy="924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arrow-blue-rounded-down"/>
          <p:cNvPicPr/>
          <p:nvPr/>
        </p:nvPicPr>
        <p:blipFill>
          <a:blip r:embed="rId2"/>
          <a:stretch/>
        </p:blipFill>
        <p:spPr>
          <a:xfrm>
            <a:off x="6300720" y="2349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правильной речи, её активизация и обога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Содержимое 4" descr="Morozova2.jpg"/>
          <p:cNvPicPr/>
          <p:nvPr/>
        </p:nvPicPr>
        <p:blipFill>
          <a:blip r:embed="rId1"/>
          <a:stretch/>
        </p:blipFill>
        <p:spPr>
          <a:xfrm>
            <a:off x="3575160" y="804960"/>
            <a:ext cx="5111640" cy="4789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713880"/>
            <a:ext cx="30081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omic Sans MS"/>
              </a:rPr>
              <a:t>По отношению к детям, посещающим занятия у логопеда и остающимся в массовых группах воспитатель осуществляет индивидуальный подход на фронтальных занятиях и организует индивидуальную работу по развитию речи согласно рекомендациям логоп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                          </a:t>
            </a: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                           </a:t>
            </a: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34c196b8adb4.png"/>
          <p:cNvPicPr/>
          <p:nvPr/>
        </p:nvPicPr>
        <p:blipFill>
          <a:blip r:embed="rId1"/>
          <a:stretch/>
        </p:blipFill>
        <p:spPr>
          <a:xfrm>
            <a:off x="179280" y="836640"/>
            <a:ext cx="50133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4000"/>
                            </p:stCondLst>
                            <p:childTnLst>
                              <p:par>
                                <p:cTn id="6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звуковой культуры ре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богащение и активизация слова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грамматических умений и навы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Правильная 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равильная, хорошая речь  - важнейшее условие всестороннего полноценного развития детей. Чем богаче и правильнее речь  у ребёнка, тем ему легче высказать свои мысли, тем шире его возможности в познании окружающей действительности, тем активнее осуществляется его психическое разви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Нарушения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рицательно влияют на формирование личности ребён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ызывают специфические особенности эмоционально-волевой сфер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пособствуют развитию отрицательных качеств характера (застенчивости, нерешительности, замкнутости, негативизма, чувства неполноценно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Необходимость проведения коррекционно-речевой работы в общеразвивающих групп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Более 50% воспитанников ДОУ имеют отклонения в речевом развит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rrow-blue-outline-down"/>
          <p:cNvPicPr/>
          <p:nvPr/>
        </p:nvPicPr>
        <p:blipFill>
          <a:blip r:embed="rId1"/>
          <a:stretch/>
        </p:blipFill>
        <p:spPr>
          <a:xfrm>
            <a:off x="3995640" y="2565360"/>
            <a:ext cx="954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Отклонения в речевом развит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Ярко выраженные внешние признаки (несовершенство звуковой системы, недостатки темпо-ритмического оформления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2920" y="2781360"/>
            <a:ext cx="403884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Особенности, системно охватывающие различные уровни речев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arrow-blue-rounded-down"/>
          <p:cNvPicPr/>
          <p:nvPr/>
        </p:nvPicPr>
        <p:blipFill>
          <a:blip r:embed="rId1"/>
          <a:stretch/>
        </p:blipFill>
        <p:spPr>
          <a:xfrm>
            <a:off x="1763640" y="1413000"/>
            <a:ext cx="1130400" cy="113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arrow-blue-rounded-down"/>
          <p:cNvPicPr/>
          <p:nvPr/>
        </p:nvPicPr>
        <p:blipFill>
          <a:blip r:embed="rId2"/>
          <a:stretch/>
        </p:blipFill>
        <p:spPr>
          <a:xfrm>
            <a:off x="6156360" y="141300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Коррекционно-речевая работа воспитателя ДОУ определя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овременными требованиями к педагогической работе с дошкольник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оставом дет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ложностью речевой деятельности и её значением для развития ребён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Наличием недостатков и отклонений в речевом развитии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Диагностика речевого 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воспитатель выясняет состояние речевого развития ребён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пределяет динамику речевого развит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пределяет перспективы развития реч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пределяет соответствие или несоответствие речевого развития нор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0:56:47Z</dcterms:created>
  <dc:creator>Admin</dc:creator>
  <dc:description/>
  <dc:language>en-US</dc:language>
  <cp:lastModifiedBy>Admin</cp:lastModifiedBy>
  <dcterms:modified xsi:type="dcterms:W3CDTF">2023-05-17T19:15:49Z</dcterms:modified>
  <cp:revision>64</cp:revision>
  <dc:subject/>
  <dc:title>Индивидуальная работа по развитию речи</dc:title>
</cp:coreProperties>
</file>