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F01-6EDC-4471-9B8D-660D2CA6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1E1-6EF9-463E-A6C6-9E39170E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FD9-B78F-43BC-A8F1-54E8BC5E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065-9FBE-4ABA-B1B7-0C6B08F5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A20-035D-4296-ACC9-9C6A67A5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955-75F2-402C-AB6E-837A2E15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8F0-BFDE-45DF-8954-7ADE0070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9E6-F54E-4B3E-BD0B-B8F7FE8D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C21-5F1C-4059-8881-57C8C5C3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4B3-1F88-4AC1-A1AF-B5631B2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8B2-49C3-4123-B730-323C68B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419-5BF7-431A-998B-22F1BA4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3101-E9C0-41D2-9A22-13530A246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Индивидуальная работа по развитию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14316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log.jpg"/>
          <p:cNvPicPr/>
          <p:nvPr/>
        </p:nvPicPr>
        <p:blipFill>
          <a:blip r:embed="rId1"/>
          <a:stretch/>
        </p:blipFill>
        <p:spPr>
          <a:xfrm>
            <a:off x="428760" y="3357720"/>
            <a:ext cx="2690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Планирование индивидуа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спределение учебного материала по             трём направлени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оспитание произносительных навы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словар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Нарушение звукопроиз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звитие фонематического слу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звитие артикуляционного аппар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тработка опорных зву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становка нарушенных зву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Автоматизация поставленных зв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rrow-blue-rounded-down"/>
          <p:cNvPicPr/>
          <p:nvPr/>
        </p:nvPicPr>
        <p:blipFill>
          <a:blip r:embed="rId1"/>
          <a:stretch/>
        </p:blipFill>
        <p:spPr>
          <a:xfrm>
            <a:off x="3708360" y="1125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Формирование сло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дбирается лексический материал по программе детского сад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- слова, обозначающие предме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ва, обозначающие качества и свойства предме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ва, обозначающие различ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редложные конструк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равнительные и превосходные степени  прилагательны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вязь слов в предложении (управление и согласование)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Организация индивидуальной работы по развитию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Comic Sans MS"/>
              </a:rPr>
              <a:t>Индивидуальный подход на фронтальных занятиях, в игровых и режимных мом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Comic Sans MS"/>
              </a:rPr>
              <a:t>Собственно индивидуа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rrow-blue-rounded-down"/>
          <p:cNvPicPr/>
          <p:nvPr/>
        </p:nvPicPr>
        <p:blipFill>
          <a:blip r:embed="rId1"/>
          <a:stretch/>
        </p:blipFill>
        <p:spPr>
          <a:xfrm>
            <a:off x="2050920" y="1700280"/>
            <a:ext cx="1141560" cy="114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rrow-blue-rounded-down"/>
          <p:cNvPicPr/>
          <p:nvPr/>
        </p:nvPicPr>
        <p:blipFill>
          <a:blip r:embed="rId2"/>
          <a:stretch/>
        </p:blipFill>
        <p:spPr>
          <a:xfrm>
            <a:off x="615636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Gu3.jpg"/>
          <p:cNvPicPr/>
          <p:nvPr/>
        </p:nvPicPr>
        <p:blipFill>
          <a:blip r:embed="rId3"/>
          <a:stretch/>
        </p:blipFill>
        <p:spPr>
          <a:xfrm>
            <a:off x="1357200" y="4643280"/>
            <a:ext cx="2529000" cy="1630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logoped3.jpg"/>
          <p:cNvPicPr/>
          <p:nvPr/>
        </p:nvPicPr>
        <p:blipFill>
          <a:blip r:embed="rId4"/>
          <a:stretch/>
        </p:blipFill>
        <p:spPr>
          <a:xfrm>
            <a:off x="5643720" y="40006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Взаимодействие с логопе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тсутствие положительной динамики  при систематической индивидуальной работе в течение трёх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Консультация лого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rrow-blue-outline-down"/>
          <p:cNvPicPr/>
          <p:nvPr/>
        </p:nvPicPr>
        <p:blipFill>
          <a:blip r:embed="rId1"/>
          <a:stretch/>
        </p:blipFill>
        <p:spPr>
          <a:xfrm>
            <a:off x="3995640" y="3141720"/>
            <a:ext cx="828720" cy="1079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tab-kab-m.jpg"/>
          <p:cNvPicPr/>
          <p:nvPr/>
        </p:nvPicPr>
        <p:blipFill>
          <a:blip r:embed="rId2"/>
          <a:stretch/>
        </p:blipFill>
        <p:spPr>
          <a:xfrm>
            <a:off x="2643120" y="5000760"/>
            <a:ext cx="37670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Работа по формированию и исправлению звукопроизно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40384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Формирование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Исправление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arrow-blue-rounded-down"/>
          <p:cNvPicPr/>
          <p:nvPr/>
        </p:nvPicPr>
        <p:blipFill>
          <a:blip r:embed="rId1"/>
          <a:stretch/>
        </p:blipFill>
        <p:spPr>
          <a:xfrm>
            <a:off x="1908000" y="162864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arrow-blue-rounded-down"/>
          <p:cNvPicPr/>
          <p:nvPr/>
        </p:nvPicPr>
        <p:blipFill>
          <a:blip r:embed="rId2"/>
          <a:stretch/>
        </p:blipFill>
        <p:spPr>
          <a:xfrm>
            <a:off x="601200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arrow-blue-rounded-down"/>
          <p:cNvPicPr/>
          <p:nvPr/>
        </p:nvPicPr>
        <p:blipFill>
          <a:blip r:embed="rId3"/>
          <a:stretch/>
        </p:blipFill>
        <p:spPr>
          <a:xfrm>
            <a:off x="2124000" y="4221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rrow-blue-rounded-down"/>
          <p:cNvPicPr/>
          <p:nvPr/>
        </p:nvPicPr>
        <p:blipFill>
          <a:blip r:embed="rId4"/>
          <a:stretch/>
        </p:blipFill>
        <p:spPr>
          <a:xfrm>
            <a:off x="6372360" y="4221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движения органов артикуляционного ап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Создаёт определённые положения и тренирует движения органов артикуляционного ап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Этап появления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звук или вызывает его по подраж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Процесс постановки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arrow-blue-rounded-down"/>
          <p:cNvPicPr/>
          <p:nvPr/>
        </p:nvPicPr>
        <p:blipFill>
          <a:blip r:embed="rId1"/>
          <a:stretch/>
        </p:blipFill>
        <p:spPr>
          <a:xfrm>
            <a:off x="1979640" y="220500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rrow-blue-rounded-down"/>
          <p:cNvPicPr/>
          <p:nvPr/>
        </p:nvPicPr>
        <p:blipFill>
          <a:blip r:embed="rId2"/>
          <a:stretch/>
        </p:blipFill>
        <p:spPr>
          <a:xfrm>
            <a:off x="637236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231.jpg"/>
          <p:cNvPicPr/>
          <p:nvPr/>
        </p:nvPicPr>
        <p:blipFill>
          <a:blip r:embed="rId3"/>
          <a:stretch/>
        </p:blipFill>
        <p:spPr>
          <a:xfrm>
            <a:off x="5214960" y="4214880"/>
            <a:ext cx="28335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Этап усвоения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 правильное произ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Автоматиз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arrow-blue-rounded-down"/>
          <p:cNvPicPr/>
          <p:nvPr/>
        </p:nvPicPr>
        <p:blipFill>
          <a:blip r:embed="rId1"/>
          <a:stretch/>
        </p:blipFill>
        <p:spPr>
          <a:xfrm>
            <a:off x="1692360" y="2349360"/>
            <a:ext cx="923760" cy="92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arrow-blue-rounded-down"/>
          <p:cNvPicPr/>
          <p:nvPr/>
        </p:nvPicPr>
        <p:blipFill>
          <a:blip r:embed="rId2"/>
          <a:stretch/>
        </p:blipFill>
        <p:spPr>
          <a:xfrm>
            <a:off x="6300720" y="2349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правильной речи, её активизация и обога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Morozova2.jpg"/>
          <p:cNvPicPr/>
          <p:nvPr/>
        </p:nvPicPr>
        <p:blipFill>
          <a:blip r:embed="rId1"/>
          <a:stretch/>
        </p:blipFill>
        <p:spPr>
          <a:xfrm>
            <a:off x="3575160" y="804960"/>
            <a:ext cx="5111640" cy="4789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30081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mic Sans MS"/>
              </a:rPr>
              <a:t>По отношению к детям, посещающим занятия у логопеда и остающимся в массовых группах воспитатель осуществляет индивидуальный подход на фронтальных занятиях и организует индивидуальную работу по развитию речи согласно рекомендациям логоп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                         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                          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34c196b8adb4.png"/>
          <p:cNvPicPr/>
          <p:nvPr/>
        </p:nvPicPr>
        <p:blipFill>
          <a:blip r:embed="rId1"/>
          <a:stretch/>
        </p:blipFill>
        <p:spPr>
          <a:xfrm>
            <a:off x="179280" y="836640"/>
            <a:ext cx="5013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000"/>
                            </p:stCondLst>
                            <p:childTnLst>
                              <p:par>
                                <p:cTn id="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звуковой культуры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богащение и активизация слова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Правильная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равильная, хорошая речь  - важнейшее условие всестороннего полноценного развития детей. Чем богаче и правильнее речь  у ребёнка, тем ему легче высказать свои мысли, тем шире его возможности в познании окружающей действительности, тем активнее осуществляется его психическое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Нарушени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рицательно влияют на формирование личности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зывают специфические особенности эмоционально-волевой сфер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пособствуют развитию отрицательных качеств характера (застенчивости, нерешительности, замкнутости, негативизма, чувства неполноцен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Необходимость проведения коррекционно-речевой работы в общеразвивающих групп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Более 50% воспитанников ДОУ имеют отклонения в речевом развит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row-blue-outline-down"/>
          <p:cNvPicPr/>
          <p:nvPr/>
        </p:nvPicPr>
        <p:blipFill>
          <a:blip r:embed="rId1"/>
          <a:stretch/>
        </p:blipFill>
        <p:spPr>
          <a:xfrm>
            <a:off x="3995640" y="2565360"/>
            <a:ext cx="954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Отклонения в речевом развит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Ярко выраженные внешние признаки (несовершенство звуковой системы, недостатки темпо-ритмического оформлени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2920" y="2781360"/>
            <a:ext cx="403884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Особенности, системно охватывающие различные уровни речев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arrow-blue-rounded-down"/>
          <p:cNvPicPr/>
          <p:nvPr/>
        </p:nvPicPr>
        <p:blipFill>
          <a:blip r:embed="rId1"/>
          <a:stretch/>
        </p:blipFill>
        <p:spPr>
          <a:xfrm>
            <a:off x="1763640" y="1413000"/>
            <a:ext cx="1130400" cy="113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arrow-blue-rounded-down"/>
          <p:cNvPicPr/>
          <p:nvPr/>
        </p:nvPicPr>
        <p:blipFill>
          <a:blip r:embed="rId2"/>
          <a:stretch/>
        </p:blipFill>
        <p:spPr>
          <a:xfrm>
            <a:off x="6156360" y="141300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Коррекционно-речевая работа воспитателя ДОУ определ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овременными требованиями к педагогической работе с дошкольник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оставом де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жностью речевой деятельности и её значением для развития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Наличием недостатков и отклонений в речевом развити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Диагностика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оспитатель выясняет состояние речевого развития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динамику речевого развит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перспективы развития реч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соответствие или несоответствие речевого развития н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0:56:47Z</dcterms:created>
  <dc:creator>Admin</dc:creator>
  <dc:description/>
  <dc:language>en-US</dc:language>
  <cp:lastModifiedBy>Admin</cp:lastModifiedBy>
  <dcterms:modified xsi:type="dcterms:W3CDTF">2023-05-17T19:15:49Z</dcterms:modified>
  <cp:revision>64</cp:revision>
  <dc:subject/>
  <dc:title>Индивидуальная работа по развитию речи</dc:title>
</cp:coreProperties>
</file>