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8.jpeg" ContentType="image/jpeg"/>
  <Override PartName="/ppt/media/image55.png" ContentType="image/png"/>
  <Override PartName="/ppt/media/image45.jpeg" ContentType="image/jpeg"/>
  <Override PartName="/ppt/media/image44.jpeg" ContentType="image/jpeg"/>
  <Override PartName="/ppt/media/image42.jpeg" ContentType="image/jpeg"/>
  <Override PartName="/ppt/media/image6.png" ContentType="image/png"/>
  <Override PartName="/ppt/media/image38.jpeg" ContentType="image/jpeg"/>
  <Override PartName="/ppt/media/image37.jpeg" ContentType="image/jpeg"/>
  <Override PartName="/ppt/media/image2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14.jpeg" ContentType="image/jpeg"/>
  <Override PartName="/ppt/media/image24.jpeg" ContentType="image/jpeg"/>
  <Override PartName="/ppt/media/image59.png" ContentType="image/png"/>
  <Override PartName="/ppt/media/image49.jpeg" ContentType="image/jpeg"/>
  <Override PartName="/ppt/media/image16.png" ContentType="image/png"/>
  <Override PartName="/ppt/media/image76.jpeg" ContentType="image/jpeg"/>
  <Override PartName="/ppt/media/image18.jpeg" ContentType="image/jpeg"/>
  <Override PartName="/ppt/media/image21.wmf" ContentType="image/x-wmf"/>
  <Override PartName="/ppt/media/image60.png" ContentType="image/png"/>
  <Override PartName="/ppt/media/image63.jpeg" ContentType="image/jpeg"/>
  <Override PartName="/ppt/media/image57.png" ContentType="image/png"/>
  <Override PartName="/ppt/media/image28.jpeg" ContentType="image/jpeg"/>
  <Override PartName="/ppt/media/image51.jpeg" ContentType="image/jpeg"/>
  <Override PartName="/ppt/media/image26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75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61.png" ContentType="image/png"/>
  <Override PartName="/ppt/media/image68.png" ContentType="image/png"/>
  <Override PartName="/ppt/media/image70.png" ContentType="image/png"/>
  <Override PartName="/ppt/media/image64.jpeg" ContentType="image/jpeg"/>
  <Override PartName="/ppt/media/image69.png" ContentType="image/png"/>
  <Override PartName="/ppt/media/image25.jpeg" ContentType="image/jpeg"/>
  <Override PartName="/ppt/media/image67.png" ContentType="image/pn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.png" ContentType="image/png"/>
  <Override PartName="/ppt/media/image72.jpeg" ContentType="image/jpeg"/>
  <Override PartName="/ppt/media/image4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9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B64-27F6-4402-BC86-10B8FF2BE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464B-ED29-46E0-97CC-09C30F4C5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F9F-2D76-45C1-9895-53A2A5AD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78D-E998-47DD-B84E-A65F4F5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D18-74AC-40CF-9854-11AF6A97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DA9-31CF-4F21-B7E8-60BC7048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AAA7-7F66-4684-8BC7-8E9F3EE8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E00D-0C16-49F2-B130-89F36D5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067-AD0A-4618-8445-AE84021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B09C-865B-4616-9075-8A99F23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A70B-2E03-4693-8321-9E93BE7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FB5F-0E56-4846-A614-C2A14D8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826-1986-4407-B6C9-E328CC5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FFF-4780-4F5E-8BA3-0C1A2F6D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94A-8D79-47AE-B41D-BA8785F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B3E3-89D5-4E70-B994-DA2F7BD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3C78-6365-416C-8482-F9BCF8A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21D9-9437-4598-806B-F2AE485E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2A90-9927-4204-9826-1F2BEE8B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58C3-7578-4FED-8DBE-EE7B571C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F128-257A-4E5E-8948-FEB17E25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BE0F-3420-4CEA-8974-D2D5EA1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DC43-4808-4AA0-AC52-F5EE9BE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18FF-AB3A-42FE-85BD-98B1CEE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2CA-A789-45E2-8F63-5486D30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AB7E-5ED5-4AE5-808F-78131706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E024-A592-4044-850D-69AF917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08F6-30F2-489E-BE77-101C1B7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4F3C-BCDF-49D7-AC1E-77C35DB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75C8-F654-4595-ACCA-2806DF9A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07C9-FDB4-4437-A115-9AFD40FD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0AAF-3957-4E63-AAC1-64A789EA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B7FC-B03F-41E0-891A-11BF75F5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8DFE-4630-44C2-9E87-7900736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CE14-9499-4930-B636-5204AC9F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FC3-9ECD-4305-9D61-ACD96BD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26D2-B40B-4CBA-A5BC-DFCA096B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5595-1BCB-4384-A964-5276F391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AC1C-C43C-44AD-B1F5-51F4F2F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10BA-04D8-4D30-886D-C14674E6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620E-0B49-4B9B-8E91-8454EC6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42D6-81EA-4E85-A3AD-642EB71A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8B07-0541-4CD3-8410-DC3A4C8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B38F-9372-40AE-AD0E-EA5C7A45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D31E-8BF2-4101-8698-B63531C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C44-5929-4C04-A11C-FEAD4671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EA0-46DA-4F8E-BCC8-7456D5D9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714-15FC-471F-88E2-96F7E3D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8CD-3DE5-4EFF-B228-B1F80B4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F4F-BD97-42D9-895C-813CDC3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3FC6-68A1-499C-92E5-E9141E37D9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572D-B0B0-425A-B7E1-874B46DCAC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CB0-FFF6-48C5-B657-071CAEB0FD1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40FC-6069-4352-89D8-020A06755D7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37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28440" y="5929200"/>
            <a:ext cx="7854840" cy="55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 учитель—логопед Оганесян С.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i.jpeg"/>
          <p:cNvPicPr/>
          <p:nvPr/>
        </p:nvPicPr>
        <p:blipFill>
          <a:blip r:embed="rId1"/>
          <a:stretch/>
        </p:blipFill>
        <p:spPr>
          <a:xfrm>
            <a:off x="5786280" y="2071800"/>
            <a:ext cx="1622520" cy="13572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523800" y="36360"/>
            <a:ext cx="7785000" cy="1597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1999800"/>
            <a:ext cx="818496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смотр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льпац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блюдения при выполнении динамических и статических упражнений во время выполнения проб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Рисунок 4" descr="i.jpeg"/>
          <p:cNvPicPr/>
          <p:nvPr/>
        </p:nvPicPr>
        <p:blipFill>
          <a:blip r:embed="rId3"/>
          <a:stretch/>
        </p:blipFill>
        <p:spPr>
          <a:xfrm>
            <a:off x="6858000" y="1143000"/>
            <a:ext cx="1868400" cy="1395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i.jpeg"/>
          <p:cNvPicPr/>
          <p:nvPr/>
        </p:nvPicPr>
        <p:blipFill>
          <a:blip r:embed="rId4"/>
          <a:stretch/>
        </p:blipFill>
        <p:spPr>
          <a:xfrm>
            <a:off x="7429680" y="2428920"/>
            <a:ext cx="1571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1.Осмотр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Обратить внимание!!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положение головы по отношению к туловищу (нет ли привычных ассиметричных поз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осмотре лица – возможность ассиметрии в виде сглаженности носогубной складки, опущенного уголка рта, расширенной/суженной глазной щели, наличия постоянно приоткрытого рта, слюноте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отр кожных покровов: окраска кожи и слизистых, наличия венозных сеточек на лице. Мимической актив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2.Пальп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ратить внимание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эластичность кожи и мышц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гор кож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ояния лимфатических узл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ояние  речевых мышц языка, щёк, гу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3.Особенности арт.про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цениваютс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р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нами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щаем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и координация движ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ичие  синкинезий, тремора, гиперкинез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иды логопедического массаж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фференцированный (укрепляющий/расслабляющий) массаж, основан на приемах классического массаж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ссаж БА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кссаж с применением специальных приспособлений (зондов, шпа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ондозаменителей, вибромассажеров  и п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d0d9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Аппаратный массаж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отивопоказания к назначению массажа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матические/инфекционные заболевания в остром период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трые и хронические заболевания кожных покровов, конъюктиви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нгивиты, стоматиты, инфекции полости рта, увеличенные лимфатических желез, резко выраженная  пульсация сонных артер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пилепсия,онкопатология,кисты слизыстых язы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!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еред проведением л/м. необходимо заключение невропатолога и/или педиатра об отсутствии противопоказ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8584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щие рекомендации к проведению массаж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/м. проводится в  отдельном чистом, тёплом, хорошо проветриваемом помещении с наличием водоснабжения, дез. ламп, манипуляционного столика, массажной кушетки/кресла и п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одится 2-3 процедуры в неделю (подряд/через день); цикл – 10-20 процедур (перерыв от 2 недель до 2 мес.); начальная длительность процедуры 5-7 мин, конечная – 20-25 ми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 время массажа ребенок не должен испытывать боли, требуется обязательное  установление психологического конт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дготовка к массаж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Constantia"/>
              </a:rPr>
              <a:t>При проведении л/массажа логопед должен иметь след. материалы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1. Защитная  марлевая маска, «щитки», халат, шапочка,  одноразовые медицинские резиновые перчатки, напалечники  и  пр.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2.Стерильные  марлевые салфетки, медицинский спирт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3.  Логопедические зонды, одноразовые шпатели, зондозаменител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4.  Гексорал ( для полоскания полости рта); нашатырный спирт( для оказ. первой мед.помощи); перекись водорода ( для местного применения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5.3-%перекись водорода;  аламинол и др. дез. ср.-ва ( для обработки инстр.) 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6.Индивид.подголовники, одноразовые пелёнки, простынки и пр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7.Индивидуальные карточки назначения логомассаж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Руки логопеда должны быть чистыми, теплыми, без ссадин, царапин, очагов воспаления; с коротко остриженными ногтями, без украшени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ложения тела при массаж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а на спине, руки вдоль тела, ноги лежат свободно, носки несколько разведены. Под головой- небольшая подушка, которая доходит до верхнего края лопаток.  Логопед– справа от кресла. Ладонь левой руки л. служит  для фиксации положения  языка, пр.рукой л. осуществляет массажные движения. Применяет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массажа языка, губ, щек, жевательных мышц (с внешней и внутренней поверхност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ожение массируемого аналогично с пунктом 1. Специалист – у изголовья. Ладонь левой руки л. для фиксации положения головы помещается на теменную ее область, пр.рукой л. осуществляет массажные движения. Применяется для массажа  лица, шеи, щек, жевательных мышц;</a:t>
            </a: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усидя в кресле с высоким подголовником. Л. за головой пациента. Применяется для массажа  лица, шеи, щек, жевательных мышц;</a:t>
            </a: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i.jpeg"/>
          <p:cNvPicPr/>
          <p:nvPr/>
        </p:nvPicPr>
        <p:blipFill>
          <a:blip r:embed="rId1"/>
          <a:stretch/>
        </p:blipFill>
        <p:spPr>
          <a:xfrm>
            <a:off x="684360" y="6206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i.jpeg"/>
          <p:cNvPicPr/>
          <p:nvPr/>
        </p:nvPicPr>
        <p:blipFill>
          <a:blip r:embed="rId2"/>
          <a:stretch/>
        </p:blipFill>
        <p:spPr>
          <a:xfrm>
            <a:off x="4859280" y="6206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logopedicheskij-massazh-pri-zaikanii-shevcova-e"/>
          <p:cNvPicPr/>
          <p:nvPr/>
        </p:nvPicPr>
        <p:blipFill>
          <a:blip r:embed="rId3"/>
          <a:stretch/>
        </p:blipFill>
        <p:spPr>
          <a:xfrm>
            <a:off x="241128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334800"/>
            <a:ext cx="8570880" cy="9576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714240" y="150012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ктивный метод механического воздействия, который изменяет  состояние мышц, нервов, кровеносных сосудов и тканей периферического речевого аппа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огомассаж представляет собой одну из логопедических техник, способствующих нормализации речев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D:\Мои документы\Мои рисунки\картинки\iааа.jpeg"/>
          <p:cNvPicPr/>
          <p:nvPr/>
        </p:nvPicPr>
        <p:blipFill>
          <a:blip r:embed="rId2"/>
          <a:stretch/>
        </p:blipFill>
        <p:spPr>
          <a:xfrm>
            <a:off x="6643800" y="5000760"/>
            <a:ext cx="2000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приемы массаж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: (поверхностное, глубокое обхватывающее, граблеобразно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ир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ин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брация и поколач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е нажат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Рисунок 4" descr="i.jpeg"/>
          <p:cNvPicPr/>
          <p:nvPr/>
        </p:nvPicPr>
        <p:blipFill>
          <a:blip r:embed="rId2"/>
          <a:stretch/>
        </p:blipFill>
        <p:spPr>
          <a:xfrm>
            <a:off x="6786720" y="178596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i.jpeg"/>
          <p:cNvPicPr/>
          <p:nvPr/>
        </p:nvPicPr>
        <p:blipFill>
          <a:blip r:embed="rId3"/>
          <a:stretch/>
        </p:blipFill>
        <p:spPr>
          <a:xfrm rot="20984400">
            <a:off x="2500200" y="5214600"/>
            <a:ext cx="1768680" cy="14288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6" descr="i.jpeg"/>
          <p:cNvPicPr/>
          <p:nvPr/>
        </p:nvPicPr>
        <p:blipFill>
          <a:blip r:embed="rId4"/>
          <a:stretch/>
        </p:blipFill>
        <p:spPr>
          <a:xfrm rot="20652000">
            <a:off x="6261120" y="4680000"/>
            <a:ext cx="20066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бор приемов массаж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 пониженном тонус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ир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ин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ьная вибрац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колачи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 повышенном тонус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гкая вибрация.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6" descr="i.jpeg"/>
          <p:cNvPicPr/>
          <p:nvPr/>
        </p:nvPicPr>
        <p:blipFill>
          <a:blip r:embed="rId2"/>
          <a:stretch/>
        </p:blipFill>
        <p:spPr>
          <a:xfrm>
            <a:off x="1214280" y="5286240"/>
            <a:ext cx="2214720" cy="1366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i.jpeg"/>
          <p:cNvPicPr/>
          <p:nvPr/>
        </p:nvPicPr>
        <p:blipFill>
          <a:blip r:embed="rId3"/>
          <a:stretch/>
        </p:blipFill>
        <p:spPr>
          <a:xfrm>
            <a:off x="5500800" y="342900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Массаж сочетается с 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гимнастико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5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асс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4720" y="1214280"/>
            <a:ext cx="4041720" cy="5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Акт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вижения головы, мимических, артикуляционных мышц (после массажа или во время него). Движения совершаются с помощью логопеда. П.у. нужны если р. самостоятельно не может их выполнить или не в полном объеме. Выполнение упр. обязательно контролируется ребенком зрительно. Выполнение сериями по 3-5 движений. В процессе важно дать р. кинестетические ощущения (улыбка, хоботок, откр. и закр. рта, различные движения языком и пр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одится р. самостоятельно, после массажа и пассивной гимнастик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: выработка полноценных движений (полнота объема движения, его точность, интенсивность выполнения, дифференцированное включение в движение опр. мышц и пр.). Вкл.: движения мышц шеи, плечевого пояса, мимических и артикуляционных мышц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7" name="Прямая со стрелкой 7"/>
          <p:cNvCxnSpPr/>
          <p:nvPr/>
        </p:nvCxnSpPr>
        <p:spPr>
          <a:xfrm flipH="1">
            <a:off x="3357000" y="784800"/>
            <a:ext cx="2143800" cy="5720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" name="Прямая со стрелкой 11"/>
          <p:cNvCxnSpPr/>
          <p:nvPr/>
        </p:nvCxnSpPr>
        <p:spPr>
          <a:xfrm flipH="1">
            <a:off x="7500960" y="856080"/>
            <a:ext cx="6433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казания к проведению расслабляющего массаж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водится в медленном темп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емы: поглаживание, легкая вибрац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. должен вызывать у р. ощущения тепла и поко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уки л. – теплы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вучание тихой музыки с плавным ритмом или проговаривание л. формул спокойствия аутогенной тренировки. Также используются формулы, направленные на локальное расслабление мышц речевого аппарат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ля усиления эффекта – согревающий компресс на лицо перед массажем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овательность воздейств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шеи и плечевого поя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имическая мускулатур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губ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язы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Рисунок 4" descr="i.jpeg"/>
          <p:cNvPicPr/>
          <p:nvPr/>
        </p:nvPicPr>
        <p:blipFill>
          <a:blip r:embed="rId2"/>
          <a:stretch/>
        </p:blipFill>
        <p:spPr>
          <a:xfrm>
            <a:off x="5786280" y="485784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6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4" name="Заголовок 1"/>
          <p:cNvGrpSpPr/>
          <p:nvPr/>
        </p:nvGrpSpPr>
        <p:grpSpPr>
          <a:xfrm>
            <a:off x="328680" y="-115920"/>
            <a:ext cx="8480520" cy="1109520"/>
            <a:chOff x="328680" y="-115920"/>
            <a:chExt cx="8480520" cy="1109520"/>
          </a:xfrm>
        </p:grpSpPr>
        <p:pic>
          <p:nvPicPr>
            <p:cNvPr id="2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28680" y="-115920"/>
              <a:ext cx="8480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57200" y="285840"/>
              <a:ext cx="8229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0070c0"/>
                  </a:solidFill>
                  <a:latin typeface="Calibri"/>
                </a:rPr>
                <a:t>Примеры формул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8556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nstantia"/>
              </a:rPr>
              <a:t>Спокойств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Constantia"/>
              </a:rPr>
              <a:t>Локальное расслабление мышц речевого аппарат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«Успокаиваюсь. Отдыхаю. Дыхание ровное, спокойное, ритмичное. Ощущение спокойствия и расслабления. Глаза закрыты. Дышится легко и свободно. Все мышцы полностью расслаблены и приятно тяжелы. Не хочется двигаться. Мне хорошо и спокойно…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«Грудь и плечи расслаблены. Мышцы шеи расслаблены. Нижняя челюсть вяло отвисает. Губы расслабленные, вялые, едва соприкасаются. Зубы разомкнуты. Язык расслабленный и тяжелый. Все мышцы лица расслаблены…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3" descr="i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казания к проведению активизирующего массаж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уется при пониженном тонус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вижения логопеда должны быть ритмичны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новной прием – поглаживание, оно чередуется с растиранием, разминанием, сильной вибраци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ила воздействия должна нарастать постепенно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ередней поверхности шеи запрещены энергичные воздействия 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 правильном выполнении - дыхание ребенка равномерно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ссаж не должен вызывать болезненных ощуще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овательность воздейств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имическая мускулатур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губ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язы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шеи и плечевого пояс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Рисунок 4" descr="i.jpeg"/>
          <p:cNvPicPr/>
          <p:nvPr/>
        </p:nvPicPr>
        <p:blipFill>
          <a:blip r:embed="rId2"/>
          <a:stretch/>
        </p:blipFill>
        <p:spPr>
          <a:xfrm>
            <a:off x="5715000" y="4786200"/>
            <a:ext cx="2928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7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Массаж плечевого пояса и ше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99972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00120"/>
            <a:ext cx="4040280" cy="5143680"/>
          </a:xfrm>
          <a:prstGeom prst="rect">
            <a:avLst/>
          </a:prstGeom>
          <a:noFill/>
          <a:ln w="9360">
            <a:solidFill>
              <a:srgbClr val="00b0f0"/>
            </a:solidFill>
            <a:prstDash val="sysDot"/>
            <a:miter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ширяет физиологические возможности дых. аппарата, при  этом рефлекторно    тонус корня языка, что способствует активизации нижней челю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ссируемый должен быть обнажен до половины груд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4720" y="1500120"/>
            <a:ext cx="4041720" cy="5143680"/>
          </a:xfrm>
          <a:prstGeom prst="rect">
            <a:avLst/>
          </a:prstGeom>
          <a:noFill/>
          <a:ln w="9360">
            <a:solidFill>
              <a:srgbClr val="00b0f0"/>
            </a:solidFill>
            <a:prstDash val="sysDot"/>
            <a:miter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уют  движения снизу вверх, приемы -поглаживание и растирание. Активные поколачивание и вибрация –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противопоказаны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01" name="Прямая со стрелкой 16"/>
          <p:cNvCxnSpPr/>
          <p:nvPr/>
        </p:nvCxnSpPr>
        <p:spPr>
          <a:xfrm flipH="1">
            <a:off x="2642400" y="292896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02" name="Рисунок 9" descr="i.jpeg"/>
          <p:cNvPicPr/>
          <p:nvPr/>
        </p:nvPicPr>
        <p:blipFill>
          <a:blip r:embed="rId2"/>
          <a:stretch/>
        </p:blipFill>
        <p:spPr>
          <a:xfrm>
            <a:off x="5143680" y="392904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омплекс расслабляющих массажных движ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едленно поглаживать переднюю часть шеи ладонями обеих рук сверху вниз по боковым областям горла. Движение начинается от края нижней челюсти к грудин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.п. боковую поверхность шеи попеременно с пр. и лев. стороны. Поместить ладонь одной руки на боковую часть шеи так, чтобы большой палец находился у угла нижней челюсти. Ладонь движется сверху вниз до яремной ямки, а затем параллельно ключице по плечу либо вниз до подмышечной впадины (данный прием снимает тонус с грудино-ключично-сосцевидной мышцы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оложить обе руки на заднюю часть шеи, к затылку, руки скользят по задней и боковой частям шеи вниз по направлению к ключицам по плечу либо до подмышечной впадины (снимает тонус с трапециевидной мышцы)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Упражнения на расслабление мышц ше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1.Ребенок лежит на спине, голова – вне опоры и свешивается назад. Л. одной рукой поддерживает голову р. сзади, др. помещает на лобно-теменную область, осуществляя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Круговые движения головы р. по часовой, а затем против часовой стрелки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Наклоны головы вперед–назад, вправо-влев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2.Эти же движения, но в положении сид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се движения должны быть медленными и расслабленн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«уронить» вперед – «уснули»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запрокинуть назад, покачать ею вправо-влево, опустить вниз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опустить вперед, а затем «уронить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омплекс активизирующих массажных движ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проводятся одновременно/попеременно обеими руками. Ладонь движется от ключицы, либо от подмышечных впадин вверх по боковой поверхности шеи к углам нижней челю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е начинается от области лопаток по заднебоковой поверхности шеи вверх к затыл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7785000" cy="1206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71468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огомассаж  входит в комплексную медико-педагогическую  систему реабилитации детей, подростков и взрослых, страдающих речевыми нарушениям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изартр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,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ислалия, алалия, афаз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инолал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;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Заика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Нарушение голоса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и д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Рисунок 3" descr="i.jpeg"/>
          <p:cNvPicPr/>
          <p:nvPr/>
        </p:nvPicPr>
        <p:blipFill>
          <a:blip r:embed="rId2"/>
          <a:stretch/>
        </p:blipFill>
        <p:spPr>
          <a:xfrm>
            <a:off x="5535720" y="3913200"/>
            <a:ext cx="32842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жнения для активизации и укрепления мышц ше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Правая рука специалиста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затылк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Ребенку предлагают отклони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при этом рука взрослого оказывает сопротивление, противодействие этому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затылочные мышц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б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Ребенку предлагают наклони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перед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в то время как рука взрослого оказывает сопротивление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ле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исочной част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оловы слева. Р. предлагают поверну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лево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а л. оказывает сопротивление этому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ле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височной части головы справа. Р. предлагают повернуть голову вправо, а л. оказывает противодействие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пра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271000" cy="1000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57120" y="128592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нный вид массажа рекомендуется при нарушениях голос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торожно захватив гортань большим пальцем с одной стороны и указательным и средним пальцами с другой, производить легкие ритмичные движения в поперечном направлении. В процессе массажа можно дать задание ребенку пропевать гласные зву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Рисунок 3" descr="i.jpeg"/>
          <p:cNvPicPr/>
          <p:nvPr/>
        </p:nvPicPr>
        <p:blipFill>
          <a:blip r:embed="rId2"/>
          <a:stretch/>
        </p:blipFill>
        <p:spPr>
          <a:xfrm>
            <a:off x="3786120" y="457200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3.Массаж лицевой мускул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нный вид массажа рекомендуют проводить двумя руками, всеми пальцами сразу (кроме большого), либо подушечкой большого или среднего пальца, либо двумя пальцами – средним и безымянным. Движения – симметричны и ритмичн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Направления массажных лини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середины лба к вис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внутреннего угла глаза по верхнему веку и в обратном направлении к нижнем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корня носа к височной обла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угла рта к козелку ушной раков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ассаж в области лба</a:t>
            </a:r>
            <a:br>
              <a:rPr sz="45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(воздействует на лобную и височную мышцы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49976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dd9"/>
                </a:solidFill>
                <a:uFillTx/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49976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dd9"/>
                </a:solidFill>
                <a:uFillTx/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000160"/>
            <a:ext cx="4040280" cy="4500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глаживание ладонной поверхностью всех пальцев в направлени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середины лба к височным областям. На висках – поглаживания в виде спирал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середины лба к козелку ушной раковины, заканчивая легким нажати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глаживание снизу вверх, от надбровных дуг к волосистой части голов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000160"/>
            <a:ext cx="4041720" cy="4500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тирание, т.е. полукружные или спиралевидные движения от средней линии лба к виск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минание, т.е. сжатие складки кожи 2-мя пальцами (б. и у.) или прерывистое надавлив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рывистая вибрация (пунктирование), подушечками указательного и ср. пальцев попеременно в быстром темп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857680" y="2858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ссаж в области л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4" descr="GV74ICAEMKDEMCAUITX6MCAFG7H9MCAA9VWMTCA96K2G7CAHP2PP8CA07EH6UCABQ9HTYCAD4394CCALCKIM3CAFNL9TSCAFP4VQ1CAQXW2PICAE68RK7CA7TBESOCAAU0MWMCAUYPWJICAXCLW4FCAFT7NI6.jpg"/>
          <p:cNvPicPr/>
          <p:nvPr/>
        </p:nvPicPr>
        <p:blipFill>
          <a:blip r:embed="rId2"/>
          <a:stretch/>
        </p:blipFill>
        <p:spPr>
          <a:xfrm>
            <a:off x="2050920" y="1413000"/>
            <a:ext cx="4714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cf9b"/>
                </a:solidFill>
                <a:latin typeface="Calibri"/>
              </a:rPr>
              <a:t>Массаж в области щек и подбород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ует 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о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ватель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одо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шцы и на м-ы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щие положение гу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ющая угол 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ющая угол 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ющая нижнюю губ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важным является воздействие на жевательные, крыловидные, височные м-ы, т.к. от них зависят качество движения нижней челюсти, положение рта в покое, функция же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i.jpeg"/>
          <p:cNvPicPr/>
          <p:nvPr/>
        </p:nvPicPr>
        <p:blipFill>
          <a:blip r:embed="rId1"/>
          <a:stretch/>
        </p:blipFill>
        <p:spPr>
          <a:xfrm>
            <a:off x="2071800" y="2428920"/>
            <a:ext cx="4929120" cy="38577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2428920" y="85716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ссаж в области щек и подбор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Массаж щек и подбородка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Расслабляющий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е пальцы рук располагаются под нижней губой, а остальные – под подбородком. Пальцы скользят от середины подбородка к височным впадинам, с фиксацией в углублениях у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. п. рук располагаются над верхней губой, ср.- под нижней, остальные – под подбородком. Движение – от середины губ к височным впадинам с фиксацией в углублениях у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всеми пальцами (кроме б.) начинается от спинки носа, проходит через скуловую дугу к ушным раковинам с фиксацией пальцев в углублениях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осуществляется 3-мя пальцами (указательный, средний, безымянный) рук от средней линии лба вниз через височные впадины к середине подбород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осущ. 3-мя пальцами (указательный, средний, безымянный) рук. Начинается от сер. подбородка в стороны к углам губ, а затем вверх по носогубным складкам, боковым поверхностям носа ч/з переносицу к середине лба и по лбу к височным впадинам, а затем вниз через щеки к середине подбород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потряхивание щек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Массаж щек и подбородка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Активизирующий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ое растирание в области щек проводится тыльной поверхностью концевой и средней фаланг 4-х пальцев в направлении от края нижней челюсти к краю скуловой к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круговое растирание осуществляется от середины подбородка вверх к нос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жевательной мышцы производят разминание спиралевидными движениями и круговое растир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льной поверхностью средних фаланг, сжатых в кулак, производят потряхивание щек в продольном и поперечном направлен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ывают в складку кожу щек м\у большим и указательным пальцами, легко сдавливают и отпускают, движение пощипы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ив кожу щек вместе с подкожными мышцами м/у большим и указательным пальцами, производят разминание в продольном/поперечном/кругов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лачивание подушечками пальцев производится непрерывно руками по массажным лин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 внутренней поверхности щеки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</a:t>
            </a:r>
            <a:r>
              <a:rPr b="0" i="1" lang="ru-RU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жеватель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щеч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скулов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крыловид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 проводится при положении пальцев логопеда внутри полости рта ребенк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ссаж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ще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 помещает большой палец правой руки в рот, остальные остаются снаружи. Массажные движения осуществляются большим пальцем по внутренней, а остальными пальцами – по наружной поверхности щек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ссаж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й ще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товую полость вводятся указательный и средний пальцы, большой палец находится на наружной поверхности щеки, осуществляя основные массажные движения. Массаж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. поверхности ще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оводиться при различном положении рта: открытом и широко открытом – при сомкнутых челюстях.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ри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тирание и размина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4200" y="2214720"/>
            <a:ext cx="8572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.м. может проводиться на всех этапах  логопедического коррекционн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реодолении артикуляторных нарушений л.м. проводится наряду с  пассивной, пассивно-активной и активной артикуляционной гимнасти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формировании речевого дыхания, голоса, норм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оционального  состояния м. может использоваться в комплексе  с традиционными логопедическими или релаксационны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ассажные прием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ые движения по щеке от периферии к центру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евидное  растирание и разминание подушечками пальцев по круг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ание круговыми движениями и перетирание в области жевательной мышц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рающие движения от скуловой кости вниз к углу рта. Пальцы располагаются у края скуловой кости. Большой палец – с внутренней стороны ще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рающие движения. Все пальцы, кроме большого, располагаются в области козелка и мочки уха, направляясь к углу р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евидное растирание области височно-нижнечелюстного (скулового) сустава. В положении открытого рта найти «ямку» у мочки уха. Массировать область «ямки». Движение осуществляется указательным и средним пальцами. Большой палец служит в качестве опоры с внутренней стороны ще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гимнас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dd9"/>
                </a:solidFill>
                <a:latin typeface="Constantia"/>
              </a:rPr>
              <a:t>ПАСС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nstantia"/>
              </a:rPr>
              <a:t>АКТ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solidFill>
            <a:srgbClr val="b3eaf2"/>
          </a:solidFill>
          <a:ln w="9360">
            <a:solidFill>
              <a:srgbClr val="ff0000"/>
            </a:solidFill>
            <a:prstDash val="lgDashDotDot"/>
            <a:miter/>
          </a:ln>
        </p:spPr>
        <p:txBody>
          <a:bodyPr t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гка наклонить голову ребенка вперед, что приводит к непроизвольному закрыванию рт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кинуть голову назад, что вызывает приоткрывание р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solidFill>
            <a:srgbClr val="b3eaf2"/>
          </a:solidFill>
          <a:ln w="9360">
            <a:solidFill>
              <a:srgbClr val="ff0000"/>
            </a:solidFill>
            <a:prstDash val="lgDashDotDot"/>
            <a:miter/>
          </a:ln>
        </p:spPr>
        <p:txBody>
          <a:bodyPr tIns="0" anchor="t">
            <a:normAutofit/>
          </a:bodyPr>
          <a:p>
            <a:pPr marL="457200" indent="-45720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епроизвольное «зевание», которое вызывается по подражанию, а затем имитируется по словесной инструкц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76280" y="438120"/>
            <a:ext cx="7966080" cy="1122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3160" y="1785600"/>
            <a:ext cx="7854840" cy="3786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оказывает воздействие на круговую мышцу рта, а также мышцы, изменяющие положение р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 смех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поднимающую угол р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опускающую мышцу р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опускающую нижнюю губ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проводится ладонной поверхностью, подушечками пальце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саж мышц губ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21392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43040"/>
            <a:ext cx="4040280" cy="4718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ющие движения по верхней губе от углов рта к середин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о нижней губ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чередные движения правой/левой рукой, от козелка ушной раковины, по щеке, затем вокруг губ. При этом указат.палец скользит по коже верхней губы, ср.- по коже нижней губы, сходясь вместе у противоположного угла рт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носогубных складок, движение от крыльев носа к углам рт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постукивание вокруг губ по часовой стрелке. Массажные движения при различных положениях рта: закрытом/слегка приоткрытом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45080" y="1643040"/>
            <a:ext cx="4284720" cy="4718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ижения по верхней губе от углов рта к середине. Также по нижней губ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льцами обоих рук движения от середины верхней губы к углам рта и слегка вниз, затем от середины нижней губы к углам рта и слегка вверх. Движения чередуютс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глаживают носогубные складк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альцами захватывают в вертикальную складку верхнюю /нижнюю губу, сжимают ее и перетирают м/у пальцами. Захват – в центр. части губы. Также перетирают носогубные складк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хватывают кожу вокруг губ и осуществляют прием пощипывани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Интенсивно постукивают вокруг губ и пр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" descr="7FPKQCA8B19AVCAAPBETUCA6UPEKMCAWN5WATCAILBI6ECA6UBRI1CA9USN3UCAE2WMDMCA5GE76YCAWAYNQWCA253VHKCA112PTTCA21813DCA5BIT5JCAZFQAFECA1YS030CA7YR2T8CAU4H69OCAXKCNQT.jpg"/>
          <p:cNvPicPr/>
          <p:nvPr/>
        </p:nvPicPr>
        <p:blipFill>
          <a:blip r:embed="rId1"/>
          <a:stretch/>
        </p:blipFill>
        <p:spPr>
          <a:xfrm>
            <a:off x="2571840" y="2071800"/>
            <a:ext cx="4214880" cy="39290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2"/>
          <p:cNvSpPr/>
          <p:nvPr/>
        </p:nvSpPr>
        <p:spPr>
          <a:xfrm>
            <a:off x="3286080" y="7142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 мышц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512640" y="285840"/>
            <a:ext cx="7802640" cy="768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0280" y="1428480"/>
            <a:ext cx="811368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рушение мышечного тонуса всегда в большей степени выражено в мышцах языка. Чаще отмечается повышенный тонус. Возможны случаи и неравномерное распределение тонус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языка требует от логопеда предельной точности движений, аккуратности и коррек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Методические указания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мышц языка проводится в резиновых перчатк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пользуются различные приспособления: зонды, шпатели, зубные щет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языка как правило проводится при положении языка вне полости рт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ные движения должны проводиться в трех направлениях: горизонтальном, поперечном, вертикально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Если язык отклоняется в сторону при высовывании его вперед, то акцент  нужно делать на ту сторону, в которую язык отклоняетс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321760" cy="5432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428760" y="107172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ть расслабление мышц языка нужно проводить только после расслабления других мышц (шеи, плечевого пояса, мышц, обеспечивающих движение нижней челюсти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вижения в расслабляющем массаже в основном направлены от кончика к корню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началом массажа устанавливается «граница» небно-глоточного рефлек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выраженной спастичности перед началом массажа подержать во рту теплый настой трав (зверобой, ромаш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выраженной спастичности мышц, массаж языка начинают вне полости 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расслабляющим массажем целесообразно провести специальные упражнения, для расслабления корня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извести массаж и вибрацию точек, находящихся под обоими углами нижней челю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извести легкие вибрирующие движения в области подчелюстной ям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хватить кончик языка правой рукой. Совершать легкие покачивающие движения из стороны в стор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хватить кончик языка правой рукой. Движения вперед-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85840" y="420840"/>
            <a:ext cx="8650080" cy="65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"/>
          <p:cNvSpPr/>
          <p:nvPr/>
        </p:nvSpPr>
        <p:spPr>
          <a:xfrm>
            <a:off x="642960" y="1357200"/>
            <a:ext cx="7929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каз.пальцем пр. руки производят поглаживающие движения с одной стороны, затем с др., от кончика к корню и обрат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глаживающие движения большим и указательным  пальцами из стороны, в сторону, от кончика к корн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. и указ. Пальцы находятся на боковых поверхностях языка – справа и слева. Поглаживания от кончика к корн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Легкое разминание мышц в горизонтальном направлении, от кончика к корню, без нажим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ез надавливания производят круговые растирающие движ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хватив кончик языка пр. рукой, производят легкое потряхивани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7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елают легкое похлопывание языка и легкие ритмичные надавливания шпателе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8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вернуть язык вправо и слегка потянуть его, как бы потягивая кнаружи корневую часть языка. Также в левую сторон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9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дтянуть язык вперед, как бы слегка «накручивая» его на указательный палец, а затем осторожно совершать обратное движение. Выполнять медленно, с небольшой амплитуд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07880" y="133200"/>
            <a:ext cx="8723520" cy="946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642960" y="1143000"/>
            <a:ext cx="79297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братите внима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я должны быть активные, интенсивные, направлены от корня к кончику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мы – разминание и перетир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движения даже в области корня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ные движения выполняются на пораженной ст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и во время массажа просить ребенка сглатывать слюну, из-за гиперсали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38120" y="304920"/>
            <a:ext cx="8267760" cy="1255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тирание в горизонтальном направлении, от корня к кончику с двух сторо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иралевидное перетирание языка, сила давления увеличивается, движения от корня к кончик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тирание мышц языка в поперечном направлении с двух сторо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жать язык с боковых поверхностей и удерживать 1-2 с, несколько переместить пальцы и повторить движе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. рукой сжать язык с боковых поверхностей, осуществлять перетирающие движения, двигаясь от корня к кончику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щипывающие движения по краю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хлопывание мышц языка шпателе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ь вибрацию языка с помощью деревянного шпателя, который накладывается на кончик языка в теч. 10-15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318240" y="2500200"/>
            <a:ext cx="873504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огопе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фекто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дицинский работ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рошедшие  специальную подготовку и имеющие сертиф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о логопедическому масса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http://dvemamy.ru/wp-content/uploads/2012/05/logopedicheskij-massazh-01.jpg"/>
          <p:cNvPicPr/>
          <p:nvPr/>
        </p:nvPicPr>
        <p:blipFill>
          <a:blip r:embed="rId2"/>
          <a:stretch/>
        </p:blipFill>
        <p:spPr>
          <a:xfrm>
            <a:off x="5508720" y="2924280"/>
            <a:ext cx="2857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ESCYMCAZIBDC5CAEU0K1TCA2618WBCAQVPZDHCAKZNN2ZCAZC6ACCCAKVMENNCAK5OSLECA1AF9BUCADS5NNFCA6AH5F2CAN6ZND9CA1BW8EGCAIPL1V1CASURQO4CA8Q8QLACAIVSHKQCAPA2FTMCAOZMLWW.jpg"/>
          <p:cNvPicPr/>
          <p:nvPr/>
        </p:nvPicPr>
        <p:blipFill>
          <a:blip r:embed="rId2"/>
          <a:stretch/>
        </p:blipFill>
        <p:spPr>
          <a:xfrm rot="20292000">
            <a:off x="5714640" y="1143000"/>
            <a:ext cx="2500200" cy="2127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3" descr="JEHJ0CAX9JB2ICACIGJ8JCAYLQL0PCA2FEA69CAC301V1CAW7803HCAU9BZWGCAWPYUA8CAGGEW5XCATEQ190CAN36MNICAAGFIFPCALZ84MSCAA6BQGYCAHE72KPCAFB0058CA7VD7WMCA2SNE81CAKJ2W3J.jpg"/>
          <p:cNvPicPr/>
          <p:nvPr/>
        </p:nvPicPr>
        <p:blipFill>
          <a:blip r:embed="rId3"/>
          <a:stretch/>
        </p:blipFill>
        <p:spPr>
          <a:xfrm rot="20553600">
            <a:off x="5643720" y="3929040"/>
            <a:ext cx="3071520" cy="25718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UBT5VCAI9IBH7CAFFFKMICA9GXT5HCASGEALHCA0KMD6UCA3OWSWGCAC54I2ECARMGYTDCA6Q0ROTCAD8S069CA4H2ED6CAPZJPS8CAHK04D9CANPBQ1ACAF5V5WGCAI833G3CAZESYJSCACVKPF3CA6T0M74.jpg"/>
          <p:cNvPicPr/>
          <p:nvPr/>
        </p:nvPicPr>
        <p:blipFill>
          <a:blip r:embed="rId4"/>
          <a:stretch/>
        </p:blipFill>
        <p:spPr>
          <a:xfrm rot="781200">
            <a:off x="1428480" y="85680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WENTICA4ZA0NHCAW6E4E7CAF5AVZ9CASGMGNXCAXCYBUYCA272ZRPCAOF9VCCCAGYE0J3CAZ5H6H5CAXAU0Q6CAI56KZACA8DKZAPCAQBZQOBCARHK03NCAS3461SCAXQSTSDCA18RRLPCA944FU9CAOKA8GH.jpg"/>
          <p:cNvPicPr/>
          <p:nvPr/>
        </p:nvPicPr>
        <p:blipFill>
          <a:blip r:embed="rId5"/>
          <a:stretch/>
        </p:blipFill>
        <p:spPr>
          <a:xfrm rot="682800">
            <a:off x="1142640" y="392904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2915640" y="35712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ассаж мышц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311040" y="353880"/>
            <a:ext cx="8278920" cy="7732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3160" y="150012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 на активизацию тонуса мышц мягкого неба и повышение небно-глоточного рефлекса. Основным показателем для данного массажа являетс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альный оттенок голос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Данные движения используются только при пониженном тонусе мышц мягкого неб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рекомендаци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ное воздействие направлено также на язычно-небные и глоточно-небные дуж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необходимо сочетать с пассивной и активной гимнастикой, для стимуляции небных и глоточных мышц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ные движения совершают большим или указательным пальцем правой ру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671544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ственно массаж мягкого неб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глаживающие, растирающие, разминающие и ввинчивающие движения от твердого неба к увули по всей поверх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глаживающие, разминающие, растирающие движения справа налево, захватывающие язычно-небные дуж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давливающие движения по всей поверхности мягкого неба в продольном и поперечн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сим произнести зву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тельно. В это время производить растирающие и разминающие спиралевидные движения в поперечном и продольн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сим произнести звук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, отрывисто, используя твердую атаку звука. В это время осуществлять толчковые движения большим пальцем в области мягкого неба и небно-язычных ду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8466120" cy="1152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8113680" cy="51436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Шпателем вызвать рефлекторное сокращение мышц задней стенки глотки и мягкого неб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Имитировать жевание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ить воду маленькими глоткам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кашлива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зевыва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Многократно произносить гласные а, э на твердой атаке голос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лоскать горло маленькими порциями теплой воды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8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лезно использовать упражнения с </a:t>
            </a:r>
            <a:r>
              <a:rPr b="0" i="1" lang="ru-RU" sz="2200" spc="-1" strike="noStrike">
                <a:solidFill>
                  <a:srgbClr val="002060"/>
                </a:solidFill>
                <a:latin typeface="Constantia"/>
              </a:rPr>
              <a:t>преодолением сопротивления,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эти упражнения активизируют работу небно-гортанно-глоточных мышц, усиливают небно-глоточное смык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26320" cy="6289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714240" y="157176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кладет руку на лоб ребенка и дает инструкцию опустить голову вниз. Ребенок опускает голову вниз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держит руку на затылке ребенка и просит его запрокинуть голову назад. Ребенок запрокидывает голову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, расположив руку под челюстью ребенка, просит его открыть рот. Ребенок открывает рот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предлагается высунуть язык, а затем постараться втянуть его внутрь. Логопед пытается удержать язык ребенка вне полости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517680" y="212760"/>
            <a:ext cx="7877160" cy="768240"/>
          </a:xfrm>
          <a:prstGeom prst="rect">
            <a:avLst/>
          </a:prstGeom>
          <a:ln w="0">
            <a:noFill/>
          </a:ln>
        </p:spPr>
      </p:pic>
      <p:grpSp>
        <p:nvGrpSpPr>
          <p:cNvPr id="376" name="Подзаголовок 2"/>
          <p:cNvGrpSpPr/>
          <p:nvPr/>
        </p:nvGrpSpPr>
        <p:grpSpPr>
          <a:xfrm>
            <a:off x="530280" y="1566720"/>
            <a:ext cx="8047080" cy="4937400"/>
            <a:chOff x="530280" y="1566720"/>
            <a:chExt cx="8047080" cy="4937400"/>
          </a:xfrm>
        </p:grpSpPr>
        <p:pic>
          <p:nvPicPr>
            <p:cNvPr id="377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530280" y="1566720"/>
              <a:ext cx="8047080" cy="493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33520" y="1571760"/>
              <a:ext cx="803916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уздечка </a:t>
              </a:r>
              <a:r>
                <a:rPr b="1" i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корочена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ибегают к массажным      движениям, способствующим ее растяжению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им и указательным пальцами левой руки, взявшись за кончик языка, поднять его вверх. Рот при этом раскрыт. Указательным и большим пальцами правой руки растягивающим движением скользить по уздечке языка снизу вверх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2" descr="UEYOYCAQINRISCAP8LOV9CAWR24QXCA8Q92EQCA7J7D3TCAF77U62CAX13QHKCABMGE07CAK76KZECAIRXBRLCACDDVHJCAR1M525CAJSRSUWCAD1HPKCCAVGEFB8CAR7SE2CCAHG7PDQCAFY20WHCA11H349.jpg"/>
          <p:cNvPicPr/>
          <p:nvPr/>
        </p:nvPicPr>
        <p:blipFill>
          <a:blip r:embed="rId2"/>
          <a:stretch/>
        </p:blipFill>
        <p:spPr>
          <a:xfrm>
            <a:off x="2714760" y="2714760"/>
            <a:ext cx="4572000" cy="3267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2428920" y="6429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дечка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solidFill>
            <a:srgbClr val="5ef0f7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саж слизистой оболочки десен и твердого неб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ый массаж рекомендуется при слабости кинестетических ощущ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ребенка открыт. Большой палец расположен на внешней стороне верхней десны, а указательный – на внутренней стороне. Энергично нажимая на десны, производить движения справа налево, а затем слева направо сначала по верхней, а потом также по нижней десн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или указательным пальцем энергично проводить по твердому небу, начиная от передних верхних зубов, по направлению к мягкому небу до границы с мягким небом и обрат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рументальные методы воздействия в логопедическом массаж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пособ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ажные и постановочные зонды;  зондозаменител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онды, предложенные Е.В. Новиково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шпатели; шпатели « Эйра», «Юнон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бромассажёры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ажные ролики; массажные лож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ссажер для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ппарат « Денос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вижени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ризонтально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нчика к корню языка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тикаль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рня к кончику языка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перечное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справа налево и обратно по каждой половине язы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. след. слай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PKTJZCA45J7D6CAEVZ0RICAY4SO34CAM7RSSPCA970W74CA2O2YSMCA0F43K6CA5EV69BCAKQF4MNCA70U74RCAY7KHK2CARK02U3CAN5IHPWCATGLG92CA985DYACA04JSPGCAVGYAA1CAV9XINDCAG955WL.jpg"/>
          <p:cNvPicPr/>
          <p:nvPr/>
        </p:nvPicPr>
        <p:blipFill>
          <a:blip r:embed="rId1"/>
          <a:stretch/>
        </p:blipFill>
        <p:spPr>
          <a:xfrm>
            <a:off x="357120" y="71424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2" descr="9BKUHCAR1XS7LCA8K9MEVCAJWDIFBCAFZ5983CAD6UMRGCAZ0O51DCAM00LFVCABGMK4OCA7JNLHGCAG538U1CAVPMY4SCA3E9N5PCAUVTRO6CA4HEWJDCALQBZ6CCAMZ6MXMCA4SHAOMCAO6CHUZCA4HY11A.jpg"/>
          <p:cNvPicPr/>
          <p:nvPr/>
        </p:nvPicPr>
        <p:blipFill>
          <a:blip r:embed="rId2"/>
          <a:stretch/>
        </p:blipFill>
        <p:spPr>
          <a:xfrm>
            <a:off x="5643720" y="64296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480600" y="321480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танов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5883120" y="3500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ссажер для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3343320" y="4429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убная щ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6781680" y="628668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патель « Эй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://t1.gstatic.com/images?q=tbn:ANd9GcTlUmBVt6mhyKjKucyv7rTB3hqlxo9E6D1-2DTQfFbTzB33Qf9IKDuKfA"/>
          <p:cNvPicPr/>
          <p:nvPr/>
        </p:nvPicPr>
        <p:blipFill>
          <a:blip r:embed="rId3"/>
          <a:stretch/>
        </p:blipFill>
        <p:spPr>
          <a:xfrm>
            <a:off x="755640" y="5373720"/>
            <a:ext cx="1211400" cy="785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http://images.ua.prom.st/28797251_w640_h640_cid239667_pid3460045-8f377af0.jpg"/>
          <p:cNvPicPr/>
          <p:nvPr/>
        </p:nvPicPr>
        <p:blipFill>
          <a:blip r:embed="rId4"/>
          <a:stretch/>
        </p:blipFill>
        <p:spPr>
          <a:xfrm>
            <a:off x="6516720" y="5445000"/>
            <a:ext cx="1714320" cy="476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www.zondov.ru/data/big/$_12.jpg"/>
          <p:cNvPicPr/>
          <p:nvPr/>
        </p:nvPicPr>
        <p:blipFill>
          <a:blip r:embed="rId5"/>
          <a:stretch/>
        </p:blipFill>
        <p:spPr>
          <a:xfrm>
            <a:off x="2556000" y="3213000"/>
            <a:ext cx="3381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5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46160" y="133200"/>
            <a:ext cx="8680320" cy="800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357120" y="100008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азывает благоприятное физиологическое воздействие на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ртикуля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няется общая нервная возбудимость, оживляются утраченные/сниженные  рефлек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лучшается секреторная функция кожи, активизируется ее лимф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ообращение, т.е. улучшается ее питание, повышает обменн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лагоприятные изменения во всей сосудистой сис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лучшает функцию лимфатических сосу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азывает благоприятное воздействие на мышечн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ивает подвижность и эластичность  речевого связоч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23800" y="176040"/>
            <a:ext cx="7785000" cy="159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При легко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едленном поглаживан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нижается возбудимость массируемых тканей (это оказывает успокаивающее воздействие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При энергичных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быстрых движениях – повышается раздражимость массируемых ткан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Рисунок 3" descr="i.jpeg"/>
          <p:cNvPicPr/>
          <p:nvPr/>
        </p:nvPicPr>
        <p:blipFill>
          <a:blip r:embed="rId2"/>
          <a:stretch/>
        </p:blipFill>
        <p:spPr>
          <a:xfrm>
            <a:off x="5940360" y="4365720"/>
            <a:ext cx="2857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46160" y="36360"/>
            <a:ext cx="8162640" cy="1597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0280" y="17859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ализация мышечного тонуса общей, мимической и артикуляционной мускулатур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ньшение проявления парезов и параличей мышц артикуляционного аппарат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ижение патологических двигательных проявлений мышц речевого аппарата (синкинезии, гиперкинезы, судороги и т.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имуляция проприоцептивных ощуще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ение объема и амплитуды артикуляционных движе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изация тех групп мышц периферического речевого аппарата, у которых имелась недостаточная сократительная актив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произвольных, координированных движений органов артикуля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85840" y="60480"/>
            <a:ext cx="8248680" cy="927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0280" y="1285920"/>
            <a:ext cx="818496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!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Перед проведением л/м. необходимо заключение невропатолога и/или педиатра об отсутствии противопоказан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ежде чем приступить к коррекционной работе, логопед должен определить форму и структуру речевого дефекта, а также провести  самостоятельную диагностику состояния </a:t>
            </a:r>
            <a:r>
              <a:rPr b="0" lang="ru-RU" sz="2200" spc="-1" strike="noStrike" u="sng">
                <a:solidFill>
                  <a:srgbClr val="ffc000"/>
                </a:solidFill>
                <a:uFillTx/>
                <a:latin typeface="Constantia"/>
              </a:rPr>
              <a:t>мышц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Верхней половины туловищ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Ше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Мимически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Артикуляционны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7000920" y="4214880"/>
            <a:ext cx="1643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01:07Z</dcterms:created>
  <dc:creator>Алинка</dc:creator>
  <dc:description/>
  <dc:language>en-US</dc:language>
  <cp:lastModifiedBy>Admin</cp:lastModifiedBy>
  <dcterms:modified xsi:type="dcterms:W3CDTF">2023-06-10T15:27:09Z</dcterms:modified>
  <cp:revision>199</cp:revision>
  <dc:subject/>
  <dc:title>Логопедический массаж</dc:title>
</cp:coreProperties>
</file>