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2F8E-B98C-49E5-84C1-86D228D962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ABAB-6142-481E-9084-9B25DCF140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6658-01E1-410B-99BA-3CF196E290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6F2-21E2-4F65-A8C6-B758A738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F3B-4AEC-4B59-83DF-6432FC07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DE1-7C3C-4B96-B24D-4AD26304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52C-1490-4589-9C21-05900833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FB10-4B2A-4177-B8B6-7FED6569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5E9-E565-4505-89AF-EAFD9381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989-E280-4AF5-BEF8-1F2C5444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23D-1F7F-4195-9B4F-D096CDC0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8DA-E97F-4FE6-9928-94FA6BB7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81F-3069-4C4E-9E72-27A279D6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AAD-2145-468B-8822-E93CB3B3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5E8-6403-4C1B-BEF3-D3608AF4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18"/>
            </a:gs>
            <a:gs pos="50000">
              <a:srgbClr val="33cc33"/>
            </a:gs>
            <a:gs pos="100000">
              <a:srgbClr val="185e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F6D2-F8D9-4774-93AB-A911CF4FEF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4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рок окружающего мира, 4 класс,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МК «Школа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осси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ИРОДНОЕ СООБЩЕСТВ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ЛЕ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635280" y="4581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5002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Богатырь стоит богат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угощает всех ребя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Ваню – землянико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Таню - костянико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Машеньку –орешко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Comic Sans MS"/>
              </a:rPr>
              <a:t>Петю – сыроеж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029"/>
          <p:cNvPicPr/>
          <p:nvPr/>
        </p:nvPicPr>
        <p:blipFill>
          <a:blip r:embed="rId1"/>
          <a:stretch/>
        </p:blipFill>
        <p:spPr>
          <a:xfrm>
            <a:off x="5724360" y="333360"/>
            <a:ext cx="2641680" cy="1981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53" name="Picture 7" descr="107"/>
          <p:cNvPicPr/>
          <p:nvPr/>
        </p:nvPicPr>
        <p:blipFill>
          <a:blip r:embed="rId2"/>
          <a:stretch/>
        </p:blipFill>
        <p:spPr>
          <a:xfrm>
            <a:off x="5796000" y="3716280"/>
            <a:ext cx="2436840" cy="2475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503"/>
          <p:cNvPicPr/>
          <p:nvPr/>
        </p:nvPicPr>
        <p:blipFill>
          <a:blip r:embed="rId1"/>
          <a:stretch/>
        </p:blipFill>
        <p:spPr>
          <a:xfrm>
            <a:off x="2556000" y="0"/>
            <a:ext cx="4321080" cy="33847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55" name="AutoShape 11"/>
          <p:cNvSpPr/>
          <p:nvPr/>
        </p:nvSpPr>
        <p:spPr>
          <a:xfrm>
            <a:off x="1908000" y="1197000"/>
            <a:ext cx="503280" cy="431640"/>
          </a:xfrm>
          <a:prstGeom prst="leftArrow">
            <a:avLst>
              <a:gd name="adj1" fmla="val 50000"/>
              <a:gd name="adj2" fmla="val 29149"/>
            </a:avLst>
          </a:prstGeom>
          <a:solidFill>
            <a:srgbClr val="9900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324000" y="907920"/>
            <a:ext cx="1511280" cy="13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7524720" y="907920"/>
            <a:ext cx="1441440" cy="13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95280" y="4724280"/>
            <a:ext cx="1873080" cy="129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3348000" y="4653000"/>
            <a:ext cx="266400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6877080" y="4653000"/>
            <a:ext cx="1798560" cy="129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7"/>
          <p:cNvSpPr/>
          <p:nvPr/>
        </p:nvSpPr>
        <p:spPr>
          <a:xfrm rot="18988800">
            <a:off x="1619280" y="3789000"/>
            <a:ext cx="882720" cy="431640"/>
          </a:xfrm>
          <a:prstGeom prst="leftArrow">
            <a:avLst>
              <a:gd name="adj1" fmla="val 50000"/>
              <a:gd name="adj2" fmla="val 51126"/>
            </a:avLst>
          </a:prstGeom>
          <a:solidFill>
            <a:srgbClr val="9900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8"/>
          <p:cNvSpPr/>
          <p:nvPr/>
        </p:nvSpPr>
        <p:spPr>
          <a:xfrm rot="16200000">
            <a:off x="4283640" y="3933000"/>
            <a:ext cx="719280" cy="431640"/>
          </a:xfrm>
          <a:prstGeom prst="leftArrow">
            <a:avLst>
              <a:gd name="adj1" fmla="val 50000"/>
              <a:gd name="adj2" fmla="val 41660"/>
            </a:avLst>
          </a:prstGeom>
          <a:solidFill>
            <a:srgbClr val="9900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9"/>
          <p:cNvSpPr/>
          <p:nvPr/>
        </p:nvSpPr>
        <p:spPr>
          <a:xfrm rot="13758600">
            <a:off x="6802920" y="3932280"/>
            <a:ext cx="865080" cy="431640"/>
          </a:xfrm>
          <a:prstGeom prst="leftArrow">
            <a:avLst>
              <a:gd name="adj1" fmla="val 50000"/>
              <a:gd name="adj2" fmla="val 50104"/>
            </a:avLst>
          </a:prstGeom>
          <a:solidFill>
            <a:srgbClr val="9900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0"/>
          <p:cNvSpPr/>
          <p:nvPr/>
        </p:nvSpPr>
        <p:spPr>
          <a:xfrm rot="10800000">
            <a:off x="6948360" y="1196640"/>
            <a:ext cx="432000" cy="431640"/>
          </a:xfrm>
          <a:prstGeom prst="leftArrow">
            <a:avLst>
              <a:gd name="adj1" fmla="val 50000"/>
              <a:gd name="adj2" fmla="val 25021"/>
            </a:avLst>
          </a:prstGeom>
          <a:solidFill>
            <a:srgbClr val="9900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324000" y="1125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чник древесин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611280" y="486900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то отдыха для челове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3348000" y="4365720"/>
            <a:ext cx="273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чник грибов, ягод, лекарственных растен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59636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м для животны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164360" y="4941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ник воздух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2920" y="1989000"/>
            <a:ext cx="129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Ярусы ле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39640" y="620640"/>
            <a:ext cx="1295640" cy="5639040"/>
          </a:xfrm>
          <a:prstGeom prst="rect">
            <a:avLst/>
          </a:prstGeom>
          <a:solidFill>
            <a:srgbClr val="ffff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700360" y="2924280"/>
            <a:ext cx="1219320" cy="335268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800600" y="4343400"/>
            <a:ext cx="990720" cy="1981080"/>
          </a:xfrm>
          <a:prstGeom prst="rect">
            <a:avLst/>
          </a:prstGeom>
          <a:solidFill>
            <a:srgbClr val="ffff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6477120" y="5105520"/>
            <a:ext cx="2209680" cy="1066680"/>
          </a:xfrm>
          <a:prstGeom prst="rect">
            <a:avLst/>
          </a:prstGeom>
          <a:solidFill>
            <a:srgbClr val="ffff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838080" y="1371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деревь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89548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кустарни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87692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Трав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705720" y="518148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Мхи, лишайники,гриб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3"/>
          <p:cNvSpPr/>
          <p:nvPr/>
        </p:nvSpPr>
        <p:spPr>
          <a:xfrm>
            <a:off x="2057400" y="51814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4"/>
          <p:cNvSpPr/>
          <p:nvPr/>
        </p:nvSpPr>
        <p:spPr>
          <a:xfrm>
            <a:off x="4114800" y="5257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5943600" y="5334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заимосвязь организм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"/>
          <p:cNvSpPr/>
          <p:nvPr/>
        </p:nvSpPr>
        <p:spPr>
          <a:xfrm>
            <a:off x="324000" y="2637000"/>
            <a:ext cx="1942920" cy="1871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"/>
          <p:cNvSpPr/>
          <p:nvPr/>
        </p:nvSpPr>
        <p:spPr>
          <a:xfrm>
            <a:off x="3635280" y="1413000"/>
            <a:ext cx="1943280" cy="1871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732720" y="2421000"/>
            <a:ext cx="1942920" cy="1871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7"/>
          <p:cNvSpPr/>
          <p:nvPr/>
        </p:nvSpPr>
        <p:spPr>
          <a:xfrm>
            <a:off x="5003640" y="4508640"/>
            <a:ext cx="2016360" cy="1871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8"/>
          <p:cNvSpPr/>
          <p:nvPr/>
        </p:nvSpPr>
        <p:spPr>
          <a:xfrm>
            <a:off x="2050920" y="4437000"/>
            <a:ext cx="1943280" cy="1871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32846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219640" y="494172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кр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м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979640" y="49417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неральные сол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3"/>
          <p:cNvSpPr/>
          <p:nvPr/>
        </p:nvSpPr>
        <p:spPr>
          <a:xfrm rot="20046000">
            <a:off x="2556000" y="213336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 rot="1623600">
            <a:off x="6084720" y="2060280"/>
            <a:ext cx="632160" cy="439560"/>
          </a:xfrm>
          <a:prstGeom prst="rightArrow">
            <a:avLst>
              <a:gd name="adj1" fmla="val 50000"/>
              <a:gd name="adj2" fmla="val 35954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5"/>
          <p:cNvSpPr/>
          <p:nvPr/>
        </p:nvSpPr>
        <p:spPr>
          <a:xfrm rot="2464800">
            <a:off x="7300440" y="4435560"/>
            <a:ext cx="432000" cy="5760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4140360" y="5229360"/>
            <a:ext cx="576000" cy="431640"/>
          </a:xfrm>
          <a:prstGeom prst="leftArrow">
            <a:avLst>
              <a:gd name="adj1" fmla="val 50000"/>
              <a:gd name="adj2" fmla="val 3336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7"/>
          <p:cNvSpPr/>
          <p:nvPr/>
        </p:nvSpPr>
        <p:spPr>
          <a:xfrm rot="2398800">
            <a:off x="1186920" y="4723920"/>
            <a:ext cx="648000" cy="503280"/>
          </a:xfrm>
          <a:prstGeom prst="leftArrow">
            <a:avLst>
              <a:gd name="adj1" fmla="val 50000"/>
              <a:gd name="adj2" fmla="val 32189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851280" y="2205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7020000" y="3213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1628640"/>
            <a:ext cx="90360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Знать: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1. Название организмо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составляющих природное сообщество- ле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2. Ярусы л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Уметь: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1. Различать растения и животных,                             характерные для л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2. Устанавливать взаимосвязь в природ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3. Бережно относиться к окружающему              ми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88400" y="4473000"/>
            <a:ext cx="7639920" cy="122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Горизонтальный свиток 4" descr=""/>
          <p:cNvPicPr/>
          <p:nvPr/>
        </p:nvPicPr>
        <p:blipFill>
          <a:blip r:embed="rId1"/>
          <a:stretch/>
        </p:blipFill>
        <p:spPr>
          <a:xfrm>
            <a:off x="828720" y="1700280"/>
            <a:ext cx="7205760" cy="2354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1:53:10Z</dcterms:created>
  <dc:creator>User</dc:creator>
  <dc:description/>
  <dc:language>en-US</dc:language>
  <cp:lastModifiedBy>Admin</cp:lastModifiedBy>
  <dcterms:modified xsi:type="dcterms:W3CDTF">2023-06-11T16:44:35Z</dcterms:modified>
  <cp:revision>46</cp:revision>
  <dc:subject/>
  <dc:title>Презентация PowerPoint</dc:title>
</cp:coreProperties>
</file>