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31F-F8F5-4E8C-8BA3-10294287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4E7-9F51-4FA3-857E-06505E3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231-526D-4B4D-BB24-DF1C21A8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94A-1CEF-40AD-8D5D-E5C3A702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33BD-5A7D-4488-9280-1BA099E4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5A49-78A2-4CB9-97E0-59B73B00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3773-7557-4548-9CDA-E394C29C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D6E1-F66F-41BC-A379-BE25DB7B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03BA-F62A-486C-8611-00090B5F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0B66-EE17-4345-BDE6-B9B0EF6A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3B4F-B1DA-4A94-84CD-DF04074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0BD-60F1-46AD-BC31-60095438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A074-7C2A-4823-ADCB-8124003D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92CC-F6AF-4470-BFE6-480D0CF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A74A-BF4F-4586-AE79-678C8B8B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6839-808D-4BCE-B768-A90C08AE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A090-03BA-4E0F-92FF-60FBA721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AA6-3C2C-4595-B740-674C249A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429-EAE4-4298-9DA8-B6B43DDD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04B-A945-4F7A-B9A4-6F8CA4D7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3D2-7F54-4A34-A458-DFD73359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30B-5137-4A7E-AEE4-271D065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4CF-B05C-4398-B786-5C7C26B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957-C283-4DA1-9058-774A523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/>
          <p:cNvSpPr/>
          <p:nvPr/>
        </p:nvSpPr>
        <p:spPr>
          <a:xfrm>
            <a:off x="467640" y="332640"/>
            <a:ext cx="8208720" cy="60483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2" descr="http://belgdb.ru/assets/templates/project/victorina_book/img/01.png"/>
          <p:cNvPicPr/>
          <p:nvPr/>
        </p:nvPicPr>
        <p:blipFill>
          <a:blip r:embed="rId2"/>
          <a:stretch/>
        </p:blipFill>
        <p:spPr>
          <a:xfrm>
            <a:off x="0" y="4546080"/>
            <a:ext cx="2857320" cy="229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95485C-6818-4FE4-8622-10D72DC3323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http://rudocs.exdat.com/pars_docs/tw_refs/457/456283/456283_html_5c942c8c.png"/>
          <p:cNvPicPr/>
          <p:nvPr/>
        </p:nvPicPr>
        <p:blipFill>
          <a:blip r:embed="rId3"/>
          <a:stretch/>
        </p:blipFill>
        <p:spPr>
          <a:xfrm>
            <a:off x="6876360" y="332640"/>
            <a:ext cx="1804320" cy="195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с двумя скругленными противолежащими углами 6"/>
          <p:cNvSpPr/>
          <p:nvPr/>
        </p:nvSpPr>
        <p:spPr>
          <a:xfrm>
            <a:off x="467640" y="332640"/>
            <a:ext cx="8208720" cy="60483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5" name="Picture 2" descr="http://belgdb.ru/assets/templates/project/victorina_book/img/01.png"/>
          <p:cNvPicPr/>
          <p:nvPr/>
        </p:nvPicPr>
        <p:blipFill>
          <a:blip r:embed="rId2"/>
          <a:stretch/>
        </p:blipFill>
        <p:spPr>
          <a:xfrm>
            <a:off x="0" y="4546080"/>
            <a:ext cx="2857320" cy="229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2FDD71-C0ED-4688-947E-A55B612C7BF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40000" y="1989000"/>
            <a:ext cx="4461840" cy="273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Лев Кассиль, его герои и книг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3640" y="404640"/>
            <a:ext cx="612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езентация учителя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Харьковской О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611640" y="1268640"/>
            <a:ext cx="3142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овесть о жизни и смерти юного партизана Володи Дубинина – героя Великой отечественной войн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rcRect l="0" t="3470" r="0" b="7621"/>
          <a:stretch/>
        </p:blipFill>
        <p:spPr>
          <a:xfrm>
            <a:off x="755640" y="721080"/>
            <a:ext cx="2998800" cy="44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3000" p14:dur="1500">
        <p:split dir="out" orient="vert"/>
      </p:transition>
    </mc:Choice>
    <mc:Fallback>
      <p:transition spd="slow" advTm="3000">
        <p:split dir="out" orient="vert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Рассказы, собранные в этой книге, Л.Кассиль написал в годы Великой Отечественной войны. За каждым из них стоит реальная история – о мужестве и героизме русского народа на фронте и в тыл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899640" y="1052640"/>
            <a:ext cx="2782800" cy="4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В книге рассказывается о приключениях московской школьницы Симы Круницыной, которая снимается в роли партизанки в фильме про Отечественную войну 1812 года. Через несколько лет она повторит путь своей героини в годы Великой Отечественной войн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5" descr=""/>
          <p:cNvPicPr/>
          <p:nvPr/>
        </p:nvPicPr>
        <p:blipFill>
          <a:blip r:embed="rId1"/>
          <a:srcRect l="7642" t="2988" r="6860" b="0"/>
          <a:stretch/>
        </p:blipFill>
        <p:spPr>
          <a:xfrm>
            <a:off x="971640" y="980640"/>
            <a:ext cx="25239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Эта повесть рассказывает о мальчике Гешке, который любит фантазировать и мечтает стать летчиком. Он выдает себя за брата прославленного героя и старается быть достойным его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827640" y="980640"/>
            <a:ext cx="294984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7640" y="836640"/>
            <a:ext cx="7558200" cy="511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Дорогие ребята!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Книги Льва Кассиля были очень популярны среди ваших бабушек и дедушек, когда они были такими, как вы сейчас. Возможно, сегодня они покажутся «несовременными». Но, по настоящему веселые и добрые книги, а также героические никогда не стареют! Как и их герои. Прочитайте их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Я уверена, они вам понравятся!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advTm="7000" p14:dur="1500">
        <p:split dir="out" orient="vert"/>
      </p:transition>
    </mc:Choice>
    <mc:Fallback>
      <p:transition spd="slow" advTm="7000">
        <p:split dir="out" orient="ver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755640" y="764640"/>
            <a:ext cx="613152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7640" y="4077000"/>
            <a:ext cx="8229240" cy="17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амятник Л. Кассилю в г. Энгельс Саратовской об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Памятник был открыт 11июля 2006 г. к 101 годовщине со дня рождения писателя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OEM_User\Desktop\unnamed.jpg"/>
          <p:cNvPicPr/>
          <p:nvPr/>
        </p:nvPicPr>
        <p:blipFill>
          <a:blip r:embed="rId1"/>
          <a:stretch/>
        </p:blipFill>
        <p:spPr>
          <a:xfrm>
            <a:off x="2051640" y="548640"/>
            <a:ext cx="47620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3000" p14:dur="1500">
        <p:split dir="out" orient="vert"/>
      </p:transition>
    </mc:Choice>
    <mc:Fallback>
      <p:transition spd="slow" advTm="3000">
        <p:split dir="out" orient="vert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3640" y="4365000"/>
            <a:ext cx="7776360" cy="13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ом – музей Л. Кассиля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Музей открыт 9 ноября 1995г. В городе Энгельсе на родине писа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OEM_User\Desktop\kassil.jpg"/>
          <p:cNvPicPr/>
          <p:nvPr/>
        </p:nvPicPr>
        <p:blipFill>
          <a:blip r:embed="rId1"/>
          <a:stretch/>
        </p:blipFill>
        <p:spPr>
          <a:xfrm>
            <a:off x="611640" y="908640"/>
            <a:ext cx="4104000" cy="252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OEM_User\Desktop\DSC_2240 copy.jpg"/>
          <p:cNvPicPr/>
          <p:nvPr/>
        </p:nvPicPr>
        <p:blipFill>
          <a:blip r:embed="rId2"/>
          <a:stretch/>
        </p:blipFill>
        <p:spPr>
          <a:xfrm>
            <a:off x="4860000" y="1412640"/>
            <a:ext cx="3744000" cy="25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4000" p14:dur="1500">
        <p:split dir="out" orient="vert"/>
      </p:transition>
    </mc:Choice>
    <mc:Fallback>
      <p:transition spd="slow" advTm="4000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640" y="4653000"/>
            <a:ext cx="684036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Лев Кассиль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117 лет со дня рожд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2699640" y="548640"/>
            <a:ext cx="36000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68000" y="548640"/>
            <a:ext cx="44640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Кассиль Лев Абрамович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ru-RU" sz="4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c00000"/>
                </a:solidFill>
                <a:latin typeface="Times New Roman"/>
              </a:rPr>
              <a:t>русский писатель, член- корреспондент советского периода. Родился 10 июля 1905 года в 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Times New Roman"/>
              </a:rPr>
              <a:t>г. Энгельс на Волге в семье врача и учительницы музыки. Разносторонняя одаренность Льва Кассиля проявилась уже в гимназии. Он хорошо играет на пианино, с успехом изучает иностранные языки, прекрасно рисует, сильный шахматист, способный математик. Однако, особенно он любил сочинять разные истории, в 9 лет написал свое первое стихотворение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OEM_User\Desktop\unnamed.jpg"/>
          <p:cNvPicPr/>
          <p:nvPr/>
        </p:nvPicPr>
        <p:blipFill>
          <a:blip r:embed="rId1"/>
          <a:stretch/>
        </p:blipFill>
        <p:spPr>
          <a:xfrm>
            <a:off x="539640" y="2133000"/>
            <a:ext cx="3384000" cy="23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8000" p14:dur="1500">
        <p:split dir="out" orient="vert"/>
      </p:transition>
    </mc:Choice>
    <mc:Fallback>
      <p:transition spd="slow" advTm="8000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640" y="908640"/>
            <a:ext cx="7632360" cy="521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етство и гимназические годы Л. Кассиля совпали с событиями, которые потрясли весь мир: Первая мировая война и революция 1917 года в России. В годы войны он был военным корреспондентом в Заполярье. Собственные впечатления позволили написать ему десятки рассказов о войне, о буднях фронта и ты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advTm="7000" p14:dur="1500">
        <p:split dir="out" orient="vert"/>
      </p:transition>
    </mc:Choice>
    <mc:Fallback>
      <p:transition spd="slow" advTm="7000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3400" y="980640"/>
            <a:ext cx="47520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изведения Л.Кассиля довольны разнообразны по тематике, но все они адресованы детям. Увлекательные сюжеты, яркий образ главного героя и игра со словами – вот его твор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611640" y="692640"/>
            <a:ext cx="3168000" cy="4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5000" p14:dur="1500">
        <p:split dir="out" orient="vert"/>
      </p:transition>
    </mc:Choice>
    <mc:Fallback>
      <p:transition spd="slow" advTm="5000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24000" y="2277000"/>
            <a:ext cx="4464000" cy="38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Автобиографическая повесть «Кондуит и Швамбрания» рассказывает о жизни гимназистов в дореволюционной России. Главные герои повести- Лёлик и Оська – придумывают воображаемую страну Швамбранию, которая воплощает все детские фантазии навеянными книгами об отважных моряках, мореплавателях и искателей приключени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853560" y="1052640"/>
            <a:ext cx="2868480" cy="4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6000" p14:dur="1500">
        <p:split dir="out" orient="vert"/>
      </p:transition>
    </mc:Choice>
    <mc:Fallback>
      <p:transition spd="slow" advTm="6000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2349000"/>
            <a:ext cx="381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В этой повести мы встречаемся еще с одной страной, которой нет на географической карте,- Джунгахорой. Из этой страны в пионерский лагерь (в котором без труда можно узнать «Артек») приезжает последний принц Дэлихьяр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827640" y="764640"/>
            <a:ext cx="331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6000" p14:dur="1500">
        <p:split dir="out" orient="vert"/>
      </p:transition>
    </mc:Choice>
    <mc:Fallback>
      <p:transition spd="slow" advTm="6000">
        <p:split dir="out" orient="vert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0000" y="2277000"/>
            <a:ext cx="42458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Это знаменитое произведение Л. Кассиля о жизни подростков в маленьком приволжском городке во время Великой Отечественной войны. Это история трудностей, опасностей и приключений выдуманных и самых реальных. Рассказ о дружбе, смелости и стойкости – о том, что можно преодолеть любые сложности и победить в самых тяжелых обстоятельствах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899640" y="908640"/>
            <a:ext cx="3133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6000" p14:dur="1500">
        <p:split dir="out" orient="vert"/>
      </p:transition>
    </mc:Choice>
    <mc:Fallback>
      <p:transition spd="slow" advTm="6000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24000" y="2133000"/>
            <a:ext cx="4461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Это рассказ о подвиге юного героя Великой Отечественной войны, отдавшего свою жизнь для спасения других люд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1043640" y="1008000"/>
            <a:ext cx="2880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3000" p14:dur="1500">
        <p:split dir="out" orient="vert"/>
      </p:transition>
    </mc:Choice>
    <mc:Fallback>
      <p:transition spd="slow" advTm="3000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  <Words>465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8:26:29Z</dcterms:created>
  <dc:creator>Samsung</dc:creator>
  <dc:description/>
  <dc:language>en-US</dc:language>
  <cp:lastModifiedBy>Admin</cp:lastModifiedBy>
  <dcterms:modified xsi:type="dcterms:W3CDTF">2023-06-11T11:23:02Z</dcterms:modified>
  <cp:revision>61</cp:revision>
  <dc:subject/>
  <dc:title>Шаблоны для презентации «Литерату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