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4BF-712F-4C23-B030-C0808AEB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073-E5B5-4135-9482-6F195125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E1E-2435-4345-B5FD-4BF8EC55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9F3-DCAC-4E2F-A274-661C9F60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0FA7-A563-4026-9070-B1CE3F2F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FD78-ABF5-494B-A783-7EB51214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3665-3F04-4174-850E-E4404E28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8E1A-7484-4FCC-90F0-F3BCA696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0D6F-B1F5-4439-AAB5-20F734B4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F2B8-A2F9-41B7-8AF4-7C40B14D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80FC-A088-43BA-B246-A4C06D15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CDF-FAE2-4BEC-BACC-5ED27B50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4C36-BC8D-4296-AF77-96BB1C2C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BB94-9722-4999-8A15-69BFC6BC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AAC8-09EC-4904-B487-CB28CB58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320E-37A1-4417-8AFB-E8F7BA43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4D36-2AD4-44C0-AFB0-6D38EA94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7A8-704D-410D-B3A7-2174C8B6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47C-842B-4EAD-B3A0-F3BB13AF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250-8E00-4842-9785-032C97C2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A65-22AE-435A-97A8-5390C39A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996-BC19-47E9-AD30-5E517E08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7C5-2972-4BD6-AF52-7A9BDFFD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DC3-BE9E-4D6F-8AE4-63FD0738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6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двумя скругленными противолежащими углами 6"/>
          <p:cNvSpPr/>
          <p:nvPr/>
        </p:nvSpPr>
        <p:spPr>
          <a:xfrm>
            <a:off x="467640" y="332640"/>
            <a:ext cx="8208720" cy="60483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" name="Picture 2" descr="http://belgdb.ru/assets/templates/project/victorina_book/img/01.png"/>
          <p:cNvPicPr/>
          <p:nvPr/>
        </p:nvPicPr>
        <p:blipFill>
          <a:blip r:embed="rId2"/>
          <a:stretch/>
        </p:blipFill>
        <p:spPr>
          <a:xfrm>
            <a:off x="0" y="4546080"/>
            <a:ext cx="2857320" cy="229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6792A0-9DAB-4D1E-AB5D-31EB40BB79C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http://rudocs.exdat.com/pars_docs/tw_refs/457/456283/456283_html_5c942c8c.png"/>
          <p:cNvPicPr/>
          <p:nvPr/>
        </p:nvPicPr>
        <p:blipFill>
          <a:blip r:embed="rId3"/>
          <a:stretch/>
        </p:blipFill>
        <p:spPr>
          <a:xfrm>
            <a:off x="6876360" y="332640"/>
            <a:ext cx="1804320" cy="195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6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с двумя скругленными противолежащими углами 6"/>
          <p:cNvSpPr/>
          <p:nvPr/>
        </p:nvSpPr>
        <p:spPr>
          <a:xfrm>
            <a:off x="467640" y="332640"/>
            <a:ext cx="8208720" cy="60483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5" name="Picture 2" descr="http://belgdb.ru/assets/templates/project/victorina_book/img/01.png"/>
          <p:cNvPicPr/>
          <p:nvPr/>
        </p:nvPicPr>
        <p:blipFill>
          <a:blip r:embed="rId2"/>
          <a:stretch/>
        </p:blipFill>
        <p:spPr>
          <a:xfrm>
            <a:off x="0" y="4546080"/>
            <a:ext cx="2857320" cy="2290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7D457B-A475-494D-893D-4858998D7AC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40000" y="1989000"/>
            <a:ext cx="4461840" cy="273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Лев Кассиль, его герои и книги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43640" y="404640"/>
            <a:ext cx="612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Презентация учителя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Харьковской О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611640" y="1268640"/>
            <a:ext cx="3142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2000" p14:dur="1500">
        <p:split dir="out" orient="vert"/>
      </p:transition>
    </mc:Choice>
    <mc:Fallback>
      <p:transition spd="slow" advTm="2000">
        <p:split dir="out" orient="vert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000" y="2133000"/>
            <a:ext cx="4461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Повесть о жизни и смерти юного партизана Володи Дубинина – героя Великой отечественной войн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rcRect l="0" t="3470" r="0" b="7621"/>
          <a:stretch/>
        </p:blipFill>
        <p:spPr>
          <a:xfrm>
            <a:off x="755640" y="721080"/>
            <a:ext cx="2998800" cy="441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3000" p14:dur="1500">
        <p:split dir="out" orient="vert"/>
      </p:transition>
    </mc:Choice>
    <mc:Fallback>
      <p:transition spd="slow" advTm="3000">
        <p:split dir="out" orient="vert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24000" y="2133000"/>
            <a:ext cx="4461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Рассказы, собранные в этой книге, Л.Кассиль написал в годы Великой Отечественной войны. За каждым из них стоит реальная история – о мужестве и героизме русского народа на фронте и в тылу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899640" y="1052640"/>
            <a:ext cx="2782800" cy="41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5000" p14:dur="1500">
        <p:split dir="out" orient="vert"/>
      </p:transition>
    </mc:Choice>
    <mc:Fallback>
      <p:transition spd="slow" advTm="5000">
        <p:split dir="out" orient="vert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24000" y="2133000"/>
            <a:ext cx="4461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В книге рассказывается о приключениях московской школьницы Симы Круницыной, которая снимается в роли партизанки в фильме про Отечественную войну 1812 года. Через несколько лет она повторит путь своей героини в годы Великой Отечественной войн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5" descr=""/>
          <p:cNvPicPr/>
          <p:nvPr/>
        </p:nvPicPr>
        <p:blipFill>
          <a:blip r:embed="rId1"/>
          <a:srcRect l="7642" t="2988" r="6860" b="0"/>
          <a:stretch/>
        </p:blipFill>
        <p:spPr>
          <a:xfrm>
            <a:off x="971640" y="980640"/>
            <a:ext cx="252396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5000" p14:dur="1500">
        <p:split dir="out" orient="vert"/>
      </p:transition>
    </mc:Choice>
    <mc:Fallback>
      <p:transition spd="slow" advTm="5000">
        <p:split dir="out" orient="vert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24000" y="2133000"/>
            <a:ext cx="4461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Эта повесть рассказывает о мальчике Гешке, который любит фантазировать и мечтает стать летчиком. Он выдает себя за брата прославленного героя и старается быть достойным его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827640" y="980640"/>
            <a:ext cx="2949840" cy="43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5000" p14:dur="1500">
        <p:split dir="out" orient="vert"/>
      </p:transition>
    </mc:Choice>
    <mc:Fallback>
      <p:transition spd="slow" advTm="5000">
        <p:split dir="out" orient="vert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7640" y="836640"/>
            <a:ext cx="7558200" cy="511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Дорогие ребята!</a:t>
            </a: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Книги Льва Кассиля были очень популярны среди ваших бабушек и дедушек, когда они были такими, как вы сейчас. Возможно, сегодня они покажутся «несовременными». Но, по настоящему веселые и добрые книги, а также героические никогда не стареют! Как и их герои. Прочитайте их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Я уверена, они вам понравятся!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advTm="7000" p14:dur="1500">
        <p:split dir="out" orient="vert"/>
      </p:transition>
    </mc:Choice>
    <mc:Fallback>
      <p:transition spd="slow" advTm="7000">
        <p:split dir="out" orient="vert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755640" y="764640"/>
            <a:ext cx="613152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5000" p14:dur="1500">
        <p:split dir="out" orient="vert"/>
      </p:transition>
    </mc:Choice>
    <mc:Fallback>
      <p:transition spd="slow" advTm="5000">
        <p:split dir="out" orient="vert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7640" y="4077000"/>
            <a:ext cx="8229240" cy="172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амятник Л. Кассилю в г. Энгельс Саратовской област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Памятник был открыт 11июля 2006 г. к 101 годовщине со дня рождения писателя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OEM_User\Desktop\unnamed.jpg"/>
          <p:cNvPicPr/>
          <p:nvPr/>
        </p:nvPicPr>
        <p:blipFill>
          <a:blip r:embed="rId1"/>
          <a:stretch/>
        </p:blipFill>
        <p:spPr>
          <a:xfrm>
            <a:off x="2051640" y="548640"/>
            <a:ext cx="47620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3000" p14:dur="1500">
        <p:split dir="out" orient="vert"/>
      </p:transition>
    </mc:Choice>
    <mc:Fallback>
      <p:transition spd="slow" advTm="3000">
        <p:split dir="out" orient="vert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3640" y="4365000"/>
            <a:ext cx="7776360" cy="13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Дом – музей Л. Кассиля.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Музей открыт 9 ноября 1995г. В городе Энгельсе на родине писа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OEM_User\Desktop\kassil.jpg"/>
          <p:cNvPicPr/>
          <p:nvPr/>
        </p:nvPicPr>
        <p:blipFill>
          <a:blip r:embed="rId1"/>
          <a:stretch/>
        </p:blipFill>
        <p:spPr>
          <a:xfrm>
            <a:off x="611640" y="908640"/>
            <a:ext cx="4104000" cy="252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OEM_User\Desktop\DSC_2240 copy.jpg"/>
          <p:cNvPicPr/>
          <p:nvPr/>
        </p:nvPicPr>
        <p:blipFill>
          <a:blip r:embed="rId2"/>
          <a:stretch/>
        </p:blipFill>
        <p:spPr>
          <a:xfrm>
            <a:off x="4860000" y="1412640"/>
            <a:ext cx="3744000" cy="25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4000" p14:dur="1500">
        <p:split dir="out" orient="vert"/>
      </p:transition>
    </mc:Choice>
    <mc:Fallback>
      <p:transition spd="slow" advTm="4000">
        <p:split dir="out" orient="vert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640" y="4653000"/>
            <a:ext cx="684036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Лев Кассиль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117 лет со дня рожд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2699640" y="548640"/>
            <a:ext cx="36000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2000" p14:dur="1500">
        <p:split dir="out" orient="vert"/>
      </p:transition>
    </mc:Choice>
    <mc:Fallback>
      <p:transition spd="slow" advTm="2000">
        <p:split dir="out" orient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068000" y="548640"/>
            <a:ext cx="44640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 algn="ctr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Кассиль Лев Абрамович</a:t>
            </a:r>
            <a:r>
              <a:rPr b="0" lang="ru-RU" sz="43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ru-RU" sz="4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c00000"/>
                </a:solidFill>
                <a:latin typeface="Times New Roman"/>
              </a:rPr>
              <a:t>русский писатель, член- корреспондент советского периода. Родился 10 июля 1905 года в 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3100" spc="-1" strike="noStrike">
                <a:solidFill>
                  <a:srgbClr val="c00000"/>
                </a:solidFill>
                <a:latin typeface="Times New Roman"/>
              </a:rPr>
              <a:t>г. Энгельс на Волге в семье врача и учительницы музыки. Разносторонняя одаренность Льва Кассиля проявилась уже в гимназии. Он хорошо играет на пианино, с успехом изучает иностранные языки, прекрасно рисует, сильный шахматист, способный математик. Однако, особенно он любил сочинять разные истории, в 9 лет написал свое первое стихотворение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OEM_User\Desktop\unnamed.jpg"/>
          <p:cNvPicPr/>
          <p:nvPr/>
        </p:nvPicPr>
        <p:blipFill>
          <a:blip r:embed="rId1"/>
          <a:stretch/>
        </p:blipFill>
        <p:spPr>
          <a:xfrm>
            <a:off x="539640" y="2133000"/>
            <a:ext cx="3384000" cy="23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8000" p14:dur="1500">
        <p:split dir="out" orient="vert"/>
      </p:transition>
    </mc:Choice>
    <mc:Fallback>
      <p:transition spd="slow" advTm="8000">
        <p:split dir="out" orient="vert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640" y="908640"/>
            <a:ext cx="7632360" cy="521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Детство и гимназические годы Л. Кассиля совпали с событиями, которые потрясли весь мир: Первая мировая война и революция 1917 года в России. В годы войны он был военным корреспондентом в Заполярье. Собственные впечатления позволили написать ему десятки рассказов о войне, о буднях фронта и тыл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advTm="7000" p14:dur="1500">
        <p:split dir="out" orient="vert"/>
      </p:transition>
    </mc:Choice>
    <mc:Fallback>
      <p:transition spd="slow" advTm="7000">
        <p:split dir="out" orient="vert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3400" y="980640"/>
            <a:ext cx="47520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оизведения Л.Кассиля довольны разнообразны по тематике, но все они адресованы детям. Увлекательные сюжеты, яркий образ главного героя и игра со словами – вот его творче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1"/>
          <a:stretch/>
        </p:blipFill>
        <p:spPr>
          <a:xfrm>
            <a:off x="611640" y="692640"/>
            <a:ext cx="3168000" cy="41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5000" p14:dur="1500">
        <p:split dir="out" orient="vert"/>
      </p:transition>
    </mc:Choice>
    <mc:Fallback>
      <p:transition spd="slow" advTm="5000">
        <p:split dir="out" orient="vert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24000" y="2277000"/>
            <a:ext cx="4464000" cy="38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Автобиографическая повесть «Кондуит и Швамбрания» рассказывает о жизни гимназистов в дореволюционной России. Главные герои повести- Лёлик и Оська – придумывают воображаемую страну Швамбранию, которая воплощает все детские фантазии навеянными книгами об отважных моряках, мореплавателях и искателей приключени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1"/>
          <a:stretch/>
        </p:blipFill>
        <p:spPr>
          <a:xfrm>
            <a:off x="853560" y="1052640"/>
            <a:ext cx="2868480" cy="41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6000" p14:dur="1500">
        <p:split dir="out" orient="vert"/>
      </p:transition>
    </mc:Choice>
    <mc:Fallback>
      <p:transition spd="slow" advTm="6000">
        <p:split dir="out" orient="vert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0" y="2349000"/>
            <a:ext cx="3813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В этой повести мы встречаемся еще с одной страной, которой нет на географической карте,- Джунгахорой. Из этой страны в пионерский лагерь (в котором без труда можно узнать «Артек») приезжает последний принц Дэлихьяр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"/>
          <p:cNvPicPr/>
          <p:nvPr/>
        </p:nvPicPr>
        <p:blipFill>
          <a:blip r:embed="rId1"/>
          <a:stretch/>
        </p:blipFill>
        <p:spPr>
          <a:xfrm>
            <a:off x="827640" y="764640"/>
            <a:ext cx="3312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6000" p14:dur="1500">
        <p:split dir="out" orient="vert"/>
      </p:transition>
    </mc:Choice>
    <mc:Fallback>
      <p:transition spd="slow" advTm="6000">
        <p:split dir="out" orient="vert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40000" y="2277000"/>
            <a:ext cx="424584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Это знаменитое произведение Л. Кассиля о жизни подростков в маленьком приволжском городке во время Великой Отечественной войны. Это история трудностей, опасностей и приключений выдуманных и самых реальных. Рассказ о дружбе, смелости и стойкости – о том, что можно преодолеть любые сложности и победить в самых тяжелых обстоятельствах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899640" y="908640"/>
            <a:ext cx="3133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6000" p14:dur="1500">
        <p:split dir="out" orient="vert"/>
      </p:transition>
    </mc:Choice>
    <mc:Fallback>
      <p:transition spd="slow" advTm="6000">
        <p:split dir="out" orient="vert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24000" y="2133000"/>
            <a:ext cx="4461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Это рассказ о подвиге юного героя Великой Отечественной войны, отдавшего свою жизнь для спасения других люде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1043640" y="1008000"/>
            <a:ext cx="2880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3000" p14:dur="1500">
        <p:split dir="out" orient="vert"/>
      </p:transition>
    </mc:Choice>
    <mc:Fallback>
      <p:transition spd="slow" advTm="3000">
        <p:split dir="out" orient="vert"/>
      </p:transition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  <Words>465</Words>
  <Paragraphs>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9T18:26:29Z</dcterms:created>
  <dc:creator>Samsung</dc:creator>
  <dc:description/>
  <dc:language>en-US</dc:language>
  <cp:lastModifiedBy>Admin</cp:lastModifiedBy>
  <dcterms:modified xsi:type="dcterms:W3CDTF">2023-06-11T11:23:02Z</dcterms:modified>
  <cp:revision>61</cp:revision>
  <dc:subject/>
  <dc:title>Шаблоны для презентации «Литератур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