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8"/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77F-E213-4E0B-935E-6CAA3837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82A-9EF7-4840-BFF5-AC723326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19E-F861-43F7-8F07-A6DA959C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E12-9C38-489C-8F04-CDFF58F3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E69-5BD6-4CD7-B743-C693CA1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B73-F738-4216-96D6-742A7E0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9A7-1F7B-4C38-B168-5412332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A09-065F-4920-B3DC-17C5C3A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4CC-C3B6-49FE-8B83-8BA071C5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DE6-16B6-4D3B-A73D-FDCF5C2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55-C9E3-439E-B28D-A655E43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7A5-431C-4F8C-A212-C19A69A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A3B-EA8D-4790-B26C-D92E51CAF79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D62F-2DD0-416D-B214-A8D3A69096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ulder-spb.ru/wp-content/uploads/2009/02/carbohydrates_4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3120" y="260280"/>
            <a:ext cx="8300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39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722-7849-4C92-8F20-1F558E2388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3AC-95C4-4575-A095-615CA41FDF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Хлеб-соль Кириллица / cyrillitsa.ru / Surfingbird.ru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59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F210-F334-43DB-BB09-FDA293DF55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9AD-218B-4C96-91AB-1949E71CB7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KAMOZIN Марина Мелихова фото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126E-40F6-41C8-BB58-194C7B49D5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267920"/>
            <a:ext cx="8229600" cy="558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уборка пшеницы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alibri"/>
              </a:rPr>
              <a:t>Элевато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4B79-FC51-4AE2-81C4-27A5C52AC4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agrolain.ru/wp-content/uploads/2014/06/zernohranilishhe.jpg"/>
          <p:cNvPicPr/>
          <p:nvPr/>
        </p:nvPicPr>
        <p:blipFill>
          <a:blip r:embed="rId2"/>
          <a:stretch/>
        </p:blipFill>
        <p:spPr>
          <a:xfrm>
            <a:off x="0" y="8539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3D0A-89E7-42E6-9527-F369BFE657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628280"/>
            <a:ext cx="829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Мельница мукомольная &quot;Мрия&quot;. Производительность 700 кг/час."/>
          <p:cNvPicPr/>
          <p:nvPr/>
        </p:nvPicPr>
        <p:blipFill>
          <a:blip r:embed="rId1"/>
          <a:stretch/>
        </p:blipFill>
        <p:spPr>
          <a:xfrm>
            <a:off x="3070080" y="1557360"/>
            <a:ext cx="6073920" cy="530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Старая мельница.773й км перегона Крутенский-Гостовская (не сохранилась.фото 80х годов) Шабалинцы Фото Планета"/>
          <p:cNvPicPr/>
          <p:nvPr/>
        </p:nvPicPr>
        <p:blipFill>
          <a:blip r:embed="rId2"/>
          <a:stretch/>
        </p:blipFill>
        <p:spPr>
          <a:xfrm>
            <a:off x="0" y="907920"/>
            <a:ext cx="307332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722-A70F-469E-A0AA-401CDBE297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im1-tub-ru.yandex.net/i?id=c555c76554591d9e8ea83f13e2310cbf-12-144&amp;n=21"/>
          <p:cNvPicPr/>
          <p:nvPr/>
        </p:nvPicPr>
        <p:blipFill>
          <a:blip r:embed="rId1"/>
          <a:stretch/>
        </p:blipFill>
        <p:spPr>
          <a:xfrm>
            <a:off x="3639960" y="313200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Доброе время суток. Можете написать статьи затрат на производство муки в натуральном Есть ответ.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45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9.jpg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4BBE-F275-4EB8-9D04-2D5F8357B8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Хлебобулочныеиздел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F82-D9BA-4BC6-811E-187E3450F4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Картинка 95 из 588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Галя</cp:lastModifiedBy>
  <dcterms:modified xsi:type="dcterms:W3CDTF">2015-02-11T18:30:49Z</dcterms:modified>
  <cp:revision>31</cp:revision>
  <dc:subject/>
  <dc:title>Откуда к нам хлеб пришёл</dc:title>
</cp:coreProperties>
</file>