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  <p:custShowLst>
    <p:custShow name="Произвольный показ 1" id="0">
      <p:sldLst>
        <p:sld r:id="rId3"/>
        <p:sld r:id="rId4"/>
        <p:sld r:id="rId5"/>
        <p:sld r:id="rId6"/>
        <p:sld r:id="rId8"/>
        <p:sld r:id="rId9"/>
        <p:sld r:id="rId10"/>
        <p:sld r:id="rId11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EE6-9ABD-4C59-B79E-50504754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8F5-9201-4815-8BB2-B87706D2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F1B-5C90-401F-B7F0-A7967F12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79D-BFB5-4036-8DB9-DEA59CC2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D23-688A-4FEF-97B6-BE6AD1B4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3FE-E411-438D-9963-660DBB5D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8E5-7777-430E-A3FB-D60833E2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179-1B31-4589-B567-C47F673F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056-4272-41EC-B44F-610225A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5DC-2399-4862-9C96-8E2236F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C9A-433D-48EE-816A-845EA41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6B2-D29E-4990-B87A-45AF0FE5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3A5D-D99C-4739-BE45-39DB4F854151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F031-C693-4D3D-A7CC-AD284AFC6F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oulder-spb.ru/wp-content/uploads/2009/02/carbohydrates_4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3120" y="260280"/>
            <a:ext cx="8300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39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E6AA-58C9-4D91-846F-303111FEE3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B631-1D1D-4280-A597-656DA73F2A0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Хлеб-соль Кириллица / cyrillitsa.ru / Surfingbird.ru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59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C6A6-0105-414F-A635-406AD9396A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372F-8E58-4863-846B-00262A14B4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KAMOZIN Марина Мелихова фото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FF6-0EA6-4A7D-B5DF-45FF0F47CA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267920"/>
            <a:ext cx="8229600" cy="558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уборка пшеницы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alibri"/>
              </a:rPr>
              <a:t>Элевато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2A6B-11C4-457F-9897-B23A8F5638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agrolain.ru/wp-content/uploads/2014/06/zernohranilishhe.jpg"/>
          <p:cNvPicPr/>
          <p:nvPr/>
        </p:nvPicPr>
        <p:blipFill>
          <a:blip r:embed="rId2"/>
          <a:stretch/>
        </p:blipFill>
        <p:spPr>
          <a:xfrm>
            <a:off x="0" y="85392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4436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CA69-94FD-47EC-8507-F30025769A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628280"/>
            <a:ext cx="829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Мельница мукомольная &quot;Мрия&quot;. Производительность 700 кг/час."/>
          <p:cNvPicPr/>
          <p:nvPr/>
        </p:nvPicPr>
        <p:blipFill>
          <a:blip r:embed="rId1"/>
          <a:stretch/>
        </p:blipFill>
        <p:spPr>
          <a:xfrm>
            <a:off x="3070080" y="1557360"/>
            <a:ext cx="6073920" cy="530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Старая мельница.773й км перегона Крутенский-Гостовская (не сохранилась.фото 80х годов) Шабалинцы Фото Планета"/>
          <p:cNvPicPr/>
          <p:nvPr/>
        </p:nvPicPr>
        <p:blipFill>
          <a:blip r:embed="rId2"/>
          <a:stretch/>
        </p:blipFill>
        <p:spPr>
          <a:xfrm>
            <a:off x="0" y="907920"/>
            <a:ext cx="307332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77C0-35BC-4F37-8931-26705CBCE5A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://im1-tub-ru.yandex.net/i?id=c555c76554591d9e8ea83f13e2310cbf-12-144&amp;n=21"/>
          <p:cNvPicPr/>
          <p:nvPr/>
        </p:nvPicPr>
        <p:blipFill>
          <a:blip r:embed="rId1"/>
          <a:stretch/>
        </p:blipFill>
        <p:spPr>
          <a:xfrm>
            <a:off x="3639960" y="313200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Доброе время суток. Можете написать статьи затрат на производство муки в натуральном Есть ответ.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45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9.jpg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3BBF-F481-4BB8-BC57-C5EDF5D475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Хлебобулочныеиздел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B7B1-EB98-4639-88AA-46C80288282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Картинка 95 из 588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Галя</cp:lastModifiedBy>
  <dcterms:modified xsi:type="dcterms:W3CDTF">2015-02-11T18:30:49Z</dcterms:modified>
  <cp:revision>31</cp:revision>
  <dc:subject/>
  <dc:title>Откуда к нам хлеб пришёл</dc:title>
</cp:coreProperties>
</file>