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B71-B9C8-487A-BECF-A67B6EE7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985-6883-4E0E-A273-4C46EA1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8E4-0AFC-4811-8113-457568C7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0AD-4C02-4462-B1FF-B424F70E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EA9B-631C-46D0-A640-948652B7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4C28-5BCA-46BA-B077-92F6E65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FAF-80CD-40BF-B4C2-AE92C6AB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2E2-32DC-4F32-A9DC-789229DF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AAE-D8F3-435D-BACF-D8A5A419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DA9F-CA28-4534-A175-8C1D1FB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CAB3-113B-4196-B772-ECB36BA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8A8-289D-407A-B53D-88F1208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D9D-C561-4016-83DC-515B2BF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210E-16C2-48DA-B3C1-FA47D6B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E827-B13A-423C-B86D-567434C8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581-11FF-41E0-B0B1-2CD0F537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E15A-17F6-4174-820E-60BC7356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458E-578E-4005-88BB-0DE546BD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8D40-B5F2-470D-8FDA-D71468F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1796-5C66-4572-8E9A-2102C563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C2D3-2A06-44ED-B3F4-926A666C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A329-772D-4E0A-979A-2D89AE7C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28F-E004-40B1-AF79-D2E955BD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3C9A-FCC6-4AA8-A61E-50B93C8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E140-9108-41C5-BD83-FCCFCD3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D0BC-C3D2-485E-920B-2F7032D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70B3-C9E0-4DCC-AFD8-F3B2BB1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5CE8-02BA-4742-BA1B-66B62B0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0702-0619-4256-AA90-25A8AB0E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6C62-B942-45FF-899A-205D9185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7E455-F79B-4B16-95B3-70B9552A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2CF3-9B41-407B-95B8-46DD8D0F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728B-C896-470F-B4C3-5C7B45C0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279-F234-4B76-89C5-01AC07D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11D7-C618-46FC-9FA2-082F39D6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20B6-D237-4148-9B8D-E9AE341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28CB-365A-4407-9B23-4A879C52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9A82-BBD6-4DE3-8A0D-EFD8E4BD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D1D3-74AE-4220-A3F7-96EBE72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EBBC-9838-49AC-87C1-4FADED9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1F05-4899-46BF-81CD-DA1FD32D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12C9-C957-467E-B310-F9F4337A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0725-D285-4D31-A390-133EDA7D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41B-398C-40BC-927C-B36182A4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56E-8281-4211-BE49-83983DA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0A5-152D-469D-9BA3-52B248A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34F-C19A-469A-9750-15718EA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C9E-E19D-47C4-AFFF-79D6412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6F4B-4694-48F7-8F98-E03DF015C2E9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00C1-7AD3-44AD-B859-72AA0D13DA70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E8E-D81C-43A0-B512-D77B2A1346C0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474D-4839-4FF2-91EA-9C92A15BE73B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81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571840" y="1412640"/>
            <a:ext cx="62863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мероприятия: районное методическое объединение «Формируем развивающую среду: презентация авторских развивающих пособий для дошкольников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Создание условий для приобщения детей старшего дошкольного возраста к истокам русской народной культуры посредством авторской дидактической игры «Волшебный чемоданчик: «Чудо – чудное, диво – дивное!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воспитател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К                                               Сегал Ольга Игор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Рисунок 5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2071800" cy="3071880"/>
          </a:xfrm>
          <a:prstGeom prst="rect">
            <a:avLst/>
          </a:prstGeom>
          <a:ln w="0">
            <a:noFill/>
          </a:ln>
        </p:spPr>
      </p:pic>
      <p:pic>
        <p:nvPicPr>
          <p:cNvPr id="197" name="Заголовок 4" descr=""/>
          <p:cNvPicPr/>
          <p:nvPr/>
        </p:nvPicPr>
        <p:blipFill>
          <a:blip r:embed="rId2"/>
          <a:stretch/>
        </p:blipFill>
        <p:spPr>
          <a:xfrm>
            <a:off x="463680" y="755640"/>
            <a:ext cx="78627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Цель: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1935000"/>
            <a:ext cx="77040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ворчески развитой личности через активацию познавательной деятельности дошкольников на основе приобщения детей к истокам русской народной культур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85840" y="920880"/>
            <a:ext cx="84866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743040" y="396720"/>
            <a:ext cx="76993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Работа по изготовлению тряпичных кукол, декораций  была продолжена с воспитателем  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3" name="Picture 2" descr="C:\Users\user\Desktop\РМО\IMG_20210311_093600_BURST8.jpg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465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user\Desktop\РМО\IMG_20210311_100623.jpg"/>
          <p:cNvPicPr/>
          <p:nvPr/>
        </p:nvPicPr>
        <p:blipFill>
          <a:blip r:embed="rId2"/>
          <a:stretch/>
        </p:blipFill>
        <p:spPr>
          <a:xfrm>
            <a:off x="4932360" y="1916280"/>
            <a:ext cx="331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Разработана картотека дидактических игр: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  «Кто первым доберется…» (ходилки-бродилки) 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6" name="Picture 2" descr="J:\DCIM\100D3100\_DSC0959.JPG"/>
          <p:cNvPicPr/>
          <p:nvPr/>
        </p:nvPicPr>
        <p:blipFill>
          <a:blip r:embed="rId1"/>
          <a:stretch/>
        </p:blipFill>
        <p:spPr>
          <a:xfrm>
            <a:off x="395280" y="1557360"/>
            <a:ext cx="3889440" cy="468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J:\DCIM\100D3100\_DSC0957.JPG"/>
          <p:cNvPicPr/>
          <p:nvPr/>
        </p:nvPicPr>
        <p:blipFill>
          <a:blip r:embed="rId2"/>
          <a:stretch/>
        </p:blipFill>
        <p:spPr>
          <a:xfrm>
            <a:off x="4572000" y="213372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0920" y="836280"/>
            <a:ext cx="69436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«Заполни игровое поле первым» ( крестики-нолики )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9" name="Picture 2" descr="J:\DCIM\100D3100\_DSC0955.JPG"/>
          <p:cNvPicPr/>
          <p:nvPr/>
        </p:nvPicPr>
        <p:blipFill>
          <a:blip r:embed="rId1"/>
          <a:stretch/>
        </p:blipFill>
        <p:spPr>
          <a:xfrm>
            <a:off x="539640" y="1935000"/>
            <a:ext cx="3888000" cy="336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J:\DCIM\100D3100\_DSC0952.JPG"/>
          <p:cNvPicPr/>
          <p:nvPr/>
        </p:nvPicPr>
        <p:blipFill>
          <a:blip r:embed="rId2"/>
          <a:stretch/>
        </p:blipFill>
        <p:spPr>
          <a:xfrm>
            <a:off x="4788000" y="191628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704520"/>
            <a:ext cx="66358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«Доскажи сказку», «Домик сочинялок»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2" name="Picture 2" descr="J:\DCIM\100D3100\_DSC0960.JPG"/>
          <p:cNvPicPr/>
          <p:nvPr/>
        </p:nvPicPr>
        <p:blipFill>
          <a:blip r:embed="rId1"/>
          <a:stretch/>
        </p:blipFill>
        <p:spPr>
          <a:xfrm>
            <a:off x="468360" y="1484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J:\DCIM\100D3100\_DSC0963.JPG"/>
          <p:cNvPicPr/>
          <p:nvPr/>
        </p:nvPicPr>
        <p:blipFill>
          <a:blip r:embed="rId2"/>
          <a:stretch/>
        </p:blipFill>
        <p:spPr>
          <a:xfrm>
            <a:off x="5219640" y="155736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J:\DCIM\100D3100\_DSC0964.JPG"/>
          <p:cNvPicPr/>
          <p:nvPr/>
        </p:nvPicPr>
        <p:blipFill>
          <a:blip r:embed="rId3"/>
          <a:stretch/>
        </p:blipFill>
        <p:spPr>
          <a:xfrm>
            <a:off x="2627280" y="4149720"/>
            <a:ext cx="3313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560" y="704520"/>
            <a:ext cx="78598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В результате проделанной работы на свет появился наш  «Волшебный  чемоданчик». Преимущества данной разработки: компактность, легко переносится, быстро меняется наполняемость (согласно выбранной темы)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6" name="Picture 2" descr="J:\DCIM\100D3100\_DSC0967.JPG"/>
          <p:cNvPicPr/>
          <p:nvPr/>
        </p:nvPicPr>
        <p:blipFill>
          <a:blip r:embed="rId1"/>
          <a:stretch/>
        </p:blipFill>
        <p:spPr>
          <a:xfrm>
            <a:off x="289080" y="1700280"/>
            <a:ext cx="3706560" cy="2449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J:\DCIM\100D3100\_DSC0971.JPG"/>
          <p:cNvPicPr/>
          <p:nvPr/>
        </p:nvPicPr>
        <p:blipFill>
          <a:blip r:embed="rId2"/>
          <a:stretch/>
        </p:blipFill>
        <p:spPr>
          <a:xfrm>
            <a:off x="4788000" y="1916280"/>
            <a:ext cx="3529080" cy="223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J:\DCIM\100D3100\_DSC0973.JPG"/>
          <p:cNvPicPr/>
          <p:nvPr/>
        </p:nvPicPr>
        <p:blipFill>
          <a:blip r:embed="rId3"/>
          <a:stretch/>
        </p:blipFill>
        <p:spPr>
          <a:xfrm>
            <a:off x="1979640" y="4365720"/>
            <a:ext cx="3672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2:44Z</dcterms:created>
  <dc:creator>Ученик_2</dc:creator>
  <dc:description/>
  <dc:language>en-US</dc:language>
  <cp:lastModifiedBy>user</cp:lastModifiedBy>
  <dcterms:modified xsi:type="dcterms:W3CDTF">2023-06-12T13:09:07Z</dcterms:modified>
  <cp:revision>67</cp:revision>
  <dc:subject/>
  <dc:title>Научное общество учащихся «Поиск» 16-ая районная научно – практическая конференция учащихся </dc:title>
</cp:coreProperties>
</file>