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178-FF53-4D02-9B9C-BA483DDD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74D-FE96-429F-A80F-30C054C9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9D5-B627-4661-9431-BC6D32C9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C28-5334-47E8-83A5-88C41821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E37-AF1A-4649-8785-0E1E8F79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31B-0F16-48EA-AC4F-03CBD81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5BE8-91A3-486D-9069-D9A5DBB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717-B064-41B8-BA58-E9D6849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E5FB-6FC1-4983-A890-2A19D9B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45A-4140-4972-8202-9704FF0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A8B-1551-479B-ADE6-7DCE02C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8AA-C696-470B-A8AA-E2D0E1B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68E0-F23A-4C71-85BE-8066FC4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72A5-C076-403C-9DE7-BA8E08B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190-3C3D-4CAD-8112-72D2607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A49D-5036-4BA9-A544-3B405A18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4359-00C0-46A6-8D33-3250BFAD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7293-35B0-43AA-9658-8ED8A308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E604-250C-4D7A-9912-CFDC163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9F99-63D7-4FD1-BA38-C1A9651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F851-8414-4428-9E7B-17487CB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F13D-2A24-4C5E-B9F8-0846FF13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36A-B4F9-44DF-8556-128B20F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1C2D-74E3-49BC-AFDF-56044FF2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7621-60C2-4C5F-BC21-C5E2A77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1284-9D91-403D-8808-76AE424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3ABE-5E19-4BEC-9A1E-F3184D8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4241-31DE-43C1-B97A-AAAD08B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3D3A-230B-43E3-8C9E-C6648B02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3DD5-299E-44F9-91D5-8D4D17C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70BD-4BB8-419B-B95F-D3541D23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27012-C99D-4604-867E-60AE303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4AFB-4411-4E9B-9FCB-B9EF64BB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0CE-687D-4F49-94D9-8771E85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019D-EFE8-4B41-B4A6-E584A9A2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E8C7-5BF3-471E-93DD-E2FC303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9E22-067E-41D1-A4EE-CAFA083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FF61-FBDE-4FAF-A730-EEA5929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A224-B966-4225-8649-99C7071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5156-F537-4371-82F7-9624522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F63B-CB03-4423-AC76-0FC45895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FF9A-CC6F-42BF-B521-7FBEC63A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36FC-C94F-47E1-9C7A-6C01DE9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126-6025-4E1B-ACF0-7A32F095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B91-6486-4EC4-9408-48E427C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7C9-93DE-4B94-9902-DC26596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34C-A775-4591-A807-7B0E4AF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E36-08B3-4BDB-8C5F-25D4227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84C-E303-4771-BD83-09BB9F970B76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E8BB-144E-4288-90D6-CD54ACD77C75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05E-56EE-43C5-8F84-942A87A9B0C2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B6C4-4E06-44E8-885D-BF5A0F4E1124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571840" y="1412640"/>
            <a:ext cx="62863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мероприятия: районное методическое объединение «Формируем развивающую среду: презентация авторских развивающих пособий для дошкольников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Создание условий для приобщения детей старшего дошкольного возраста к истокам русской народной культуры посредством авторской дидактической игры «Волшебный чемоданчик: «Чудо – чудное, диво – дивное!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Рисунок 5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2071800" cy="3071880"/>
          </a:xfrm>
          <a:prstGeom prst="rect">
            <a:avLst/>
          </a:prstGeom>
          <a:ln w="0">
            <a:noFill/>
          </a:ln>
        </p:spPr>
      </p:pic>
      <p:pic>
        <p:nvPicPr>
          <p:cNvPr id="197" name="Заголовок 4" descr=""/>
          <p:cNvPicPr/>
          <p:nvPr/>
        </p:nvPicPr>
        <p:blipFill>
          <a:blip r:embed="rId2"/>
          <a:stretch/>
        </p:blipFill>
        <p:spPr>
          <a:xfrm>
            <a:off x="463680" y="755640"/>
            <a:ext cx="7862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Цель: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1935000"/>
            <a:ext cx="77040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ворчески развитой личности через активацию познавательной деятельности дошкольников на основе приобщения детей к истокам русской народной культур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85840" y="920880"/>
            <a:ext cx="84866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743040" y="396720"/>
            <a:ext cx="76993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Работа по изготовлению тряпичных кукол, декораций  была продолжена с воспитателем  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3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465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user\Desktop\РМО\IMG_20210311_100623.jpg"/>
          <p:cNvPicPr/>
          <p:nvPr/>
        </p:nvPicPr>
        <p:blipFill>
          <a:blip r:embed="rId2"/>
          <a:stretch/>
        </p:blipFill>
        <p:spPr>
          <a:xfrm>
            <a:off x="4932360" y="1916280"/>
            <a:ext cx="331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Разработана картотека дидактических игр: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  «Кто первым доберется…» (ходилки-бродилки) 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6" name="Picture 2" descr="J:\DCIM\100D3100\_DSC0959.JPG"/>
          <p:cNvPicPr/>
          <p:nvPr/>
        </p:nvPicPr>
        <p:blipFill>
          <a:blip r:embed="rId1"/>
          <a:stretch/>
        </p:blipFill>
        <p:spPr>
          <a:xfrm>
            <a:off x="395280" y="1557360"/>
            <a:ext cx="3889440" cy="468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J:\DCIM\100D3100\_DSC0957.JPG"/>
          <p:cNvPicPr/>
          <p:nvPr/>
        </p:nvPicPr>
        <p:blipFill>
          <a:blip r:embed="rId2"/>
          <a:stretch/>
        </p:blipFill>
        <p:spPr>
          <a:xfrm>
            <a:off x="4572000" y="213372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0920" y="836280"/>
            <a:ext cx="69436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«Заполни игровое поле первым» ( крестики-нолики )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9" name="Picture 2" descr="J:\DCIM\100D3100\_DSC0955.JPG"/>
          <p:cNvPicPr/>
          <p:nvPr/>
        </p:nvPicPr>
        <p:blipFill>
          <a:blip r:embed="rId1"/>
          <a:stretch/>
        </p:blipFill>
        <p:spPr>
          <a:xfrm>
            <a:off x="539640" y="1935000"/>
            <a:ext cx="3888000" cy="336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J:\DCIM\100D3100\_DSC0952.JPG"/>
          <p:cNvPicPr/>
          <p:nvPr/>
        </p:nvPicPr>
        <p:blipFill>
          <a:blip r:embed="rId2"/>
          <a:stretch/>
        </p:blipFill>
        <p:spPr>
          <a:xfrm>
            <a:off x="4788000" y="191628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704520"/>
            <a:ext cx="66358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«Доскажи сказку», «Домик сочинялок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2" name="Picture 2" descr="J:\DCIM\100D3100\_DSC0960.JPG"/>
          <p:cNvPicPr/>
          <p:nvPr/>
        </p:nvPicPr>
        <p:blipFill>
          <a:blip r:embed="rId1"/>
          <a:stretch/>
        </p:blipFill>
        <p:spPr>
          <a:xfrm>
            <a:off x="46836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J:\DCIM\100D3100\_DSC0963.JPG"/>
          <p:cNvPicPr/>
          <p:nvPr/>
        </p:nvPicPr>
        <p:blipFill>
          <a:blip r:embed="rId2"/>
          <a:stretch/>
        </p:blipFill>
        <p:spPr>
          <a:xfrm>
            <a:off x="5219640" y="155736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J:\DCIM\100D3100\_DSC0964.JPG"/>
          <p:cNvPicPr/>
          <p:nvPr/>
        </p:nvPicPr>
        <p:blipFill>
          <a:blip r:embed="rId3"/>
          <a:stretch/>
        </p:blipFill>
        <p:spPr>
          <a:xfrm>
            <a:off x="2627280" y="4149720"/>
            <a:ext cx="3313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560" y="704520"/>
            <a:ext cx="78598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результате проделанной работы на свет появился наш  «Волшебный  чемоданчик». Преимущества данной разработки: компактность, легко переносится, быстро меняется наполняемость (согласно выбранной темы)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6" name="Picture 2" descr="J:\DCIM\100D3100\_DSC0967.JPG"/>
          <p:cNvPicPr/>
          <p:nvPr/>
        </p:nvPicPr>
        <p:blipFill>
          <a:blip r:embed="rId1"/>
          <a:stretch/>
        </p:blipFill>
        <p:spPr>
          <a:xfrm>
            <a:off x="289080" y="1700280"/>
            <a:ext cx="3706560" cy="2449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J:\DCIM\100D3100\_DSC0971.JPG"/>
          <p:cNvPicPr/>
          <p:nvPr/>
        </p:nvPicPr>
        <p:blipFill>
          <a:blip r:embed="rId2"/>
          <a:stretch/>
        </p:blipFill>
        <p:spPr>
          <a:xfrm>
            <a:off x="4788000" y="1916280"/>
            <a:ext cx="3529080" cy="223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J:\DCIM\100D3100\_DSC0973.JPG"/>
          <p:cNvPicPr/>
          <p:nvPr/>
        </p:nvPicPr>
        <p:blipFill>
          <a:blip r:embed="rId3"/>
          <a:stretch/>
        </p:blipFill>
        <p:spPr>
          <a:xfrm>
            <a:off x="1979640" y="4365720"/>
            <a:ext cx="3672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2T13:09:07Z</dcterms:modified>
  <cp:revision>67</cp:revision>
  <dc:subject/>
  <dc:title>Научное общество учащихся «Поиск» 16-ая районная научно – практическая конференция учащихся </dc:title>
</cp:coreProperties>
</file>