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301C-18E3-4620-AD2D-4070A904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2EA5-76A2-4F85-8C3B-167257E0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E5B7-54CA-4D9C-B813-CC3D70E1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226-EA30-40B5-AF89-902ED961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FA5D-A28F-4D0E-BC9E-ED323119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FF9-4DAF-433E-B83A-3F016C15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ABA-E158-4D96-B74D-A816F863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B86-476F-4DD8-8402-C6295625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FD5D-EF5B-460D-9D5C-40A90D80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449B-D598-409A-B0CF-FFAF33F6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506-DCCF-4092-AB9A-32DC359B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6CA9-5930-41CF-97F1-E8B24787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E713-B036-48E6-B939-74727D9260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10"/>
          <p:cNvSpPr/>
          <p:nvPr/>
        </p:nvSpPr>
        <p:spPr>
          <a:xfrm>
            <a:off x="9501120" y="357192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равен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3"/>
          <p:cNvSpPr/>
          <p:nvPr/>
        </p:nvSpPr>
        <p:spPr>
          <a:xfrm>
            <a:off x="9358200" y="1571760"/>
            <a:ext cx="4714920" cy="7142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буквенное выра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14"/>
          <p:cNvSpPr/>
          <p:nvPr/>
        </p:nvSpPr>
        <p:spPr>
          <a:xfrm>
            <a:off x="9429840" y="4714920"/>
            <a:ext cx="4714920" cy="7142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пример с окошеч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17"/>
          <p:cNvSpPr/>
          <p:nvPr/>
        </p:nvSpPr>
        <p:spPr>
          <a:xfrm>
            <a:off x="9501120" y="257184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4"/>
          <p:cNvSpPr/>
          <p:nvPr/>
        </p:nvSpPr>
        <p:spPr>
          <a:xfrm>
            <a:off x="3924360" y="4292640"/>
            <a:ext cx="4929120" cy="863640"/>
          </a:xfrm>
          <a:prstGeom prst="rect">
            <a:avLst/>
          </a:prstGeom>
          <a:noFill/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Учитель-логопед: Налимова А.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25"/>
          <p:cNvSpPr/>
          <p:nvPr/>
        </p:nvSpPr>
        <p:spPr>
          <a:xfrm>
            <a:off x="468360" y="549360"/>
            <a:ext cx="8207280" cy="36003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Иг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«Четвёртый лишн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2 -0.00069 C -0.29201 -0.00556 -0.5684 -0.01042 -0.67882 -0.01227 E">
                                      <p:cBhvr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86 -0.01111 C -0.25538 -0.01041 -0.48091 -0.00972 -0.56945 -0.00833 E">
                                      <p:cBhvr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0.00069 C -0.25174 0.00486 -0.49531 0.00902 -0.59306 0.01088 E">
                                      <p:cBhvr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185 C -0.28628 -0.00231 -0.57239 -0.00671 -0.68663 -0.00833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71720" y="428760"/>
            <a:ext cx="75722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Найди лишний предм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1" descr="www"/>
          <p:cNvPicPr/>
          <p:nvPr/>
        </p:nvPicPr>
        <p:blipFill>
          <a:blip r:embed="rId1"/>
          <a:stretch/>
        </p:blipFill>
        <p:spPr>
          <a:xfrm>
            <a:off x="684360" y="1413000"/>
            <a:ext cx="6551640" cy="5181480"/>
          </a:xfrm>
          <a:prstGeom prst="rect">
            <a:avLst/>
          </a:prstGeom>
          <a:ln w="50760">
            <a:solidFill>
              <a:srgbClr val="80008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Найди лишний предм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bd7419e9b251_7"/>
          <p:cNvPicPr/>
          <p:nvPr/>
        </p:nvPicPr>
        <p:blipFill>
          <a:blip r:embed="rId1"/>
          <a:stretch/>
        </p:blipFill>
        <p:spPr>
          <a:xfrm>
            <a:off x="684360" y="1700280"/>
            <a:ext cx="6667200" cy="4587840"/>
          </a:xfrm>
          <a:prstGeom prst="rect">
            <a:avLst/>
          </a:prstGeom>
          <a:ln w="50760">
            <a:solidFill>
              <a:srgbClr val="80008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Найди лишний предм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3dc63b29f46bt"/>
          <p:cNvPicPr/>
          <p:nvPr/>
        </p:nvPicPr>
        <p:blipFill>
          <a:blip r:embed="rId1"/>
          <a:stretch/>
        </p:blipFill>
        <p:spPr>
          <a:xfrm>
            <a:off x="900000" y="1700280"/>
            <a:ext cx="6336000" cy="4506840"/>
          </a:xfrm>
          <a:prstGeom prst="rect">
            <a:avLst/>
          </a:prstGeom>
          <a:ln w="50760">
            <a:solidFill>
              <a:srgbClr val="80008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Найди лишний предм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893b575c861b_5"/>
          <p:cNvPicPr/>
          <p:nvPr/>
        </p:nvPicPr>
        <p:blipFill>
          <a:blip r:embed="rId1"/>
          <a:stretch/>
        </p:blipFill>
        <p:spPr>
          <a:xfrm>
            <a:off x="1042920" y="1628640"/>
            <a:ext cx="6143760" cy="4626000"/>
          </a:xfrm>
          <a:prstGeom prst="rect">
            <a:avLst/>
          </a:prstGeom>
          <a:ln w="50760">
            <a:solidFill>
              <a:srgbClr val="80008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17:27:45Z</dcterms:created>
  <dc:creator>MAMZ</dc:creator>
  <dc:description/>
  <dc:language>en-US</dc:language>
  <cp:lastModifiedBy>Пользователь</cp:lastModifiedBy>
  <dcterms:modified xsi:type="dcterms:W3CDTF">2023-06-13T18:57:33Z</dcterms:modified>
  <cp:revision>51</cp:revision>
  <dc:subject/>
  <dc:title>Слайд 1</dc:title>
</cp:coreProperties>
</file>