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D8E76-E2A0-473A-A648-9F195D1B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179F4-B9D8-43A8-A61D-E0DD7164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992C-5867-4D79-BDD0-D9A38502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EDCC9-2458-4285-AF0C-33A06549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970B-AB69-4081-BDC0-44C0382C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2909-C3D1-496D-81DC-747A91A3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3681-9980-46A0-86C5-BB43699C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39C3-7CC1-4517-BA76-381EC42D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42CB-7716-4139-AD91-BD3AAF85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A51D-2895-4946-B85E-701BFD14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E831-795C-411E-A35C-73B5B5B5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3CFB1-F111-4E26-9C11-F1835D2F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9E81-9F8E-45E2-97D9-7E4A2740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A367-3D08-41D0-B29B-3D062E27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961F-7CBF-4189-81BE-DF477155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5050-FE79-4FD7-8CE6-015B075C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4BCF-BD1B-48E5-9E3B-CE8E186E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286C-1587-403A-9FB9-FE74A409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1FD72-5A5A-418B-B990-2A6684EF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B02A-4C05-4E82-AFEA-4DF3BF7D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B4DA-8DEA-4E03-9F6C-13654E64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290C-D74A-4372-874B-460EE7CB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B285-BC70-4F64-808F-70D7C3EC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79150-4236-4197-8776-E05DF6BC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CC04-6E1A-410B-85C3-6AFF4A61D9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2D9F-B421-4D5C-A13C-A5FDE8E062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2f2f2"/>
                </a:solidFill>
                <a:latin typeface="Arial"/>
              </a:rPr>
              <a:t>К стандартам будущего в преподавании предметной области «Технология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66680" y="56383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аранова Оксана Михайловна, учитель технологи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вой квалификационной категор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221120" y="304920"/>
            <a:ext cx="69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 1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ариативные модули технологической подготов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енерно-технологическ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отехнологическ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вис-технологического (сфера услу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бо предполагать интегративное изучение содержание учебного материала (например, робототехника, современная энергетика, транспортные системы и техник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ариативные модули для основной школы в рамках инженерно-технологического направлен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обработки текстильных материа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обработки конструкционных материа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техника и микроэлектро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ая энерге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оэлектротехнолог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мные» системы и «умные» производ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 3D-печа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 инженерного конструиро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ирование техн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бототех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ринимательство и бизн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знес-проектирование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Вариативные модули для сервис-технологического направления представлены программ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обработки текстильных материа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обработки пищевых продук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художественной обработки материа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вировка стола и подготовка праздни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зайн интерье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 гостеприим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 графического дизай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ка домашнего хозяй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отделочных рабо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монт и обслуживание бытовых прибор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монт и обслуживание цифровой техн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знес-проектирование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Вариативные модули для агротехнологического на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и растениевод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и животновод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и овощевод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ландшафтного дизай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орист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 домашне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работы с малой техни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знес-проектирование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Цель предметной облас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технологической культуры обуч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чебный предмет «Технология» обеспечивает оперативное введение в образовательную деятельность содерж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ное черч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мышленный дизай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делир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%D0%BA%D0%B0%D0%BA-%D0%BE%D1%80%D0%B3%D0%B0%D0%BD%D0%B8%D0%B7%D0%BE%D0%B2%D0%B0%D1%82%D1%8C-%D0%BA%D1%83%D1%80%D1%81%D1%8B-%D0%BF%D0%BE-3%D0%B4-%D0%BC%D0%BE%D0%B4%D0%B5%D0%BB%D0%B8%D1%80%D0%BE%D0%B2%D0%B0%D0%BD%D0%B8%D1%8E"/>
          <p:cNvPicPr/>
          <p:nvPr/>
        </p:nvPicPr>
        <p:blipFill>
          <a:blip r:embed="rId1"/>
          <a:stretch/>
        </p:blipFill>
        <p:spPr>
          <a:xfrm>
            <a:off x="4952880" y="1123920"/>
            <a:ext cx="2895840" cy="1932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computer-aided-industrial-design-montreal"/>
          <p:cNvPicPr/>
          <p:nvPr/>
        </p:nvPicPr>
        <p:blipFill>
          <a:blip r:embed="rId2"/>
          <a:stretch/>
        </p:blipFill>
        <p:spPr>
          <a:xfrm>
            <a:off x="5638680" y="3124080"/>
            <a:ext cx="3276720" cy="18432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i?id=2136ac3d0aa15c47ea05e25d7ba352bf-l&amp;n=13"/>
          <p:cNvPicPr/>
          <p:nvPr/>
        </p:nvPicPr>
        <p:blipFill>
          <a:blip r:embed="rId3"/>
          <a:stretch/>
        </p:blipFill>
        <p:spPr>
          <a:xfrm>
            <a:off x="3809880" y="502920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чебный предмет «Технология» обеспечивает оперативное введение в образовательную деятельность содерж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отипир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фровое производ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дитивные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22(13)"/>
          <p:cNvPicPr/>
          <p:nvPr/>
        </p:nvPicPr>
        <p:blipFill>
          <a:blip r:embed="rId1"/>
          <a:stretch/>
        </p:blipFill>
        <p:spPr>
          <a:xfrm>
            <a:off x="5105520" y="2247840"/>
            <a:ext cx="3657600" cy="2055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002%D1%83%D1%83%D1%84"/>
          <p:cNvPicPr/>
          <p:nvPr/>
        </p:nvPicPr>
        <p:blipFill>
          <a:blip r:embed="rId2"/>
          <a:stretch/>
        </p:blipFill>
        <p:spPr>
          <a:xfrm>
            <a:off x="1143000" y="4038480"/>
            <a:ext cx="29527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чебный предмет «Технология» обеспечивает оперативное введение в образовательную деятельность содерж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но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бототехн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и умного до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а вещ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compulenta-image11"/>
          <p:cNvPicPr/>
          <p:nvPr/>
        </p:nvPicPr>
        <p:blipFill>
          <a:blip r:embed="rId1"/>
          <a:stretch/>
        </p:blipFill>
        <p:spPr>
          <a:xfrm>
            <a:off x="3581280" y="1143000"/>
            <a:ext cx="2210040" cy="1768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17620188_1669994673017446_8104596696420913437_o-1024x788"/>
          <p:cNvPicPr/>
          <p:nvPr/>
        </p:nvPicPr>
        <p:blipFill>
          <a:blip r:embed="rId2"/>
          <a:stretch/>
        </p:blipFill>
        <p:spPr>
          <a:xfrm>
            <a:off x="6095880" y="2286000"/>
            <a:ext cx="2590920" cy="199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9904cbe2b8d559a1f31eed31c39f2ee4"/>
          <p:cNvPicPr/>
          <p:nvPr/>
        </p:nvPicPr>
        <p:blipFill>
          <a:blip r:embed="rId3"/>
          <a:stretch/>
        </p:blipFill>
        <p:spPr>
          <a:xfrm>
            <a:off x="3657600" y="426708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internet-veshhej"/>
          <p:cNvPicPr/>
          <p:nvPr/>
        </p:nvPicPr>
        <p:blipFill>
          <a:blip r:embed="rId4"/>
          <a:stretch/>
        </p:blipFill>
        <p:spPr>
          <a:xfrm>
            <a:off x="685800" y="4991040"/>
            <a:ext cx="26668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чебный предмет «Технология» обеспечивает оперативное введение в образовательную деятельность содерж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в области механической обработки материалов (ручной и станочной, в том числе станками с ЧПУ (числовое программное управление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техники и электроники, электроэнергетики, автома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итель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MEXPOL-TUB-660-C-2000_005951-0"/>
          <p:cNvPicPr/>
          <p:nvPr/>
        </p:nvPicPr>
        <p:blipFill>
          <a:blip r:embed="rId1"/>
          <a:stretch/>
        </p:blipFill>
        <p:spPr>
          <a:xfrm>
            <a:off x="6353280" y="1295280"/>
            <a:ext cx="2790720" cy="1755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221008_KIT_Brennstoffzelle_068_2"/>
          <p:cNvPicPr/>
          <p:nvPr/>
        </p:nvPicPr>
        <p:blipFill>
          <a:blip r:embed="rId2"/>
          <a:stretch/>
        </p:blipFill>
        <p:spPr>
          <a:xfrm>
            <a:off x="5029200" y="2819520"/>
            <a:ext cx="2590920" cy="1726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Stroyka_1"/>
          <p:cNvPicPr/>
          <p:nvPr/>
        </p:nvPicPr>
        <p:blipFill>
          <a:blip r:embed="rId3"/>
          <a:stretch/>
        </p:blipFill>
        <p:spPr>
          <a:xfrm>
            <a:off x="2819520" y="4572000"/>
            <a:ext cx="2971800" cy="1671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s1200?webp=false"/>
          <p:cNvPicPr/>
          <p:nvPr/>
        </p:nvPicPr>
        <p:blipFill>
          <a:blip r:embed="rId4"/>
          <a:stretch/>
        </p:blipFill>
        <p:spPr>
          <a:xfrm>
            <a:off x="6248520" y="470520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чебный предмет «Технология» обеспечивает оперативное введение в образовательную деятельность содерж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3886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ро- и биотехноло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а пищевых проду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И, рекламы, маркети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13cf19f3-lab-plant"/>
          <p:cNvPicPr/>
          <p:nvPr/>
        </p:nvPicPr>
        <p:blipFill>
          <a:blip r:embed="rId1"/>
          <a:stretch/>
        </p:blipFill>
        <p:spPr>
          <a:xfrm>
            <a:off x="6019920" y="1371600"/>
            <a:ext cx="2886120" cy="1868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plt4_1"/>
          <p:cNvPicPr/>
          <p:nvPr/>
        </p:nvPicPr>
        <p:blipFill>
          <a:blip r:embed="rId2"/>
          <a:stretch/>
        </p:blipFill>
        <p:spPr>
          <a:xfrm>
            <a:off x="4267080" y="3352680"/>
            <a:ext cx="3238560" cy="2117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249101-1"/>
          <p:cNvPicPr/>
          <p:nvPr/>
        </p:nvPicPr>
        <p:blipFill>
          <a:blip r:embed="rId3"/>
          <a:stretch/>
        </p:blipFill>
        <p:spPr>
          <a:xfrm>
            <a:off x="1066680" y="5119560"/>
            <a:ext cx="26100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онцепция разработана на основани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учения Президента Российской Федерации от 4 мая 2016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учетом Стратегии научно-технологического развития Российской Федерации, утвержденной Указом Президента Российской Федерации от 1 декабря 2016 г. № 64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ой технологической инициативы, (постановление Правительства Российской Федерации от 18 апреля 2016 г. № 317 «О реализации Национальной технологической инициативы»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«Цифровая экономика Российской Федерации», утвержденной распоряжением Правительства Российской Федерации от 28 июля 2017 г. № 1632-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Тесная связь обучения с жизнью, с трудом, с практикой, должна являться ведущим началом образования и воспитания подрастающего поко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Цели изучения «Технологии»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ставлений о составляющих техносферы, современном производстве и распространенных в нем технолог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е практического опыта познания и самообразования, основанного на знаниях, умениях и способах практико-ориентированной и исследователь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обучающихся к осознанному профессиональному самоопределению, к самостоятельной трудовой жизни в условиях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Ключевые особенности предме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но-практическая направлен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е для профориен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ис для жизн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1736640" y="646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493000" y="152280"/>
            <a:ext cx="35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На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914400"/>
          <a:ext cx="9144000" cy="4788000"/>
        </p:xfrm>
        <a:graphic>
          <a:graphicData uri="http://schemas.openxmlformats.org/drawingml/2006/table">
            <a:tbl>
              <a:tblPr/>
              <a:tblGrid>
                <a:gridCol w="4487760"/>
                <a:gridCol w="4656240"/>
              </a:tblGrid>
              <a:tr h="678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Г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пц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9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ндустриальные технологии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ехнологии ведения дома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ельскохозяйственные технологии (агротехнологии, технологии животноводства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оизводство (инженерная деятельность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ельское хозяйство (агротехнологии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фера услуг (сервисная деятельность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AutoShape 3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Причины модерниз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оответствие существующего содержания обучения школьников современным технологиям и материал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 уровень технологической подготовки школьников, снижающий эффективность их профессиональной подготовки в колледжах, вуз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требования постиндустриального общества к грамотности и компетентности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 статус предметной области «Технология» в школе и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Сквозные образовательные лин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ческая культура произво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остраненные технологии современного произво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, эргономика и эстетика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ы черчения, графики, дизай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ы домашней и прикладной экономики, предприниматель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с миром профессий, выбор обучающимися жизненных, профессиональных пла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технической, творческой, проект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, перспективы и социальные последствия развития технологии и тех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Учебные предм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(1–9 классы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чение и техническое конструирование (7–9 классы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 в профессиональную деятельность (по профилю обучения в 10–11-х класса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ческая практика (7–10 класс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Инвариативные моду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техническая информация и технологическая документ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еские процессы и сист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е материалов и структу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рование и конструир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решения конструкторских и изобретательски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ие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ение и контроль за технолог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и выполнение про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0T08:29:55Z</dcterms:created>
  <dc:creator>Oksana</dc:creator>
  <dc:description/>
  <dc:language>en-US</dc:language>
  <cp:lastModifiedBy>Admin</cp:lastModifiedBy>
  <dcterms:modified xsi:type="dcterms:W3CDTF">2023-06-13T04:40:32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