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AB14-D5E7-41C4-95DE-E80ACA18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58A2-755B-44C5-A737-9F4976C0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9F08-8C5A-4D88-A618-7B96B359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53AA-C599-4BB1-8258-7593694F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5643-3C0E-4EAD-AA74-BB98C7FF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85DE-B156-4342-AFFE-4BF102FE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B2B3-EB6E-4734-B028-3BA62D1E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9CA3-7E79-46F7-B54A-63DA48F5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DF9C-B169-4D74-866F-ECB32133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F122-0EF1-4784-A9B1-07E35D06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C04F-8B18-4E9F-A762-1EBA65A4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C8BF9-15DE-4ACC-8C28-D0D3430B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6A9B-F702-4987-8A34-82241369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7902-213C-4569-BDA0-1E5895AD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DC37-A745-41F5-83DB-23C732E4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7737-10F1-4386-B1AA-AE6DB219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AEAE-7A48-468A-98D9-62DE96D9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66BC-4753-4EF2-AAA0-D5D7F5C4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5FAB-F5D2-46BD-BCFA-F9E43022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0D95-FF46-4C94-B5EE-84DFA108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2248-1A6B-4995-93AF-96584C58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7273-AD2B-47ED-8C40-BA552218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19EA-509C-46D1-BE30-CFDA3004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9CE5-185E-4804-ADB8-58D084AE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DD00-BFAE-4E20-B2CA-CCA2FAA1E0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5B7E-3FDF-440F-9CA0-43552CB0D5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2f2f2"/>
                </a:solidFill>
                <a:latin typeface="Arial"/>
              </a:rPr>
              <a:t>К стандартам будущего в преподавании предметной области «Технология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66680" y="56383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аранова Оксана Михайловна, учитель технологи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вой квалификационной категор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221120" y="304920"/>
            <a:ext cx="69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1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ариативные модули технологической подготов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енерно-технологическ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отехнологическ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вис-технологического (сфера услу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бо предполагать интегративное изучение содержание учебного материала (например, робототехника, современная энергетика, транспортные системы и техни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ариативные модули для основной школы в рамках инженерно-технологического напра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бработки текстильных материа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бработки конструкционных материа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техника и микроэлектро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ая энерге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оэлектротехнолог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мные» системы и «умные» производ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 3D-печа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инженерного конструиро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рование техн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бототех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ринимательство и бизн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нес-проектирование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Вариативные модули для сервис-технологического направления представлены программ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бработки текстильных материа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бработки пищевых проду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художественной обработки материа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вировка стола и подготовка праздн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айн интерье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гостеприим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графического дизай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ка домашнего хозяй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тделочных раб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монт и обслуживание бытовых приб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монт и обслуживание цифровой техн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нес-проектирование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Вариативные модули для агротехнологического на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и растениевод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и животновод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и овощевод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ландшафтного дизай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орист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 домашне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работы с малой техни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знес-проектирование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Цель предметной облас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технологической культуры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ебный предмет «Технология» обеспечивает оперативное введение в образовательную деятельность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ое черч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ышленный дизай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дел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%D0%BA%D0%B0%D0%BA-%D0%BE%D1%80%D0%B3%D0%B0%D0%BD%D0%B8%D0%B7%D0%BE%D0%B2%D0%B0%D1%82%D1%8C-%D0%BA%D1%83%D1%80%D1%81%D1%8B-%D0%BF%D0%BE-3%D0%B4-%D0%BC%D0%BE%D0%B4%D0%B5%D0%BB%D0%B8%D1%80%D0%BE%D0%B2%D0%B0%D0%BD%D0%B8%D1%8E"/>
          <p:cNvPicPr/>
          <p:nvPr/>
        </p:nvPicPr>
        <p:blipFill>
          <a:blip r:embed="rId1"/>
          <a:stretch/>
        </p:blipFill>
        <p:spPr>
          <a:xfrm>
            <a:off x="4952880" y="1123920"/>
            <a:ext cx="2895840" cy="193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computer-aided-industrial-design-montreal"/>
          <p:cNvPicPr/>
          <p:nvPr/>
        </p:nvPicPr>
        <p:blipFill>
          <a:blip r:embed="rId2"/>
          <a:stretch/>
        </p:blipFill>
        <p:spPr>
          <a:xfrm>
            <a:off x="5638680" y="3124080"/>
            <a:ext cx="3276720" cy="1843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i?id=2136ac3d0aa15c47ea05e25d7ba352bf-l&amp;n=13"/>
          <p:cNvPicPr/>
          <p:nvPr/>
        </p:nvPicPr>
        <p:blipFill>
          <a:blip r:embed="rId3"/>
          <a:stretch/>
        </p:blipFill>
        <p:spPr>
          <a:xfrm>
            <a:off x="3809880" y="502920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ебный предмет «Технология» обеспечивает оперативное введение в образовательную деятельность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тип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фровое произ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дитивные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22(13)"/>
          <p:cNvPicPr/>
          <p:nvPr/>
        </p:nvPicPr>
        <p:blipFill>
          <a:blip r:embed="rId1"/>
          <a:stretch/>
        </p:blipFill>
        <p:spPr>
          <a:xfrm>
            <a:off x="5105520" y="2247840"/>
            <a:ext cx="3657600" cy="2055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002%D1%83%D1%83%D1%84"/>
          <p:cNvPicPr/>
          <p:nvPr/>
        </p:nvPicPr>
        <p:blipFill>
          <a:blip r:embed="rId2"/>
          <a:stretch/>
        </p:blipFill>
        <p:spPr>
          <a:xfrm>
            <a:off x="1143000" y="4038480"/>
            <a:ext cx="29527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ебный предмет «Технология» обеспечивает оперативное введение в образовательную деятельность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но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бототехн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и умного до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а ве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ompulenta-image11"/>
          <p:cNvPicPr/>
          <p:nvPr/>
        </p:nvPicPr>
        <p:blipFill>
          <a:blip r:embed="rId1"/>
          <a:stretch/>
        </p:blipFill>
        <p:spPr>
          <a:xfrm>
            <a:off x="3581280" y="1143000"/>
            <a:ext cx="2210040" cy="1768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17620188_1669994673017446_8104596696420913437_o-1024x788"/>
          <p:cNvPicPr/>
          <p:nvPr/>
        </p:nvPicPr>
        <p:blipFill>
          <a:blip r:embed="rId2"/>
          <a:stretch/>
        </p:blipFill>
        <p:spPr>
          <a:xfrm>
            <a:off x="6095880" y="2286000"/>
            <a:ext cx="2590920" cy="199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9904cbe2b8d559a1f31eed31c39f2ee4"/>
          <p:cNvPicPr/>
          <p:nvPr/>
        </p:nvPicPr>
        <p:blipFill>
          <a:blip r:embed="rId3"/>
          <a:stretch/>
        </p:blipFill>
        <p:spPr>
          <a:xfrm>
            <a:off x="3657600" y="426708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internet-veshhej"/>
          <p:cNvPicPr/>
          <p:nvPr/>
        </p:nvPicPr>
        <p:blipFill>
          <a:blip r:embed="rId4"/>
          <a:stretch/>
        </p:blipFill>
        <p:spPr>
          <a:xfrm>
            <a:off x="685800" y="4991040"/>
            <a:ext cx="26668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ебный предмет «Технология» обеспечивает оперативное введение в образовательную деятельность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в области механической обработки материалов (ручной и станочной, в том числе станками с ЧПУ (числовое программное управление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техники и электроники, электроэнергетики, авто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тель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MEXPOL-TUB-660-C-2000_005951-0"/>
          <p:cNvPicPr/>
          <p:nvPr/>
        </p:nvPicPr>
        <p:blipFill>
          <a:blip r:embed="rId1"/>
          <a:stretch/>
        </p:blipFill>
        <p:spPr>
          <a:xfrm>
            <a:off x="6353280" y="1295280"/>
            <a:ext cx="2790720" cy="1755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221008_KIT_Brennstoffzelle_068_2"/>
          <p:cNvPicPr/>
          <p:nvPr/>
        </p:nvPicPr>
        <p:blipFill>
          <a:blip r:embed="rId2"/>
          <a:stretch/>
        </p:blipFill>
        <p:spPr>
          <a:xfrm>
            <a:off x="5029200" y="28195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Stroyka_1"/>
          <p:cNvPicPr/>
          <p:nvPr/>
        </p:nvPicPr>
        <p:blipFill>
          <a:blip r:embed="rId3"/>
          <a:stretch/>
        </p:blipFill>
        <p:spPr>
          <a:xfrm>
            <a:off x="2819520" y="4572000"/>
            <a:ext cx="2971800" cy="1671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s1200?webp=false"/>
          <p:cNvPicPr/>
          <p:nvPr/>
        </p:nvPicPr>
        <p:blipFill>
          <a:blip r:embed="rId4"/>
          <a:stretch/>
        </p:blipFill>
        <p:spPr>
          <a:xfrm>
            <a:off x="6248520" y="470520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ебный предмет «Технология» обеспечивает оперативное введение в образовательную деятельность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3886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ро- и биотехноло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пищевых проду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И, рекламы, маркет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13cf19f3-lab-plant"/>
          <p:cNvPicPr/>
          <p:nvPr/>
        </p:nvPicPr>
        <p:blipFill>
          <a:blip r:embed="rId1"/>
          <a:stretch/>
        </p:blipFill>
        <p:spPr>
          <a:xfrm>
            <a:off x="6019920" y="1371600"/>
            <a:ext cx="2886120" cy="1868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plt4_1"/>
          <p:cNvPicPr/>
          <p:nvPr/>
        </p:nvPicPr>
        <p:blipFill>
          <a:blip r:embed="rId2"/>
          <a:stretch/>
        </p:blipFill>
        <p:spPr>
          <a:xfrm>
            <a:off x="4267080" y="3352680"/>
            <a:ext cx="3238560" cy="2117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249101-1"/>
          <p:cNvPicPr/>
          <p:nvPr/>
        </p:nvPicPr>
        <p:blipFill>
          <a:blip r:embed="rId3"/>
          <a:stretch/>
        </p:blipFill>
        <p:spPr>
          <a:xfrm>
            <a:off x="1066680" y="5119560"/>
            <a:ext cx="26100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онцепция разработана на основани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учения Президента Российской Федерации от 4 мая 2016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четом Стратегии научно-технологического развития Российской Федерации, утвержденной Указом Президента Российской Федерации от 1 декабря 2016 г. № 64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ой технологической инициативы, (постановление Правительства Российской Федерации от 18 апреля 2016 г. № 317 «О реализации Национальной технологической инициативы»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«Цифровая экономика Российской Федерации», утвержденной распоряжением Правительства Российской Федерации от 28 июля 2017 г. № 1632-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Тесная связь обучения с жизнью, с трудом, с практикой, должна являться ведущим началом образования и воспитания подрастающе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Цели изучения «Технологии»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 составляющих техносферы, современном производстве и распространенных в нем технолог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практического опыта познания и самообразования, основанного на знаниях, умениях и способах практико-ориентированной и исследователь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обучающихся к осознанному профессиональному самоопределению, к самостоятельной трудовой жизни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Ключевые особенности предме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о-практическая направл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 для профориен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ис для жизн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1736640" y="646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93000" y="152280"/>
            <a:ext cx="35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На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914400"/>
          <a:ext cx="9144000" cy="4788000"/>
        </p:xfrm>
        <a:graphic>
          <a:graphicData uri="http://schemas.openxmlformats.org/drawingml/2006/table">
            <a:tbl>
              <a:tblPr/>
              <a:tblGrid>
                <a:gridCol w="4487760"/>
                <a:gridCol w="4656240"/>
              </a:tblGrid>
              <a:tr h="67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п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9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ндустриальные технологии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ехнологии ведения дома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ельскохозяйственные технологии (агротехнологии, технологии животноводства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изводство (инженерная деятельность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ельское хозяйство (агротехнологии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фера услуг (сервисная деятельность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AutoShape 3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Причины модерниз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оответствие существующего содержания обучения школьников современным технологиям и материал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уровень технологической подготовки школьников, снижающий эффективность их профессиональной подготовки в колледжах, вуз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требования постиндустриального общества к грамотности и компетентности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статус предметной области «Технология» в школе и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Сквозные образовательные лин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миром профессий, выбор обучаю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, перспективы и социальные последствия развития технологии и тех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Учебные предм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(1–9 классы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чение и техническое конструирование (7–9 классы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 в профессиональную деятельность (по профилю обучения в 10–11-х класса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ческая практика (7–10 класс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Инвариативные моду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техническая информация и технологическая документ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ие процессы и сис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е материалов и структу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и констру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решения конструкторских и изобретательски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е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 и контроль за технолог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выполнение 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0T08:29:55Z</dcterms:created>
  <dc:creator>Oksana</dc:creator>
  <dc:description/>
  <dc:language>en-US</dc:language>
  <cp:lastModifiedBy>Admin</cp:lastModifiedBy>
  <dcterms:modified xsi:type="dcterms:W3CDTF">2023-06-13T04:40:3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