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BDF55-AB8D-48E4-A486-42675B11A9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3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3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0A50E-307F-4857-A0B8-9AEC2DB3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7280" y="396432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E869-D18F-4AE3-A5C5-846279C3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6400" y="160488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3680" y="160488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6400" y="396432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3680" y="396432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3E90-9D7C-418B-A4A3-BC259A5477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14AD7-8A44-4DFF-9453-7FCEF45E61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34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5BC84-C3CF-4600-93BC-4BEFA35F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34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6D6AD-375D-464A-9F35-0522B1FA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4471A-1671-44AA-9402-5B83DCBA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C3669-5B36-448B-B848-5FAC7634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96880" y="365040"/>
            <a:ext cx="8947080" cy="61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8FE37-1DC5-4CAB-B0A8-55F23127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64C89-A928-4897-AA0A-2F19D5B5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34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320FB-BA5A-4DB8-8D8B-63BD7AD3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7280" y="396432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F59AD-4B21-4A57-9BB0-96DB34EF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3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56696-BD18-4DE1-A7AF-AA588FA1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3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3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F6283-A1AA-4F82-BB1F-88D1C1DC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7280" y="396432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67373-15E1-47D6-A88A-CD110075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6400" y="160488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3680" y="160488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6400" y="396432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3680" y="3964320"/>
            <a:ext cx="35301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9E2A1-8AB0-4CFB-8B11-BCCBD6BD2D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34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7803-53FA-4187-87BC-0E853AB4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CB09-757C-45B1-A119-47ED9250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EF689-BB62-4614-B3EB-EBF44208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96880" y="365040"/>
            <a:ext cx="8947080" cy="61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2E2F6-4371-4A3A-BA1B-5C4F9720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CBC6-924E-42F5-9F51-5D2E8457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7280" y="396432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A06D-8DDB-4714-836D-14D24753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7280" y="1604880"/>
            <a:ext cx="5349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3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099B5-11AD-410C-ABDB-79FD9A10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34640" cy="23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040" y="6356160"/>
            <a:ext cx="214452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.2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3384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33496-705D-4DF2-A09D-1B772AF21B3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34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47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68040" y="6356160"/>
            <a:ext cx="214452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5.2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8610480" y="6356160"/>
            <a:ext cx="273384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4801D-D25D-49E8-A5CD-0227190A5D59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34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file:///C:/Users/Kseniia/Downloads/&#1076;&#1086;&#1082;&#1090;&#1086;&#1088;.mp3" TargetMode="External"/><Relationship Id="rId4" Type="http://schemas.microsoft.com/office/2007/relationships/media" Target="file:///C:/Users/Kseniia/Downloads/&#1076;&#1086;&#1082;&#1090;&#1086;&#1088;.mp3" TargetMode="External"/><Relationship Id="rId5" Type="http://schemas.openxmlformats.org/officeDocument/2006/relationships/image" Target="../media/image4.png"/><Relationship Id="rId6" Type="http://schemas.openxmlformats.org/officeDocument/2006/relationships/audio" Target="file:///C:/Users/Kseniia/Downloads/onlymp3.to - Doctor Who Epic Music-5VRBGRJ9PLM-256k-1654630207894.mp3" TargetMode="External"/><Relationship Id="rId7" Type="http://schemas.microsoft.com/office/2007/relationships/media" Target="file:///C:/Users/Kseniia/Downloads/onlymp3.to - Doctor Who Epic Music-5VRBGRJ9PLM-256k-1654630207894.mp3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360" y="1965240"/>
            <a:ext cx="1183176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гра-викторина «Космическое приключение — дотянуться до звезд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»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5140440" y="5943600"/>
            <a:ext cx="13068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БОУ №5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9800" y="6313320"/>
            <a:ext cx="12906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2.03.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6600" y="3554280"/>
            <a:ext cx="105156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 мастер классов для воспитателей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Весна идет - весне дорогу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92360" y="431640"/>
            <a:ext cx="9399600" cy="6193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592360" y="5543640"/>
            <a:ext cx="1295280" cy="108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2592360" y="43164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96880" y="365040"/>
            <a:ext cx="895644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 ТУР — Встреча с астероид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743280" y="1995480"/>
            <a:ext cx="3384720" cy="1677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ком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ближайшая к Солнцу план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91640" y="2895480"/>
            <a:ext cx="3600360" cy="12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коман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планет в Солнечной систем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03640" y="4535640"/>
            <a:ext cx="3456000" cy="1677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ком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известная планета с кольц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8640" y="763560"/>
            <a:ext cx="8955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 ТУР — Встреча с астероид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92360" y="1604880"/>
            <a:ext cx="8988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lnSpc>
                <a:spcPct val="11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27280" y="1814400"/>
            <a:ext cx="3384720" cy="2073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ком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крупнейший космодром в ми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91640" y="2895480"/>
            <a:ext cx="3600360" cy="1677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коман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расшифровывается МК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03640" y="4537080"/>
            <a:ext cx="3456000" cy="1677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ком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овите имя и фамилию первого человека в космо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4640" y="476280"/>
            <a:ext cx="8955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 ТУР — Встреча с астероид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3527280" y="1814400"/>
            <a:ext cx="3384720" cy="2073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ком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й прибор позволяет нам рассмотреть звез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91640" y="2895480"/>
            <a:ext cx="3600360" cy="12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коман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лся первый космический кораб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03640" y="4537080"/>
            <a:ext cx="3456000" cy="1677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ком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звезд в ковше большой медвед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