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B142-D46A-4D7E-8197-11386DC4C3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8747-7809-46FF-AB63-3784106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72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6127-E474-459E-8E23-5D95583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640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368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640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368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F4A9-2927-479A-A79E-36C3C64BD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4803E-A7AD-4850-8E2A-3D642F53C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DE46F-63B4-4098-83E8-5B37F66E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37CB2-DCED-44CC-AC7A-2888A735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50AAE-34B4-4079-86C0-B6018EA7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75539-E59A-4D7A-A642-19CF0E81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96880" y="365040"/>
            <a:ext cx="894708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820E7-1EF8-4118-B888-3FDB8197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F832-53CD-43DF-9C96-849F2712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D255-BF0B-4378-A571-582D5B79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72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1E660-6C2B-4EB4-93C9-326586A9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0ABC7-5A49-4629-B9D0-57FEB804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2B4FF-517F-47F7-8622-806325C5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72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63C67-C9D5-4925-9294-652A2A6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640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368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640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368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3A08E-EDB1-477D-8C0A-ECE97E14A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1C2D-8FD0-427D-9B95-26B0B8CF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D76A-7B31-4389-A0EA-A831586F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F079-9264-48C3-B3D4-E890AC1B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96880" y="365040"/>
            <a:ext cx="894708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8D21-55F6-4065-A3EA-CA2E71BD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BE6C-84CB-4959-AE78-19D142D7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72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DAF0-88F2-460B-8930-BF2EADB1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4957-B1E6-4EEB-83F8-D56E36EF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34640" cy="23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040" y="6356160"/>
            <a:ext cx="21445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.2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3384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FF324-FBFF-4FD6-89A3-CF425667D2B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040" y="6356160"/>
            <a:ext cx="21445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5.2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3384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CB774-2980-4F79-83A5-662F7924451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file:///C:/Users/Kseniia/Downloads/&#1076;&#1086;&#1082;&#1090;&#1086;&#1088;.mp3" TargetMode="External"/><Relationship Id="rId4" Type="http://schemas.microsoft.com/office/2007/relationships/media" Target="file:///C:/Users/Kseniia/Downloads/&#1076;&#1086;&#1082;&#1090;&#1086;&#1088;.mp3" TargetMode="External"/><Relationship Id="rId5" Type="http://schemas.openxmlformats.org/officeDocument/2006/relationships/image" Target="../media/image4.png"/><Relationship Id="rId6" Type="http://schemas.openxmlformats.org/officeDocument/2006/relationships/audio" Target="file:///C:/Users/Kseniia/Downloads/onlymp3.to - Doctor Who Epic Music-5VRBGRJ9PLM-256k-1654630207894.mp3" TargetMode="External"/><Relationship Id="rId7" Type="http://schemas.microsoft.com/office/2007/relationships/media" Target="file:///C:/Users/Kseniia/Downloads/onlymp3.to - Doctor Who Epic Music-5VRBGRJ9PLM-256k-1654630207894.mp3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360" y="1965240"/>
            <a:ext cx="118317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-викторина «Космическое приключение — дотянуться до звезд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5140440" y="5943600"/>
            <a:ext cx="13068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БОУ №5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9800" y="6313320"/>
            <a:ext cx="1290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2.03.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6600" y="3554280"/>
            <a:ext cx="105156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мастер классов для воспитателей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Весна идет - весне дорогу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2360" y="431640"/>
            <a:ext cx="9399600" cy="619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92360" y="5543640"/>
            <a:ext cx="129528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2592360" y="43164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5644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ТУР — Встреча с астероид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743280" y="1995480"/>
            <a:ext cx="338472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ближайшая к Солнцу план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91640" y="2895480"/>
            <a:ext cx="3600360" cy="12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ком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планет в Солнечной систе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03640" y="4535640"/>
            <a:ext cx="345600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известная планета с кольц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8640" y="763560"/>
            <a:ext cx="8955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ТУР — Встреча с астероид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92360" y="1604880"/>
            <a:ext cx="8988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7280" y="1814400"/>
            <a:ext cx="3384720" cy="2073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крупнейший космодром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91640" y="2895480"/>
            <a:ext cx="360036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ком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расшифровывается МК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03640" y="4537080"/>
            <a:ext cx="345600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овите имя и фамилию первого человека в космо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4640" y="476280"/>
            <a:ext cx="8955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ТУР — Встреча с астероид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527280" y="1814400"/>
            <a:ext cx="3384720" cy="2073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прибор позволяет нам рассмотреть звез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91640" y="2895480"/>
            <a:ext cx="3600360" cy="12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ком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лся первый космический кораб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03640" y="4537080"/>
            <a:ext cx="345600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звезд в ковше большой медвед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