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gif" ContentType="image/gif"/>
  <Override PartName="/ppt/media/image6.png" ContentType="image/png"/>
  <Override PartName="/ppt/media/image3.gif" ContentType="image/gif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E781-BFCF-4376-8D63-C6D3352E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89E8-CE7E-48D0-BD68-A9E5A746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8E00-38B0-4271-AB9E-D8303968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B71B-14ED-4444-9240-7775C48D0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CACA-3D1D-4E92-8B71-FA740DBF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7B45-86DB-41D6-A705-569E3C2F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8C01-ED1D-467D-B25C-E4AC8FC4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7323-D1DB-4540-AAE4-81458238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5B34-B60B-4D0B-A749-E02616C5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9DA2-A335-4C1B-9967-0FEA8393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5602-7B50-441F-81D9-6E33E047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7375-66D9-46A4-A91D-D73D17E5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C9FE-8A84-4DCD-B711-6711AB89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AF7A-A8DB-46CE-915C-75FBEF5C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F245-8A30-44B6-B4D7-3E464160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7D7E-1B53-4052-9EB9-EDBC3893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5176-B6D4-4A15-95A0-146F7B61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1C3C1-EB14-415C-85E6-98BB841C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7D4E0-E7FC-42FD-AA2F-BCF6A99B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92000-C235-49AB-A301-52B1C7EE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DEC3E-4578-4055-83DE-A784475B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75E8F-C5C6-49C7-B001-0014CA21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4737-B323-4C18-8566-C2CF2D5F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C1DFB-F114-422D-B697-A135877A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9F157-F7BD-4ADD-A56F-363EF025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351F7-F4E6-494A-A7C5-9225D780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85A96-5636-4DC5-8C55-45D22995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CA177-CA58-4C8D-AEC1-9C8925EE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CEE28-83A5-47DD-9942-6D3DBB65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7EA31-C434-4C7F-9050-847B7306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33343-AFBF-4D2B-822A-A30318B4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A6E82-EA91-4DE4-96AF-18CD792C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29731-9FB2-4EE2-8824-4D4DD1B9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22C3-58E1-466E-9A96-92455553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9BCE9-25EE-41F5-A59B-B49832BE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867B7-2A9B-4A58-AAA9-E7AAEE5B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34334-B1B0-4B49-9660-47E90A45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D2C96-6C6A-4224-A5B9-7F521501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4B342-80FD-429C-8037-B0E914E4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F3A99-23E7-48FE-AA6E-D2621845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874DA-08CA-4785-AADD-EFA0195C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3CE3E-8DB5-443D-940E-E94EA0C72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DDA1A-5FA1-4B03-8DF1-B09F869B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43F9-5129-4EF3-8D03-E32DE58D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9687-F471-453A-9851-3E4E37B7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2E47-E072-49AD-9254-EEB1A9A4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8986-0B22-4B46-9E88-877AAFD3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CC64-455F-4B0C-B1DD-E502BED5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1C612-77B9-4036-8294-3568F22EFD5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5B4E83-5B32-4BBD-B7BA-30389B77C22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F68BF-D76B-4EEB-BFB3-59FB77ADF26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6FDEC5-7C24-437E-B313-03B6EDDB729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016000"/>
          </a:xfrm>
          <a:prstGeom prst="rect">
            <a:avLst/>
          </a:prstGeom>
          <a:gradFill rotWithShape="0">
            <a:gsLst>
              <a:gs pos="0">
                <a:srgbClr val="f5e4c4"/>
              </a:gs>
              <a:gs pos="100000">
                <a:srgbClr val="e9c25e"/>
              </a:gs>
            </a:gsLst>
            <a:lin ang="5400000"/>
          </a:gradFill>
          <a:ln cap="rnd" w="12600">
            <a:solidFill>
              <a:srgbClr val="e6b91e"/>
            </a:solidFill>
            <a:miter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Trebuchet MS"/>
              </a:rPr>
              <a:t>«Односоставные предложения. Повторение и обобщение.»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059280" y="3886200"/>
            <a:ext cx="4713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7f7f7f"/>
              </a:solidFill>
              <a:latin typeface="Trebuchet MS"/>
            </a:endParaRPr>
          </a:p>
        </p:txBody>
      </p:sp>
      <p:sp>
        <p:nvSpPr>
          <p:cNvPr id="214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020000" y="5589720"/>
            <a:ext cx="753840" cy="503280"/>
          </a:xfrm>
          <a:custGeom>
            <a:avLst/>
            <a:gdLst>
              <a:gd name="textAreaLeft" fmla="*/ 32400 w 753840"/>
              <a:gd name="textAreaRight" fmla="*/ 721440 w 7538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2346" h="21600">
                <a:moveTo>
                  <a:pt x="0" y="0"/>
                </a:moveTo>
                <a:lnTo>
                  <a:pt x="32346" y="0"/>
                </a:lnTo>
                <a:lnTo>
                  <a:pt x="32346" y="21600"/>
                </a:lnTo>
                <a:lnTo>
                  <a:pt x="0" y="21600"/>
                </a:lnTo>
                <a:close/>
              </a:path>
              <a:path fill="lightenLess" w="32346" h="21600">
                <a:moveTo>
                  <a:pt x="0" y="0"/>
                </a:moveTo>
                <a:lnTo>
                  <a:pt x="32346" y="0"/>
                </a:lnTo>
                <a:lnTo>
                  <a:pt x="30946" y="1400"/>
                </a:lnTo>
                <a:lnTo>
                  <a:pt x="1400" y="1400"/>
                </a:lnTo>
                <a:close/>
              </a:path>
              <a:path fill="darken" w="32346" h="21600">
                <a:moveTo>
                  <a:pt x="32346" y="0"/>
                </a:moveTo>
                <a:lnTo>
                  <a:pt x="32346" y="21600"/>
                </a:lnTo>
                <a:lnTo>
                  <a:pt x="30946" y="20200"/>
                </a:lnTo>
                <a:lnTo>
                  <a:pt x="30946" y="1400"/>
                </a:lnTo>
                <a:close/>
              </a:path>
              <a:path fill="darkenLess" w="32346" h="21600">
                <a:moveTo>
                  <a:pt x="32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6" y="20200"/>
                </a:lnTo>
                <a:close/>
              </a:path>
              <a:path fill="lighten" w="32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6" h="21600">
                <a:moveTo>
                  <a:pt x="9166" y="3794"/>
                </a:moveTo>
                <a:lnTo>
                  <a:pt x="23179" y="10800"/>
                </a:lnTo>
                <a:lnTo>
                  <a:pt x="9166" y="178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0c226"/>
                </a:solidFill>
                <a:latin typeface="Trebuchet MS"/>
              </a:rPr>
              <a:t>Найти и выписать односоставные предложения, указать вид, подчеркнуть сказуемое</a:t>
            </a:r>
            <a:br>
              <a:rPr sz="2800"/>
            </a:br>
            <a:r>
              <a:rPr b="1" lang="ru-RU" sz="2800" spc="-1" strike="noStrike">
                <a:solidFill>
                  <a:srgbClr val="90c226"/>
                </a:solidFill>
                <a:latin typeface="Trebuchet MS"/>
              </a:rPr>
              <a:t>На картине изображен лес.</a:t>
            </a:r>
            <a:br>
              <a:rPr sz="2800"/>
            </a:br>
            <a:r>
              <a:rPr b="0" lang="ru-RU" sz="2800" spc="-1" strike="noStrike">
                <a:solidFill>
                  <a:srgbClr val="90c226"/>
                </a:solidFill>
                <a:latin typeface="Trebuchet MS"/>
              </a:rPr>
              <a:t>Морозит.</a:t>
            </a:r>
            <a:br>
              <a:rPr sz="2800"/>
            </a:br>
            <a:r>
              <a:rPr b="0" lang="ru-RU" sz="2800" spc="-1" strike="noStrike">
                <a:solidFill>
                  <a:srgbClr val="90c226"/>
                </a:solidFill>
                <a:latin typeface="Trebuchet MS"/>
              </a:rPr>
              <a:t>В комнате чисто.</a:t>
            </a:r>
            <a:br>
              <a:rPr sz="2800"/>
            </a:br>
            <a:r>
              <a:rPr b="0" lang="ru-RU" sz="2800" spc="-1" strike="noStrike">
                <a:solidFill>
                  <a:srgbClr val="90c226"/>
                </a:solidFill>
                <a:latin typeface="Trebuchet MS"/>
              </a:rPr>
              <a:t>Привыкаешь к городскому шуму.</a:t>
            </a:r>
            <a:br>
              <a:rPr sz="2800"/>
            </a:br>
            <a:r>
              <a:rPr b="0" lang="ru-RU" sz="2800" spc="-1" strike="noStrike">
                <a:solidFill>
                  <a:srgbClr val="90c226"/>
                </a:solidFill>
                <a:latin typeface="Trebuchet MS"/>
              </a:rPr>
              <a:t>Без тебя, вероятно, я бы погиб.</a:t>
            </a:r>
            <a:br>
              <a:rPr sz="2800"/>
            </a:br>
            <a:r>
              <a:rPr b="0" lang="ru-RU" sz="2800" spc="-1" strike="noStrike">
                <a:solidFill>
                  <a:srgbClr val="90c226"/>
                </a:solidFill>
                <a:latin typeface="Trebuchet MS"/>
              </a:rPr>
              <a:t>По дороге зимней, скучной тройка борзая бежит.</a:t>
            </a:r>
            <a:br>
              <a:rPr sz="2800"/>
            </a:br>
            <a:r>
              <a:rPr b="0" lang="ru-RU" sz="2800" spc="-1" strike="noStrike">
                <a:solidFill>
                  <a:srgbClr val="90c226"/>
                </a:solidFill>
                <a:latin typeface="Trebuchet MS"/>
              </a:rPr>
              <a:t>В дверь постучались. 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Прямоугольник 3" descr=""/>
          <p:cNvPicPr/>
          <p:nvPr/>
        </p:nvPicPr>
        <p:blipFill>
          <a:blip r:embed="rId1"/>
          <a:stretch/>
        </p:blipFill>
        <p:spPr>
          <a:xfrm>
            <a:off x="609480" y="890640"/>
            <a:ext cx="6699240" cy="109692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4" descr=""/>
          <p:cNvPicPr/>
          <p:nvPr/>
        </p:nvPicPr>
        <p:blipFill>
          <a:blip r:embed="rId2"/>
          <a:stretch/>
        </p:blipFill>
        <p:spPr>
          <a:xfrm>
            <a:off x="7020000" y="549360"/>
            <a:ext cx="1590480" cy="1361880"/>
          </a:xfrm>
          <a:prstGeom prst="rect">
            <a:avLst/>
          </a:prstGeom>
          <a:ln w="0">
            <a:noFill/>
          </a:ln>
        </p:spPr>
      </p:pic>
      <p:pic>
        <p:nvPicPr>
          <p:cNvPr id="253" name="Прямоугольник 5" descr=""/>
          <p:cNvPicPr/>
          <p:nvPr/>
        </p:nvPicPr>
        <p:blipFill>
          <a:blip r:embed="rId3"/>
          <a:stretch/>
        </p:blipFill>
        <p:spPr>
          <a:xfrm>
            <a:off x="938160" y="3340080"/>
            <a:ext cx="7194600" cy="3273480"/>
          </a:xfrm>
          <a:prstGeom prst="rect">
            <a:avLst/>
          </a:prstGeom>
          <a:ln w="0">
            <a:noFill/>
          </a:ln>
        </p:spPr>
      </p:pic>
      <p:sp>
        <p:nvSpPr>
          <p:cNvPr id="254" name="Управляющая кнопка: назад 10">
            <a:hlinkClick r:id="" action="ppaction://hlinkshowjump?jump=previousslide"/>
          </p:cNvPr>
          <p:cNvSpPr/>
          <p:nvPr/>
        </p:nvSpPr>
        <p:spPr>
          <a:xfrm>
            <a:off x="971640" y="5589720"/>
            <a:ext cx="792000" cy="5475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7560"/>
              <a:gd name="textAreaBottom" fmla="*/ 512280 h 547560"/>
            </a:gdLst>
            <a:ahLst/>
            <a:rect l="textAreaLeft" t="textAreaTop" r="textAreaRight" b="textAreaBottom"/>
            <a:pathLst>
              <a:path w="31236" h="21600">
                <a:moveTo>
                  <a:pt x="0" y="0"/>
                </a:moveTo>
                <a:lnTo>
                  <a:pt x="31236" y="0"/>
                </a:lnTo>
                <a:lnTo>
                  <a:pt x="31236" y="21600"/>
                </a:lnTo>
                <a:lnTo>
                  <a:pt x="0" y="21600"/>
                </a:lnTo>
                <a:close/>
              </a:path>
              <a:path fill="lightenLess" w="31236" h="21600">
                <a:moveTo>
                  <a:pt x="0" y="0"/>
                </a:moveTo>
                <a:lnTo>
                  <a:pt x="31236" y="0"/>
                </a:lnTo>
                <a:lnTo>
                  <a:pt x="29836" y="1400"/>
                </a:lnTo>
                <a:lnTo>
                  <a:pt x="1400" y="1400"/>
                </a:lnTo>
                <a:close/>
              </a:path>
              <a:path fill="darken" w="31236" h="21600">
                <a:moveTo>
                  <a:pt x="31236" y="0"/>
                </a:moveTo>
                <a:lnTo>
                  <a:pt x="31236" y="21600"/>
                </a:lnTo>
                <a:lnTo>
                  <a:pt x="29836" y="20200"/>
                </a:lnTo>
                <a:lnTo>
                  <a:pt x="29836" y="1400"/>
                </a:lnTo>
                <a:close/>
              </a:path>
              <a:path fill="darkenLess" w="31236" h="21600">
                <a:moveTo>
                  <a:pt x="31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36" y="20200"/>
                </a:lnTo>
                <a:close/>
              </a:path>
              <a:path fill="lighten" w="31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36" h="21600">
                <a:moveTo>
                  <a:pt x="8612" y="10800"/>
                </a:moveTo>
                <a:lnTo>
                  <a:pt x="22625" y="3794"/>
                </a:lnTo>
                <a:lnTo>
                  <a:pt x="22625" y="178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rebuchet MS"/>
              </a:rPr>
              <a:t>            </a:t>
            </a:r>
            <a:r>
              <a:rPr b="0" lang="ru-RU" sz="2800" spc="-1" strike="noStrike">
                <a:solidFill>
                  <a:srgbClr val="c00000"/>
                </a:solidFill>
                <a:latin typeface="Trebuchet MS"/>
              </a:rPr>
              <a:t>Используемая литература: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755640" y="1773000"/>
            <a:ext cx="770400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«Русский язык. 8 класс: учеб. для общеобразоват. учреждений/ С.Г. Бархударов, С.Е. Крючков, Л.Ю. Максимов и др. – 33-е изд. – М. : «Просвещение», 2010 г.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Соловьева Л.Ф.  «Компьютерные технологии для учителя». – Спб.: «БХВ – Петербург», 2004 г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Минько Р.В. «</a:t>
            </a:r>
            <a:r>
              <a:rPr b="0" lang="en-US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Microsoft Office Power Point </a:t>
            </a:r>
            <a:r>
              <a:rPr b="0" lang="ru-RU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2003. Просто как дважды два». – М.: «Эксмо», 2006 г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Интернет-ресурсы ( флеш-анимация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rebuchet MS"/>
              </a:rPr>
              <a:t>Цели урока: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4000" y="2492280"/>
            <a:ext cx="7272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повторить, обобщить и систематизировать материал по данной теме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2.   развивать навыки грамотного письма и орфографическую зоркость, умение определять виды односоставных предложений и находить их в тексте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3.  воспитывать любовь к русскому язык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6875640" y="5589720"/>
            <a:ext cx="755640" cy="503280"/>
          </a:xfrm>
          <a:custGeom>
            <a:avLst/>
            <a:gdLst>
              <a:gd name="textAreaLeft" fmla="*/ 32400 w 755640"/>
              <a:gd name="textAreaRight" fmla="*/ 723240 w 755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2423" h="21600">
                <a:moveTo>
                  <a:pt x="0" y="0"/>
                </a:moveTo>
                <a:lnTo>
                  <a:pt x="32423" y="0"/>
                </a:lnTo>
                <a:lnTo>
                  <a:pt x="32423" y="21600"/>
                </a:lnTo>
                <a:lnTo>
                  <a:pt x="0" y="21600"/>
                </a:lnTo>
                <a:close/>
              </a:path>
              <a:path fill="lightenLess" w="32423" h="21600">
                <a:moveTo>
                  <a:pt x="0" y="0"/>
                </a:moveTo>
                <a:lnTo>
                  <a:pt x="32423" y="0"/>
                </a:lnTo>
                <a:lnTo>
                  <a:pt x="31023" y="1400"/>
                </a:lnTo>
                <a:lnTo>
                  <a:pt x="1400" y="1400"/>
                </a:lnTo>
                <a:close/>
              </a:path>
              <a:path fill="darken" w="32423" h="21600">
                <a:moveTo>
                  <a:pt x="32423" y="0"/>
                </a:moveTo>
                <a:lnTo>
                  <a:pt x="32423" y="21600"/>
                </a:lnTo>
                <a:lnTo>
                  <a:pt x="31023" y="20200"/>
                </a:lnTo>
                <a:lnTo>
                  <a:pt x="31023" y="1400"/>
                </a:lnTo>
                <a:close/>
              </a:path>
              <a:path fill="darkenLess" w="32423" h="21600">
                <a:moveTo>
                  <a:pt x="3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23" y="20200"/>
                </a:lnTo>
                <a:close/>
              </a:path>
              <a:path fill="lighten" w="3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23" h="21600">
                <a:moveTo>
                  <a:pt x="9205" y="3794"/>
                </a:moveTo>
                <a:lnTo>
                  <a:pt x="23218" y="10800"/>
                </a:lnTo>
                <a:lnTo>
                  <a:pt x="9205" y="178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971640" y="566100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10800"/>
                </a:moveTo>
                <a:lnTo>
                  <a:pt x="22425" y="3794"/>
                </a:lnTo>
                <a:lnTo>
                  <a:pt x="22425" y="178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c00000"/>
                </a:solidFill>
                <a:latin typeface="Trebuchet MS"/>
              </a:rPr>
              <a:t>Словарный диктант.</a:t>
            </a:r>
            <a:br>
              <a:rPr sz="2500"/>
            </a:br>
            <a:r>
              <a:rPr b="0" lang="ru-RU" sz="2500" spc="-1" strike="noStrike">
                <a:solidFill>
                  <a:srgbClr val="c00000"/>
                </a:solidFill>
                <a:latin typeface="Trebuchet MS"/>
              </a:rPr>
              <a:t>Самопроверка.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ове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к,     свер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к,            иску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во,                    пр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ент,           к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п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иц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я,           тр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иц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я, д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лом,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сп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ент, к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пью..р, п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йзаж,   тр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ус,     пье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,    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тист,     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тер,    р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шен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15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rebuchet MS"/>
              </a:rPr>
              <a:t>Словарный диктант.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Trebuchet MS"/>
              </a:rPr>
              <a:t>Самопроверка.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00000" y="2421000"/>
            <a:ext cx="7056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Рове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сн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ик, свер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стн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ик, иску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сс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тво, пр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з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и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дент, к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о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мп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о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зиц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и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я, тр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а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диц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и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я, д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и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лом,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э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сп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р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и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мент, к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о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мпьют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р, п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йзаж, тр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олл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й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бус, пье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с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а,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а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ртист,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а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тер, р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шен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6948360" y="5589720"/>
            <a:ext cx="754200" cy="538200"/>
          </a:xfrm>
          <a:custGeom>
            <a:avLst/>
            <a:gdLst>
              <a:gd name="textAreaLeft" fmla="*/ 34560 w 754200"/>
              <a:gd name="textAreaRight" fmla="*/ 719640 w 7542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0263" h="21600">
                <a:moveTo>
                  <a:pt x="0" y="0"/>
                </a:moveTo>
                <a:lnTo>
                  <a:pt x="30263" y="0"/>
                </a:lnTo>
                <a:lnTo>
                  <a:pt x="30263" y="21600"/>
                </a:lnTo>
                <a:lnTo>
                  <a:pt x="0" y="21600"/>
                </a:lnTo>
                <a:close/>
              </a:path>
              <a:path fill="lightenLess" w="30263" h="21600">
                <a:moveTo>
                  <a:pt x="0" y="0"/>
                </a:moveTo>
                <a:lnTo>
                  <a:pt x="30263" y="0"/>
                </a:lnTo>
                <a:lnTo>
                  <a:pt x="28863" y="1400"/>
                </a:lnTo>
                <a:lnTo>
                  <a:pt x="1400" y="1400"/>
                </a:lnTo>
                <a:close/>
              </a:path>
              <a:path fill="darken" w="30263" h="21600">
                <a:moveTo>
                  <a:pt x="30263" y="0"/>
                </a:moveTo>
                <a:lnTo>
                  <a:pt x="30263" y="21600"/>
                </a:lnTo>
                <a:lnTo>
                  <a:pt x="28863" y="20200"/>
                </a:lnTo>
                <a:lnTo>
                  <a:pt x="28863" y="1400"/>
                </a:lnTo>
                <a:close/>
              </a:path>
              <a:path fill="darkenLess" w="30263" h="21600">
                <a:moveTo>
                  <a:pt x="30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3" y="20200"/>
                </a:lnTo>
                <a:close/>
              </a:path>
              <a:path fill="lighten" w="30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3" h="21600">
                <a:moveTo>
                  <a:pt x="8125" y="3794"/>
                </a:moveTo>
                <a:lnTo>
                  <a:pt x="22138" y="10800"/>
                </a:lnTo>
                <a:lnTo>
                  <a:pt x="8125" y="178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1042920" y="558972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10800"/>
                </a:moveTo>
                <a:lnTo>
                  <a:pt x="22469" y="3794"/>
                </a:lnTo>
                <a:lnTo>
                  <a:pt x="22469" y="178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heel spokes="8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rebuchet MS"/>
              </a:rPr>
              <a:t>Работа с таблицей</a:t>
            </a:r>
            <a:r>
              <a:rPr b="0" lang="ru-RU" sz="2800" spc="-1" strike="noStrike">
                <a:solidFill>
                  <a:srgbClr val="90c226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23640" y="1700280"/>
            <a:ext cx="7777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rebuchet MS"/>
              </a:rPr>
              <a:t>Определить соответствие главных членов виду односоставного предложения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523880" y="2070000"/>
          <a:ext cx="6096240" cy="3978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Trebuchet MS"/>
                        </a:rPr>
                        <a:t>Виды предлож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Trebuchet MS"/>
                        </a:rPr>
                        <a:t>Главный член предложения  выражен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 Назыв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 Глаголы 2 л. ед. ч. и 3 л. ед.ч. (пословицы, крылатые выраж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 Определенно-ли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 Безличный глагол., категория состоя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 Неопределенно-ли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 Глаголы 1 и 2 л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. Безлич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. Глаголы 3л. мн.ч. и прош.время мн.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. Обобщенно-ли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. Существительное в Им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7164360" y="580536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Управляющая кнопка: назад 10">
            <a:hlinkClick r:id="" action="ppaction://hlinkshowjump?jump=previousslide"/>
          </p:cNvPr>
          <p:cNvSpPr/>
          <p:nvPr/>
        </p:nvSpPr>
        <p:spPr>
          <a:xfrm>
            <a:off x="1042920" y="580536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10800"/>
                </a:moveTo>
                <a:lnTo>
                  <a:pt x="22469" y="3794"/>
                </a:lnTo>
                <a:lnTo>
                  <a:pt x="22469" y="178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heel spokes="8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rebuchet MS"/>
              </a:rPr>
              <a:t>Синтаксический разбор  предложения</a:t>
            </a:r>
            <a:r>
              <a:rPr b="0" lang="ru-RU" sz="3200" spc="-1" strike="noStrike">
                <a:solidFill>
                  <a:srgbClr val="c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240" y="1989000"/>
            <a:ext cx="6945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Ст…пной ветер с…брал (за) Доном (с) п…левых дорог тонкую сея(н,нн)ую пыль и поднял в неб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2" name="Рисунок 3" descr=""/>
          <p:cNvPicPr/>
          <p:nvPr/>
        </p:nvPicPr>
        <p:blipFill>
          <a:blip r:embed="rId1"/>
          <a:stretch/>
        </p:blipFill>
        <p:spPr>
          <a:xfrm>
            <a:off x="6732720" y="5229360"/>
            <a:ext cx="1008000" cy="863640"/>
          </a:xfrm>
          <a:prstGeom prst="rect">
            <a:avLst/>
          </a:prstGeom>
          <a:ln w="0">
            <a:noFill/>
          </a:ln>
        </p:spPr>
      </p:pic>
      <p:sp>
        <p:nvSpPr>
          <p:cNvPr id="233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6012000" y="5445000"/>
            <a:ext cx="753840" cy="538200"/>
          </a:xfrm>
          <a:custGeom>
            <a:avLst/>
            <a:gdLst>
              <a:gd name="textAreaLeft" fmla="*/ 34560 w 753840"/>
              <a:gd name="textAreaRight" fmla="*/ 719280 w 7538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0249" h="21600">
                <a:moveTo>
                  <a:pt x="0" y="0"/>
                </a:moveTo>
                <a:lnTo>
                  <a:pt x="30249" y="0"/>
                </a:lnTo>
                <a:lnTo>
                  <a:pt x="30249" y="21600"/>
                </a:lnTo>
                <a:lnTo>
                  <a:pt x="0" y="21600"/>
                </a:lnTo>
                <a:close/>
              </a:path>
              <a:path fill="lightenLess" w="30249" h="21600">
                <a:moveTo>
                  <a:pt x="0" y="0"/>
                </a:moveTo>
                <a:lnTo>
                  <a:pt x="30249" y="0"/>
                </a:lnTo>
                <a:lnTo>
                  <a:pt x="28849" y="1400"/>
                </a:lnTo>
                <a:lnTo>
                  <a:pt x="1400" y="1400"/>
                </a:lnTo>
                <a:close/>
              </a:path>
              <a:path fill="darken" w="30249" h="21600">
                <a:moveTo>
                  <a:pt x="30249" y="0"/>
                </a:moveTo>
                <a:lnTo>
                  <a:pt x="30249" y="21600"/>
                </a:lnTo>
                <a:lnTo>
                  <a:pt x="28849" y="20200"/>
                </a:lnTo>
                <a:lnTo>
                  <a:pt x="28849" y="1400"/>
                </a:lnTo>
                <a:close/>
              </a:path>
              <a:path fill="darkenLess" w="30249" h="21600">
                <a:moveTo>
                  <a:pt x="30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9" y="20200"/>
                </a:lnTo>
                <a:close/>
              </a:path>
              <a:path fill="lighten" w="30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9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042920" y="551664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10800"/>
                </a:moveTo>
                <a:lnTo>
                  <a:pt x="22425" y="3794"/>
                </a:lnTo>
                <a:lnTo>
                  <a:pt x="22425" y="178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heel spokes="8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rebuchet MS"/>
              </a:rPr>
              <a:t>Закончить пословицу.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55280" y="2060280"/>
            <a:ext cx="748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От добра…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just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Сам погибай…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just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Сделал дело…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just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Любишь кататься…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just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Что посеешь…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just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За двумя зайцами погонишься…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just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Не имей сто рублей…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   </a:t>
            </a: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Односоставные предложения какого вида у вас получились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(Обобщенно-личные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spcBef>
                <a:spcPts val="10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5148360" y="5589720"/>
            <a:ext cx="753840" cy="538200"/>
          </a:xfrm>
          <a:custGeom>
            <a:avLst/>
            <a:gdLst>
              <a:gd name="textAreaLeft" fmla="*/ 34560 w 753840"/>
              <a:gd name="textAreaRight" fmla="*/ 719280 w 7538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0249" h="21600">
                <a:moveTo>
                  <a:pt x="0" y="0"/>
                </a:moveTo>
                <a:lnTo>
                  <a:pt x="30249" y="0"/>
                </a:lnTo>
                <a:lnTo>
                  <a:pt x="30249" y="21600"/>
                </a:lnTo>
                <a:lnTo>
                  <a:pt x="0" y="21600"/>
                </a:lnTo>
                <a:close/>
              </a:path>
              <a:path fill="lightenLess" w="30249" h="21600">
                <a:moveTo>
                  <a:pt x="0" y="0"/>
                </a:moveTo>
                <a:lnTo>
                  <a:pt x="30249" y="0"/>
                </a:lnTo>
                <a:lnTo>
                  <a:pt x="28849" y="1400"/>
                </a:lnTo>
                <a:lnTo>
                  <a:pt x="1400" y="1400"/>
                </a:lnTo>
                <a:close/>
              </a:path>
              <a:path fill="darken" w="30249" h="21600">
                <a:moveTo>
                  <a:pt x="30249" y="0"/>
                </a:moveTo>
                <a:lnTo>
                  <a:pt x="30249" y="21600"/>
                </a:lnTo>
                <a:lnTo>
                  <a:pt x="28849" y="20200"/>
                </a:lnTo>
                <a:lnTo>
                  <a:pt x="28849" y="1400"/>
                </a:lnTo>
                <a:close/>
              </a:path>
              <a:path fill="darkenLess" w="30249" h="21600">
                <a:moveTo>
                  <a:pt x="30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9" y="20200"/>
                </a:lnTo>
                <a:close/>
              </a:path>
              <a:path fill="lighten" w="30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9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042920" y="566100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10800"/>
                </a:moveTo>
                <a:lnTo>
                  <a:pt x="22425" y="3794"/>
                </a:lnTo>
                <a:lnTo>
                  <a:pt x="22425" y="178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7" descr=""/>
          <p:cNvPicPr/>
          <p:nvPr/>
        </p:nvPicPr>
        <p:blipFill>
          <a:blip r:embed="rId1"/>
          <a:stretch/>
        </p:blipFill>
        <p:spPr>
          <a:xfrm>
            <a:off x="6659640" y="5157720"/>
            <a:ext cx="720720" cy="917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2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0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20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2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5582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rebuchet MS"/>
              </a:rPr>
              <a:t>     </a:t>
            </a:r>
            <a:r>
              <a:rPr b="0" lang="ru-RU" sz="2800" spc="-1" strike="noStrike">
                <a:solidFill>
                  <a:srgbClr val="c00000"/>
                </a:solidFill>
                <a:latin typeface="Trebuchet MS"/>
              </a:rPr>
              <a:t>Найти односоставные предложения                         в тексте, определить их вид.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058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Еду. Тихо. Слышны звоны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       </a:t>
            </a: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Под копытом на снегу…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                                              </a:t>
            </a: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С. Есенин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2. Дни поздней осени бранят обыкновенно…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А.С. Пушкин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3. Забайкалье. Зарево закат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    </a:t>
            </a: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Запоздалый птичий перелет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М. Алигер.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Рисунок 3" descr=""/>
          <p:cNvPicPr/>
          <p:nvPr/>
        </p:nvPicPr>
        <p:blipFill>
          <a:blip r:embed="rId1"/>
          <a:stretch/>
        </p:blipFill>
        <p:spPr>
          <a:xfrm>
            <a:off x="6659640" y="5373720"/>
            <a:ext cx="865080" cy="755640"/>
          </a:xfrm>
          <a:prstGeom prst="rect">
            <a:avLst/>
          </a:prstGeom>
          <a:ln w="0">
            <a:noFill/>
          </a:ln>
        </p:spPr>
      </p:pic>
      <p:sp>
        <p:nvSpPr>
          <p:cNvPr id="243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5580000" y="5589720"/>
            <a:ext cx="754200" cy="538200"/>
          </a:xfrm>
          <a:custGeom>
            <a:avLst/>
            <a:gdLst>
              <a:gd name="textAreaLeft" fmla="*/ 34560 w 754200"/>
              <a:gd name="textAreaRight" fmla="*/ 719640 w 7542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0263" h="21600">
                <a:moveTo>
                  <a:pt x="0" y="0"/>
                </a:moveTo>
                <a:lnTo>
                  <a:pt x="30263" y="0"/>
                </a:lnTo>
                <a:lnTo>
                  <a:pt x="30263" y="21600"/>
                </a:lnTo>
                <a:lnTo>
                  <a:pt x="0" y="21600"/>
                </a:lnTo>
                <a:close/>
              </a:path>
              <a:path fill="lightenLess" w="30263" h="21600">
                <a:moveTo>
                  <a:pt x="0" y="0"/>
                </a:moveTo>
                <a:lnTo>
                  <a:pt x="30263" y="0"/>
                </a:lnTo>
                <a:lnTo>
                  <a:pt x="28863" y="1400"/>
                </a:lnTo>
                <a:lnTo>
                  <a:pt x="1400" y="1400"/>
                </a:lnTo>
                <a:close/>
              </a:path>
              <a:path fill="darken" w="30263" h="21600">
                <a:moveTo>
                  <a:pt x="30263" y="0"/>
                </a:moveTo>
                <a:lnTo>
                  <a:pt x="30263" y="21600"/>
                </a:lnTo>
                <a:lnTo>
                  <a:pt x="28863" y="20200"/>
                </a:lnTo>
                <a:lnTo>
                  <a:pt x="28863" y="1400"/>
                </a:lnTo>
                <a:close/>
              </a:path>
              <a:path fill="darkenLess" w="30263" h="21600">
                <a:moveTo>
                  <a:pt x="30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3" y="20200"/>
                </a:lnTo>
                <a:close/>
              </a:path>
              <a:path fill="lighten" w="30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3" h="21600">
                <a:moveTo>
                  <a:pt x="8125" y="3794"/>
                </a:moveTo>
                <a:lnTo>
                  <a:pt x="22138" y="10800"/>
                </a:lnTo>
                <a:lnTo>
                  <a:pt x="8125" y="178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042920" y="558972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10800"/>
                </a:moveTo>
                <a:lnTo>
                  <a:pt x="22469" y="3794"/>
                </a:lnTo>
                <a:lnTo>
                  <a:pt x="22469" y="178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heel spokes="8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2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20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0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0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rebuchet MS"/>
              </a:rPr>
              <a:t>Итог. Самостоятельная работа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11280" y="1989000"/>
            <a:ext cx="7921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rebuchet MS"/>
              </a:rPr>
              <a:t>Списать текст. В предложениях графически обозначить грамматические основы.  Указать вид односоставных предложен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        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Опять величественно загремело где -то в бездонной, пустой вышине. Вокруг меня что-то  крупно и быстро зашуршало, запахло мокрой свежестью весенней зелени. Прямой редкий дождь длинными стеклянными нитями засверкал из нового большого облака, бесконечно высоко вставшего над самой моей головой. И по недвижимой и ровной поверхности зеркальной белой воды, быстро шумя, запрыгали бесчисленные гвозд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                                                            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(И. Бунин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12" descr="Рисунок7"/>
          <p:cNvPicPr/>
          <p:nvPr/>
        </p:nvPicPr>
        <p:blipFill>
          <a:blip r:embed="rId1"/>
          <a:stretch/>
        </p:blipFill>
        <p:spPr>
          <a:xfrm>
            <a:off x="6443640" y="4941720"/>
            <a:ext cx="1066680" cy="1000440"/>
          </a:xfrm>
          <a:prstGeom prst="rect">
            <a:avLst/>
          </a:prstGeom>
          <a:ln w="0">
            <a:noFill/>
          </a:ln>
        </p:spPr>
      </p:pic>
      <p:sp>
        <p:nvSpPr>
          <p:cNvPr id="248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5724360" y="5516640"/>
            <a:ext cx="754200" cy="539640"/>
          </a:xfrm>
          <a:custGeom>
            <a:avLst/>
            <a:gdLst>
              <a:gd name="textAreaLeft" fmla="*/ 34920 w 754200"/>
              <a:gd name="textAreaRight" fmla="*/ 719280 w 7542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30182" h="21600">
                <a:moveTo>
                  <a:pt x="0" y="0"/>
                </a:moveTo>
                <a:lnTo>
                  <a:pt x="30182" y="0"/>
                </a:lnTo>
                <a:lnTo>
                  <a:pt x="30182" y="21600"/>
                </a:lnTo>
                <a:lnTo>
                  <a:pt x="0" y="21600"/>
                </a:lnTo>
                <a:close/>
              </a:path>
              <a:path fill="lightenLess" w="30182" h="21600">
                <a:moveTo>
                  <a:pt x="0" y="0"/>
                </a:moveTo>
                <a:lnTo>
                  <a:pt x="30182" y="0"/>
                </a:lnTo>
                <a:lnTo>
                  <a:pt x="28782" y="1400"/>
                </a:lnTo>
                <a:lnTo>
                  <a:pt x="1400" y="1400"/>
                </a:lnTo>
                <a:close/>
              </a:path>
              <a:path fill="darken" w="30182" h="21600">
                <a:moveTo>
                  <a:pt x="30182" y="0"/>
                </a:moveTo>
                <a:lnTo>
                  <a:pt x="30182" y="21600"/>
                </a:lnTo>
                <a:lnTo>
                  <a:pt x="28782" y="20200"/>
                </a:lnTo>
                <a:lnTo>
                  <a:pt x="28782" y="1400"/>
                </a:lnTo>
                <a:close/>
              </a:path>
              <a:path fill="darkenLess" w="30182" h="21600">
                <a:moveTo>
                  <a:pt x="30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82" y="20200"/>
                </a:lnTo>
                <a:close/>
              </a:path>
              <a:path fill="lighten" w="30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82" h="21600">
                <a:moveTo>
                  <a:pt x="8085" y="3794"/>
                </a:moveTo>
                <a:lnTo>
                  <a:pt x="22098" y="10800"/>
                </a:lnTo>
                <a:lnTo>
                  <a:pt x="8085" y="178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900000" y="5589720"/>
            <a:ext cx="719280" cy="50328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64" h="21600">
                <a:moveTo>
                  <a:pt x="0" y="0"/>
                </a:moveTo>
                <a:lnTo>
                  <a:pt x="30864" y="0"/>
                </a:lnTo>
                <a:lnTo>
                  <a:pt x="30864" y="21600"/>
                </a:lnTo>
                <a:lnTo>
                  <a:pt x="0" y="21600"/>
                </a:lnTo>
                <a:close/>
              </a:path>
              <a:path fill="lightenLess" w="30864" h="21600">
                <a:moveTo>
                  <a:pt x="0" y="0"/>
                </a:moveTo>
                <a:lnTo>
                  <a:pt x="30864" y="0"/>
                </a:lnTo>
                <a:lnTo>
                  <a:pt x="29464" y="1400"/>
                </a:lnTo>
                <a:lnTo>
                  <a:pt x="1400" y="1400"/>
                </a:lnTo>
                <a:close/>
              </a:path>
              <a:path fill="darken" w="30864" h="21600">
                <a:moveTo>
                  <a:pt x="30864" y="0"/>
                </a:moveTo>
                <a:lnTo>
                  <a:pt x="30864" y="21600"/>
                </a:lnTo>
                <a:lnTo>
                  <a:pt x="29464" y="20200"/>
                </a:lnTo>
                <a:lnTo>
                  <a:pt x="29464" y="1400"/>
                </a:lnTo>
                <a:close/>
              </a:path>
              <a:path fill="darkenLess" w="30864" h="21600">
                <a:moveTo>
                  <a:pt x="30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4" y="20200"/>
                </a:lnTo>
                <a:close/>
              </a:path>
              <a:path fill="lighten" w="30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64" h="21600">
                <a:moveTo>
                  <a:pt x="8425" y="10800"/>
                </a:moveTo>
                <a:lnTo>
                  <a:pt x="22438" y="3794"/>
                </a:lnTo>
                <a:lnTo>
                  <a:pt x="22438" y="178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heel spokes="8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2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0:03:28Z</dcterms:created>
  <dc:creator>Шежгутова И.И.</dc:creator>
  <dc:description/>
  <dc:language>en-US</dc:language>
  <cp:lastModifiedBy>user</cp:lastModifiedBy>
  <dcterms:modified xsi:type="dcterms:W3CDTF">2023-06-13T08:40:16Z</dcterms:modified>
  <cp:revision>92</cp:revision>
  <dc:subject/>
  <dc:title>Урок русского языка в 8 классе. «Односоставные предложения. Повторение и обобщение.»</dc:title>
</cp:coreProperties>
</file>