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950-01D4-4CA8-813B-0283B07E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668-9843-42CC-818E-6CFD3909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0E9-ABB6-4A20-83C9-B2E7DF34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B32-2B02-4877-8E99-DD67CCFD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59A-8D55-4312-9192-0FA7AADC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0CE-BF50-4F57-8B73-D3730802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EEA-A682-4343-80FC-6C315987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405-26FE-4B89-A282-EBB7CCC4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092-341D-4D27-B727-2C43F495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137-2F04-45DA-98D8-F005417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EF6-6308-4E49-B939-65574C28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245-E37E-4E70-8C79-402E0A8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2F5C-F74B-429D-929C-84D616FAD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1673809177323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1673807072251(1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838160" y="0"/>
            <a:ext cx="54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1673807072204(1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1673807072222(1).jpeg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1673807072239(1)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673807072185(1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1673531870658.jpeg"/>
          <p:cNvPicPr/>
          <p:nvPr/>
        </p:nvPicPr>
        <p:blipFill>
          <a:blip r:embed="rId1"/>
          <a:stretch/>
        </p:blipFill>
        <p:spPr>
          <a:xfrm>
            <a:off x="4643280" y="333360"/>
            <a:ext cx="4249800" cy="307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1673531870667.png"/>
          <p:cNvPicPr/>
          <p:nvPr/>
        </p:nvPicPr>
        <p:blipFill>
          <a:blip r:embed="rId2"/>
          <a:stretch/>
        </p:blipFill>
        <p:spPr>
          <a:xfrm>
            <a:off x="4643280" y="3573360"/>
            <a:ext cx="4249800" cy="2994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1673531870677.png"/>
          <p:cNvPicPr/>
          <p:nvPr/>
        </p:nvPicPr>
        <p:blipFill>
          <a:blip r:embed="rId3"/>
          <a:stretch/>
        </p:blipFill>
        <p:spPr>
          <a:xfrm>
            <a:off x="250920" y="33336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1673531870686.jpeg"/>
          <p:cNvPicPr/>
          <p:nvPr/>
        </p:nvPicPr>
        <p:blipFill>
          <a:blip r:embed="rId4"/>
          <a:stretch/>
        </p:blipFill>
        <p:spPr>
          <a:xfrm>
            <a:off x="239760" y="3573360"/>
            <a:ext cx="42609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1673809177323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kartinkiptic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1673809150489.jpg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16738070723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16738070722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16738070722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6738070722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1673807072262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5T15:56:01Z</dcterms:created>
  <dc:creator>OAS</dc:creator>
  <dc:description/>
  <dc:language>en-US</dc:language>
  <cp:lastModifiedBy>Татьяна Ульянова</cp:lastModifiedBy>
  <dcterms:modified xsi:type="dcterms:W3CDTF">2023-06-13T16:45:16Z</dcterms:modified>
  <cp:revision>6</cp:revision>
  <dc:subject/>
  <dc:title>Слайд 1</dc:title>
</cp:coreProperties>
</file>