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29A-96C6-4BD2-A694-5BC38452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E5C-85AD-4294-9B60-269A6EDD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EE1-795E-480A-9B87-41A03AC1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2D4-E10C-47CE-BB76-ACAF443D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500-9B2F-46DD-8E2A-A670CD37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DA6-DEB7-47F6-9C3C-CE6C84D1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614-7767-4F4A-B170-EED6025E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255-A7C3-4FB3-8F76-0566E314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FD7-C282-4761-994B-CADD9C29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F87-7039-4097-83F3-84098B48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938-53C5-484A-B8BB-D07CB949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D88-E8BF-466A-ADAF-FAA41FD6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EE62-680F-44B2-89FC-86497EA4C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1673809177323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1673807072251(1)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1838160" y="0"/>
            <a:ext cx="546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1673807072204(1)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1673807072222(1).jpeg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1673807072239(1)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1673807072185(1)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1673531870658.jpeg"/>
          <p:cNvPicPr/>
          <p:nvPr/>
        </p:nvPicPr>
        <p:blipFill>
          <a:blip r:embed="rId1"/>
          <a:stretch/>
        </p:blipFill>
        <p:spPr>
          <a:xfrm>
            <a:off x="4643280" y="333360"/>
            <a:ext cx="4249800" cy="307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1673531870667.png"/>
          <p:cNvPicPr/>
          <p:nvPr/>
        </p:nvPicPr>
        <p:blipFill>
          <a:blip r:embed="rId2"/>
          <a:stretch/>
        </p:blipFill>
        <p:spPr>
          <a:xfrm>
            <a:off x="4643280" y="3573360"/>
            <a:ext cx="4249800" cy="29941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1673531870677.png"/>
          <p:cNvPicPr/>
          <p:nvPr/>
        </p:nvPicPr>
        <p:blipFill>
          <a:blip r:embed="rId3"/>
          <a:stretch/>
        </p:blipFill>
        <p:spPr>
          <a:xfrm>
            <a:off x="250920" y="333360"/>
            <a:ext cx="4249800" cy="3095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1673531870686.jpeg"/>
          <p:cNvPicPr/>
          <p:nvPr/>
        </p:nvPicPr>
        <p:blipFill>
          <a:blip r:embed="rId4"/>
          <a:stretch/>
        </p:blipFill>
        <p:spPr>
          <a:xfrm>
            <a:off x="239760" y="3573360"/>
            <a:ext cx="42609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1673809177323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kartinkiptic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1673809150489.jpg"/>
          <p:cNvPicPr/>
          <p:nvPr/>
        </p:nvPicPr>
        <p:blipFill>
          <a:blip r:embed="rId1"/>
          <a:stretch/>
        </p:blipFill>
        <p:spPr>
          <a:xfrm>
            <a:off x="-17640" y="0"/>
            <a:ext cx="917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16738070723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16738070722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16738070722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16738070722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1673807072262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5T15:56:01Z</dcterms:created>
  <dc:creator>OAS</dc:creator>
  <dc:description/>
  <dc:language>en-US</dc:language>
  <cp:lastModifiedBy>Татьяна Ульянова</cp:lastModifiedBy>
  <dcterms:modified xsi:type="dcterms:W3CDTF">2023-06-13T16:45:16Z</dcterms:modified>
  <cp:revision>6</cp:revision>
  <dc:subject/>
  <dc:title>Слайд 1</dc:title>
</cp:coreProperties>
</file>