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418-12AD-42F0-9208-F97DC410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9E5-21DD-4365-A11E-6A3B70EE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CDB-51AC-4CEA-9BEE-C5800EA9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39C-DD3F-4732-B527-8F422ACB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C40EC-84D3-4DCF-8D61-BD9CE8C4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B09E6-25CD-4280-A7B8-0CA83BDE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8AF74-5093-4DAF-821C-687F0CE2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3B5EE-F351-4AE3-B676-B635D80B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40E6-EA9E-4055-9828-F5A047C2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D7195-FAFB-4F60-AADE-704C79A4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A9BD9-6033-4ED4-A292-0CCA2DE9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183-43F6-485F-B642-3E61EEB6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99E6F-DC4A-41AA-B412-927527B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67265-C685-4EF5-AC05-E8CCD34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850C-F34A-4003-B7EB-4C9F4B8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7B249-517B-435E-AB5D-BDC1CC0B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7AB45-C9ED-48DE-B81D-1C4284CA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ED6-F38E-40F5-8D2B-6B89CDD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354-CA3B-412E-9532-C992AB6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17A-C051-4557-BDB2-43BB9C73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529-F16E-4B7F-B5E5-B4A77CD1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C4D-8386-4626-85D5-83FFC4E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917-975C-4C26-8CC9-0FC151EE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BAD-2E3F-4658-AF38-F277D407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D7DE-9274-4108-B5E9-4A118F1296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28E-1352-453C-8F9F-121043C529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ные особенности климата России и климатообразующие факто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4652640"/>
            <a:ext cx="65134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У «Добрая школа на Сольб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жонкова Н.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.10.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иркуляция воздушных мас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468360" y="1052640"/>
            <a:ext cx="8424360" cy="5398560"/>
            <a:chOff x="468360" y="1052640"/>
            <a:chExt cx="8424360" cy="5398560"/>
          </a:xfrm>
        </p:grpSpPr>
        <p:pic>
          <p:nvPicPr>
            <p:cNvPr id="163" name="Picture 6" descr="картРосс1 copy"/>
            <p:cNvPicPr/>
            <p:nvPr/>
          </p:nvPicPr>
          <p:blipFill>
            <a:blip r:embed="rId1"/>
            <a:srcRect l="1077" t="0" r="0" b="0"/>
            <a:stretch/>
          </p:blipFill>
          <p:spPr>
            <a:xfrm>
              <a:off x="468360" y="1052640"/>
              <a:ext cx="8424360" cy="5398560"/>
            </a:xfrm>
            <a:prstGeom prst="rect">
              <a:avLst/>
            </a:prstGeom>
            <a:ln w="19080">
              <a:solidFill>
                <a:srgbClr val="9900cc"/>
              </a:solidFill>
              <a:miter/>
            </a:ln>
          </p:spPr>
        </p:pic>
        <p:sp>
          <p:nvSpPr>
            <p:cNvPr id="164" name="Freeform 7"/>
            <p:cNvSpPr/>
            <p:nvPr/>
          </p:nvSpPr>
          <p:spPr>
            <a:xfrm>
              <a:off x="2217600" y="1069560"/>
              <a:ext cx="5957640" cy="2707560"/>
            </a:xfrm>
            <a:custGeom>
              <a:avLst/>
              <a:gdLst/>
              <a:ahLst/>
              <a:rect l="l" t="t" r="r" b="b"/>
              <a:pathLst>
                <a:path w="3123" h="1306">
                  <a:moveTo>
                    <a:pt x="0" y="0"/>
                  </a:moveTo>
                  <a:cubicBezTo>
                    <a:pt x="43" y="107"/>
                    <a:pt x="118" y="458"/>
                    <a:pt x="258" y="644"/>
                  </a:cubicBezTo>
                  <a:cubicBezTo>
                    <a:pt x="398" y="830"/>
                    <a:pt x="578" y="1013"/>
                    <a:pt x="841" y="1114"/>
                  </a:cubicBezTo>
                  <a:cubicBezTo>
                    <a:pt x="1083" y="1220"/>
                    <a:pt x="1523" y="1306"/>
                    <a:pt x="1834" y="1250"/>
                  </a:cubicBezTo>
                  <a:cubicBezTo>
                    <a:pt x="2145" y="1194"/>
                    <a:pt x="2491" y="986"/>
                    <a:pt x="2706" y="780"/>
                  </a:cubicBezTo>
                  <a:cubicBezTo>
                    <a:pt x="2921" y="574"/>
                    <a:pt x="3036" y="174"/>
                    <a:pt x="3123" y="15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11"/>
          <p:cNvSpPr/>
          <p:nvPr/>
        </p:nvSpPr>
        <p:spPr>
          <a:xfrm>
            <a:off x="7652160" y="27813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Arial"/>
              </a:rPr>
              <a:t>Мусс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Arial"/>
              </a:rPr>
              <a:t>в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 flipV="1" rot="16200000">
            <a:off x="7387920" y="421308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 flipV="1" rot="5527200">
            <a:off x="7418160" y="37512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 flipV="1" rot="16200000">
            <a:off x="7532280" y="21240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 flipV="1" rot="5400000">
            <a:off x="7587360" y="2428560"/>
            <a:ext cx="304920" cy="576360"/>
          </a:xfrm>
          <a:prstGeom prst="downArrow">
            <a:avLst>
              <a:gd name="adj1" fmla="val 50000"/>
              <a:gd name="adj2" fmla="val 47255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6"/>
          <p:cNvGrpSpPr/>
          <p:nvPr/>
        </p:nvGrpSpPr>
        <p:grpSpPr>
          <a:xfrm>
            <a:off x="8028000" y="2421000"/>
            <a:ext cx="761760" cy="533160"/>
            <a:chOff x="8028000" y="2421000"/>
            <a:chExt cx="761760" cy="533160"/>
          </a:xfrm>
        </p:grpSpPr>
        <p:sp>
          <p:nvSpPr>
            <p:cNvPr id="171" name="AutoShape 17"/>
            <p:cNvSpPr/>
            <p:nvPr/>
          </p:nvSpPr>
          <p:spPr>
            <a:xfrm>
              <a:off x="8180280" y="2421000"/>
              <a:ext cx="304920" cy="3045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Group 18"/>
            <p:cNvGrpSpPr/>
            <p:nvPr/>
          </p:nvGrpSpPr>
          <p:grpSpPr>
            <a:xfrm>
              <a:off x="8028000" y="2649600"/>
              <a:ext cx="761760" cy="304560"/>
              <a:chOff x="8028000" y="2649600"/>
              <a:chExt cx="761760" cy="304560"/>
            </a:xfrm>
          </p:grpSpPr>
          <p:sp>
            <p:nvSpPr>
              <p:cNvPr id="173" name="Freeform 19"/>
              <p:cNvSpPr/>
              <p:nvPr/>
            </p:nvSpPr>
            <p:spPr>
              <a:xfrm>
                <a:off x="8028000" y="264960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0"/>
              <p:cNvSpPr/>
              <p:nvPr/>
            </p:nvSpPr>
            <p:spPr>
              <a:xfrm>
                <a:off x="8037360" y="280836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21"/>
              <p:cNvSpPr/>
              <p:nvPr/>
            </p:nvSpPr>
            <p:spPr>
              <a:xfrm>
                <a:off x="8199000" y="27241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22"/>
              <p:cNvSpPr/>
              <p:nvPr/>
            </p:nvSpPr>
            <p:spPr>
              <a:xfrm>
                <a:off x="8284680" y="28648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23"/>
              <p:cNvSpPr/>
              <p:nvPr/>
            </p:nvSpPr>
            <p:spPr>
              <a:xfrm>
                <a:off x="8398800" y="269604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24"/>
              <p:cNvSpPr/>
              <p:nvPr/>
            </p:nvSpPr>
            <p:spPr>
              <a:xfrm>
                <a:off x="8569800" y="27802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25"/>
          <p:cNvGrpSpPr/>
          <p:nvPr/>
        </p:nvGrpSpPr>
        <p:grpSpPr>
          <a:xfrm>
            <a:off x="8101080" y="4221000"/>
            <a:ext cx="761760" cy="533160"/>
            <a:chOff x="8101080" y="4221000"/>
            <a:chExt cx="761760" cy="533160"/>
          </a:xfrm>
        </p:grpSpPr>
        <p:sp>
          <p:nvSpPr>
            <p:cNvPr id="180" name="AutoShape 26"/>
            <p:cNvSpPr/>
            <p:nvPr/>
          </p:nvSpPr>
          <p:spPr>
            <a:xfrm>
              <a:off x="8253360" y="4221000"/>
              <a:ext cx="304920" cy="3045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27"/>
            <p:cNvGrpSpPr/>
            <p:nvPr/>
          </p:nvGrpSpPr>
          <p:grpSpPr>
            <a:xfrm>
              <a:off x="8101080" y="4449600"/>
              <a:ext cx="761760" cy="304560"/>
              <a:chOff x="8101080" y="4449600"/>
              <a:chExt cx="761760" cy="304560"/>
            </a:xfrm>
          </p:grpSpPr>
          <p:sp>
            <p:nvSpPr>
              <p:cNvPr id="182" name="Freeform 28"/>
              <p:cNvSpPr/>
              <p:nvPr/>
            </p:nvSpPr>
            <p:spPr>
              <a:xfrm>
                <a:off x="8101080" y="444960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8110440" y="460836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8272080" y="45241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8357760" y="46648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8471880" y="449604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8642880" y="45802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34"/>
          <p:cNvSpPr/>
          <p:nvPr/>
        </p:nvSpPr>
        <p:spPr>
          <a:xfrm>
            <a:off x="7938720" y="3448080"/>
            <a:ext cx="9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ихий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3924360" y="19162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03042"/>
                </a:solidFill>
                <a:latin typeface="Arial"/>
              </a:rPr>
              <a:t>Арктический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36"/>
          <p:cNvSpPr/>
          <p:nvPr/>
        </p:nvSpPr>
        <p:spPr>
          <a:xfrm>
            <a:off x="3708360" y="479736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 rot="10800000">
            <a:off x="5651640" y="213336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4572000" y="2708280"/>
            <a:ext cx="762120" cy="614160"/>
            <a:chOff x="4572000" y="2708280"/>
            <a:chExt cx="762120" cy="614160"/>
          </a:xfrm>
        </p:grpSpPr>
        <p:grpSp>
          <p:nvGrpSpPr>
            <p:cNvPr id="193" name="Group 39"/>
            <p:cNvGrpSpPr/>
            <p:nvPr/>
          </p:nvGrpSpPr>
          <p:grpSpPr>
            <a:xfrm>
              <a:off x="4572000" y="2927520"/>
              <a:ext cx="762120" cy="394920"/>
              <a:chOff x="4572000" y="2927520"/>
              <a:chExt cx="762120" cy="394920"/>
            </a:xfrm>
          </p:grpSpPr>
          <p:grpSp>
            <p:nvGrpSpPr>
              <p:cNvPr id="194" name="Group 40"/>
              <p:cNvGrpSpPr/>
              <p:nvPr/>
            </p:nvGrpSpPr>
            <p:grpSpPr>
              <a:xfrm>
                <a:off x="4572000" y="2927520"/>
                <a:ext cx="762120" cy="309240"/>
                <a:chOff x="4572000" y="2927520"/>
                <a:chExt cx="762120" cy="309240"/>
              </a:xfrm>
            </p:grpSpPr>
            <p:sp>
              <p:nvSpPr>
                <p:cNvPr id="195" name="Freeform 41"/>
                <p:cNvSpPr/>
                <p:nvPr/>
              </p:nvSpPr>
              <p:spPr>
                <a:xfrm>
                  <a:off x="4572000" y="2927520"/>
                  <a:ext cx="762120" cy="309240"/>
                </a:xfrm>
                <a:custGeom>
                  <a:avLst/>
                  <a:gdLst/>
                  <a:ahLst/>
                  <a:rect l="l" t="t" r="r" b="b"/>
                  <a:pathLst>
                    <a:path w="1282" h="519">
                      <a:moveTo>
                        <a:pt x="8" y="266"/>
                      </a:moveTo>
                      <a:cubicBezTo>
                        <a:pt x="0" y="145"/>
                        <a:pt x="120" y="114"/>
                        <a:pt x="159" y="107"/>
                      </a:cubicBezTo>
                      <a:cubicBezTo>
                        <a:pt x="318" y="107"/>
                        <a:pt x="237" y="143"/>
                        <a:pt x="280" y="130"/>
                      </a:cubicBezTo>
                      <a:cubicBezTo>
                        <a:pt x="322" y="121"/>
                        <a:pt x="355" y="59"/>
                        <a:pt x="409" y="54"/>
                      </a:cubicBezTo>
                      <a:cubicBezTo>
                        <a:pt x="538" y="54"/>
                        <a:pt x="548" y="104"/>
                        <a:pt x="606" y="99"/>
                      </a:cubicBezTo>
                      <a:cubicBezTo>
                        <a:pt x="664" y="94"/>
                        <a:pt x="696" y="17"/>
                        <a:pt x="758" y="23"/>
                      </a:cubicBezTo>
                      <a:cubicBezTo>
                        <a:pt x="887" y="0"/>
                        <a:pt x="915" y="121"/>
                        <a:pt x="978" y="137"/>
                      </a:cubicBezTo>
                      <a:cubicBezTo>
                        <a:pt x="1041" y="159"/>
                        <a:pt x="1099" y="119"/>
                        <a:pt x="1137" y="152"/>
                      </a:cubicBezTo>
                      <a:cubicBezTo>
                        <a:pt x="1243" y="198"/>
                        <a:pt x="1282" y="276"/>
                        <a:pt x="1205" y="334"/>
                      </a:cubicBezTo>
                      <a:cubicBezTo>
                        <a:pt x="1128" y="392"/>
                        <a:pt x="840" y="483"/>
                        <a:pt x="675" y="501"/>
                      </a:cubicBezTo>
                      <a:cubicBezTo>
                        <a:pt x="510" y="519"/>
                        <a:pt x="323" y="479"/>
                        <a:pt x="212" y="440"/>
                      </a:cubicBezTo>
                      <a:cubicBezTo>
                        <a:pt x="101" y="401"/>
                        <a:pt x="16" y="387"/>
                        <a:pt x="8" y="2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1d8ff"/>
                    </a:gs>
                    <a:gs pos="100000">
                      <a:srgbClr val="758fa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2"/>
                <p:cNvSpPr/>
                <p:nvPr/>
              </p:nvSpPr>
              <p:spPr>
                <a:xfrm>
                  <a:off x="4581360" y="3088800"/>
                  <a:ext cx="19944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3"/>
                <p:cNvSpPr/>
                <p:nvPr/>
              </p:nvSpPr>
              <p:spPr>
                <a:xfrm>
                  <a:off x="4743000" y="3003120"/>
                  <a:ext cx="19980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44"/>
                <p:cNvSpPr/>
                <p:nvPr/>
              </p:nvSpPr>
              <p:spPr>
                <a:xfrm>
                  <a:off x="4828680" y="3146400"/>
                  <a:ext cx="19980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5"/>
                <p:cNvSpPr/>
                <p:nvPr/>
              </p:nvSpPr>
              <p:spPr>
                <a:xfrm>
                  <a:off x="4942800" y="2974680"/>
                  <a:ext cx="19944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6"/>
                <p:cNvSpPr/>
                <p:nvPr/>
              </p:nvSpPr>
              <p:spPr>
                <a:xfrm>
                  <a:off x="5114160" y="3060360"/>
                  <a:ext cx="199440" cy="85680"/>
                </a:xfrm>
                <a:custGeom>
                  <a:avLst/>
                  <a:gdLst/>
                  <a:ahLst/>
                  <a:rect l="l" t="t" r="r" b="b"/>
                  <a:pathLst>
                    <a:path w="416" h="184">
                      <a:moveTo>
                        <a:pt x="150" y="100"/>
                      </a:moveTo>
                      <a:cubicBezTo>
                        <a:pt x="37" y="93"/>
                        <a:pt x="40" y="0"/>
                        <a:pt x="21" y="9"/>
                      </a:cubicBezTo>
                      <a:cubicBezTo>
                        <a:pt x="2" y="17"/>
                        <a:pt x="0" y="105"/>
                        <a:pt x="29" y="131"/>
                      </a:cubicBezTo>
                      <a:cubicBezTo>
                        <a:pt x="58" y="157"/>
                        <a:pt x="133" y="184"/>
                        <a:pt x="196" y="166"/>
                      </a:cubicBezTo>
                      <a:cubicBezTo>
                        <a:pt x="259" y="148"/>
                        <a:pt x="416" y="36"/>
                        <a:pt x="408" y="25"/>
                      </a:cubicBezTo>
                      <a:cubicBezTo>
                        <a:pt x="400" y="14"/>
                        <a:pt x="263" y="107"/>
                        <a:pt x="150" y="1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8fa9"/>
                    </a:gs>
                    <a:gs pos="100000">
                      <a:srgbClr val="b1d8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Line 47"/>
              <p:cNvSpPr/>
              <p:nvPr/>
            </p:nvSpPr>
            <p:spPr>
              <a:xfrm>
                <a:off x="4641120" y="2927520"/>
                <a:ext cx="554040" cy="3330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48"/>
              <p:cNvSpPr/>
              <p:nvPr/>
            </p:nvSpPr>
            <p:spPr>
              <a:xfrm flipV="1">
                <a:off x="4632480" y="2931840"/>
                <a:ext cx="502200" cy="390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" name="AutoShape 49"/>
            <p:cNvSpPr/>
            <p:nvPr/>
          </p:nvSpPr>
          <p:spPr>
            <a:xfrm>
              <a:off x="4800600" y="27082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Text Box 50"/>
          <p:cNvSpPr/>
          <p:nvPr/>
        </p:nvSpPr>
        <p:spPr>
          <a:xfrm>
            <a:off x="2916360" y="6021360"/>
            <a:ext cx="44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e1e28"/>
                </a:solidFill>
                <a:latin typeface="Arial"/>
              </a:rPr>
              <a:t>Континентальный во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51"/>
          <p:cNvSpPr/>
          <p:nvPr/>
        </p:nvSpPr>
        <p:spPr>
          <a:xfrm>
            <a:off x="3995640" y="220500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2"/>
          <p:cNvSpPr/>
          <p:nvPr/>
        </p:nvSpPr>
        <p:spPr>
          <a:xfrm>
            <a:off x="5724360" y="472428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6"/>
          <p:cNvGrpSpPr/>
          <p:nvPr/>
        </p:nvGrpSpPr>
        <p:grpSpPr>
          <a:xfrm>
            <a:off x="4067280" y="5583240"/>
            <a:ext cx="761760" cy="394920"/>
            <a:chOff x="4067280" y="5583240"/>
            <a:chExt cx="761760" cy="394920"/>
          </a:xfrm>
        </p:grpSpPr>
        <p:grpSp>
          <p:nvGrpSpPr>
            <p:cNvPr id="208" name="Group 57"/>
            <p:cNvGrpSpPr/>
            <p:nvPr/>
          </p:nvGrpSpPr>
          <p:grpSpPr>
            <a:xfrm>
              <a:off x="4067280" y="5583240"/>
              <a:ext cx="761760" cy="309240"/>
              <a:chOff x="4067280" y="5583240"/>
              <a:chExt cx="761760" cy="309240"/>
            </a:xfrm>
          </p:grpSpPr>
          <p:sp>
            <p:nvSpPr>
              <p:cNvPr id="209" name="Freeform 58"/>
              <p:cNvSpPr/>
              <p:nvPr/>
            </p:nvSpPr>
            <p:spPr>
              <a:xfrm>
                <a:off x="4067280" y="5583240"/>
                <a:ext cx="761760" cy="30924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59"/>
              <p:cNvSpPr/>
              <p:nvPr/>
            </p:nvSpPr>
            <p:spPr>
              <a:xfrm>
                <a:off x="4076640" y="574452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>
                <a:off x="4238280" y="565884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>
                <a:off x="4323960" y="580212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>
                <a:off x="4438080" y="563040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63"/>
              <p:cNvSpPr/>
              <p:nvPr/>
            </p:nvSpPr>
            <p:spPr>
              <a:xfrm>
                <a:off x="4609080" y="5716080"/>
                <a:ext cx="199440" cy="856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Line 64"/>
            <p:cNvSpPr/>
            <p:nvPr/>
          </p:nvSpPr>
          <p:spPr>
            <a:xfrm>
              <a:off x="4136400" y="5583240"/>
              <a:ext cx="553680" cy="3330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V="1">
              <a:off x="4127760" y="5587560"/>
              <a:ext cx="501840" cy="3906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AutoShape 66"/>
          <p:cNvSpPr/>
          <p:nvPr/>
        </p:nvSpPr>
        <p:spPr>
          <a:xfrm>
            <a:off x="4859280" y="5373720"/>
            <a:ext cx="685800" cy="685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67"/>
          <p:cNvSpPr/>
          <p:nvPr/>
        </p:nvSpPr>
        <p:spPr>
          <a:xfrm>
            <a:off x="1240560" y="1695600"/>
            <a:ext cx="253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Ветры Запад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ерен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8"/>
          <p:cNvSpPr/>
          <p:nvPr/>
        </p:nvSpPr>
        <p:spPr>
          <a:xfrm rot="17769000">
            <a:off x="1217520" y="1815840"/>
            <a:ext cx="609840" cy="167616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33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69"/>
          <p:cNvGrpSpPr/>
          <p:nvPr/>
        </p:nvGrpSpPr>
        <p:grpSpPr>
          <a:xfrm>
            <a:off x="755640" y="2637000"/>
            <a:ext cx="1523880" cy="914400"/>
            <a:chOff x="755640" y="2637000"/>
            <a:chExt cx="1523880" cy="914400"/>
          </a:xfrm>
        </p:grpSpPr>
        <p:grpSp>
          <p:nvGrpSpPr>
            <p:cNvPr id="221" name="Group 70"/>
            <p:cNvGrpSpPr/>
            <p:nvPr/>
          </p:nvGrpSpPr>
          <p:grpSpPr>
            <a:xfrm>
              <a:off x="755640" y="2637000"/>
              <a:ext cx="990360" cy="354240"/>
              <a:chOff x="755640" y="2637000"/>
              <a:chExt cx="990360" cy="354240"/>
            </a:xfrm>
          </p:grpSpPr>
          <p:sp>
            <p:nvSpPr>
              <p:cNvPr id="222" name="Freeform 71"/>
              <p:cNvSpPr/>
              <p:nvPr/>
            </p:nvSpPr>
            <p:spPr>
              <a:xfrm>
                <a:off x="755640" y="2637000"/>
                <a:ext cx="990360" cy="35424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72"/>
              <p:cNvSpPr/>
              <p:nvPr/>
            </p:nvSpPr>
            <p:spPr>
              <a:xfrm>
                <a:off x="767880" y="2822040"/>
                <a:ext cx="25920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73"/>
              <p:cNvSpPr/>
              <p:nvPr/>
            </p:nvSpPr>
            <p:spPr>
              <a:xfrm>
                <a:off x="978120" y="2723400"/>
                <a:ext cx="25956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74"/>
              <p:cNvSpPr/>
              <p:nvPr/>
            </p:nvSpPr>
            <p:spPr>
              <a:xfrm>
                <a:off x="1089360" y="2887560"/>
                <a:ext cx="25956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75"/>
              <p:cNvSpPr/>
              <p:nvPr/>
            </p:nvSpPr>
            <p:spPr>
              <a:xfrm>
                <a:off x="1237680" y="2691000"/>
                <a:ext cx="25920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76"/>
              <p:cNvSpPr/>
              <p:nvPr/>
            </p:nvSpPr>
            <p:spPr>
              <a:xfrm>
                <a:off x="1460160" y="2789280"/>
                <a:ext cx="259200" cy="9828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77"/>
            <p:cNvGrpSpPr/>
            <p:nvPr/>
          </p:nvGrpSpPr>
          <p:grpSpPr>
            <a:xfrm>
              <a:off x="1212840" y="3018240"/>
              <a:ext cx="761760" cy="304560"/>
              <a:chOff x="1212840" y="3018240"/>
              <a:chExt cx="761760" cy="304560"/>
            </a:xfrm>
          </p:grpSpPr>
          <p:sp>
            <p:nvSpPr>
              <p:cNvPr id="229" name="Freeform 78"/>
              <p:cNvSpPr/>
              <p:nvPr/>
            </p:nvSpPr>
            <p:spPr>
              <a:xfrm>
                <a:off x="1212840" y="301824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79"/>
              <p:cNvSpPr/>
              <p:nvPr/>
            </p:nvSpPr>
            <p:spPr>
              <a:xfrm>
                <a:off x="1222200" y="317700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80"/>
              <p:cNvSpPr/>
              <p:nvPr/>
            </p:nvSpPr>
            <p:spPr>
              <a:xfrm>
                <a:off x="1383840" y="309276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1"/>
              <p:cNvSpPr/>
              <p:nvPr/>
            </p:nvSpPr>
            <p:spPr>
              <a:xfrm>
                <a:off x="1469520" y="32335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2"/>
              <p:cNvSpPr/>
              <p:nvPr/>
            </p:nvSpPr>
            <p:spPr>
              <a:xfrm>
                <a:off x="1583640" y="306468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83"/>
              <p:cNvSpPr/>
              <p:nvPr/>
            </p:nvSpPr>
            <p:spPr>
              <a:xfrm>
                <a:off x="1754640" y="3148920"/>
                <a:ext cx="199440" cy="8424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84"/>
            <p:cNvGrpSpPr/>
            <p:nvPr/>
          </p:nvGrpSpPr>
          <p:grpSpPr>
            <a:xfrm>
              <a:off x="1746000" y="3322800"/>
              <a:ext cx="533520" cy="228600"/>
              <a:chOff x="1746000" y="3322800"/>
              <a:chExt cx="533520" cy="228600"/>
            </a:xfrm>
          </p:grpSpPr>
          <p:sp>
            <p:nvSpPr>
              <p:cNvPr id="236" name="Freeform 85"/>
              <p:cNvSpPr/>
              <p:nvPr/>
            </p:nvSpPr>
            <p:spPr>
              <a:xfrm>
                <a:off x="1746000" y="3322800"/>
                <a:ext cx="533520" cy="228600"/>
              </a:xfrm>
              <a:custGeom>
                <a:avLst/>
                <a:gdLst/>
                <a:ahLst/>
                <a:rect l="l" t="t" r="r" b="b"/>
                <a:pathLst>
                  <a:path w="1282" h="519">
                    <a:moveTo>
                      <a:pt x="8" y="266"/>
                    </a:moveTo>
                    <a:cubicBezTo>
                      <a:pt x="0" y="145"/>
                      <a:pt x="120" y="114"/>
                      <a:pt x="159" y="107"/>
                    </a:cubicBezTo>
                    <a:cubicBezTo>
                      <a:pt x="318" y="107"/>
                      <a:pt x="237" y="143"/>
                      <a:pt x="280" y="130"/>
                    </a:cubicBezTo>
                    <a:cubicBezTo>
                      <a:pt x="322" y="121"/>
                      <a:pt x="355" y="59"/>
                      <a:pt x="409" y="54"/>
                    </a:cubicBezTo>
                    <a:cubicBezTo>
                      <a:pt x="538" y="54"/>
                      <a:pt x="548" y="104"/>
                      <a:pt x="606" y="99"/>
                    </a:cubicBezTo>
                    <a:cubicBezTo>
                      <a:pt x="664" y="94"/>
                      <a:pt x="696" y="17"/>
                      <a:pt x="758" y="23"/>
                    </a:cubicBezTo>
                    <a:cubicBezTo>
                      <a:pt x="887" y="0"/>
                      <a:pt x="915" y="121"/>
                      <a:pt x="978" y="137"/>
                    </a:cubicBezTo>
                    <a:cubicBezTo>
                      <a:pt x="1041" y="159"/>
                      <a:pt x="1099" y="119"/>
                      <a:pt x="1137" y="152"/>
                    </a:cubicBezTo>
                    <a:cubicBezTo>
                      <a:pt x="1243" y="198"/>
                      <a:pt x="1282" y="276"/>
                      <a:pt x="1205" y="334"/>
                    </a:cubicBezTo>
                    <a:cubicBezTo>
                      <a:pt x="1128" y="392"/>
                      <a:pt x="840" y="483"/>
                      <a:pt x="675" y="501"/>
                    </a:cubicBezTo>
                    <a:cubicBezTo>
                      <a:pt x="510" y="519"/>
                      <a:pt x="323" y="479"/>
                      <a:pt x="212" y="440"/>
                    </a:cubicBezTo>
                    <a:cubicBezTo>
                      <a:pt x="101" y="401"/>
                      <a:pt x="16" y="387"/>
                      <a:pt x="8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1d8ff"/>
                  </a:gs>
                  <a:gs pos="100000">
                    <a:srgbClr val="758fa9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6"/>
              <p:cNvSpPr/>
              <p:nvPr/>
            </p:nvSpPr>
            <p:spPr>
              <a:xfrm>
                <a:off x="1752480" y="344196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87"/>
              <p:cNvSpPr/>
              <p:nvPr/>
            </p:nvSpPr>
            <p:spPr>
              <a:xfrm>
                <a:off x="1865880" y="337860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8"/>
              <p:cNvSpPr/>
              <p:nvPr/>
            </p:nvSpPr>
            <p:spPr>
              <a:xfrm>
                <a:off x="1925640" y="348444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89"/>
              <p:cNvSpPr/>
              <p:nvPr/>
            </p:nvSpPr>
            <p:spPr>
              <a:xfrm>
                <a:off x="2005560" y="335736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90"/>
              <p:cNvSpPr/>
              <p:nvPr/>
            </p:nvSpPr>
            <p:spPr>
              <a:xfrm>
                <a:off x="2125440" y="3421080"/>
                <a:ext cx="139680" cy="63360"/>
              </a:xfrm>
              <a:custGeom>
                <a:avLst/>
                <a:gdLst/>
                <a:ahLst/>
                <a:rect l="l" t="t" r="r" b="b"/>
                <a:pathLst>
                  <a:path w="416" h="184">
                    <a:moveTo>
                      <a:pt x="150" y="100"/>
                    </a:moveTo>
                    <a:cubicBezTo>
                      <a:pt x="37" y="93"/>
                      <a:pt x="40" y="0"/>
                      <a:pt x="21" y="9"/>
                    </a:cubicBezTo>
                    <a:cubicBezTo>
                      <a:pt x="2" y="17"/>
                      <a:pt x="0" y="105"/>
                      <a:pt x="29" y="131"/>
                    </a:cubicBezTo>
                    <a:cubicBezTo>
                      <a:pt x="58" y="157"/>
                      <a:pt x="133" y="184"/>
                      <a:pt x="196" y="166"/>
                    </a:cubicBezTo>
                    <a:cubicBezTo>
                      <a:pt x="259" y="148"/>
                      <a:pt x="416" y="36"/>
                      <a:pt x="408" y="25"/>
                    </a:cubicBezTo>
                    <a:cubicBezTo>
                      <a:pt x="400" y="14"/>
                      <a:pt x="263" y="107"/>
                      <a:pt x="150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8fa9"/>
                  </a:gs>
                  <a:gs pos="100000">
                    <a:srgbClr val="b1d8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AutoShape 91"/>
            <p:cNvSpPr/>
            <p:nvPr/>
          </p:nvSpPr>
          <p:spPr>
            <a:xfrm>
              <a:off x="831600" y="2941920"/>
              <a:ext cx="457200" cy="4572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92"/>
          <p:cNvSpPr/>
          <p:nvPr/>
        </p:nvSpPr>
        <p:spPr>
          <a:xfrm>
            <a:off x="4413240" y="12160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верный Ледовитый 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тмосферные фрон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5762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олодный фро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ёплый  фро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Образуется  при  вторжен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олодного  воздуха  в  область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нятую  тёплы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Проникает  клином, выталкив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В  ввер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Погода  меняется  быстр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ивень,  гроза,  шквалистый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ете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сле  прохождения   фронт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холода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e3e3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разуется  при  вторжении  тёплого  воздуха  в  область,  занятую  холодны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нимается  плавно  над  ХВ,  оттесняя  ег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меняется  постепенно, идут затяжные  дожд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сле  прохождения  фронт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-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медленное  потепле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клон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7" name="Picture 20" descr="сканирование0001"/>
          <p:cNvPicPr/>
          <p:nvPr/>
        </p:nvPicPr>
        <p:blipFill>
          <a:blip r:embed="rId1"/>
          <a:stretch/>
        </p:blipFill>
        <p:spPr>
          <a:xfrm>
            <a:off x="2266920" y="835200"/>
            <a:ext cx="4462560" cy="2743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79200" y="3500280"/>
            <a:ext cx="888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икло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3e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48"/>
                </a:solidFill>
                <a:latin typeface="Arial"/>
              </a:rPr>
              <a:t>вихри с низким давлением в центре. На картах они выделяются замкнутыми концентрическими изобарами – линиями, соединяющими точки с одинаковым давлением. В центре замкнутой системы изобар давление самое низкое. К окраинам давление увеличивается, и воздух начинает движение от краев к центру. Из-за отклоняющего действия вращения Земли воздух закручивается против часовой стрелки. Воздух в центре поднимается по спирали вверх, растекается по краям и вновь начинает движение к центру. При подъеме воздух охлаждается, становится влажнее, образуются облака и выпадают осадки. С циклонами связана неустойчивая, ветреная, с осадками по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вижение воздушных масс в циклон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0" name="Picture 2" descr="3-"/>
          <p:cNvPicPr/>
          <p:nvPr/>
        </p:nvPicPr>
        <p:blipFill>
          <a:blip r:embed="rId1"/>
          <a:stretch/>
        </p:blipFill>
        <p:spPr>
          <a:xfrm>
            <a:off x="1258920" y="148428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кая погода  связана с циклоном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2" name="Picture 2" descr="5-"/>
          <p:cNvPicPr/>
          <p:nvPr/>
        </p:nvPicPr>
        <p:blipFill>
          <a:blip r:embed="rId1"/>
          <a:stretch/>
        </p:blipFill>
        <p:spPr>
          <a:xfrm>
            <a:off x="1187280" y="13096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вижение воздушных масс в антициклон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4" name="Picture 2" descr="a3-"/>
          <p:cNvPicPr/>
          <p:nvPr/>
        </p:nvPicPr>
        <p:blipFill>
          <a:blip r:embed="rId1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Познакомиться с климатообразующими факторами России, видами солнечной ради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учиться определять факторы, влияющие на солнечную ради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8" descr="Климат"/>
          <p:cNvPicPr/>
          <p:nvPr/>
        </p:nvPicPr>
        <p:blipFill>
          <a:blip r:embed="rId1"/>
          <a:stretch/>
        </p:blipFill>
        <p:spPr>
          <a:xfrm>
            <a:off x="2771640" y="2133720"/>
            <a:ext cx="3529080" cy="316692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лиматические рекор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2" descr="Климатические рекорды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лиматические  рекор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лиматообразующие  фак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Солнечная  ради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Характер  подстилающей  поверх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Циркуляция  воздушных  м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Атмосферные  фро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Цикло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Антицикл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Синоптическая 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Типы  клим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Diagram 18"/>
          <p:cNvGrpSpPr/>
          <p:nvPr/>
        </p:nvGrpSpPr>
        <p:grpSpPr>
          <a:xfrm>
            <a:off x="2180160" y="458280"/>
            <a:ext cx="5731200" cy="5843520"/>
            <a:chOff x="2180160" y="458280"/>
            <a:chExt cx="5731200" cy="5843520"/>
          </a:xfrm>
        </p:grpSpPr>
        <p:sp>
          <p:nvSpPr>
            <p:cNvPr id="134" name="_s1028"/>
            <p:cNvSpPr/>
            <p:nvPr/>
          </p:nvSpPr>
          <p:spPr>
            <a:xfrm flipH="1" flipV="1">
              <a:off x="4030920" y="234504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029"/>
            <p:cNvSpPr/>
            <p:nvPr/>
          </p:nvSpPr>
          <p:spPr>
            <a:xfrm>
              <a:off x="2809080" y="10994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Антропогенно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воздейств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1030"/>
            <p:cNvSpPr/>
            <p:nvPr/>
          </p:nvSpPr>
          <p:spPr>
            <a:xfrm flipH="1">
              <a:off x="3611520" y="3378960"/>
              <a:ext cx="72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031"/>
            <p:cNvSpPr/>
            <p:nvPr/>
          </p:nvSpPr>
          <p:spPr>
            <a:xfrm>
              <a:off x="2180160" y="26492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орск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теч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1032"/>
            <p:cNvSpPr/>
            <p:nvPr/>
          </p:nvSpPr>
          <p:spPr>
            <a:xfrm flipH="1">
              <a:off x="4030920" y="389340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2809080" y="419868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Близос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орей 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кеан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5044680" y="4106520"/>
              <a:ext cx="0" cy="733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329000" y="4840200"/>
              <a:ext cx="1433160" cy="14616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ельеф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036"/>
            <p:cNvSpPr/>
            <p:nvPr/>
          </p:nvSpPr>
          <p:spPr>
            <a:xfrm>
              <a:off x="5549400" y="389340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037"/>
            <p:cNvSpPr/>
            <p:nvPr/>
          </p:nvSpPr>
          <p:spPr>
            <a:xfrm>
              <a:off x="5848920" y="419868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дстилающ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верхнос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038"/>
            <p:cNvSpPr/>
            <p:nvPr/>
          </p:nvSpPr>
          <p:spPr>
            <a:xfrm>
              <a:off x="5758200" y="3378960"/>
              <a:ext cx="72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39"/>
            <p:cNvSpPr/>
            <p:nvPr/>
          </p:nvSpPr>
          <p:spPr>
            <a:xfrm>
              <a:off x="6478200" y="26492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Циркуляц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Воздушны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ас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1040"/>
            <p:cNvSpPr/>
            <p:nvPr/>
          </p:nvSpPr>
          <p:spPr>
            <a:xfrm flipV="1">
              <a:off x="5549400" y="2345040"/>
              <a:ext cx="508680" cy="51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41"/>
            <p:cNvSpPr/>
            <p:nvPr/>
          </p:nvSpPr>
          <p:spPr>
            <a:xfrm>
              <a:off x="5848920" y="109944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олнечна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адиац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42"/>
            <p:cNvSpPr/>
            <p:nvPr/>
          </p:nvSpPr>
          <p:spPr>
            <a:xfrm flipV="1">
              <a:off x="5044680" y="1917000"/>
              <a:ext cx="0" cy="734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43"/>
            <p:cNvSpPr/>
            <p:nvPr/>
          </p:nvSpPr>
          <p:spPr>
            <a:xfrm>
              <a:off x="4329000" y="45828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Географическа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широт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44"/>
            <p:cNvSpPr/>
            <p:nvPr/>
          </p:nvSpPr>
          <p:spPr>
            <a:xfrm>
              <a:off x="4329000" y="2651760"/>
              <a:ext cx="1433160" cy="14612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Климато-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бразующи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лнечная ради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Схема 1" descr=""/>
          <p:cNvPicPr/>
          <p:nvPr/>
        </p:nvPicPr>
        <p:blipFill>
          <a:blip r:embed="rId1"/>
          <a:stretch/>
        </p:blipFill>
        <p:spPr>
          <a:xfrm>
            <a:off x="146160" y="901800"/>
            <a:ext cx="8375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Характер  подстилающей поверхност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Рисунок 4" descr="File0086.jpg"/>
          <p:cNvPicPr/>
          <p:nvPr/>
        </p:nvPicPr>
        <p:blipFill>
          <a:blip r:embed="rId1"/>
          <a:stretch/>
        </p:blipFill>
        <p:spPr>
          <a:xfrm>
            <a:off x="324000" y="836640"/>
            <a:ext cx="4114800" cy="3095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File0087.jpg"/>
          <p:cNvPicPr/>
          <p:nvPr/>
        </p:nvPicPr>
        <p:blipFill>
          <a:blip r:embed="rId2"/>
          <a:stretch/>
        </p:blipFill>
        <p:spPr>
          <a:xfrm>
            <a:off x="4572000" y="836640"/>
            <a:ext cx="4240080" cy="3124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File0089.jpg"/>
          <p:cNvPicPr/>
          <p:nvPr/>
        </p:nvPicPr>
        <p:blipFill>
          <a:blip r:embed="rId3"/>
          <a:stretch/>
        </p:blipFill>
        <p:spPr>
          <a:xfrm>
            <a:off x="324000" y="3917880"/>
            <a:ext cx="4114800" cy="2940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File0088.jpg"/>
          <p:cNvPicPr/>
          <p:nvPr/>
        </p:nvPicPr>
        <p:blipFill>
          <a:blip r:embed="rId4"/>
          <a:stretch/>
        </p:blipFill>
        <p:spPr>
          <a:xfrm>
            <a:off x="4572000" y="39625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 карте закономерностей распредел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марной солнечной ради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суммарную солнечную радиацию для Мурманска, Санкт-Петербурга, Москв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ую вы видите закономерность распредел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марной солнечной ради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3:51:26Z</dcterms:created>
  <dc:creator>User</dc:creator>
  <dc:description/>
  <dc:language>en-US</dc:language>
  <cp:lastModifiedBy>Мать Паисия</cp:lastModifiedBy>
  <dcterms:modified xsi:type="dcterms:W3CDTF">2023-06-14T14:36:38Z</dcterms:modified>
  <cp:revision>8</cp:revision>
  <dc:subject/>
  <dc:title>Факторы формирования климата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