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596-6974-4FDF-968C-B28E0E19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4E3-3334-46FB-9D96-A2C27825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CC2-02C8-42FE-968B-9055A83F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1B0-B3E3-43D5-9E96-C679E47D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0A82-1EAE-4382-AD15-C2F522DD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6EAB-EF7B-4553-9398-148E0EB4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AFCD-3295-4A2E-8D93-D4D6048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ED8D-3F66-4716-A063-C9061060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0743-9114-44C4-B165-55BEE6E5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3102-C860-4F39-A16E-A1A8D2A3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E733-228C-466E-9745-D9ED773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660-FED4-4658-B3A5-EE565123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8CBE-D4C8-44A4-A449-6F89E5F2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8BC5-3760-43DB-8313-3F355B5F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338C-EFE7-4214-8B2F-905713A2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BFCC-C15D-4348-AF23-AA42604C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4052-39EE-486D-8A34-E12CDB38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D286-07E7-4E1F-8739-CF492AAD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37FC-2EBA-435F-AE93-610D8FAA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A94B-EE18-4792-973A-F643E2E5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BE01-3555-4799-9304-8FE93F62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7168-E9CB-4B12-B56C-3A6C7DB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27D-3177-4C7E-9D7F-09015068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4F26-C4A7-4AA4-BF8E-7601F3B1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C4DC8-AC9B-4901-8847-7FF0D8B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CB42-9210-4CB2-ACB6-C81746E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BE1C-9E4B-4A2B-923E-A7071C50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F56D-4CF2-43C0-B9EE-6F1F1929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7775-7CBC-4F55-B065-475E8467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A2D1-6D49-4DB7-82F7-BCA4472C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FE31-5177-4366-92C9-727BF31A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E540-8D48-4EAB-ACE7-5425D407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3A45-DBFB-4954-B8EE-A81644E1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D94-42A8-4C77-89D0-4D37FD3A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A30B-1B74-4E1C-816A-F82D47B6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90C2-909A-46D5-84A6-EB5377E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C390-C846-4EBC-9A20-0AECC360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808FB-8FB5-4391-9B98-6FFB76E7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2716-F3E0-4553-8491-F5AA630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4E63-7C6D-43AC-A0A1-BCDF22A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5D85-A1DD-4ECE-B03E-BD05EF1B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1408-32F6-403B-A6E8-D8C01F4F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9112D-A320-46E6-A9C8-ABCDC9F9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45B-2BDC-4DA9-9946-C8E3B62A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ACE-2BF3-4980-8C92-9CCD98A3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D36-4CD9-4E30-9614-4EC9F7A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D4C-2A06-47E2-87C7-7366CC73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857-E346-43DD-9E9A-A0A9937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BA36-0525-4360-A404-78C41D0B1A5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5DF-C4D0-42EE-B595-A0B2E9CE27F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FDBF-0B2E-43B6-9618-61155812D6A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A049-4AE1-457A-A4FF-D5EA4A9F798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523800" y="311040"/>
            <a:ext cx="8448840" cy="190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38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ьт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ы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ч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в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ь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р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россворд ответы"/>
          <p:cNvPicPr/>
          <p:nvPr/>
        </p:nvPicPr>
        <p:blipFill>
          <a:blip r:embed="rId2"/>
          <a:stretch/>
        </p:blipFill>
        <p:spPr>
          <a:xfrm>
            <a:off x="1828800" y="1143000"/>
            <a:ext cx="609588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1523880" y="190512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Rectangle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89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457200" y="1523880"/>
          <a:ext cx="8229600" cy="196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24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и, здания, орудия тру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и, обычаи, музыка, литерату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46" descr="12"/>
          <p:cNvPicPr/>
          <p:nvPr/>
        </p:nvPicPr>
        <p:blipFill>
          <a:blip r:embed="rId2"/>
          <a:stretch/>
        </p:blipFill>
        <p:spPr>
          <a:xfrm>
            <a:off x="533520" y="3581280"/>
            <a:ext cx="3962160" cy="304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1" descr="imgB"/>
          <p:cNvPicPr/>
          <p:nvPr/>
        </p:nvPicPr>
        <p:blipFill>
          <a:blip r:embed="rId3"/>
          <a:stretch/>
        </p:blipFill>
        <p:spPr>
          <a:xfrm>
            <a:off x="4648320" y="358128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ctangle 2" descr=""/>
          <p:cNvPicPr/>
          <p:nvPr/>
        </p:nvPicPr>
        <p:blipFill>
          <a:blip r:embed="rId1"/>
          <a:stretch/>
        </p:blipFill>
        <p:spPr>
          <a:xfrm>
            <a:off x="285840" y="36360"/>
            <a:ext cx="8407440" cy="1584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 постойте-тко за веру, за Отечеств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 постойте-тко за славный стольный Киев-гр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10" descr="Три богатыря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Богатырь"/>
          <p:cNvPicPr/>
          <p:nvPr/>
        </p:nvPicPr>
        <p:blipFill>
          <a:blip r:embed="rId3"/>
          <a:stretch/>
        </p:blipFill>
        <p:spPr>
          <a:xfrm>
            <a:off x="4572000" y="403848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987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57200" y="1294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га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орого стои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ботанная березовая кора, на которой выцарапывались буквы специальными костяными или металлическими палочками - БЕР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3451320" y="293760"/>
            <a:ext cx="220968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3733560" y="326880"/>
            <a:ext cx="16002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3809520" y="1295280"/>
            <a:ext cx="1600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3906720" y="1228680"/>
            <a:ext cx="14479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0" descr="bb009"/>
          <p:cNvPicPr/>
          <p:nvPr/>
        </p:nvPicPr>
        <p:blipFill>
          <a:blip r:embed="rId2"/>
          <a:stretch/>
        </p:blipFill>
        <p:spPr>
          <a:xfrm>
            <a:off x="152280" y="3962520"/>
            <a:ext cx="883944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7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27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457200" y="1600200"/>
          <a:ext cx="8229600" cy="3803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тописани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т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то (год) + описание = описание событий по года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ая известная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топись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Повесть временных лет монаха 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естора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е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тие = жить, жизн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ное описание жизни святых людей, которые делали добрые поступк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414360" y="195120"/>
            <a:ext cx="8516880" cy="1262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еревянно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менно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16" descr="Деревянная церковь"/>
          <p:cNvPicPr/>
          <p:nvPr/>
        </p:nvPicPr>
        <p:blipFill>
          <a:blip r:embed="rId2"/>
          <a:stretch/>
        </p:blipFill>
        <p:spPr>
          <a:xfrm>
            <a:off x="152280" y="2209680"/>
            <a:ext cx="4648320" cy="4419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Сфийский собор Новгород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4952880" y="2209680"/>
            <a:ext cx="4048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111459_image_large"/>
          <p:cNvPicPr/>
          <p:nvPr/>
        </p:nvPicPr>
        <p:blipFill>
          <a:blip r:embed="rId2"/>
          <a:stretch/>
        </p:blipFill>
        <p:spPr>
          <a:xfrm>
            <a:off x="152280" y="1981080"/>
            <a:ext cx="4267440" cy="3810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800px-Бетон_222"/>
          <p:cNvPicPr/>
          <p:nvPr/>
        </p:nvPicPr>
        <p:blipFill>
          <a:blip r:embed="rId3"/>
          <a:stretch/>
        </p:blipFill>
        <p:spPr>
          <a:xfrm>
            <a:off x="4572000" y="1981080"/>
            <a:ext cx="44197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коны – изображения Иисуса Христа, Богоматери, святых или ангелов на полотне или до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рески – изображения, написанные водяными красками по сырой штукатур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заика – картины из вдавленных в сырую штукатурку стекловидных камеш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4" descr="kyrill_methodi"/>
          <p:cNvPicPr/>
          <p:nvPr/>
        </p:nvPicPr>
        <p:blipFill>
          <a:blip r:embed="rId1"/>
          <a:stretch/>
        </p:blipFill>
        <p:spPr>
          <a:xfrm>
            <a:off x="380880" y="2666880"/>
            <a:ext cx="2733840" cy="4024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img204"/>
          <p:cNvPicPr/>
          <p:nvPr/>
        </p:nvPicPr>
        <p:blipFill>
          <a:blip r:embed="rId2"/>
          <a:stretch/>
        </p:blipFill>
        <p:spPr>
          <a:xfrm>
            <a:off x="3276720" y="266688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Дмитрий Солунский Мозаика Михайловского монастыря"/>
          <p:cNvPicPr/>
          <p:nvPr/>
        </p:nvPicPr>
        <p:blipFill>
          <a:blip r:embed="rId3"/>
          <a:stretch/>
        </p:blipFill>
        <p:spPr>
          <a:xfrm>
            <a:off x="6248520" y="2666880"/>
            <a:ext cx="26874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609480" y="16002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крепление пройденного на уро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2-15T12:22:3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