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DEC-36FC-4E4A-8191-4F03EE32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7A7-D319-474D-8D40-6A8149B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20D-ABBD-48B2-9905-48BE5340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962-1CBA-440D-A63F-511FAA7D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C233-5FBC-4631-8E96-981C290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9357-858A-4F9D-9EAA-0E3E2167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68A-253D-42AD-B2BD-DA60567A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0C3-8353-407B-923E-854876F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272-92DF-4B1C-AE08-8661DBB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6D3-3F49-40D5-843F-EF237C6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7B9-EA10-4962-939C-3A201BF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A81-21AB-414D-A2EC-1FBEB13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6C6B-1C9A-46A8-8748-2668DB7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1720-95B4-4512-ABAC-E4B377A4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0DE-7181-4A56-9F2E-E4D0E52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EC96-489F-463F-845D-DD4609A1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DF2-EB90-462C-9A0A-F18744D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2969-71DB-45A2-B911-03197242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4BA6-4AC0-4F94-B4FA-726DC05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3A71-8881-4BB1-8378-15F68542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9FE0-9596-406F-97C6-4315FD4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7439-97DC-4E93-93A2-E20A9DE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C71-358F-4707-8613-C87DACE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FD40-BC75-4A3A-A1C4-11ECB8AB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582C-3D1D-4624-BF1D-51BE778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450B-9ADD-45B8-9E96-9B25A80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C1EF-ED23-4CCF-9434-D46C106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43FD-65F1-4BA1-88D9-AB927C2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14E3-349A-472E-8AF2-66E07278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EF2E-A093-4E6C-BAE3-2491975A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C5DD-ADF9-44A6-8FF9-88FE32F4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4936-5238-4204-9A6A-6C30784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7219-B7DA-4516-8C28-145A27C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513-51DE-4C64-AD22-C497126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999F-03BE-4DA3-A038-D60AF961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6A74-2E77-4CC1-8BFA-74F4112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8565-F0C3-4575-BD55-5B88AE0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A1CD-9210-4800-9A76-51A658C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2D17-4475-4D5E-AF7E-297F73A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B377-1281-4723-98A4-41DE9B0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26AE-CC01-416B-89AE-FD04769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2B0D-CE27-4FAF-ACB7-A757F7CE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DC8F4-3B8F-479B-BAE3-089D1D73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8B6-FFB4-467C-A11E-B5ACFAA3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432-9489-4F39-8D90-5EF5DEE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2EF-50B9-4129-A918-E5A258A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D5-4FBE-430B-9125-83F639B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8C4-7ED8-4B8E-928E-07284A9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FBBE-04DF-4E08-B2BD-80A2616D4FB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6DD-059C-4209-B127-FD4E876ACBC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6E8-EF1F-4E26-B556-56046E0A442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F19-4828-4FE2-A3F8-B873AD2F44B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523800" y="311040"/>
            <a:ext cx="8448840" cy="19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38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ь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ы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ч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в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ь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р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россворд ответы"/>
          <p:cNvPicPr/>
          <p:nvPr/>
        </p:nvPicPr>
        <p:blipFill>
          <a:blip r:embed="rId2"/>
          <a:stretch/>
        </p:blipFill>
        <p:spPr>
          <a:xfrm>
            <a:off x="1828800" y="1143000"/>
            <a:ext cx="609588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523880" y="19051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Rectangle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89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523880"/>
          <a:ext cx="8229600" cy="196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2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и, здания, орудия тру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и, обычаи, музыка, литера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46" descr="12"/>
          <p:cNvPicPr/>
          <p:nvPr/>
        </p:nvPicPr>
        <p:blipFill>
          <a:blip r:embed="rId2"/>
          <a:stretch/>
        </p:blipFill>
        <p:spPr>
          <a:xfrm>
            <a:off x="533520" y="3581280"/>
            <a:ext cx="396216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1" descr="imgB"/>
          <p:cNvPicPr/>
          <p:nvPr/>
        </p:nvPicPr>
        <p:blipFill>
          <a:blip r:embed="rId3"/>
          <a:stretch/>
        </p:blipFill>
        <p:spPr>
          <a:xfrm>
            <a:off x="4648320" y="35812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2" descr=""/>
          <p:cNvPicPr/>
          <p:nvPr/>
        </p:nvPicPr>
        <p:blipFill>
          <a:blip r:embed="rId1"/>
          <a:stretch/>
        </p:blipFill>
        <p:spPr>
          <a:xfrm>
            <a:off x="285840" y="36360"/>
            <a:ext cx="840744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 постойте-тко за веру, за Отечеств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 постойте-тко за славный стольный Киев-гр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0" descr="Три богатыря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Богатырь"/>
          <p:cNvPicPr/>
          <p:nvPr/>
        </p:nvPicPr>
        <p:blipFill>
          <a:blip r:embed="rId3"/>
          <a:stretch/>
        </p:blipFill>
        <p:spPr>
          <a:xfrm>
            <a:off x="4572000" y="40384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га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рого стои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ботанная березовая кора, на которой выцарапывались буквы специальными костяными или металлическими палочками - БЕР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3451320" y="293760"/>
            <a:ext cx="220968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3733560" y="326880"/>
            <a:ext cx="16002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3809520" y="1295280"/>
            <a:ext cx="1600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3906720" y="122868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bb009"/>
          <p:cNvPicPr/>
          <p:nvPr/>
        </p:nvPicPr>
        <p:blipFill>
          <a:blip r:embed="rId2"/>
          <a:stretch/>
        </p:blipFill>
        <p:spPr>
          <a:xfrm>
            <a:off x="152280" y="3962520"/>
            <a:ext cx="88394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7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2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57200" y="1600200"/>
          <a:ext cx="8229600" cy="3803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писа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 (год) + описание = описание событий по год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ая известная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топись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Повесть временных лет монаха 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естора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ие = жить, жизн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ное описание жизни святых людей, которые делали добрые поступк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14360" y="19512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ревянно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менно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16" descr="Деревянная церковь"/>
          <p:cNvPicPr/>
          <p:nvPr/>
        </p:nvPicPr>
        <p:blipFill>
          <a:blip r:embed="rId2"/>
          <a:stretch/>
        </p:blipFill>
        <p:spPr>
          <a:xfrm>
            <a:off x="152280" y="2209680"/>
            <a:ext cx="4648320" cy="4419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Сфийский собор Новгород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952880" y="2209680"/>
            <a:ext cx="4048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111459_image_large"/>
          <p:cNvPicPr/>
          <p:nvPr/>
        </p:nvPicPr>
        <p:blipFill>
          <a:blip r:embed="rId2"/>
          <a:stretch/>
        </p:blipFill>
        <p:spPr>
          <a:xfrm>
            <a:off x="152280" y="1981080"/>
            <a:ext cx="426744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800px-Бетон_222"/>
          <p:cNvPicPr/>
          <p:nvPr/>
        </p:nvPicPr>
        <p:blipFill>
          <a:blip r:embed="rId3"/>
          <a:stretch/>
        </p:blipFill>
        <p:spPr>
          <a:xfrm>
            <a:off x="4572000" y="19810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оны – изображения Иисуса Христа, Богоматери, святых или ангелов на полотне или до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ески – изображения, написанные водяными красками по сырой штукатур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заика – картины из вдавленных в сырую штукатурку стекловидных камеш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4" descr="kyrill_methodi"/>
          <p:cNvPicPr/>
          <p:nvPr/>
        </p:nvPicPr>
        <p:blipFill>
          <a:blip r:embed="rId1"/>
          <a:stretch/>
        </p:blipFill>
        <p:spPr>
          <a:xfrm>
            <a:off x="380880" y="2666880"/>
            <a:ext cx="2733840" cy="4024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img204"/>
          <p:cNvPicPr/>
          <p:nvPr/>
        </p:nvPicPr>
        <p:blipFill>
          <a:blip r:embed="rId2"/>
          <a:stretch/>
        </p:blipFill>
        <p:spPr>
          <a:xfrm>
            <a:off x="32767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Дмитрий Солунский Мозаика Михайловского монастыря"/>
          <p:cNvPicPr/>
          <p:nvPr/>
        </p:nvPicPr>
        <p:blipFill>
          <a:blip r:embed="rId3"/>
          <a:stretch/>
        </p:blipFill>
        <p:spPr>
          <a:xfrm>
            <a:off x="6248520" y="2666880"/>
            <a:ext cx="26874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609480" y="1600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крепление пройденного на уро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15T12:22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