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168-E8A1-47BA-B10B-8031EC36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F7F-37EE-45FE-8837-7578D2A8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CF7-5834-4B2F-A8E9-3AC85D93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088-445A-448E-9944-D264A9E8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F5B1-A5E4-40F9-89E1-794D3794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EBD6-BB47-4C97-9746-A41D629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5BF0-AF9D-457E-97BE-7CEEA367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E0A3-EB6F-4328-9ED7-FDD050F4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2B1E-B7AF-4E53-9DB0-064EBDD9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1427-DAB1-47EB-9CF5-552CD3E9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D4C9-FDC8-4E8B-BDCF-8228EAF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EA9-2EC4-4CBA-BA50-E86284A2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78BE-927A-4CC4-AC6A-8AD60608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6FF0-BAEF-495E-93BF-BB0A8349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939F-3C6B-4094-B1D9-1A7A28FF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B61A-821D-4504-AC78-2FB4FAEB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DE57-E5D6-410E-845C-8D240EB6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E4AE-9CBF-4749-95BF-3B826E01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842F-E140-4891-B845-00155B3F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8539-94A6-48D7-BC70-223714F8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15F4-3E27-43F4-B49F-A38FBE5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F295-9EA8-4983-9E0B-6B6F0F75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B9D-1887-41D6-8926-1FE9D231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E39C-FF92-462B-AADE-C5F3606E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63D8-B07F-4CB4-8018-0BC87B7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8D9E-28F2-4D26-BD09-FAB5968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314A-4174-447F-BD11-F84B7743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3A26-B2AD-4880-92D8-D3E8AAFA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A648-F943-4FB4-AA9D-018670B6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C996-3BDD-4163-B28C-8515ABF7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EACF-146C-4167-A526-D7086948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D89B-F545-4812-A1EE-2570CEA4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9EC25-99FB-480E-BEE9-20B24134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B7A-7D5A-4C91-8D9A-32D26E5A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8080-97F9-4C1E-B4C2-05B7BCD3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5BCEC-6280-466B-B50D-69BFAA60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8C19-FC10-43B0-941F-1776D031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42D0-EF48-4841-A7EC-DF51FA7D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DF81-0544-474F-A559-8967EF1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409B-B08A-4E44-84F0-535C886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77A1-FFA1-4662-8D52-1D790FCD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5988A-9D28-481B-A789-D7B0C5DA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21802-CFE1-48DF-BA4C-BEBEF427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6054F-FD49-483C-B09E-83CE1D5A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9EE-C15C-4A10-8DE6-102A77CB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88AD-F63F-48EE-A16B-81975239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2500-6DD8-4B29-9A9D-06E12947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0698-A21D-428B-8B4B-7673F617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6B7B8-1CD9-4D3D-8DE9-430C8F39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96A3-9FED-4D46-94AB-61953080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9B048-C974-4EE7-92B7-17CF6140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AB05-887D-4EE5-9434-688B5FC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E11C-15D7-4587-8585-AC8E67F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F26F5-8775-46C2-85CF-BFC9E48C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97C6-3E36-43B4-81C7-B9B73787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8C5-60D7-47C2-9EC9-2819973A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8E7AE-7ED5-4D7F-9C43-349F5339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5535-9CAC-4A4F-B49A-4D113712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B3C0-D07A-4830-8FF3-6B67A24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D463-3670-451B-A29C-72E7D2F8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82AF7-1A8B-40BB-9EEF-9D5BAED9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B21CD-4BD3-4361-A538-FE600211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EE50A-F6AA-4D35-80E9-06E631E1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21A7A-F174-4FAC-BD1D-B4A03580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35E5-48A5-43A0-9AC2-3046C90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4D490-51AA-46A4-9CFA-984B396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DBC-2F78-4A80-9227-2886409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50397-C19D-4474-A8EF-CAEBBD0B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71B85-4F50-473A-8221-9AE1DC37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17C3D-365D-4ED6-92CE-A1138F5D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F6BE5-C27A-478A-B9A9-E0B70818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1CE08-8C02-4C3D-B336-3A414615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290CF-26F3-450B-8C1B-1CE84490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FD006-8C69-4DA5-80F6-B6C887BF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B8CED-24C6-4C92-BFA1-B7530801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8AABE-F3C0-4133-B4DC-8BEE9899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ACFFA-E5E9-41EC-8155-92327991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FF8-64F1-482C-9226-EB0D4C7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51C74-3127-48AE-84EA-C0C5D16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62341-2F52-431A-8FB3-6147138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D7251-635A-4385-A6E6-882867A2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8E916-374C-4D21-95BC-0FCD8063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D2B0-CE7B-459E-A725-E5B5AE3D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47B-768C-4806-A434-2151C600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DCAB-43F1-464F-A355-43B5BA9D3E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39A-B682-4599-A9B7-496AC481A4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4EE0-3A67-46D5-8E0C-40676726D5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D97A-E5BC-4F85-B41D-36ECECD203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7A29-A827-4249-8590-49ECF28B42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7924-515D-4D2C-B83C-9DCD9746F94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8F0-38BF-450A-8408-A61AF761544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42680" y="404640"/>
            <a:ext cx="601020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ворческие работы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 Хажиловой Анастасии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6840" y="2428920"/>
            <a:ext cx="6296040" cy="1000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4572000" y="5786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3e21"/>
                </a:solidFill>
                <a:latin typeface="Arial"/>
              </a:rPr>
              <a:t>г. Меги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1" descr=""/>
          <p:cNvPicPr/>
          <p:nvPr/>
        </p:nvPicPr>
        <p:blipFill>
          <a:blip r:embed="rId1"/>
          <a:stretch/>
        </p:blipFill>
        <p:spPr>
          <a:xfrm>
            <a:off x="2863800" y="1571760"/>
            <a:ext cx="4372200" cy="473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378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Arial"/>
              </a:rPr>
              <a:t>«Тобольский кремль», пастель, 2014 г.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3" name="Picture 4" descr="Хажилова Анастасия 12 лет"/>
          <p:cNvPicPr/>
          <p:nvPr/>
        </p:nvPicPr>
        <p:blipFill>
          <a:blip r:embed="rId1"/>
          <a:stretch/>
        </p:blipFill>
        <p:spPr>
          <a:xfrm>
            <a:off x="1036800" y="1125360"/>
            <a:ext cx="4182840" cy="33069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" descr=""/>
          <p:cNvPicPr/>
          <p:nvPr/>
        </p:nvPicPr>
        <p:blipFill>
          <a:blip r:embed="rId2"/>
          <a:stretch/>
        </p:blipFill>
        <p:spPr>
          <a:xfrm>
            <a:off x="4471920" y="3336840"/>
            <a:ext cx="4103640" cy="32148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1"/>
          <p:cNvSpPr/>
          <p:nvPr/>
        </p:nvSpPr>
        <p:spPr>
          <a:xfrm>
            <a:off x="5219640" y="263700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Arial"/>
                <a:ea typeface="Arabic Typesetting"/>
              </a:rPr>
              <a:t>«Дом на окраине», соус, уголь, г. Тобольск,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1640" y="2880"/>
            <a:ext cx="5072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13204"/>
                </a:solidFill>
                <a:latin typeface="Corbel"/>
              </a:rPr>
              <a:t>«</a:t>
            </a:r>
            <a:r>
              <a:rPr b="1" lang="ru-RU" sz="1800" spc="-1" strike="noStrike">
                <a:solidFill>
                  <a:srgbClr val="713204"/>
                </a:solidFill>
                <a:latin typeface="Arial"/>
                <a:ea typeface="Arial"/>
              </a:rPr>
              <a:t>Тепло родного дома» гуашь, 2013 г.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Рисунок 1" descr=""/>
          <p:cNvPicPr/>
          <p:nvPr/>
        </p:nvPicPr>
        <p:blipFill>
          <a:blip r:embed="rId1"/>
          <a:stretch/>
        </p:blipFill>
        <p:spPr>
          <a:xfrm>
            <a:off x="1633680" y="749160"/>
            <a:ext cx="3470040" cy="25876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" descr=""/>
          <p:cNvPicPr/>
          <p:nvPr/>
        </p:nvPicPr>
        <p:blipFill>
          <a:blip r:embed="rId2"/>
          <a:stretch/>
        </p:blipFill>
        <p:spPr>
          <a:xfrm>
            <a:off x="5373720" y="1341360"/>
            <a:ext cx="3240000" cy="417528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1"/>
          <p:cNvSpPr/>
          <p:nvPr/>
        </p:nvSpPr>
        <p:spPr>
          <a:xfrm>
            <a:off x="5373720" y="6699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Arial"/>
              </a:rPr>
              <a:t>«Первый снег», смешенная техника,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2" descr=""/>
          <p:cNvPicPr/>
          <p:nvPr/>
        </p:nvPicPr>
        <p:blipFill>
          <a:blip r:embed="rId3"/>
          <a:stretch/>
        </p:blipFill>
        <p:spPr>
          <a:xfrm>
            <a:off x="1655640" y="3429000"/>
            <a:ext cx="2306880" cy="28796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6"/>
          <p:cNvSpPr/>
          <p:nvPr/>
        </p:nvSpPr>
        <p:spPr>
          <a:xfrm>
            <a:off x="4140360" y="573264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13204"/>
                </a:solidFill>
                <a:latin typeface="Arial"/>
              </a:rPr>
              <a:t>«Любимый поэт», линогравюра,201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793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Объект 4" descr=""/>
          <p:cNvPicPr/>
          <p:nvPr/>
        </p:nvPicPr>
        <p:blipFill>
          <a:blip r:embed="rId1"/>
          <a:stretch/>
        </p:blipFill>
        <p:spPr>
          <a:xfrm>
            <a:off x="1050840" y="146160"/>
            <a:ext cx="3716280" cy="2571480"/>
          </a:xfrm>
          <a:prstGeom prst="rect">
            <a:avLst/>
          </a:prstGeom>
          <a:ln w="0">
            <a:noFill/>
          </a:ln>
        </p:spPr>
      </p:pic>
      <p:pic>
        <p:nvPicPr>
          <p:cNvPr id="334" name="Объект 5" descr=""/>
          <p:cNvPicPr/>
          <p:nvPr/>
        </p:nvPicPr>
        <p:blipFill>
          <a:blip r:embed="rId2"/>
          <a:stretch/>
        </p:blipFill>
        <p:spPr>
          <a:xfrm>
            <a:off x="5038560" y="123840"/>
            <a:ext cx="3668760" cy="25718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1287720" y="278604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3e21"/>
                </a:solidFill>
                <a:latin typeface="Arial"/>
              </a:rPr>
              <a:t>Башня Тобольского крем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3e21"/>
                </a:solidFill>
                <a:latin typeface="Arial"/>
              </a:rPr>
              <a:t>аква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5867280" y="2924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3e21"/>
                </a:solidFill>
                <a:latin typeface="Arial"/>
              </a:rPr>
              <a:t>Абалак, аква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2" descr=""/>
          <p:cNvPicPr/>
          <p:nvPr/>
        </p:nvPicPr>
        <p:blipFill>
          <a:blip r:embed="rId3"/>
          <a:stretch/>
        </p:blipFill>
        <p:spPr>
          <a:xfrm>
            <a:off x="3419640" y="3416400"/>
            <a:ext cx="3528720" cy="2614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2627280" y="61531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Arial"/>
              </a:rPr>
              <a:t>«Вид на Исакиевский собор», линогравюра,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Выпускная работа «Женский образ в произведении П.П.Ершова «Конек -Горбунок», 2018 г.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0" name="Рисунок 2" descr=""/>
          <p:cNvPicPr/>
          <p:nvPr/>
        </p:nvPicPr>
        <p:blipFill>
          <a:blip r:embed="rId1"/>
          <a:stretch/>
        </p:blipFill>
        <p:spPr>
          <a:xfrm>
            <a:off x="1619280" y="1417680"/>
            <a:ext cx="6948360" cy="5078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ажилова</dc:creator>
  <dc:description/>
  <dc:language>en-US</dc:language>
  <cp:lastModifiedBy>Учетная запись Майкрософт</cp:lastModifiedBy>
  <dcterms:modified xsi:type="dcterms:W3CDTF">2023-06-14T09:03:28Z</dcterms:modified>
  <cp:revision>87</cp:revision>
  <dc:subject/>
  <dc:title>PowerPoint Presentation</dc:title>
</cp:coreProperties>
</file>