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8E7-70CD-47B2-8979-3C5D4CF0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EEEE-E6C6-4ED4-BAD8-B499B0B2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E458-E6A4-438A-A1B1-144F5EA9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44A-7B21-4761-84B3-8B00688A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A7E4-C4D0-4EF7-9611-11B6CFB4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EA59-9D9A-4587-999D-AAB843E7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4C6B-4DD5-422A-B023-6179CA52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833D-ECCE-4924-B1E8-52E302E6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91B3-1C04-465E-91ED-FE09E721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3BFD-517A-4CA2-B157-15F49B35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4082-7D35-4464-B983-021923CD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02E2-D750-4E6D-BD15-06386489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9A0B-4DFA-4F7A-9452-6EE14CEA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FA38-16DB-427F-8436-B622BE5F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C489-494C-45BC-AEA2-8EFDE629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AE39-CCD7-4553-A6C1-1EA2E833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FDD4-476B-4A02-B251-3B6FECD7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BE2FE-F7F1-4E35-B5FB-88F7CDD0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5639E-34A8-451C-ABA3-69725FAF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735F3-6505-4C95-886B-CFBC740D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F3713-9D3F-4E7F-A319-0301D086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D0746-024E-40A8-97DB-276B45E9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0D6E-38E7-4AE9-B097-7DD7E557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B126D-6B7F-496F-A52E-165BC4CD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6AAAB-AED3-4689-BA79-F23AAA51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36B2D-17AE-4007-83F3-FF8C6B43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02C98-397F-4976-8B27-033AE9C9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5C2F4-DE6C-4584-8E21-01E18B6B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DE535-69C3-4F5D-BD9A-EC600FBF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8A4B8-F669-497E-A487-3C96DDAC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108F4-F9B4-45D0-BD92-BC9534ED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8BD78-281A-4DDD-A464-BFA8DC27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F7750-2952-4228-8A00-7D441AAC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B50B-13B8-4A45-9C6D-439D49AA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0128A-B9DD-4474-A008-67FBF2EE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7532B-64CA-4092-8B2E-50017F4D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33392-E36B-42CB-B49C-4CFFA41E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70F96-2A0B-4E36-9473-58A7B320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89875-1AF9-4B50-A542-36127574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03B4C-DC2E-4596-8112-FA2CC239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6060E-93C1-42CA-B46A-0660CF8C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86D1D-6A3B-4887-B9A7-3CFBFBC9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6DD12-416A-4FD5-8F13-396019B2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B65BA-5066-439F-89E7-85EB94ED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5F05-E1DC-4E56-BA2A-238DD14D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A2AFB-81D0-4AED-A7BA-E4F6EBDA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AFA62-0538-487C-BFC6-89067B98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E90A7-C98F-4DDC-B1D7-26B31CF2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BD1E6-57BF-43E1-B51D-533FA0EE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6DAEC-F2D1-41E7-92DB-67E85578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F609C-AC55-4A79-86A0-5ED4AAB6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4D022-C34C-4D62-B4E2-F4479C0F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3FC31-3BD0-4866-9507-C73A72F5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7C6D5-B91C-4566-89F3-246D75EA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EF4BC-57D2-4E2A-AE77-F7CBB173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750-AAB1-48AA-91D7-AA6E121D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B3200-6050-41D4-8B5E-77E0C827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B98EB-3DBC-4ED3-ADF7-DBFBA17E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E03B7-D9FB-41BA-A73C-2B197AAC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E88AB-FBB1-4F5F-8E5B-A789923F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B9EFA-4A40-4B4D-B390-24813CAA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C7CC0-F6E1-4795-81B5-3F722AF2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2AC4B-27C2-4578-9848-1AE70032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651D3-2E92-4282-A074-A66AE06E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4D3FD-9C7C-4DE5-B55A-CCDC8D95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483BE-C0A0-4028-A769-04BE0A2F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FCC-F744-48EC-86C6-32027E8D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796EF-9915-47FF-A90A-7CA1FF64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04160-CA8C-45B0-80E1-F681A8E0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FE5CE-AA06-4772-ACA3-F44931DE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16D07-4058-4906-B3EA-42954985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75284-91A8-4DE9-9399-64921AED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AA4D4-02CF-41A1-9BA3-17F51677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D95F0-B695-4EF9-B506-FCB00133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8DA86-4394-4DA2-A555-819035FB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0C586-16AE-4914-B385-BF573760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58149-7A0B-4FD9-AC29-DE55F1DE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C26-F628-42A2-8859-0E572A74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E228A-1E13-4062-AB19-31A0A8B6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DEECA-91C4-4EBD-8E29-9AED65BB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FFD6C-9745-41E7-834A-B43F6F21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40DD3-A24E-45B6-A745-23E6E63B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B6428-D9DF-406E-BECF-DDB704BF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07F-33AC-4C66-A9DB-5DE796E2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F41C-7264-4D0A-8CEA-84C019BBB74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039D-B42E-4DFE-9F7C-A33F3A7B151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CD46-318C-454F-A6F7-350E4990A7B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0D53-3B43-4BB4-BD48-C69767F263A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8DA8-6AC2-4A75-9653-49BDC14ED13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94AD-4A3F-4576-8E57-DE7E80109A3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02BC-57A5-4B35-8EED-2696338F689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4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42680" y="404640"/>
            <a:ext cx="6010200" cy="11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Творческие работы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 Хажиловой Анастасии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56840" y="2428920"/>
            <a:ext cx="6296040" cy="1000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Прямоугольник 4"/>
          <p:cNvSpPr/>
          <p:nvPr/>
        </p:nvSpPr>
        <p:spPr>
          <a:xfrm>
            <a:off x="4572000" y="57862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3e21"/>
                </a:solidFill>
                <a:latin typeface="Arial"/>
              </a:rPr>
              <a:t>г. Меги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Рисунок 1" descr=""/>
          <p:cNvPicPr/>
          <p:nvPr/>
        </p:nvPicPr>
        <p:blipFill>
          <a:blip r:embed="rId1"/>
          <a:stretch/>
        </p:blipFill>
        <p:spPr>
          <a:xfrm>
            <a:off x="2863800" y="1571760"/>
            <a:ext cx="4372200" cy="4738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4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378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Arial"/>
              </a:rPr>
              <a:t>«Тобольский кремль», пастель, 2014 г.</a:t>
            </a:r>
            <a:endParaRPr b="0" lang="en-US" sz="1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3" name="Picture 4" descr="Хажилова Анастасия 12 лет"/>
          <p:cNvPicPr/>
          <p:nvPr/>
        </p:nvPicPr>
        <p:blipFill>
          <a:blip r:embed="rId1"/>
          <a:stretch/>
        </p:blipFill>
        <p:spPr>
          <a:xfrm>
            <a:off x="1036800" y="1125360"/>
            <a:ext cx="4182840" cy="330696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2" descr=""/>
          <p:cNvPicPr/>
          <p:nvPr/>
        </p:nvPicPr>
        <p:blipFill>
          <a:blip r:embed="rId2"/>
          <a:stretch/>
        </p:blipFill>
        <p:spPr>
          <a:xfrm>
            <a:off x="4471920" y="3336840"/>
            <a:ext cx="4103640" cy="321480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оугольник 1"/>
          <p:cNvSpPr/>
          <p:nvPr/>
        </p:nvSpPr>
        <p:spPr>
          <a:xfrm>
            <a:off x="5219640" y="263700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Arial"/>
                <a:ea typeface="Arabic Typesetting"/>
              </a:rPr>
              <a:t>«Дом на окраине», соус, уголь, г. Тобольск, 201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4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31640" y="2880"/>
            <a:ext cx="5072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13204"/>
                </a:solidFill>
                <a:latin typeface="Corbel"/>
              </a:rPr>
              <a:t>«</a:t>
            </a:r>
            <a:r>
              <a:rPr b="1" lang="ru-RU" sz="1800" spc="-1" strike="noStrike">
                <a:solidFill>
                  <a:srgbClr val="713204"/>
                </a:solidFill>
                <a:latin typeface="Arial"/>
                <a:ea typeface="Arial"/>
              </a:rPr>
              <a:t>Тепло родного дома» гуашь, 2013 г.</a:t>
            </a:r>
            <a:endParaRPr b="0" lang="en-US" sz="1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7" name="Рисунок 1" descr=""/>
          <p:cNvPicPr/>
          <p:nvPr/>
        </p:nvPicPr>
        <p:blipFill>
          <a:blip r:embed="rId1"/>
          <a:stretch/>
        </p:blipFill>
        <p:spPr>
          <a:xfrm>
            <a:off x="1633680" y="749160"/>
            <a:ext cx="3470040" cy="258768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1" descr=""/>
          <p:cNvPicPr/>
          <p:nvPr/>
        </p:nvPicPr>
        <p:blipFill>
          <a:blip r:embed="rId2"/>
          <a:stretch/>
        </p:blipFill>
        <p:spPr>
          <a:xfrm>
            <a:off x="5373720" y="1341360"/>
            <a:ext cx="3240000" cy="417528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1"/>
          <p:cNvSpPr/>
          <p:nvPr/>
        </p:nvSpPr>
        <p:spPr>
          <a:xfrm>
            <a:off x="5373720" y="6699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Arial"/>
              </a:rPr>
              <a:t>«Первый снег», смешенная техника, 20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Рисунок 2" descr=""/>
          <p:cNvPicPr/>
          <p:nvPr/>
        </p:nvPicPr>
        <p:blipFill>
          <a:blip r:embed="rId3"/>
          <a:stretch/>
        </p:blipFill>
        <p:spPr>
          <a:xfrm>
            <a:off x="1655640" y="3429000"/>
            <a:ext cx="2306880" cy="2879640"/>
          </a:xfrm>
          <a:prstGeom prst="rect">
            <a:avLst/>
          </a:prstGeom>
          <a:ln w="0">
            <a:noFill/>
          </a:ln>
        </p:spPr>
      </p:pic>
      <p:sp>
        <p:nvSpPr>
          <p:cNvPr id="331" name="TextBox 6"/>
          <p:cNvSpPr/>
          <p:nvPr/>
        </p:nvSpPr>
        <p:spPr>
          <a:xfrm>
            <a:off x="4140360" y="573264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13204"/>
                </a:solidFill>
                <a:latin typeface="Arial"/>
              </a:rPr>
              <a:t>«Любимый поэт», линогравюра,2015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360" y="142560"/>
            <a:ext cx="793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И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3" name="Объект 4" descr=""/>
          <p:cNvPicPr/>
          <p:nvPr/>
        </p:nvPicPr>
        <p:blipFill>
          <a:blip r:embed="rId1"/>
          <a:stretch/>
        </p:blipFill>
        <p:spPr>
          <a:xfrm>
            <a:off x="1050840" y="146160"/>
            <a:ext cx="3716280" cy="2571480"/>
          </a:xfrm>
          <a:prstGeom prst="rect">
            <a:avLst/>
          </a:prstGeom>
          <a:ln w="0">
            <a:noFill/>
          </a:ln>
        </p:spPr>
      </p:pic>
      <p:pic>
        <p:nvPicPr>
          <p:cNvPr id="334" name="Объект 5" descr=""/>
          <p:cNvPicPr/>
          <p:nvPr/>
        </p:nvPicPr>
        <p:blipFill>
          <a:blip r:embed="rId2"/>
          <a:stretch/>
        </p:blipFill>
        <p:spPr>
          <a:xfrm>
            <a:off x="5038560" y="123840"/>
            <a:ext cx="3668760" cy="2571840"/>
          </a:xfrm>
          <a:prstGeom prst="rect">
            <a:avLst/>
          </a:prstGeom>
          <a:ln w="0">
            <a:noFill/>
          </a:ln>
        </p:spPr>
      </p:pic>
      <p:sp>
        <p:nvSpPr>
          <p:cNvPr id="335" name="TextBox 4"/>
          <p:cNvSpPr/>
          <p:nvPr/>
        </p:nvSpPr>
        <p:spPr>
          <a:xfrm>
            <a:off x="1287720" y="2786040"/>
            <a:ext cx="32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3e21"/>
                </a:solidFill>
                <a:latin typeface="Arial"/>
              </a:rPr>
              <a:t>Башня Тобольского кремл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3e21"/>
                </a:solidFill>
                <a:latin typeface="Arial"/>
              </a:rPr>
              <a:t>аквар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5"/>
          <p:cNvSpPr/>
          <p:nvPr/>
        </p:nvSpPr>
        <p:spPr>
          <a:xfrm>
            <a:off x="5867280" y="29242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3e21"/>
                </a:solidFill>
                <a:latin typeface="Arial"/>
              </a:rPr>
              <a:t>Абалак, аквар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Рисунок 2" descr=""/>
          <p:cNvPicPr/>
          <p:nvPr/>
        </p:nvPicPr>
        <p:blipFill>
          <a:blip r:embed="rId3"/>
          <a:stretch/>
        </p:blipFill>
        <p:spPr>
          <a:xfrm>
            <a:off x="3419640" y="3416400"/>
            <a:ext cx="3528720" cy="26146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7"/>
          <p:cNvSpPr/>
          <p:nvPr/>
        </p:nvSpPr>
        <p:spPr>
          <a:xfrm>
            <a:off x="2627280" y="615312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Arial"/>
              </a:rPr>
              <a:t>«Вид на Исакиевский собор», линогравюра, 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Выпускная работа «Женский образ в произведении П.П.Ершова «Конек -Горбунок», 2018 г.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0" name="Рисунок 2" descr=""/>
          <p:cNvPicPr/>
          <p:nvPr/>
        </p:nvPicPr>
        <p:blipFill>
          <a:blip r:embed="rId1"/>
          <a:stretch/>
        </p:blipFill>
        <p:spPr>
          <a:xfrm>
            <a:off x="1619280" y="1417680"/>
            <a:ext cx="6948360" cy="5078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Хажилова</dc:creator>
  <dc:description/>
  <dc:language>en-US</dc:language>
  <cp:lastModifiedBy>Учетная запись Майкрософт</cp:lastModifiedBy>
  <dcterms:modified xsi:type="dcterms:W3CDTF">2023-06-14T09:03:28Z</dcterms:modified>
  <cp:revision>87</cp:revision>
  <dc:subject/>
  <dc:title>PowerPoint Presentation</dc:title>
</cp:coreProperties>
</file>