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320-886A-4378-93D7-179AB6B1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643-5A6E-4E73-A415-4B351C66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F2E-34FC-4FD2-80F3-BA0A342A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21C-2279-4ECE-82B5-B33BE547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13D-671E-40CC-B506-BE63EC85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B10-2A30-41BC-9FB1-09EF4DA3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B95-E3AD-4763-B333-20DE59DE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F6D-CD87-40BB-BFED-760F9379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450-F66D-47FD-976A-DD71A8E3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CF2-2F4E-414D-8F19-4FAFA4CD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5FA-67EB-420A-9929-F42B226A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1DE-B4FA-4DD0-A128-69A70398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4854-29BF-4B42-9A2C-38A58F384C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5"/>
          <p:cNvSpPr/>
          <p:nvPr/>
        </p:nvSpPr>
        <p:spPr>
          <a:xfrm>
            <a:off x="642960" y="357120"/>
            <a:ext cx="7929720" cy="1000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4 сентябр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Классная рабо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Скругленный прямоугольник 6"/>
          <p:cNvSpPr/>
          <p:nvPr/>
        </p:nvSpPr>
        <p:spPr>
          <a:xfrm>
            <a:off x="642960" y="500040"/>
            <a:ext cx="7929720" cy="85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вторяем то, что зна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214200" y="1357200"/>
            <a:ext cx="86439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пишите  в столбик слова, которые нельзя перенос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ель, иней, труд, редис, день, удав, ключик, клю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каждого слова запиши транскрипцию, определи количество букв и зву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365760" y="442908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е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366120" y="526248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н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345960" y="576252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а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286200" y="619128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ю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414720" y="485784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у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кругленный прямоугольник 4"/>
          <p:cNvSpPr/>
          <p:nvPr/>
        </p:nvSpPr>
        <p:spPr>
          <a:xfrm>
            <a:off x="642960" y="357120"/>
            <a:ext cx="792972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пределяем тему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57120" y="1857240"/>
          <a:ext cx="3429000" cy="1643040"/>
        </p:xfrm>
        <a:graphic>
          <a:graphicData uri="http://schemas.openxmlformats.org/drawingml/2006/table">
            <a:tbl>
              <a:tblPr/>
              <a:tblGrid>
                <a:gridCol w="561960"/>
                <a:gridCol w="581040"/>
                <a:gridCol w="571680"/>
                <a:gridCol w="571320"/>
                <a:gridCol w="571680"/>
                <a:gridCol w="5713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7"/>
          <p:cNvSpPr/>
          <p:nvPr/>
        </p:nvSpPr>
        <p:spPr>
          <a:xfrm>
            <a:off x="364680" y="1857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 flipH="1" flipV="1" rot="10800000">
            <a:off x="361800" y="23648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075400" y="2428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65760" y="2976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1503000" y="30002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360960" y="30002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2145960" y="1857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0" y="857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полните задания с буквами в таблице и определите тему у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5"/>
          <p:cNvSpPr/>
          <p:nvPr/>
        </p:nvSpPr>
        <p:spPr>
          <a:xfrm>
            <a:off x="0" y="3429000"/>
            <a:ext cx="792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3. Зачеркните букву, которая обозначает глухой, всегда мягкий согла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4. Зачеркните букву, которая может быть сло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5. Зачеркните букву, стоящую первой в алфави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6. Зачеркните буквы парных согласных звуков в последней стро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оедините буквы в строчках, начиная с верхней строки, прочитайте, что получилос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3929040" y="1571760"/>
            <a:ext cx="521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0520" algn="just"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Зачеркните букву, обозначающую звонкий, всегда мягкий согла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0520" algn="just"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Зачеркните букву гласного в первой строке, которая обозначает твёрдость соглас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17" descr="1проверка.png"/>
          <p:cNvPicPr/>
          <p:nvPr/>
        </p:nvPicPr>
        <p:blipFill>
          <a:blip r:embed="rId1"/>
          <a:stretch/>
        </p:blipFill>
        <p:spPr>
          <a:xfrm>
            <a:off x="6062760" y="3857760"/>
            <a:ext cx="308124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кругленный прямоугольник 1"/>
          <p:cNvSpPr/>
          <p:nvPr/>
        </p:nvSpPr>
        <p:spPr>
          <a:xfrm>
            <a:off x="642960" y="357120"/>
            <a:ext cx="792972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пределяем тему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2865600"/>
            <a:ext cx="6170760" cy="24256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96840" y="3943440"/>
            <a:ext cx="5164200" cy="7570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3"/>
          <a:stretch/>
        </p:blipFill>
        <p:spPr>
          <a:xfrm>
            <a:off x="1170000" y="4511520"/>
            <a:ext cx="3000240" cy="755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0" y="85716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ополните нужными словами вторую часть темы уро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ие бывают предложения по цели высказывани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А по инто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786280" y="371484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вествователь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проситель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будитель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Прямая со стрелкой 8"/>
          <p:cNvCxnSpPr/>
          <p:nvPr/>
        </p:nvCxnSpPr>
        <p:spPr>
          <a:xfrm>
            <a:off x="4500720" y="4642920"/>
            <a:ext cx="10720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" name="TextBox 9"/>
          <p:cNvSpPr/>
          <p:nvPr/>
        </p:nvSpPr>
        <p:spPr>
          <a:xfrm>
            <a:off x="1571760" y="5618160"/>
            <a:ext cx="38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склицатель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восклицатель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Прямая со стрелкой 10"/>
          <p:cNvCxnSpPr/>
          <p:nvPr/>
        </p:nvCxnSpPr>
        <p:spPr>
          <a:xfrm flipH="1">
            <a:off x="2499480" y="5214960"/>
            <a:ext cx="252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Скругленный прямоугольник 1"/>
          <p:cNvSpPr/>
          <p:nvPr/>
        </p:nvSpPr>
        <p:spPr>
          <a:xfrm>
            <a:off x="642960" y="357120"/>
            <a:ext cx="792972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именяем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870120" y="540540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село провед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730080" y="450072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люблю зимой кататься на лыж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819720" y="4976640"/>
            <a:ext cx="61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красивы пушистые снежинки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806040" y="5834160"/>
            <a:ext cx="33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 ты любишь зи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285840" y="1000080"/>
            <a:ext cx="84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ую из записей нельзя назвать предложением? Поче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пределите, вид предложений по цели высказы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апишите только невосклицательные предло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окажите, что знаки в конце предложения поставлены вер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Рисунок 11" descr="1проверка.png"/>
          <p:cNvPicPr/>
          <p:nvPr/>
        </p:nvPicPr>
        <p:blipFill>
          <a:blip r:embed="rId1"/>
          <a:stretch/>
        </p:blipFill>
        <p:spPr>
          <a:xfrm>
            <a:off x="6062760" y="4071960"/>
            <a:ext cx="3081240" cy="2036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6429240" y="442584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6429240" y="49258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4071960" y="571500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Скругленный прямоугольник 2"/>
          <p:cNvSpPr/>
          <p:nvPr/>
        </p:nvSpPr>
        <p:spPr>
          <a:xfrm>
            <a:off x="571680" y="428760"/>
            <a:ext cx="792936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оверяем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Группа 2"/>
          <p:cNvGrpSpPr/>
          <p:nvPr/>
        </p:nvGrpSpPr>
        <p:grpSpPr>
          <a:xfrm>
            <a:off x="1785960" y="4786200"/>
            <a:ext cx="6000840" cy="908280"/>
            <a:chOff x="1785960" y="4786200"/>
            <a:chExt cx="6000840" cy="908280"/>
          </a:xfrm>
        </p:grpSpPr>
        <p:pic>
          <p:nvPicPr>
            <p:cNvPr id="83" name="Picture 2" descr=""/>
            <p:cNvPicPr/>
            <p:nvPr/>
          </p:nvPicPr>
          <p:blipFill>
            <a:blip r:embed="rId1"/>
            <a:stretch/>
          </p:blipFill>
          <p:spPr>
            <a:xfrm>
              <a:off x="1785960" y="4786200"/>
              <a:ext cx="600084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4"/>
            <p:cNvSpPr/>
            <p:nvPr/>
          </p:nvSpPr>
          <p:spPr>
            <a:xfrm>
              <a:off x="2143080" y="4929120"/>
              <a:ext cx="545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Times New Roman"/>
                </a:rPr>
                <a:t>Упражнение 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Группа 9"/>
          <p:cNvGrpSpPr/>
          <p:nvPr/>
        </p:nvGrpSpPr>
        <p:grpSpPr>
          <a:xfrm>
            <a:off x="928800" y="1285920"/>
            <a:ext cx="7643880" cy="1905120"/>
            <a:chOff x="928800" y="1285920"/>
            <a:chExt cx="7643880" cy="1905120"/>
          </a:xfrm>
        </p:grpSpPr>
        <p:pic>
          <p:nvPicPr>
            <p:cNvPr id="86" name="Рисунок 6" descr="0_8f5d7_ef85590c_S.png"/>
            <p:cNvPicPr/>
            <p:nvPr/>
          </p:nvPicPr>
          <p:blipFill>
            <a:blip r:embed="rId2"/>
            <a:stretch/>
          </p:blipFill>
          <p:spPr>
            <a:xfrm>
              <a:off x="928800" y="1285920"/>
              <a:ext cx="17395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Скругленный прямоугольник 7"/>
            <p:cNvSpPr/>
            <p:nvPr/>
          </p:nvSpPr>
          <p:spPr>
            <a:xfrm>
              <a:off x="2643120" y="1285920"/>
              <a:ext cx="5929560" cy="1786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Times New Roman"/>
                </a:rPr>
                <a:t>Проверка домашнего задани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Box 8"/>
            <p:cNvSpPr/>
            <p:nvPr/>
          </p:nvSpPr>
          <p:spPr>
            <a:xfrm>
              <a:off x="3000600" y="2357640"/>
              <a:ext cx="492912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62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Упражнение 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Рисунок 1" descr="Рисунок1.png"/>
          <p:cNvPicPr/>
          <p:nvPr/>
        </p:nvPicPr>
        <p:blipFill>
          <a:blip r:embed="rId3"/>
          <a:stretch/>
        </p:blipFill>
        <p:spPr>
          <a:xfrm>
            <a:off x="1951200" y="2857680"/>
            <a:ext cx="7192800" cy="31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7215120" cy="3857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0"/>
          <p:cNvSpPr/>
          <p:nvPr/>
        </p:nvSpPr>
        <p:spPr>
          <a:xfrm>
            <a:off x="2214720" y="197640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Задание на карточ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AutoShape 5"/>
          <p:cNvGrpSpPr/>
          <p:nvPr/>
        </p:nvGrpSpPr>
        <p:grpSpPr>
          <a:xfrm>
            <a:off x="579600" y="365040"/>
            <a:ext cx="8192880" cy="708120"/>
            <a:chOff x="579600" y="365040"/>
            <a:chExt cx="8192880" cy="708120"/>
          </a:xfrm>
        </p:grpSpPr>
        <p:pic>
          <p:nvPicPr>
            <p:cNvPr id="93" name="AutoShape 5" descr=""/>
            <p:cNvPicPr/>
            <p:nvPr/>
          </p:nvPicPr>
          <p:blipFill>
            <a:blip r:embed="rId2"/>
            <a:stretch/>
          </p:blipFill>
          <p:spPr>
            <a:xfrm>
              <a:off x="579600" y="365040"/>
              <a:ext cx="819288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71400" y="457200"/>
              <a:ext cx="80154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Times New Roman"/>
                </a:rPr>
                <a:t>Домашнее зада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ОЕМ</cp:lastModifiedBy>
  <dcterms:modified xsi:type="dcterms:W3CDTF">2014-09-03T16:05:33Z</dcterms:modified>
  <cp:revision>36</cp:revision>
  <dc:subject/>
  <dc:title>Слайд 1</dc:title>
</cp:coreProperties>
</file>