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B01-C16A-487E-A018-3A0708BC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C0D-576F-4A6C-BE69-7F5B7138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E05-2D62-4D9F-B3AE-E3A62A99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87F-1463-462B-AB63-EFD4E0DD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D10-E896-4546-81A3-42DD6C88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D3C-599A-48EE-9483-FCB00E8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639-8239-499F-84CC-3B1B9EBC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68A-EEF7-4D64-9F50-7CDF675C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9B5-EBA5-4D48-B0B5-9908099C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E0D-175A-4744-885A-38584C0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616-D08A-4B51-B0E1-59F7CF0A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B76-D2D3-4D4D-A163-F84232F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93FF-604C-41A4-AA00-0CDC2C636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5"/>
          <p:cNvSpPr/>
          <p:nvPr/>
        </p:nvSpPr>
        <p:spPr>
          <a:xfrm>
            <a:off x="642960" y="357120"/>
            <a:ext cx="792972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 сентябр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Скругленный прямоугольник 6"/>
          <p:cNvSpPr/>
          <p:nvPr/>
        </p:nvSpPr>
        <p:spPr>
          <a:xfrm>
            <a:off x="642960" y="500040"/>
            <a:ext cx="792972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торяем то, что зн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214200" y="1357200"/>
            <a:ext cx="86439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ишите  в столбик слова, которые нельзя перенос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ель, иней, труд, редис, день, удав, ключик,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каждого слова запиши транскрипцию, определи количество букв и зву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365760" y="442908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е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366120" y="526248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345960" y="576252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а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286200" y="61912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ю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414720" y="485784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у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4"/>
          <p:cNvSpPr/>
          <p:nvPr/>
        </p:nvSpPr>
        <p:spPr>
          <a:xfrm>
            <a:off x="642960" y="357120"/>
            <a:ext cx="792972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7120" y="1857240"/>
          <a:ext cx="3429000" cy="1643040"/>
        </p:xfrm>
        <a:graphic>
          <a:graphicData uri="http://schemas.openxmlformats.org/drawingml/2006/table">
            <a:tbl>
              <a:tblPr/>
              <a:tblGrid>
                <a:gridCol w="561960"/>
                <a:gridCol w="581040"/>
                <a:gridCol w="571680"/>
                <a:gridCol w="571320"/>
                <a:gridCol w="571680"/>
                <a:gridCol w="5713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7"/>
          <p:cNvSpPr/>
          <p:nvPr/>
        </p:nvSpPr>
        <p:spPr>
          <a:xfrm>
            <a:off x="364680" y="1857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 flipH="1" flipV="1" rot="10800000">
            <a:off x="361800" y="23648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075400" y="24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65760" y="2976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3000" y="30002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360960" y="30002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2145960" y="1857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0" y="857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олните задания с буквами в таблице и определите тему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0" y="342900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3. Зачеркните букву, которая обозначает глухой, всегда мягкий согл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Зачеркните букву, которая может быть сло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. Зачеркните букву, стоящую первой в алфави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6. Зачеркните буквы парных согласных звуков в последней стро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оедините буквы в строчках, начиная с верхней строки, прочитайте, что получилос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3929040" y="157176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0520" algn="just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черкните букву, обозначающую звонкий, всегда мягкий согл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0520" algn="just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черкните букву гласного в первой строке, которая обозначает твёрдость соглас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17" descr="1проверка.png"/>
          <p:cNvPicPr/>
          <p:nvPr/>
        </p:nvPicPr>
        <p:blipFill>
          <a:blip r:embed="rId1"/>
          <a:stretch/>
        </p:blipFill>
        <p:spPr>
          <a:xfrm>
            <a:off x="6062760" y="3857760"/>
            <a:ext cx="30812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1"/>
          <p:cNvSpPr/>
          <p:nvPr/>
        </p:nvSpPr>
        <p:spPr>
          <a:xfrm>
            <a:off x="642960" y="357120"/>
            <a:ext cx="792972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2865600"/>
            <a:ext cx="6170760" cy="24256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96840" y="3943440"/>
            <a:ext cx="5164200" cy="7570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3"/>
          <a:stretch/>
        </p:blipFill>
        <p:spPr>
          <a:xfrm>
            <a:off x="1170000" y="4511520"/>
            <a:ext cx="3000240" cy="7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0" y="85716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ополните нужными словами вторую часть темы уро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бывают предложения по цели высказыван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 по инто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786280" y="37148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вествова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и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буди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Прямая со стрелкой 8"/>
          <p:cNvCxnSpPr/>
          <p:nvPr/>
        </p:nvCxnSpPr>
        <p:spPr>
          <a:xfrm>
            <a:off x="4500720" y="4642920"/>
            <a:ext cx="10720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9"/>
          <p:cNvSpPr/>
          <p:nvPr/>
        </p:nvSpPr>
        <p:spPr>
          <a:xfrm>
            <a:off x="1571760" y="5618160"/>
            <a:ext cx="38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склица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восклицатель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Прямая со стрелкой 10"/>
          <p:cNvCxnSpPr/>
          <p:nvPr/>
        </p:nvCxnSpPr>
        <p:spPr>
          <a:xfrm flipH="1">
            <a:off x="2499480" y="5214960"/>
            <a:ext cx="252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Скругленный прямоугольник 1"/>
          <p:cNvSpPr/>
          <p:nvPr/>
        </p:nvSpPr>
        <p:spPr>
          <a:xfrm>
            <a:off x="642960" y="357120"/>
            <a:ext cx="792972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мен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870120" y="540540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село провед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730080" y="450072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люблю зимой кататься на лыж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819720" y="4976640"/>
            <a:ext cx="61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красивы пушистые снежинки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806040" y="583416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 ты любишь зи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285840" y="100008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ую из записей нельзя назвать предложением?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пределите, вид предложений по цели высказ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пишите только невосклицательные предло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окажите, что знаки в конце предложения поставлены вер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11" descr="1проверка.png"/>
          <p:cNvPicPr/>
          <p:nvPr/>
        </p:nvPicPr>
        <p:blipFill>
          <a:blip r:embed="rId1"/>
          <a:stretch/>
        </p:blipFill>
        <p:spPr>
          <a:xfrm>
            <a:off x="6062760" y="4071960"/>
            <a:ext cx="3081240" cy="2036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6429240" y="442584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6429240" y="49258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071960" y="571500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2"/>
          <p:cNvSpPr/>
          <p:nvPr/>
        </p:nvSpPr>
        <p:spPr>
          <a:xfrm>
            <a:off x="571680" y="428760"/>
            <a:ext cx="792936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вер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2"/>
          <p:cNvGrpSpPr/>
          <p:nvPr/>
        </p:nvGrpSpPr>
        <p:grpSpPr>
          <a:xfrm>
            <a:off x="1785960" y="4786200"/>
            <a:ext cx="6000840" cy="908280"/>
            <a:chOff x="1785960" y="4786200"/>
            <a:chExt cx="6000840" cy="908280"/>
          </a:xfrm>
        </p:grpSpPr>
        <p:pic>
          <p:nvPicPr>
            <p:cNvPr id="83" name="Picture 2" descr=""/>
            <p:cNvPicPr/>
            <p:nvPr/>
          </p:nvPicPr>
          <p:blipFill>
            <a:blip r:embed="rId1"/>
            <a:stretch/>
          </p:blipFill>
          <p:spPr>
            <a:xfrm>
              <a:off x="1785960" y="4786200"/>
              <a:ext cx="60008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4"/>
            <p:cNvSpPr/>
            <p:nvPr/>
          </p:nvSpPr>
          <p:spPr>
            <a:xfrm>
              <a:off x="2143080" y="4929120"/>
              <a:ext cx="545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Упражнение 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Группа 9"/>
          <p:cNvGrpSpPr/>
          <p:nvPr/>
        </p:nvGrpSpPr>
        <p:grpSpPr>
          <a:xfrm>
            <a:off x="928800" y="1285920"/>
            <a:ext cx="7643880" cy="1905120"/>
            <a:chOff x="928800" y="1285920"/>
            <a:chExt cx="7643880" cy="1905120"/>
          </a:xfrm>
        </p:grpSpPr>
        <p:pic>
          <p:nvPicPr>
            <p:cNvPr id="86" name="Рисунок 6" descr="0_8f5d7_ef85590c_S.png"/>
            <p:cNvPicPr/>
            <p:nvPr/>
          </p:nvPicPr>
          <p:blipFill>
            <a:blip r:embed="rId2"/>
            <a:stretch/>
          </p:blipFill>
          <p:spPr>
            <a:xfrm>
              <a:off x="928800" y="1285920"/>
              <a:ext cx="17395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Скругленный прямоугольник 7"/>
            <p:cNvSpPr/>
            <p:nvPr/>
          </p:nvSpPr>
          <p:spPr>
            <a:xfrm>
              <a:off x="2643120" y="1285920"/>
              <a:ext cx="5929560" cy="1786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</a:rPr>
                <a:t>Проверка домашнего задан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Box 8"/>
            <p:cNvSpPr/>
            <p:nvPr/>
          </p:nvSpPr>
          <p:spPr>
            <a:xfrm>
              <a:off x="3000600" y="2357640"/>
              <a:ext cx="492912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Упражнение 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Рисунок 1" descr="Рисунок1.png"/>
          <p:cNvPicPr/>
          <p:nvPr/>
        </p:nvPicPr>
        <p:blipFill>
          <a:blip r:embed="rId3"/>
          <a:stretch/>
        </p:blipFill>
        <p:spPr>
          <a:xfrm>
            <a:off x="1951200" y="2857680"/>
            <a:ext cx="719280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7215120" cy="3857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0"/>
          <p:cNvSpPr/>
          <p:nvPr/>
        </p:nvSpPr>
        <p:spPr>
          <a:xfrm>
            <a:off x="2214720" y="197640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Задание на карточ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AutoShape 5"/>
          <p:cNvGrpSpPr/>
          <p:nvPr/>
        </p:nvGrpSpPr>
        <p:grpSpPr>
          <a:xfrm>
            <a:off x="579600" y="365040"/>
            <a:ext cx="8192880" cy="708120"/>
            <a:chOff x="579600" y="365040"/>
            <a:chExt cx="8192880" cy="708120"/>
          </a:xfrm>
        </p:grpSpPr>
        <p:pic>
          <p:nvPicPr>
            <p:cNvPr id="93" name="AutoShape 5" descr=""/>
            <p:cNvPicPr/>
            <p:nvPr/>
          </p:nvPicPr>
          <p:blipFill>
            <a:blip r:embed="rId2"/>
            <a:stretch/>
          </p:blipFill>
          <p:spPr>
            <a:xfrm>
              <a:off x="579600" y="365040"/>
              <a:ext cx="819288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1400" y="457200"/>
              <a:ext cx="80154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</a:rPr>
                <a:t>Домашнее зад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ОЕМ</cp:lastModifiedBy>
  <dcterms:modified xsi:type="dcterms:W3CDTF">2014-09-03T16:05:33Z</dcterms:modified>
  <cp:revision>36</cp:revision>
  <dc:subject/>
  <dc:title>Слайд 1</dc:title>
</cp:coreProperties>
</file>