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2EB-D046-4475-823A-286AB147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15A9-16EA-4501-BD1E-44CF5837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BDA-D7A3-420B-BD1E-F7913EE8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6262-AB60-4C66-B223-60AB8589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296D-2056-4EAD-91FA-3ACCC8DA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3B5C-D495-4C5C-97B1-D7F59A03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7DE6-E288-4CCC-A5AC-200833B9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4CB6-9526-45E8-8A36-8E2C4879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E079-1B35-4613-AF52-B331477B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315C-3B4D-458B-AE83-3BCD13EE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6C2C-DFBE-47FD-B689-B5760B94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7BE1-9AA9-42CE-B388-440F1D11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350A-78FF-4F39-B8D8-3381CBFE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6F7E-9818-4217-BD12-F4A3FC76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34D4-A756-4A30-B914-E88AE75C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B22B-5888-481B-BDE6-4B6BFE0F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5297-AA21-4EE5-9273-1B1A4632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126-B691-4AC7-B451-EF95E888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9B8-0396-411A-A77E-A81431BC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B897-37C7-4423-991E-B2DDCE3B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9252-34E3-4B60-B33E-BF1DE3C0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BBCD-A6C7-4D78-BABC-3AC2C679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490-4BEF-4224-AE8D-049EA612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8CE1-2F0F-4892-9BFF-427F0538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F735-2E4C-4452-B31D-3736CA478F9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EC92-6FF7-43D9-AC5A-3BDBC80FF84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ec94"/>
                </a:solidFill>
                <a:latin typeface="Times New Roman"/>
              </a:rPr>
              <a:t>ГОБПОУ «Елецкий колледж инновационных технологий»</a:t>
            </a:r>
            <a:br>
              <a:rPr sz="1800"/>
            </a:b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Группы красителей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для воло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полнила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урдюмова О.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астер п/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четвертой группе красителей относятся краски растительного происхождени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хн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бас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асители 1, 2 и 3 групп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заимодействуют с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ислителя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кислители – оксидан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,5% - применяется для затемнения, тонир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% - применяется для затемнения, тонирования, окрашивания тон в т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% - применяется для окрашивания тон в тон и при работе с седи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% - применяется для осветления на 2 уровня, на корнях осветляет на 3 уров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2%  - применяется для осветления на 3-4 уровня в зависимости от пропорции: 1:1 – на 3 уровня, 1:2 – 4 уров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тать по коже 12%  окислителем не рекомендуется, кроме специальных разработанных продукт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лассификация красител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88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Все красители делятся  на четыре групп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1 группа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блондирующ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2 групп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химические (окислительные) красител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3 групп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физические (тонирующие) красител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4 групп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растительные (натуральные) красител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ервая группа красител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1 группа красителей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это блондирующие (обесцвечивающие) красители, которые позволяют изменить цвет волос посредством полного или частичного удаления пигмента из волос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помощью данной группы красителей выполняется обесцвечивание  волос или отдельных прядей (мелировани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первой группе относятся обесцвечивающие красителей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порошки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пуд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торая группа красител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Вторая группа красителей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это химические (окислительные) красители, процесс окрашивания которыми состоит в частичной замене натурального пигмента искусственным. С их помощью можно изменить цвет воло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 второй  группе красителей относятся пермаментные краски, которые оставляют эффект отросших корн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ретья группа красителей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етья группа красителей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это физические (тонирующие) красители, которые  выполняют функцию тонирования, то есть придания оттенка волоса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рашивание тонирующими красителями не стойкое, после окрашивания на волосах не остается эффекта отросших корн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третьей группе красителей относятся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полупермаментные красител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тоник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оттеночные шампу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Четвертая группа красителей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Четвертая  группа красителей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это растительные (натуральные) красите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рашивание волос 4 группой красителей является очень стойким и не разрушает воло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14T19:45:08Z</dcterms:created>
  <dc:creator>Ольга</dc:creator>
  <dc:description/>
  <dc:language>en-US</dc:language>
  <cp:lastModifiedBy>Kurdysha@outlook.com</cp:lastModifiedBy>
  <dcterms:modified xsi:type="dcterms:W3CDTF">2023-06-15T16:20:3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