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0C9-A94D-4921-B72A-A96911EA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002-297D-4E0C-8309-BE4CD7FE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12B-73C3-4018-8700-F31205E0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08C-C67C-425D-A1B8-C48C2B3F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85E2-9D47-4BCB-B1FC-1E341B6B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FC0D-C251-4117-9916-8FB31142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DDC2-70FE-4331-8C89-F3A0D699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7B0D-0429-4E3E-B874-7DA5D452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A9FA-D826-493A-83B4-6E8E4253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FF8D-6D5D-44DE-9510-AE4B64BF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5E00-F7DE-4A78-A505-08361808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90A-3EDD-4E39-813B-0EB05979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EBC8-A5A5-4609-ADA7-A4DBD85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85F2-60B2-498A-AE03-E8305B7E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19CE-56F5-4AD7-B2FF-007A7558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5229-93DE-4424-AE00-D700637E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02F0-A76D-4D2F-AF11-41EDBEC1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811-2809-47A8-81F2-38CDC241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6C7-09B9-4BD9-B89A-A0BCF222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1AD-3660-460B-BCB0-1F2BFC7B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C7D-6F2C-47F3-8371-0A5E401D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765-5532-49D0-AE7C-E27575E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EBC-814B-4AA6-B8A7-97C19F2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E89-CC36-4049-A269-7860285C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158E-F140-42EE-BA08-A0DBA2EBE2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1548-386C-48B9-A975-4207F8068F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ГОБПОУ «Елецкий колледж инновационных технологий»</a:t>
            </a:r>
            <a:br>
              <a:rPr sz="1800"/>
            </a:b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руппы красителей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ля вол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урдюмова О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стер п/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четвертой группе красителей относятся краски растительного происхожде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х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бас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сители 1, 2 и 3 групп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ют 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ислителя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кислители – оксидан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5% - применяется для затемнения, тон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% - применяется для затемнения, тонирования, окрашивания тон в т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% - применяется для окрашивания тон в тон и при работе с седи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% - применяется для осветления на 2 уровня, на корнях осветляет на 3 уров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%  - применяется для осветления на 3-4 уровня в зависимости от пропорции: 1:1 – на 3 уровня, 1:2 – 4 уров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ть по коже 12%  окислителем не рекомендуется, кроме специальных разработанных продукт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лассификация красител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се красители делятся  на четыре групп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1 группа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блондиру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2 групп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химические (окислительные) красите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3 групп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физические (тонирующие) красите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4 групп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растительные (натуральные) красите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вая группа красител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1 группа красителей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это блондирующие (обесцвечивающие) красители, которые позволяют изменить цвет волос посредством полного или частичного удаления пигмента из волос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помощью данной группы красителей выполняется обесцвечивание  волос или отдельных прядей (мелирован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первой группе относятся обесцвечивающие красителей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рошки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уд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торая группа красител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торая группа красителе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это химические (окислительные) красители, процесс окрашивания которыми состоит в частичной замене натурального пигмента искусственным. С их помощью можно изменить цвет воло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 второй  группе красителей относятся пермаментные краски, которые оставляют эффект отросших корн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етья группа красителей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тья группа красителе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это физические (тонирующие) красители, которые  выполняют функцию тонирования, то есть придания оттенка волоса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рашивание тонирующими красителями не стойкое, после окрашивания на волосах не остается эффекта отросших корн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третьей группе красителей относятся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лупермаментные красител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тоник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оттеночные шампу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етвертая группа красителей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Четвертая  группа красителе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это растительные (натуральные) красит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рашивание волос 4 группой красителей является очень стойким и не разрушает воло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4T19:45:08Z</dcterms:created>
  <dc:creator>Ольга</dc:creator>
  <dc:description/>
  <dc:language>en-US</dc:language>
  <cp:lastModifiedBy>Kurdysha@outlook.com</cp:lastModifiedBy>
  <dcterms:modified xsi:type="dcterms:W3CDTF">2023-06-15T16:20:3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