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D06-B35D-4052-9F63-78102205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9DD-9DE9-4D17-83A7-77E05DFC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B54-B3FC-457B-8314-45DB33C2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FED-BAA8-4184-9266-30D3B571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BF2-008E-4577-9717-5454B6A3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00C-67AA-4497-82C3-78313F6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900-069F-46C6-A3D2-60585E8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4AD-E5DE-4364-A1B2-E5B8615B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8AC-2F21-4C57-87BB-AE8DE65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CC5-17F0-4F82-B0F4-FBE916F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EC7-9DA3-4362-9CF4-15F46B3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A00-58A5-4332-8DC3-43F5559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F5C-23CF-4638-9639-F169068EEC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304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00"/>
                </a:solidFill>
                <a:latin typeface="Georgia"/>
              </a:rPr>
              <a:t>Разряды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00"/>
                </a:solidFill>
                <a:latin typeface="Georgia"/>
              </a:rPr>
              <a:t>количественных числительных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schooled.ru/textbook/mova/5klas_1/5klas_1.files/image013.jpg"/>
          <p:cNvPicPr/>
          <p:nvPr/>
        </p:nvPicPr>
        <p:blipFill>
          <a:blip r:embed="rId1"/>
          <a:stretch/>
        </p:blipFill>
        <p:spPr>
          <a:xfrm>
            <a:off x="3962520" y="3124080"/>
            <a:ext cx="4260600" cy="291492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9A2-7B08-462B-B4E2-533ED7E2C4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073-1CE6-437D-9157-7BD264169F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18124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Третий - ли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012680" y="17524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Це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011760" y="17524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обир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6208560" y="1774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Дро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093840" y="2362320"/>
            <a:ext cx="119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ес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деся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654120" y="2362320"/>
            <a:ext cx="185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тыс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одна тыся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милл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468040" y="2424240"/>
            <a:ext cx="302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одна целая семь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ять вось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шес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Давайте  улыбнём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Georgia"/>
              </a:rPr>
              <a:t>Прочтите фраз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скоре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7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   о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5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сядет  за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, блистающий чи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тою. Сес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ы-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   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 ухи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ись пр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арительно приготовить обед, отыскать   вм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    осе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ы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ько ус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, что     пред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00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т    целый    пи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https://ds02.infourok.ru/uploads/ex/0b3d/0007bfe4-573b184e/3/hello_html_68278a41.jpg"/>
          <p:cNvPicPr/>
          <p:nvPr/>
        </p:nvPicPr>
        <p:blipFill>
          <a:blip r:embed="rId1"/>
          <a:stretch/>
        </p:blipFill>
        <p:spPr>
          <a:xfrm>
            <a:off x="5562720" y="4516560"/>
            <a:ext cx="3390840" cy="234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s://ds02.infourok.ru/uploads/ex/0b3d/0007bfe4-573b184e/3/hello_html_68278a41.jpg"/>
          <p:cNvPicPr/>
          <p:nvPr/>
        </p:nvPicPr>
        <p:blipFill>
          <a:blip r:embed="rId2"/>
          <a:stretch/>
        </p:blipFill>
        <p:spPr>
          <a:xfrm>
            <a:off x="0" y="4516560"/>
            <a:ext cx="3390840" cy="234144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3E3-3EC8-4BA3-8F02-45634BC23B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Написать 10 произвед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в названии которых есть числи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http://dslukomorje.ru/media/fckeditor_storage/_.png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183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www.cliparthut.com/clip-arts/372/do-homework-clip-art-372992.jpg"/>
          <p:cNvPicPr/>
          <p:nvPr/>
        </p:nvPicPr>
        <p:blipFill>
          <a:blip r:embed="rId2"/>
          <a:stretch/>
        </p:blipFill>
        <p:spPr>
          <a:xfrm>
            <a:off x="2514600" y="4267080"/>
            <a:ext cx="2451240" cy="199548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67AE-1EF2-40C3-88C4-B886E8E016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90760" y="10663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Как обойтись бы без чис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Наука целая мог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Расчёт во всяком деле нуж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И ты  с числитель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будь друж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2" descr="http://www.besedatea.ru/files/pages/learn2.png"/>
          <p:cNvPicPr/>
          <p:nvPr/>
        </p:nvPicPr>
        <p:blipFill>
          <a:blip r:embed="rId1"/>
          <a:stretch/>
        </p:blipFill>
        <p:spPr>
          <a:xfrm>
            <a:off x="5486400" y="41148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EF2E-9CB0-4BFE-AF74-A0019D7905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209680" y="32767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корогов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ороки-таратор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торили на гор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ороки — три трещот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ряли по три щётк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сегодн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вче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— ещё позавче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Орфографическая  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1294920"/>
            <a:ext cx="6793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. Умелый рез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щ,ч)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2. Ч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е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тота в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3.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з,с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бор урож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4.  Ко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л,лл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есо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5. Выб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е,и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раешь 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6. Весело улыба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т,ть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7. Свеж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е,о)го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вет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8. Паралл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л,лл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9. Свист солов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ь,ъ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0. Ю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нн,н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ый ге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1. Плохой роз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ы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гр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12. Сп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и,е)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шил на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553080" y="1143000"/>
            <a:ext cx="1079640" cy="50292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67E-A086-4EA8-A831-12F1A7D7B4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Фронтальная  бес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то такое имя числитель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ие вопросы отвечает числительн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е разряды числительных вы знае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ой вопрос отвечают количественные числительн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какие – порядков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е числительные бывают по состав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Каким членом предлож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является имя числительны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www.materinstvo.ru/content/article_images/articles_12501/puiple-29.png"/>
          <p:cNvPicPr/>
          <p:nvPr/>
        </p:nvPicPr>
        <p:blipFill>
          <a:blip r:embed="rId1"/>
          <a:stretch/>
        </p:blipFill>
        <p:spPr>
          <a:xfrm>
            <a:off x="0" y="3048120"/>
            <a:ext cx="1447920" cy="24987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0C1E-46CF-496D-933D-85718C062B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609480"/>
            <a:ext cx="87105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2120" y="1676520"/>
          <a:ext cx="7696080" cy="35812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Количественные 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целые числа)          </a:t>
                      </a: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дробные числа)       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несколько предмет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к одно целое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1600200" y="5336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Количественные числительные делятся на три группы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bPieSlice"/>
          <p:cNvSpPr/>
          <p:nvPr/>
        </p:nvSpPr>
        <p:spPr>
          <a:xfrm rot="6690600">
            <a:off x="3810240" y="4048560"/>
            <a:ext cx="880920" cy="1025640"/>
          </a:xfrm>
          <a:custGeom>
            <a:avLst/>
            <a:gdLst>
              <a:gd name="textAreaLeft" fmla="*/ 128880 w 880920"/>
              <a:gd name="textAreaRight" fmla="*/ 752040 w 880920"/>
              <a:gd name="textAreaTop" fmla="*/ 150120 h 1025640"/>
              <a:gd name="textAreaBottom" fmla="*/ 875520 h 102564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j0343297"/>
          <p:cNvPicPr/>
          <p:nvPr/>
        </p:nvPicPr>
        <p:blipFill>
          <a:blip r:embed="rId2"/>
          <a:stretch/>
        </p:blipFill>
        <p:spPr>
          <a:xfrm>
            <a:off x="6400800" y="3963960"/>
            <a:ext cx="98568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5" descr="j0223774"/>
          <p:cNvPicPr/>
          <p:nvPr/>
        </p:nvPicPr>
        <p:blipFill>
          <a:blip r:embed="rId3"/>
          <a:stretch/>
        </p:blipFill>
        <p:spPr>
          <a:xfrm rot="21352200">
            <a:off x="1176120" y="4080960"/>
            <a:ext cx="1218960" cy="96048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E6A-F902-4595-860A-600F4AE16B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оличественные  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Impact"/>
              </a:rPr>
              <a:t>    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двенадцать                           трое                     одна втор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Прямая со стрелкой 12" descr=""/>
          <p:cNvPicPr/>
          <p:nvPr/>
        </p:nvPicPr>
        <p:blipFill>
          <a:blip r:embed="rId1"/>
          <a:stretch/>
        </p:blipFill>
        <p:spPr>
          <a:xfrm>
            <a:off x="1298520" y="1212840"/>
            <a:ext cx="167652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6022800" y="1212840"/>
            <a:ext cx="1676520" cy="14572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4419720" y="1158840"/>
            <a:ext cx="609480" cy="166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www.clipartkid.com/images/175/cupcakes-clipart-border-clipart-panda-free-clipart-images-gwLuc8-clipart.jpeg"/>
          <p:cNvPicPr/>
          <p:nvPr/>
        </p:nvPicPr>
        <p:blipFill>
          <a:blip r:embed="rId4"/>
          <a:srcRect l="0" t="0" r="25257" b="0"/>
          <a:stretch/>
        </p:blipFill>
        <p:spPr>
          <a:xfrm>
            <a:off x="1143000" y="3048120"/>
            <a:ext cx="1623960" cy="21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fotohomka.ru/images/Jan/09/75bb5a63eb48a3294af9d51641165422/mini_7.jpg"/>
          <p:cNvPicPr/>
          <p:nvPr/>
        </p:nvPicPr>
        <p:blipFill>
          <a:blip r:embed="rId5"/>
          <a:stretch/>
        </p:blipFill>
        <p:spPr>
          <a:xfrm>
            <a:off x="3124080" y="3124080"/>
            <a:ext cx="2965680" cy="22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http://clipartsign.com/upload/2016/04/29/peach-clip-art-3.png"/>
          <p:cNvPicPr/>
          <p:nvPr/>
        </p:nvPicPr>
        <p:blipFill>
          <a:blip r:embed="rId6"/>
          <a:stretch/>
        </p:blipFill>
        <p:spPr>
          <a:xfrm>
            <a:off x="6095880" y="3189240"/>
            <a:ext cx="2514600" cy="208764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169-820A-4313-9F5D-9CDCB91A7B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D9E2-616E-4C20-9E59-5DCC3B9A73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ыпишите числительные, определите их разр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332000" y="2317680"/>
            <a:ext cx="53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емь раз  отмерь - один  раз отреж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590480" y="28940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1656720" y="390060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Двое пашут, семеро ложками маш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560600" y="170820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Одна книга тысячу людей 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45560" y="4357800"/>
            <a:ext cx="48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Три дня молол, а в полтора дня съ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550880" y="335268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Не имей сто рублей, а имей сто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1611360" y="4856040"/>
            <a:ext cx="71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Чего не сможет сделать один, сделают десяте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1760" y="860040"/>
            <a:ext cx="746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а) Сорок восемь – это целое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б) Одна треть – дробное числитель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в) Сто – собирательное числитель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г) трое – собирательное числитель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c00000"/>
                </a:solidFill>
                <a:latin typeface="Georgia"/>
                <a:ea typeface="Times New Roman"/>
              </a:rPr>
              <a:t>.В какой строчке одинаковый разряд числитель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а) сто , два, пяте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б) три пятых, шесть восьмых, сорок од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  <a:ea typeface="Times New Roman"/>
              </a:rPr>
              <a:t>в) тысяча, семнадцать, двадцать дев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go-diamond-forever.ru/wp-content/uploads/2013/10/vopros3.jpg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6113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3655080" y="76320"/>
            <a:ext cx="150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  <a:ea typeface="Times New Roman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F20-4666-41A3-9F30-620EB7916A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352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Третий - лиш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3429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обира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95280" y="1413000"/>
            <a:ext cx="17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601680" y="13716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ро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52600" y="23432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сто дес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85720" y="27432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двенадц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285000" y="22860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одиннадц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369600" y="2743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восьм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381720" y="342900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три четвёр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438240" y="289440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сем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6477120" y="233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Impact"/>
              </a:rPr>
              <a:t>две третьих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ACEE-391F-4BA9-B074-12C09DDF1E8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3453120" y="3244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ят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636480" y="3294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Impact"/>
              </a:rPr>
              <a:t>пол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23-02-14T17:51:18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