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7.gif" ContentType="image/gif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0CD8-14C5-49CF-9AE7-F8A1F5B5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0ED1-559A-4CAF-BD5C-5D365FB0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D652-D465-41ED-BF86-FBF8000D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144-0A96-4863-9AF0-545F2F38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546D-A740-49DF-9E40-E05ECFE1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AE23-B12D-43FF-9F04-C5BE059F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F5EA-1407-43B9-9EC1-C90E1F44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8D94-CF9C-4452-882D-93F5B30C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EE3A-FBE7-475F-B25B-60811BFC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777F-7980-4323-A473-068F2B9D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E72B-7905-4A62-ADBE-9DD6D97E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8831-61C7-4F20-BBAE-AB041536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0FBB-86AF-4D00-BA2B-9B76B9EEC27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304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006600"/>
                </a:solidFill>
                <a:latin typeface="Georgia"/>
              </a:rPr>
              <a:t>Разряды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006600"/>
                </a:solidFill>
                <a:latin typeface="Georgia"/>
              </a:rPr>
              <a:t>количественных числительных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http://schooled.ru/textbook/mova/5klas_1/5klas_1.files/image013.jpg"/>
          <p:cNvPicPr/>
          <p:nvPr/>
        </p:nvPicPr>
        <p:blipFill>
          <a:blip r:embed="rId1"/>
          <a:stretch/>
        </p:blipFill>
        <p:spPr>
          <a:xfrm>
            <a:off x="3962520" y="3124080"/>
            <a:ext cx="4260600" cy="2914920"/>
          </a:xfrm>
          <a:prstGeom prst="rect">
            <a:avLst/>
          </a:prstGeom>
          <a:ln w="0">
            <a:noFill/>
          </a:ln>
        </p:spPr>
      </p:pic>
      <p:sp>
        <p:nvSpPr>
          <p:cNvPr id="43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5F78-AE0F-4944-8672-9C9F9D51CEC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43C7-109D-4F0C-AE7F-64B0949A75C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2181240" y="6858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Третий - лиш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1012680" y="17524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Цел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5"/>
          <p:cNvSpPr/>
          <p:nvPr/>
        </p:nvSpPr>
        <p:spPr>
          <a:xfrm>
            <a:off x="3011760" y="17524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Собир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6"/>
          <p:cNvSpPr/>
          <p:nvPr/>
        </p:nvSpPr>
        <p:spPr>
          <a:xfrm>
            <a:off x="6208560" y="17748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Дроб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3093840" y="2362320"/>
            <a:ext cx="1197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Impact"/>
              </a:rPr>
              <a:t>д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Impact"/>
              </a:rPr>
              <a:t>дес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Impact"/>
              </a:rPr>
              <a:t>десяте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8"/>
          <p:cNvSpPr/>
          <p:nvPr/>
        </p:nvSpPr>
        <p:spPr>
          <a:xfrm>
            <a:off x="654120" y="2362320"/>
            <a:ext cx="1852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Impact"/>
              </a:rPr>
              <a:t>тыся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Impact"/>
              </a:rPr>
              <a:t>одна тыся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Impact"/>
              </a:rPr>
              <a:t>милл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5468040" y="2424240"/>
            <a:ext cx="302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Impact"/>
              </a:rPr>
              <a:t>одна целая семь десят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Impact"/>
              </a:rPr>
              <a:t>пять восьм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Impact"/>
              </a:rPr>
              <a:t>шесте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Давайте  улыбнём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Georgia"/>
              </a:rPr>
              <a:t>Прочтите фраз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Вскоре  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7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я   о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5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   сядет  за  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100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л, блистающий чи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100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тою. Сес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3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цы-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40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и   е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2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    ухи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3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лись пре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2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варительно приготовить обед, отыскать   вме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100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     осе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3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ны  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100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лько ус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3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ц, что     пред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100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ит    целый    пи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7" descr="https://ds02.infourok.ru/uploads/ex/0b3d/0007bfe4-573b184e/3/hello_html_68278a41.jpg"/>
          <p:cNvPicPr/>
          <p:nvPr/>
        </p:nvPicPr>
        <p:blipFill>
          <a:blip r:embed="rId1"/>
          <a:stretch/>
        </p:blipFill>
        <p:spPr>
          <a:xfrm>
            <a:off x="5562720" y="4516560"/>
            <a:ext cx="3390840" cy="2341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https://ds02.infourok.ru/uploads/ex/0b3d/0007bfe4-573b184e/3/hello_html_68278a41.jpg"/>
          <p:cNvPicPr/>
          <p:nvPr/>
        </p:nvPicPr>
        <p:blipFill>
          <a:blip r:embed="rId2"/>
          <a:stretch/>
        </p:blipFill>
        <p:spPr>
          <a:xfrm>
            <a:off x="0" y="4516560"/>
            <a:ext cx="3390840" cy="2341440"/>
          </a:xfrm>
          <a:prstGeom prst="rect">
            <a:avLst/>
          </a:prstGeom>
          <a:ln w="0">
            <a:noFill/>
          </a:ln>
        </p:spPr>
      </p:pic>
      <p:sp>
        <p:nvSpPr>
          <p:cNvPr id="112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8B6D-00D7-4EAF-8F27-7DB30107C2C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8088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Написать 10 произведени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в названии которых есть числитель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5" descr="http://dslukomorje.ru/media/fckeditor_storage/_.png"/>
          <p:cNvPicPr/>
          <p:nvPr/>
        </p:nvPicPr>
        <p:blipFill>
          <a:blip r:embed="rId1"/>
          <a:stretch/>
        </p:blipFill>
        <p:spPr>
          <a:xfrm>
            <a:off x="1066680" y="609480"/>
            <a:ext cx="7162920" cy="1838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http://www.cliparthut.com/clip-arts/372/do-homework-clip-art-372992.jpg"/>
          <p:cNvPicPr/>
          <p:nvPr/>
        </p:nvPicPr>
        <p:blipFill>
          <a:blip r:embed="rId2"/>
          <a:stretch/>
        </p:blipFill>
        <p:spPr>
          <a:xfrm>
            <a:off x="2514600" y="4267080"/>
            <a:ext cx="2451240" cy="1995480"/>
          </a:xfrm>
          <a:prstGeom prst="rect">
            <a:avLst/>
          </a:prstGeom>
          <a:ln w="0">
            <a:noFill/>
          </a:ln>
        </p:spPr>
      </p:pic>
      <p:sp>
        <p:nvSpPr>
          <p:cNvPr id="116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A057-9014-4185-9E98-ACADB51C476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Эпигра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190760" y="1066320"/>
            <a:ext cx="4267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Как обойтись бы без числ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Наука целая могл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Расчёт во всяком деле нуже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И ты  с числительны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будь друже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2" descr="http://www.besedatea.ru/files/pages/learn2.png"/>
          <p:cNvPicPr/>
          <p:nvPr/>
        </p:nvPicPr>
        <p:blipFill>
          <a:blip r:embed="rId1"/>
          <a:stretch/>
        </p:blipFill>
        <p:spPr>
          <a:xfrm>
            <a:off x="5486400" y="4114800"/>
            <a:ext cx="3200400" cy="2438280"/>
          </a:xfrm>
          <a:prstGeom prst="rect">
            <a:avLst/>
          </a:prstGeom>
          <a:ln w="0">
            <a:noFill/>
          </a:ln>
        </p:spPr>
      </p:pic>
      <p:sp>
        <p:nvSpPr>
          <p:cNvPr id="47" name="Номер слайда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00FD-18AC-46AB-9CB0-D28A956AFAD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"/>
          <p:cNvSpPr/>
          <p:nvPr/>
        </p:nvSpPr>
        <p:spPr>
          <a:xfrm>
            <a:off x="2209680" y="3276720"/>
            <a:ext cx="335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корогово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 сороки-таратор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раторили на горк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 сороки — три трещот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еряли по три щётки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 — сегодн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 — вчер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 — ещё позавчер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Орфографическая  минут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981080" y="1294920"/>
            <a:ext cx="67932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1. Умелый рез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(щ,ч) 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ик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2. Ч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(и,е)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стота в клас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3.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(з,с)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бор урож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4.  Ко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(л,лл)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есо ист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5. Выб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(е,и)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раешь отв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6. Весело улыбае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(т,ть)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7. Свеж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(е,о)го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 ветер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8. Паралле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(л,лл)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ь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9. Свист солов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(ь,ъ)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я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10. Ю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(нн,н)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ый гер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11. Плохой роз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(и,ы)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гры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12. Сп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(и,е)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шил на ур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553080" y="1143000"/>
            <a:ext cx="1079640" cy="502920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Georgia"/>
              </a:rPr>
              <a:t>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Georgia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Georgia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Georgia"/>
              </a:rPr>
              <a:t>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Georgia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Georgia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Georgia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Georgia"/>
              </a:rPr>
              <a:t>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Georgia"/>
              </a:rPr>
              <a:t>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Georgia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Georgia"/>
              </a:rPr>
              <a:t>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Georgia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244C-F335-4487-99DC-A8D83943EAA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Фронтальная  бесе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3520" y="15238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Что такое имя числительно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На какие вопросы отвечает числительно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Какие разряды числительных вы знает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На какой вопрос отвечают количественные числительны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На какие – порядковы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Какие числительные бывают по состав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Каким членом предлож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является имя числительны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http://www.materinstvo.ru/content/article_images/articles_12501/puiple-29.png"/>
          <p:cNvPicPr/>
          <p:nvPr/>
        </p:nvPicPr>
        <p:blipFill>
          <a:blip r:embed="rId1"/>
          <a:stretch/>
        </p:blipFill>
        <p:spPr>
          <a:xfrm>
            <a:off x="0" y="3048120"/>
            <a:ext cx="1447920" cy="2498760"/>
          </a:xfrm>
          <a:prstGeom prst="rect">
            <a:avLst/>
          </a:prstGeom>
          <a:ln w="0">
            <a:noFill/>
          </a:ln>
        </p:spPr>
      </p:pic>
      <p:sp>
        <p:nvSpPr>
          <p:cNvPr id="56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892C-ABB9-4385-9807-18607F7A9F5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1" descr=""/>
          <p:cNvPicPr/>
          <p:nvPr/>
        </p:nvPicPr>
        <p:blipFill>
          <a:blip r:embed="rId1"/>
          <a:stretch/>
        </p:blipFill>
        <p:spPr>
          <a:xfrm>
            <a:off x="231840" y="609480"/>
            <a:ext cx="871056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762120" y="1676520"/>
          <a:ext cx="7696080" cy="3581280"/>
        </p:xfrm>
        <a:graphic>
          <a:graphicData uri="http://schemas.openxmlformats.org/drawingml/2006/table">
            <a:tbl>
              <a:tblPr/>
              <a:tblGrid>
                <a:gridCol w="769608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Количественные  числит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елые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2800" spc="-1" strike="noStrike">
                          <a:solidFill>
                            <a:srgbClr val="005c2a"/>
                          </a:solidFill>
                          <a:latin typeface="Times New Roman"/>
                          <a:ea typeface="Times New Roman"/>
                        </a:rPr>
                        <a:t>Дробные </a:t>
                      </a: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Собиратель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целые числа)          </a:t>
                      </a:r>
                      <a:r>
                        <a:rPr b="1" lang="ru-RU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(дробные числа)         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несколько предметов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к одно целое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вадцать два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5c2a"/>
                          </a:solidFill>
                          <a:latin typeface="Times New Roman"/>
                          <a:ea typeface="Times New Roman"/>
                        </a:rPr>
                        <a:t>одна десятая</a:t>
                      </a: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тр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Rectangle 1"/>
          <p:cNvSpPr/>
          <p:nvPr/>
        </p:nvSpPr>
        <p:spPr>
          <a:xfrm>
            <a:off x="1600200" y="53362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Georgia"/>
                <a:ea typeface="Times New Roman"/>
              </a:rPr>
              <a:t>Количественные числительные делятся на три группы: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ые, дробные и собирате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ubPieSlice"/>
          <p:cNvSpPr/>
          <p:nvPr/>
        </p:nvSpPr>
        <p:spPr>
          <a:xfrm rot="6690600">
            <a:off x="3810240" y="4048560"/>
            <a:ext cx="880920" cy="1025640"/>
          </a:xfrm>
          <a:custGeom>
            <a:avLst/>
            <a:gdLst>
              <a:gd name="textAreaLeft" fmla="*/ 128880 w 880920"/>
              <a:gd name="textAreaRight" fmla="*/ 752040 w 880920"/>
              <a:gd name="textAreaTop" fmla="*/ 150120 h 1025640"/>
              <a:gd name="textAreaBottom" fmla="*/ 875520 h 1025640"/>
            </a:gdLst>
            <a:ahLst/>
            <a:rect l="textAreaLeft" t="textAreaTop" r="textAreaRight" b="textAreaBottom"/>
            <a:pathLst>
              <a:path w="21600" h="21600">
                <a:moveTo>
                  <a:pt x="10799" y="0"/>
                </a:moveTo>
                <a:cubicBezTo>
                  <a:pt x="4834" y="0"/>
                  <a:pt x="0" y="48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lnTo>
                  <a:pt x="10800" y="10800"/>
                </a:lnTo>
                <a:lnTo>
                  <a:pt x="10799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5" descr="j0343297"/>
          <p:cNvPicPr/>
          <p:nvPr/>
        </p:nvPicPr>
        <p:blipFill>
          <a:blip r:embed="rId2"/>
          <a:stretch/>
        </p:blipFill>
        <p:spPr>
          <a:xfrm>
            <a:off x="6400800" y="3963960"/>
            <a:ext cx="985680" cy="9968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5" descr="j0223774"/>
          <p:cNvPicPr/>
          <p:nvPr/>
        </p:nvPicPr>
        <p:blipFill>
          <a:blip r:embed="rId3"/>
          <a:stretch/>
        </p:blipFill>
        <p:spPr>
          <a:xfrm rot="21352200">
            <a:off x="1176120" y="4080960"/>
            <a:ext cx="1218960" cy="960480"/>
          </a:xfrm>
          <a:prstGeom prst="rect">
            <a:avLst/>
          </a:prstGeom>
          <a:ln w="0">
            <a:noFill/>
          </a:ln>
        </p:spPr>
      </p:pic>
      <p:sp>
        <p:nvSpPr>
          <p:cNvPr id="63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304C-0F10-4061-B75F-152CFA61796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335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Количественные  числите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Impac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Impact"/>
              </a:rPr>
              <a:t>    </a:t>
            </a:r>
            <a:r>
              <a:rPr b="1" i="1" lang="ru-RU" sz="2000" spc="-1" strike="noStrike">
                <a:solidFill>
                  <a:srgbClr val="0000ff"/>
                </a:solidFill>
                <a:latin typeface="Georgia"/>
              </a:rPr>
              <a:t>двенадцать                           трое                     одна втор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Прямая со стрелкой 12" descr=""/>
          <p:cNvPicPr/>
          <p:nvPr/>
        </p:nvPicPr>
        <p:blipFill>
          <a:blip r:embed="rId1"/>
          <a:stretch/>
        </p:blipFill>
        <p:spPr>
          <a:xfrm>
            <a:off x="1298520" y="1212840"/>
            <a:ext cx="1676520" cy="145728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ая со стрелкой 13" descr=""/>
          <p:cNvPicPr/>
          <p:nvPr/>
        </p:nvPicPr>
        <p:blipFill>
          <a:blip r:embed="rId2"/>
          <a:stretch/>
        </p:blipFill>
        <p:spPr>
          <a:xfrm>
            <a:off x="6022800" y="1212840"/>
            <a:ext cx="1676520" cy="145728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ая со стрелкой 14" descr=""/>
          <p:cNvPicPr/>
          <p:nvPr/>
        </p:nvPicPr>
        <p:blipFill>
          <a:blip r:embed="rId3"/>
          <a:stretch/>
        </p:blipFill>
        <p:spPr>
          <a:xfrm>
            <a:off x="4419720" y="1158840"/>
            <a:ext cx="609480" cy="1663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ttp://www.clipartkid.com/images/175/cupcakes-clipart-border-clipart-panda-free-clipart-images-gwLuc8-clipart.jpeg"/>
          <p:cNvPicPr/>
          <p:nvPr/>
        </p:nvPicPr>
        <p:blipFill>
          <a:blip r:embed="rId4"/>
          <a:srcRect l="0" t="0" r="25257" b="0"/>
          <a:stretch/>
        </p:blipFill>
        <p:spPr>
          <a:xfrm>
            <a:off x="1143000" y="3048120"/>
            <a:ext cx="1623960" cy="2171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http://fotohomka.ru/images/Jan/09/75bb5a63eb48a3294af9d51641165422/mini_7.jpg"/>
          <p:cNvPicPr/>
          <p:nvPr/>
        </p:nvPicPr>
        <p:blipFill>
          <a:blip r:embed="rId5"/>
          <a:stretch/>
        </p:blipFill>
        <p:spPr>
          <a:xfrm>
            <a:off x="3124080" y="3124080"/>
            <a:ext cx="2965680" cy="2210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" descr="http://clipartsign.com/upload/2016/04/29/peach-clip-art-3.png"/>
          <p:cNvPicPr/>
          <p:nvPr/>
        </p:nvPicPr>
        <p:blipFill>
          <a:blip r:embed="rId6"/>
          <a:stretch/>
        </p:blipFill>
        <p:spPr>
          <a:xfrm>
            <a:off x="6095880" y="3189240"/>
            <a:ext cx="2514600" cy="2087640"/>
          </a:xfrm>
          <a:prstGeom prst="rect">
            <a:avLst/>
          </a:prstGeom>
          <a:ln w="0">
            <a:noFill/>
          </a:ln>
        </p:spPr>
      </p:pic>
      <p:sp>
        <p:nvSpPr>
          <p:cNvPr id="71" name="Номер слайда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1DCD-2077-4A08-B04E-D08CA35AE56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02EA-96AB-4E2C-8A43-9EFB0D9FB7B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Выпишите числительные, определите их разря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1332000" y="2317680"/>
            <a:ext cx="53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Семь раз  отмерь - один  раз отреж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1590480" y="289404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  </a:t>
            </a: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Семеро одного не жд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1656720" y="3900600"/>
            <a:ext cx="50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Двое пашут, семеро ложками маш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1560600" y="1708200"/>
            <a:ext cx="44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    </a:t>
            </a: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Одна книга тысячу людей уч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1645560" y="4357800"/>
            <a:ext cx="48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Три дня молол, а в полтора дня съ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7"/>
          <p:cNvSpPr/>
          <p:nvPr/>
        </p:nvSpPr>
        <p:spPr>
          <a:xfrm>
            <a:off x="1550880" y="3352680"/>
            <a:ext cx="61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Не имей сто рублей, а имей сто друз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0"/>
          <p:cNvSpPr/>
          <p:nvPr/>
        </p:nvSpPr>
        <p:spPr>
          <a:xfrm>
            <a:off x="1611360" y="4856040"/>
            <a:ext cx="71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Чего не сможет сделать один, сделают десятер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761760" y="860040"/>
            <a:ext cx="74674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eorgia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c00000"/>
                </a:solidFill>
                <a:latin typeface="Georgia"/>
                <a:ea typeface="Times New Roman"/>
              </a:rPr>
              <a:t>. Укажите неверное утвержд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     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  <a:ea typeface="Times New Roman"/>
              </a:rPr>
              <a:t>а) Сорок восемь – это целое числ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  <a:ea typeface="Times New Roman"/>
              </a:rPr>
              <a:t>            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  <a:ea typeface="Times New Roman"/>
              </a:rPr>
              <a:t>б) Одна треть – дробное числительно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  <a:ea typeface="Times New Roman"/>
              </a:rPr>
              <a:t>            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  <a:ea typeface="Times New Roman"/>
              </a:rPr>
              <a:t>в) Сто – собирательное числительн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  <a:ea typeface="Times New Roman"/>
              </a:rPr>
              <a:t>            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  <a:ea typeface="Times New Roman"/>
              </a:rPr>
              <a:t>г) трое – собирательное числительно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eorgia"/>
                <a:ea typeface="Times New Roman"/>
              </a:rPr>
              <a:t>2</a:t>
            </a:r>
            <a:r>
              <a:rPr b="0" i="1" lang="ru-RU" sz="2800" spc="-1" strike="noStrike">
                <a:solidFill>
                  <a:srgbClr val="c00000"/>
                </a:solidFill>
                <a:latin typeface="Georgia"/>
                <a:ea typeface="Times New Roman"/>
              </a:rPr>
              <a:t>.В какой строчке одинаковый разряд числительны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      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  <a:ea typeface="Times New Roman"/>
              </a:rPr>
              <a:t>а) сто , два, пятер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  <a:ea typeface="Times New Roman"/>
              </a:rPr>
              <a:t>          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  <a:ea typeface="Times New Roman"/>
              </a:rPr>
              <a:t>б) три пятых, шесть восьмых, сорок од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  <a:ea typeface="Times New Roman"/>
              </a:rPr>
              <a:t>          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  <a:ea typeface="Times New Roman"/>
              </a:rPr>
              <a:t>в) тысяча, семнадцать, двадцать девя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http://go-diamond-forever.ru/wp-content/uploads/2013/10/vopros3.jpg"/>
          <p:cNvPicPr/>
          <p:nvPr/>
        </p:nvPicPr>
        <p:blipFill>
          <a:blip r:embed="rId1"/>
          <a:stretch/>
        </p:blipFill>
        <p:spPr>
          <a:xfrm>
            <a:off x="6934320" y="4724280"/>
            <a:ext cx="1447560" cy="16113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6"/>
          <p:cNvSpPr/>
          <p:nvPr/>
        </p:nvSpPr>
        <p:spPr>
          <a:xfrm>
            <a:off x="3655080" y="76320"/>
            <a:ext cx="150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  <a:ea typeface="Times New Roman"/>
              </a:rPr>
              <a:t>ТЕ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BB1B-07AF-481E-8A5E-153EE5E32C6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3520" y="6091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Третий - лиш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819160" y="1371600"/>
            <a:ext cx="34290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Собиратель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95280" y="1413000"/>
            <a:ext cx="1738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Цел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6601680" y="13716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Дроб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552600" y="234324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Impact"/>
              </a:rPr>
              <a:t>сто дес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85720" y="27432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Impact"/>
              </a:rPr>
              <a:t>двенадц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3285000" y="2286000"/>
            <a:ext cx="18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Impact"/>
              </a:rPr>
              <a:t>одиннадц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3369600" y="274320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Impact"/>
              </a:rPr>
              <a:t>восьме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6381720" y="3429000"/>
            <a:ext cx="21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Impact"/>
              </a:rPr>
              <a:t>три четвёрт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438240" y="2894400"/>
            <a:ext cx="10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Impact"/>
              </a:rPr>
              <a:t>семе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6477120" y="23356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Impact"/>
              </a:rPr>
              <a:t>две третьих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21D9-42FC-4732-9B01-F0150F5C755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"/>
          <p:cNvSpPr/>
          <p:nvPr/>
        </p:nvSpPr>
        <p:spPr>
          <a:xfrm>
            <a:off x="3453120" y="324468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Impact"/>
              </a:rPr>
              <a:t> </a:t>
            </a:r>
            <a:r>
              <a:rPr b="0" lang="ru-RU" sz="1800" spc="-1" strike="noStrike">
                <a:solidFill>
                  <a:srgbClr val="006600"/>
                </a:solidFill>
                <a:latin typeface="Impact"/>
              </a:rPr>
              <a:t>пяте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636480" y="329400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Impact"/>
              </a:rPr>
              <a:t>пол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олай</cp:lastModifiedBy>
  <dcterms:modified xsi:type="dcterms:W3CDTF">2023-02-14T17:51:18Z</dcterms:modified>
  <cp:revision>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