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F32-BFF3-45FD-B4FD-71800E3E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1CC-22B4-423C-9E81-D3BED535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83A-4D32-4632-BB42-ECC7FD26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E72-5EE7-460E-9850-68743BE4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6982-C502-490F-8D51-D3C2BF57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2117-218D-4FED-B01C-014FCBC6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F2F9-882E-4F60-BF1E-78AA2906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70E6-E044-431B-B4E9-2CDF6AC4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41BB-91DC-4F70-971D-980C4132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5C2F-1F55-46DE-9761-E13BFE1F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4DE5-8F0C-4BDF-8A35-5A021741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063-9AF6-402F-BFAB-4D74C496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07BD-6DF2-45B9-810F-E27DC72A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1396-3ECE-4B0D-B609-F9B816F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8495-C8EB-4A84-8095-5392B61C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B07B-943F-4450-AF26-AB7EA43D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FC9C-01AE-4397-AC8E-DC404A88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79C0-DF5B-4031-8888-182E17B5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046B-E9F2-4C51-85AF-2C0E2D48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51FB-9DC0-4331-9183-49DA8216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9FC8-9974-464F-A84E-707560CA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C0D0-35A0-487B-B41B-7BE4AD06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E43-2F34-48C9-8D47-145A69F6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FF7C-F45F-4BA5-94D7-0F54E96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8C0E-51BA-4031-BC4F-F4211C72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8CE80-01AD-4B73-9414-22E4C61A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3785-7528-4056-88B8-8D390178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40AE-689A-42D7-A481-2D62FE1B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4BAF-2D26-47D6-ACFC-F68E9FC9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5E64-22CE-493B-B34F-2310E135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83C42-DAF1-413A-A033-71CE6558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FDAC-D5BE-4655-8CE1-AE3D0B77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4A6A-B1D4-4261-8C4A-9E1B8DBF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B97-1920-43BA-92D2-5114A17D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F291-9338-43CE-B5AD-E7B3D818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7121-BEA2-470D-95D1-83A2C1F8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F75A-B91B-485A-B856-EE01A1FA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A3D6F-FC32-42D5-A5E9-44C772E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671C3-766B-4A2C-B4FA-66F9246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C0A9E-0C18-4C21-A6C1-EE4DEFE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8F06-6326-47F9-9829-2E7A1F5A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364D-08E8-4537-BD66-006B65F2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E783-FB52-45D7-8B05-D737517D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0FC-0E8F-4EE2-A8C8-7C87FD6E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7AA-1711-435E-8F59-CB8F097E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EEE-DFE5-4669-A1D9-B08C6E73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752-BE09-410D-AD21-488F82EC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7B2-C79D-4EDB-B929-0EA0002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3BC9-A165-438B-A029-80A51CA5BFB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7C8B-9DDD-410A-B8A6-BA2315CF044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0DDD-0FA6-4CE8-9765-3B12380B16B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E059-61AE-4632-99D2-D810C6658D1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42560" y="49413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54936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Я\Desktop\1339694613_b31dd864f6d4-1.jpg"/>
          <p:cNvPicPr/>
          <p:nvPr/>
        </p:nvPicPr>
        <p:blipFill>
          <a:blip r:embed="rId2"/>
          <a:stretch/>
        </p:blipFill>
        <p:spPr>
          <a:xfrm>
            <a:off x="3062160" y="2205000"/>
            <a:ext cx="3360960" cy="3095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2360520" y="5735520"/>
            <a:ext cx="429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: Чувьюрова Надежда Алексе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ДОУ «Детский сад №1» г.Сыктывк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пы окраски игруш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99920"/>
            <a:ext cx="403848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тий эта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кладывается зелёный цвет (бирюзовый). Традиционно - называется зелёнка. Линии тонкие. Расписывают тонкой кистью (белка, колонок) №1. Роспись ведётся между красными лини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Филимоновская игрушка1-"/>
          <p:cNvPicPr/>
          <p:nvPr/>
        </p:nvPicPr>
        <p:blipFill>
          <a:blip r:embed="rId1"/>
          <a:stretch/>
        </p:blipFill>
        <p:spPr>
          <a:xfrm>
            <a:off x="900000" y="1413000"/>
            <a:ext cx="33480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980640"/>
            <a:ext cx="40384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ивотные и птицы всегда расписываются по определенной схеме: поперек туловища и шеи идут, чередуясь, разноцветные полоски, и только голова и грудь окрашивается одним цветом, чаще зеленым или красны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Содержимое 4" descr="113_1[1].jpg"/>
          <p:cNvPicPr/>
          <p:nvPr/>
        </p:nvPicPr>
        <p:blipFill>
          <a:blip r:embed="rId1"/>
          <a:stretch/>
        </p:blipFill>
        <p:spPr>
          <a:xfrm>
            <a:off x="4716360" y="836640"/>
            <a:ext cx="380376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5280" y="691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фты у барынь и рубахи у солдат филимоновской игрушки обычно окрашены одним цветом: красным, зеленым, желтым. Но сколько выдумки появляется у мастериц, когда они рисуют орнамент на юбках, передниках и штанах у своих кукол! Только лица у игрушек остаются чисто белыми, лишь точки – глаза, пятнышки – ро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Содержимое 4" descr="1118[1].jpg"/>
          <p:cNvPicPr/>
          <p:nvPr/>
        </p:nvPicPr>
        <p:blipFill>
          <a:blip r:embed="rId1"/>
          <a:stretch/>
        </p:blipFill>
        <p:spPr>
          <a:xfrm>
            <a:off x="4643280" y="836640"/>
            <a:ext cx="40323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50560" y="475920"/>
            <a:ext cx="424476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йдя долгий и сложный путь филимоновская игрушка сейчас превратилась в самостоятельное произведение скульптуры (мелкой пластики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временная лепная свистулька стала еще ярче, наряднее, больше (до 20 см. в высоту), превратилась в скульптуру малых форм и поменяла и свой облик. Наряду с традиционными барынями, всадниками, животными, возникли сложные групповые композиции и бытовые сценки из деревенской жизни, согретые сердечным теплом мастер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Содержимое 4" descr="adtmljgqikgnat[1].jpg"/>
          <p:cNvPicPr/>
          <p:nvPr/>
        </p:nvPicPr>
        <p:blipFill>
          <a:blip r:embed="rId1"/>
          <a:stretch/>
        </p:blipFill>
        <p:spPr>
          <a:xfrm>
            <a:off x="4140360" y="1484280"/>
            <a:ext cx="4659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250920" y="836280"/>
            <a:ext cx="374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одная игрушка - явление в русской культуре значительное, в ней своеобразно отразились жизнь, труд и мировоззрение нескольких поколений людей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илимоновская свистулька, прославившая свою деревню, у нас в стране и далеко за ее пределами, должна быть сохранена для будущег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Содержимое 4" descr="26.1[1].jpg"/>
          <p:cNvPicPr/>
          <p:nvPr/>
        </p:nvPicPr>
        <p:blipFill>
          <a:blip r:embed="rId1"/>
          <a:stretch/>
        </p:blipFill>
        <p:spPr>
          <a:xfrm>
            <a:off x="3935520" y="119700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8" descr=""/>
          <p:cNvPicPr/>
          <p:nvPr/>
        </p:nvPicPr>
        <p:blipFill>
          <a:blip r:embed="rId1"/>
          <a:stretch/>
        </p:blipFill>
        <p:spPr>
          <a:xfrm>
            <a:off x="469800" y="2346480"/>
            <a:ext cx="830268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907920"/>
            <a:ext cx="432108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Филимоновская деревушка!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иний лес, холмы, косогор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Лепят там из глины игрушки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И расписывают до сих по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Да, из красной обычной глины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оявляются вдруг на свет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Зайцы, коники и павлины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И солдатики – войска цв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амом сердце России, недалеко от старинного города Одоева, Тульской области, на высоком берегу реки Упы стоит деревня Филимоново. По местным преданиям, истоки гончарного ремесла относятся к временам Ивана Грозн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Картинка 3 из 940"/>
          <p:cNvPicPr/>
          <p:nvPr/>
        </p:nvPicPr>
        <p:blipFill>
          <a:blip r:embed="rId1"/>
          <a:stretch/>
        </p:blipFill>
        <p:spPr>
          <a:xfrm>
            <a:off x="4572000" y="1125360"/>
            <a:ext cx="3929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4176720" cy="6264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Филимоновская игрушк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старейший народный художественный промысел Росси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самом сердце России, недалеко от старинного города Одоева, Тульской области, на высоком берегу реки Упы стоит деревня Филимоново. По местным преданиям, истоки гончарного ремесла относятся к временам Ивана Грозного. Родина промысла - деревня Филимоново Одоевского района Тульской области, впервые упоминается в древних летописях XVI века. Мужчины в деревне Филимоново изготовляли на гончарном круге посуду, женщины лепили из глины игрушки. Все филимоновские игрушки - свистульки, лепятся из местной пластичной глины «синики», дающей после обжига белый черепо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Картинка 165 из 940"/>
          <p:cNvPicPr/>
          <p:nvPr/>
        </p:nvPicPr>
        <p:blipFill>
          <a:blip r:embed="rId1"/>
          <a:stretch/>
        </p:blipFill>
        <p:spPr>
          <a:xfrm>
            <a:off x="4859280" y="836640"/>
            <a:ext cx="3967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78920" y="764640"/>
            <a:ext cx="8496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елые фигурки филимоновской игрушки играют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ными цветами росписи: желтым, зеленым, красным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ринная филимоновская игрушка расписывалась только красным и зеленым, а желтоватый цвет имела сама глина после обжига. Интересно, что традиционная пластика фигурок напрямую зависела от породы жирной чёрной глины, которая при лепке и сушке давала большую усадку, вот почему все формы традиционной филимоновской игрушки вытянутые и худоватые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Картинка 359 из 940"/>
          <p:cNvPicPr/>
          <p:nvPr/>
        </p:nvPicPr>
        <p:blipFill>
          <a:blip r:embed="rId1"/>
          <a:stretch/>
        </p:blipFill>
        <p:spPr>
          <a:xfrm>
            <a:off x="2771640" y="3068640"/>
            <a:ext cx="4329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396720" y="371520"/>
            <a:ext cx="8302680" cy="12081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>
            <a:off x="468360" y="342900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сё солярные знаки, то есть знаки и символы Солнца. В давние времена, когда люди верили в божественную силу природы, Солнце было одним из главных природных явлений, которому поклонялись. Это символ земной жизни, без солнечного света и тепла не будет урожая, будет холод, болезни. Знаки Солнца образуются из различных сочетаний коротких и длинных линий и точек. Как правило, рисуют на груди животного, юбках барынь. Замкнутый круг – полосочка на игрушке в языческие времена была символом оберега, спасения, это символ добра против зла. Замкнутый круг предотвращал вторжение злых сил. Кольцевые линии, идущие по фигуре игрушки – символ заключенного в игрушку добра, символ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C:\Users\Я\Desktop\znaki_02.jpg"/>
          <p:cNvPicPr/>
          <p:nvPr/>
        </p:nvPicPr>
        <p:blipFill>
          <a:blip r:embed="rId2"/>
          <a:stretch/>
        </p:blipFill>
        <p:spPr>
          <a:xfrm>
            <a:off x="620640" y="1627200"/>
            <a:ext cx="1656000" cy="14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:\Users\Я\Desktop\sun.jpg"/>
          <p:cNvPicPr/>
          <p:nvPr/>
        </p:nvPicPr>
        <p:blipFill>
          <a:blip r:embed="rId3"/>
          <a:stretch/>
        </p:blipFill>
        <p:spPr>
          <a:xfrm>
            <a:off x="3527280" y="1604880"/>
            <a:ext cx="1381320" cy="1406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:\Users\Я\Desktop\znaki_07.jpg"/>
          <p:cNvPicPr/>
          <p:nvPr/>
        </p:nvPicPr>
        <p:blipFill>
          <a:blip r:embed="rId4"/>
          <a:stretch/>
        </p:blipFill>
        <p:spPr>
          <a:xfrm>
            <a:off x="6516720" y="15717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809720" y="0"/>
            <a:ext cx="565164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Я\Desktop\tree.jpg"/>
          <p:cNvPicPr/>
          <p:nvPr/>
        </p:nvPicPr>
        <p:blipFill>
          <a:blip r:embed="rId2"/>
          <a:stretch/>
        </p:blipFill>
        <p:spPr>
          <a:xfrm>
            <a:off x="250920" y="1197000"/>
            <a:ext cx="2160360" cy="7254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2556000" y="1197000"/>
            <a:ext cx="62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лочка – это символическое изображение Древа жизни. Образ Древа – символ плодород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C:\Users\Я\Desktop\horse.jpg"/>
          <p:cNvPicPr/>
          <p:nvPr/>
        </p:nvPicPr>
        <p:blipFill>
          <a:blip r:embed="rId3"/>
          <a:stretch/>
        </p:blipFill>
        <p:spPr>
          <a:xfrm>
            <a:off x="7299360" y="1557360"/>
            <a:ext cx="1376280" cy="187164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6"/>
          <p:cNvSpPr/>
          <p:nvPr/>
        </p:nvSpPr>
        <p:spPr>
          <a:xfrm>
            <a:off x="249120" y="210168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ь у древних вятичей, южно-восточных славян, является символом устремления вперед, и конь является символом солнца, но как атрибут, а не солнц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C:\Users\Я\Desktop\lady.jpg"/>
          <p:cNvPicPr/>
          <p:nvPr/>
        </p:nvPicPr>
        <p:blipFill>
          <a:blip r:embed="rId4"/>
          <a:stretch/>
        </p:blipFill>
        <p:spPr>
          <a:xfrm>
            <a:off x="3059280" y="2936880"/>
            <a:ext cx="1463400" cy="3510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0"/>
          <p:cNvSpPr/>
          <p:nvPr/>
        </p:nvSpPr>
        <p:spPr>
          <a:xfrm>
            <a:off x="5326200" y="4303800"/>
            <a:ext cx="273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ыня – хранительница и защитница семейного очага, женских ремесел, прародительница рода человеческого. Землю, ее плодородие народ издревле олицетворял в образе матери. Берегиню всегда изображали с птицей или пти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2041560" y="2054160"/>
            <a:ext cx="656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адник – податель травы, росы, воды, урожая, счастья. Всадник на коне – образ света, жизни. Всадник – воин освобождал Весну от зимних оков холода и мрака, отпирал Солнце и весенние в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C:\Users\Я\Desktop\rider1.jpg"/>
          <p:cNvPicPr/>
          <p:nvPr/>
        </p:nvPicPr>
        <p:blipFill>
          <a:blip r:embed="rId1"/>
          <a:stretch/>
        </p:blipFill>
        <p:spPr>
          <a:xfrm>
            <a:off x="457200" y="663480"/>
            <a:ext cx="1584360" cy="23670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2"/>
          <p:cNvSpPr/>
          <p:nvPr/>
        </p:nvSpPr>
        <p:spPr>
          <a:xfrm>
            <a:off x="5076720" y="3860640"/>
            <a:ext cx="3527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волы засеянного поля, призваны защитить и увеличить урожай. Символы достатка и благополучия. Точки – символы зерна. К символам возделанного поля можно отнести также крестообразно разделенный квадрат или ромб с точками-зернами.Зигзаги и дуги – символы радуги и небесных вод, дождя, который несет плодородие земле. Косые или волнистые линии – небесные воды, дающие плодородие зем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C:\Users\Я\Desktop\znaki_04.jpg"/>
          <p:cNvPicPr/>
          <p:nvPr/>
        </p:nvPicPr>
        <p:blipFill>
          <a:blip r:embed="rId2"/>
          <a:stretch/>
        </p:blipFill>
        <p:spPr>
          <a:xfrm>
            <a:off x="2195640" y="317340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апы окраски игруш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Филимоновская игрушка1-3"/>
          <p:cNvPicPr/>
          <p:nvPr/>
        </p:nvPicPr>
        <p:blipFill>
          <a:blip r:embed="rId1"/>
          <a:stretch/>
        </p:blipFill>
        <p:spPr>
          <a:xfrm>
            <a:off x="826920" y="1484280"/>
            <a:ext cx="3313440" cy="4662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0" y="1483920"/>
            <a:ext cx="41148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ервый этап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грушку «желтят».По белому фону обожжёной игрушки наносят первый цвет - жёлтый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то основа для дальнейшей росписи. Расписывают широкой кисточкой (белка и собака) №3.Основные элементы - линии, кружки, полосы. Начинают мастерицы писать всегда с центра, а от него уже развивается роспись дальше, повинуясь чутью и воображени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пы окраски игруш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Филимоновская игрушка1-4"/>
          <p:cNvPicPr/>
          <p:nvPr/>
        </p:nvPicPr>
        <p:blipFill>
          <a:blip r:embed="rId1"/>
          <a:stretch/>
        </p:blipFill>
        <p:spPr>
          <a:xfrm>
            <a:off x="539640" y="1413000"/>
            <a:ext cx="3511800" cy="494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00720" y="1483920"/>
            <a:ext cx="41860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торой эта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уют красный цвет (иногда говорят «фуксированный» или «малиновый»)Традиционно называют малинка. Расписывают тонкой кистью (белка, колонок) №1.Линии должны быть тонкими. Роспись ведётся по контуру жёлтог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нии в различных сочетаниях рождают солнышки, ёлочки, розетки, геометрические узо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13:11:37Z</dcterms:created>
  <dc:creator>Юлечка</dc:creator>
  <dc:description/>
  <dc:language>en-US</dc:language>
  <cp:lastModifiedBy>Татьяна</cp:lastModifiedBy>
  <dcterms:modified xsi:type="dcterms:W3CDTF">2017-09-24T19:56:33Z</dcterms:modified>
  <cp:revision>25</cp:revision>
  <dc:subject/>
  <dc:title>Филимоновская игрушка</dc:title>
</cp:coreProperties>
</file>