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D43F-B76F-4B3E-9935-7DBCAD71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571E-9A4A-4EE5-A2F4-37F48065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6653-2265-4A25-AB4D-7C7E5E3B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147B-4C64-4526-87FF-ABFCF89B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6528-C340-48F5-A10B-850C3C3E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50B5-514E-422E-95C2-18903FF0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0E1A-E169-42CF-9C6C-5F9B609B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625B-4E15-4B28-B500-67037290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69F5-F0CE-4016-AC28-9A70E434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9554-81A4-447E-B944-1B54968E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B71D-EF7A-4984-AD1D-623EDD0F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FFE6-E13D-4610-BFCB-D216AAE9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F7AF-5787-4F04-881F-B87B1CFB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BE51-8FBC-4EB6-B686-1EE178A0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EFF0-E2FF-430A-9447-E9ED7CCE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4797-97D5-442A-825E-376E56CD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DE37-A03C-449E-AD2A-A93C09DE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0CECD-A020-4054-A525-6EBAE320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D7148-BD9B-49C0-BB9E-58AD90F1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A8302-FB4D-461B-9480-3CE68C6B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13F03-CBB8-44A6-942B-783AC2B3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0C9FE-EDF7-4EC1-A654-E9865A42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168C-5C1C-4E33-B33F-10215A31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91B90-BDA1-4E53-8BC2-A9898D7C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4EAA2-A7FE-4F36-BBA9-DEA0A128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927F0-A522-4CE8-B9B5-FC44E5A5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2CF15-2C43-4F96-993E-F70E0048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93AC8-8E34-4015-BE78-11359491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B72F2-B73B-4342-935D-3695349B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ABC23-2974-4341-A8A6-F52C1678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061BE-78DC-4D1A-8CA7-1CB5D2DE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ADCB4-DFAF-411F-B2E3-BEDB57F5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08635-29EF-45B8-83D7-11E3A41E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FE6-1595-4288-816F-D963CBA2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B9593-3AE4-4F42-A6EA-ACFF6D8D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0ED0C-F744-463A-896E-09C68F95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EF98E-9512-4190-9A5F-1B58365F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6481C-DF2C-45C7-9DCD-45A7E86A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73942-9883-4F8D-9A99-160FC5DF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FE496-8D06-4F9B-9B94-88D32A13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6E0C0-A4EB-43B2-A324-38EF5426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E219F-7FE1-4F0D-A1FF-BE3AEF3C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DF8CA-7B2A-4D74-B439-6085A395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9192-A56F-407B-A7B7-8ED9105A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1A35-BC32-4594-A3E0-290353A7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2644-83BA-489B-967E-A6DCF9D1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F2A2-CC7D-4302-854A-CFE0712A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9369-614C-4E08-8502-BC3361E5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554F-685E-4058-8011-3128AEB0E61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B425-0C9F-491D-86DC-22905A36BBD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A165-C3E4-491E-87DB-B7FE1BD79EC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4BB8-77B0-462B-9D0F-8B9E72DB9D2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042560" y="494136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Прямоугольник 4" descr=""/>
          <p:cNvPicPr/>
          <p:nvPr/>
        </p:nvPicPr>
        <p:blipFill>
          <a:blip r:embed="rId1"/>
          <a:stretch/>
        </p:blipFill>
        <p:spPr>
          <a:xfrm>
            <a:off x="1212840" y="549360"/>
            <a:ext cx="6553080" cy="1565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C:\Users\Я\Desktop\1339694613_b31dd864f6d4-1.jpg"/>
          <p:cNvPicPr/>
          <p:nvPr/>
        </p:nvPicPr>
        <p:blipFill>
          <a:blip r:embed="rId2"/>
          <a:stretch/>
        </p:blipFill>
        <p:spPr>
          <a:xfrm>
            <a:off x="3062160" y="2205000"/>
            <a:ext cx="3360960" cy="30956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"/>
          <p:cNvSpPr/>
          <p:nvPr/>
        </p:nvSpPr>
        <p:spPr>
          <a:xfrm>
            <a:off x="2360520" y="5735520"/>
            <a:ext cx="429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итатель: Чувьюрова Надежда Алексе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ДОУ «Детский сад №1» г.Сыктывк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апы окраски игрушк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48320" y="1699920"/>
            <a:ext cx="403848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ретий этап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кладывается зелёный цвет (бирюзовый). Традиционно - называется зелёнка. Линии тонкие. Расписывают тонкой кистью (белка, колонок) №1. Роспись ведётся между красными линия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Филимоновская игрушка1-"/>
          <p:cNvPicPr/>
          <p:nvPr/>
        </p:nvPicPr>
        <p:blipFill>
          <a:blip r:embed="rId1"/>
          <a:stretch/>
        </p:blipFill>
        <p:spPr>
          <a:xfrm>
            <a:off x="900000" y="1413000"/>
            <a:ext cx="334800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24000" y="980640"/>
            <a:ext cx="403848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Животные и птицы всегда расписываются по определенной схеме: поперек туловища и шеи идут, чередуясь, разноцветные полоски, и только голова и грудь окрашивается одним цветом, чаще зеленым или красны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Содержимое 4" descr="113_1[1].jpg"/>
          <p:cNvPicPr/>
          <p:nvPr/>
        </p:nvPicPr>
        <p:blipFill>
          <a:blip r:embed="rId1"/>
          <a:stretch/>
        </p:blipFill>
        <p:spPr>
          <a:xfrm>
            <a:off x="4716360" y="836640"/>
            <a:ext cx="380376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95280" y="69192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фты у барынь и рубахи у солдат филимоновской игрушки обычно окрашены одним цветом: красным, зеленым, желтым. Но сколько выдумки появляется у мастериц, когда они рисуют орнамент на юбках, передниках и штанах у своих кукол! Только лица у игрушек остаются чисто белыми, лишь точки – глаза, пятнышки – рот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Содержимое 4" descr="1118[1].jpg"/>
          <p:cNvPicPr/>
          <p:nvPr/>
        </p:nvPicPr>
        <p:blipFill>
          <a:blip r:embed="rId1"/>
          <a:stretch/>
        </p:blipFill>
        <p:spPr>
          <a:xfrm>
            <a:off x="4643280" y="836640"/>
            <a:ext cx="403236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250560" y="475920"/>
            <a:ext cx="4244760" cy="58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ойдя долгий и сложный путь филимоновская игрушка сейчас превратилась в самостоятельное произведение скульптуры (мелкой пластики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овременная лепная свистулька стала еще ярче, наряднее, больше (до 20 см. в высоту), превратилась в скульптуру малых форм и поменяла и свой облик. Наряду с традиционными барынями, всадниками, животными, возникли сложные групповые композиции и бытовые сценки из деревенской жизни, согретые сердечным теплом мастеро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Содержимое 4" descr="adtmljgqikgnat[1].jpg"/>
          <p:cNvPicPr/>
          <p:nvPr/>
        </p:nvPicPr>
        <p:blipFill>
          <a:blip r:embed="rId1"/>
          <a:stretch/>
        </p:blipFill>
        <p:spPr>
          <a:xfrm>
            <a:off x="4140360" y="1484280"/>
            <a:ext cx="46591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250920" y="836280"/>
            <a:ext cx="374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родная игрушка - явление в русской культуре значительное, в ней своеобразно отразились жизнь, труд и мировоззрение нескольких поколений людей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Филимоновская свистулька, прославившая свою деревню, у нас в стране и далеко за ее пределами, должна быть сохранена для будущего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Содержимое 4" descr="26.1[1].jpg"/>
          <p:cNvPicPr/>
          <p:nvPr/>
        </p:nvPicPr>
        <p:blipFill>
          <a:blip r:embed="rId1"/>
          <a:stretch/>
        </p:blipFill>
        <p:spPr>
          <a:xfrm>
            <a:off x="3935520" y="1197000"/>
            <a:ext cx="48974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8" descr=""/>
          <p:cNvPicPr/>
          <p:nvPr/>
        </p:nvPicPr>
        <p:blipFill>
          <a:blip r:embed="rId1"/>
          <a:stretch/>
        </p:blipFill>
        <p:spPr>
          <a:xfrm>
            <a:off x="469800" y="2346480"/>
            <a:ext cx="830268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250560" y="907920"/>
            <a:ext cx="432108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Филимоновская деревушка!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Синий лес, холмы, косогор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Лепят там из глины игрушки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И расписывают до сих пор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Да, из красной обычной глины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Появляются вдруг на свет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Зайцы, коники и павлины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И солдатики – войска цве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самом сердце России, недалеко от старинного города Одоева, Тульской области, на высоком берегу реки Упы стоит деревня Филимоново. По местным преданиям, истоки гончарного ремесла относятся к временам Ивана Грозног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Картинка 3 из 940"/>
          <p:cNvPicPr/>
          <p:nvPr/>
        </p:nvPicPr>
        <p:blipFill>
          <a:blip r:embed="rId1"/>
          <a:stretch/>
        </p:blipFill>
        <p:spPr>
          <a:xfrm>
            <a:off x="4572000" y="1125360"/>
            <a:ext cx="39290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4176720" cy="6264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7000"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Филимоновская игрушка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старейший народный художественный промысел России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самом сердце России, недалеко от старинного города Одоева, Тульской области, на высоком берегу реки Упы стоит деревня Филимоново. По местным преданиям, истоки гончарного ремесла относятся к временам Ивана Грозного. Родина промысла - деревня Филимоново Одоевского района Тульской области, впервые упоминается в древних летописях XVI века. Мужчины в деревне Филимоново изготовляли на гончарном круге посуду, женщины лепили из глины игрушки. Все филимоновские игрушки - свистульки, лепятся из местной пластичной глины «синики», дающей после обжига белый черепок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2" descr="Картинка 165 из 940"/>
          <p:cNvPicPr/>
          <p:nvPr/>
        </p:nvPicPr>
        <p:blipFill>
          <a:blip r:embed="rId1"/>
          <a:stretch/>
        </p:blipFill>
        <p:spPr>
          <a:xfrm>
            <a:off x="4859280" y="836640"/>
            <a:ext cx="39672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78920" y="764640"/>
            <a:ext cx="849636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Белые фигурки филимоновской игрушки играют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сновными цветами росписи: желтым, зеленым, красным.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аринная филимоновская игрушка расписывалась только красным и зеленым, а желтоватый цвет имела сама глина после обжига. Интересно, что традиционная пластика фигурок напрямую зависела от породы жирной чёрной глины, которая при лепке и сушке давала большую усадку, вот почему все формы традиционной филимоновской игрушки вытянутые и худоватые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Картинка 359 из 940"/>
          <p:cNvPicPr/>
          <p:nvPr/>
        </p:nvPicPr>
        <p:blipFill>
          <a:blip r:embed="rId1"/>
          <a:stretch/>
        </p:blipFill>
        <p:spPr>
          <a:xfrm>
            <a:off x="2771640" y="3068640"/>
            <a:ext cx="4329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396720" y="371520"/>
            <a:ext cx="8302680" cy="12081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5"/>
          <p:cNvSpPr/>
          <p:nvPr/>
        </p:nvSpPr>
        <p:spPr>
          <a:xfrm>
            <a:off x="468360" y="3429000"/>
            <a:ext cx="79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сё солярные знаки, то есть знаки и символы Солнца. В давние времена, когда люди верили в божественную силу природы, Солнце было одним из главных природных явлений, которому поклонялись. Это символ земной жизни, без солнечного света и тепла не будет урожая, будет холод, болезни. Знаки Солнца образуются из различных сочетаний коротких и длинных линий и точек. Как правило, рисуют на груди животного, юбках барынь. Замкнутый круг – полосочка на игрушке в языческие времена была символом оберега, спасения, это символ добра против зла. Замкнутый круг предотвращал вторжение злых сил. Кольцевые линии, идущие по фигуре игрушки – символ заключенного в игрушку добра, символ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C:\Users\Я\Desktop\znaki_02.jpg"/>
          <p:cNvPicPr/>
          <p:nvPr/>
        </p:nvPicPr>
        <p:blipFill>
          <a:blip r:embed="rId2"/>
          <a:stretch/>
        </p:blipFill>
        <p:spPr>
          <a:xfrm>
            <a:off x="620640" y="1627200"/>
            <a:ext cx="1656000" cy="1406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C:\Users\Я\Desktop\sun.jpg"/>
          <p:cNvPicPr/>
          <p:nvPr/>
        </p:nvPicPr>
        <p:blipFill>
          <a:blip r:embed="rId3"/>
          <a:stretch/>
        </p:blipFill>
        <p:spPr>
          <a:xfrm>
            <a:off x="3527280" y="1604880"/>
            <a:ext cx="1381320" cy="1406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:\Users\Я\Desktop\znaki_07.jpg"/>
          <p:cNvPicPr/>
          <p:nvPr/>
        </p:nvPicPr>
        <p:blipFill>
          <a:blip r:embed="rId4"/>
          <a:stretch/>
        </p:blipFill>
        <p:spPr>
          <a:xfrm>
            <a:off x="6516720" y="157176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1809720" y="0"/>
            <a:ext cx="5651640" cy="1371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C:\Users\Я\Desktop\tree.jpg"/>
          <p:cNvPicPr/>
          <p:nvPr/>
        </p:nvPicPr>
        <p:blipFill>
          <a:blip r:embed="rId2"/>
          <a:stretch/>
        </p:blipFill>
        <p:spPr>
          <a:xfrm>
            <a:off x="250920" y="1197000"/>
            <a:ext cx="2160360" cy="72540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4"/>
          <p:cNvSpPr/>
          <p:nvPr/>
        </p:nvSpPr>
        <p:spPr>
          <a:xfrm>
            <a:off x="2556000" y="1197000"/>
            <a:ext cx="62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лочка – это символическое изображение Древа жизни. Образ Древа – символ плодород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C:\Users\Я\Desktop\horse.jpg"/>
          <p:cNvPicPr/>
          <p:nvPr/>
        </p:nvPicPr>
        <p:blipFill>
          <a:blip r:embed="rId3"/>
          <a:stretch/>
        </p:blipFill>
        <p:spPr>
          <a:xfrm>
            <a:off x="7299360" y="1557360"/>
            <a:ext cx="1376280" cy="187164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6"/>
          <p:cNvSpPr/>
          <p:nvPr/>
        </p:nvSpPr>
        <p:spPr>
          <a:xfrm>
            <a:off x="249120" y="2101680"/>
            <a:ext cx="70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ь у древних вятичей, южно-восточных славян, является символом устремления вперед, и конь является символом солнца, но как атрибут, а не солнц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C:\Users\Я\Desktop\lady.jpg"/>
          <p:cNvPicPr/>
          <p:nvPr/>
        </p:nvPicPr>
        <p:blipFill>
          <a:blip r:embed="rId4"/>
          <a:stretch/>
        </p:blipFill>
        <p:spPr>
          <a:xfrm>
            <a:off x="3059280" y="2936880"/>
            <a:ext cx="1463400" cy="35100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10"/>
          <p:cNvSpPr/>
          <p:nvPr/>
        </p:nvSpPr>
        <p:spPr>
          <a:xfrm>
            <a:off x="5326200" y="4303800"/>
            <a:ext cx="2736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рыня – хранительница и защитница семейного очага, женских ремесел, прародительница рода человеческого. Землю, ее плодородие народ издревле олицетворял в образе матери. Берегиню всегда изображали с птицей или птиц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Прямоугольник 8"/>
          <p:cNvSpPr/>
          <p:nvPr/>
        </p:nvSpPr>
        <p:spPr>
          <a:xfrm>
            <a:off x="2041560" y="2054160"/>
            <a:ext cx="656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адник – податель травы, росы, воды, урожая, счастья. Всадник на коне – образ света, жизни. Всадник – воин освобождал Весну от зимних оков холода и мрака, отпирал Солнце и весенние во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C:\Users\Я\Desktop\rider1.jpg"/>
          <p:cNvPicPr/>
          <p:nvPr/>
        </p:nvPicPr>
        <p:blipFill>
          <a:blip r:embed="rId1"/>
          <a:stretch/>
        </p:blipFill>
        <p:spPr>
          <a:xfrm>
            <a:off x="457200" y="663480"/>
            <a:ext cx="1584360" cy="236700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12"/>
          <p:cNvSpPr/>
          <p:nvPr/>
        </p:nvSpPr>
        <p:spPr>
          <a:xfrm>
            <a:off x="5076720" y="3860640"/>
            <a:ext cx="35276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мволы засеянного поля, призваны защитить и увеличить урожай. Символы достатка и благополучия. Точки – символы зерна. К символам возделанного поля можно отнести также крестообразно разделенный квадрат или ромб с точками-зернами.Зигзаги и дуги – символы радуги и небесных вод, дождя, который несет плодородие земле. Косые или волнистые линии – небесные воды, дающие плодородие зем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C:\Users\Я\Desktop\znaki_04.jpg"/>
          <p:cNvPicPr/>
          <p:nvPr/>
        </p:nvPicPr>
        <p:blipFill>
          <a:blip r:embed="rId2"/>
          <a:stretch/>
        </p:blipFill>
        <p:spPr>
          <a:xfrm>
            <a:off x="2195640" y="3173400"/>
            <a:ext cx="2520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Этапы окраски игрушк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Picture 2" descr="Филимоновская игрушка1-3"/>
          <p:cNvPicPr/>
          <p:nvPr/>
        </p:nvPicPr>
        <p:blipFill>
          <a:blip r:embed="rId1"/>
          <a:stretch/>
        </p:blipFill>
        <p:spPr>
          <a:xfrm>
            <a:off x="826920" y="1484280"/>
            <a:ext cx="3313440" cy="46623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0" y="1483920"/>
            <a:ext cx="411480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Первый этап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грушку «желтят».По белому фону обожжёной игрушки наносят первый цвет - жёлтый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Это основа для дальнейшей росписи. Расписывают широкой кисточкой (белка и собака) №3.Основные элементы - линии, кружки, полосы. Начинают мастерицы писать всегда с центра, а от него уже развивается роспись дальше, повинуясь чутью и воображению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апы окраски игрушк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2" descr="Филимоновская игрушка1-4"/>
          <p:cNvPicPr/>
          <p:nvPr/>
        </p:nvPicPr>
        <p:blipFill>
          <a:blip r:embed="rId1"/>
          <a:stretch/>
        </p:blipFill>
        <p:spPr>
          <a:xfrm>
            <a:off x="539640" y="1413000"/>
            <a:ext cx="3511800" cy="4941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00720" y="1483920"/>
            <a:ext cx="418608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торой этап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уют красный цвет (иногда говорят «фуксированный» или «малиновый»)Традиционно называют малинка. Расписывают тонкой кистью (белка, колонок) №1.Линии должны быть тонкими. Роспись ведётся по контуру жёлтого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инии в различных сочетаниях рождают солнышки, ёлочки, розетки, геометрические узор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8T13:11:37Z</dcterms:created>
  <dc:creator>Юлечка</dc:creator>
  <dc:description/>
  <dc:language>en-US</dc:language>
  <cp:lastModifiedBy>Татьяна</cp:lastModifiedBy>
  <dcterms:modified xsi:type="dcterms:W3CDTF">2017-09-24T19:56:33Z</dcterms:modified>
  <cp:revision>25</cp:revision>
  <dc:subject/>
  <dc:title>Филимоновская игрушка</dc:title>
</cp:coreProperties>
</file>