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351-79FA-4BDF-AB88-536EECE2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6BE-1E30-4F1F-B515-06944F88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E9E-5B84-41F4-9A6D-EC668654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34B-6C23-4012-8B89-0FF10B47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D74-C22E-4685-9E82-31800C2A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639-0D90-4C94-AE03-C73ED5C1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BE2-5A94-48D4-A004-6A049948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404-9625-47CA-85E2-CA70852E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D0F-608A-4E07-BE4D-0CC817B0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A95-B0D4-401B-8C29-ED6218BE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609-C600-4CC6-8E32-16E43EC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A0E-D710-4D99-8C49-AE9047FD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1A9-ED13-41BC-A85B-BDC3F48D92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90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ДЕТСКИЙ САД «ЖУРАВЛ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проект по развитию речи в 1 младшей групп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 – словечко, два – словечко…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на И.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Покрово-Пригородно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Е ФОРМЫ ФОЛЬКЛО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47640" y="1844280"/>
            <a:ext cx="6120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ш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ыбельные песн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ич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иг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л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764640"/>
            <a:ext cx="590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ФОЛЬКЛОР ИСПОЛЬЗУЕТСЯ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47640" y="2060280"/>
            <a:ext cx="6120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адапт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жимных момента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гул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ованной образовательной деятель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бодн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s://sun9-86.userapi.com/s/v1/if2/ebl6sr2ytYdymciySJuYv1HWLaKcZ8UVO9k7TU2lr3NlfambtUeRcdR8qKYD8LMDTM6RQgj_o3gG6sfq1p-cnfRH.jpg?size=1280x960&amp;quality=95&amp;type=album"/>
          <p:cNvPicPr/>
          <p:nvPr/>
        </p:nvPicPr>
        <p:blipFill>
          <a:blip r:embed="rId2"/>
          <a:stretch/>
        </p:blipFill>
        <p:spPr>
          <a:xfrm>
            <a:off x="3851280" y="2924280"/>
            <a:ext cx="4788000" cy="359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sun9-48.userapi.com/s/v1/if2/uRIvWucLDfZeSnDxP-0FpHWfVM894hNz4uapSuE027QP1K20fXsvShZ2HzvaRTOTeaxWJdkY4XIW0RiKmSyq0KtQ.jpg?size=1280x960&amp;quality=95&amp;type=album"/>
          <p:cNvPicPr/>
          <p:nvPr/>
        </p:nvPicPr>
        <p:blipFill>
          <a:blip r:embed="rId3"/>
          <a:stretch/>
        </p:blipFill>
        <p:spPr>
          <a:xfrm>
            <a:off x="250920" y="189000"/>
            <a:ext cx="4249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sun9-7.userapi.com/s/v1/if2/V6t8LryVJIBJcnBdbOOVM0l_3CRyCgumC0dFchcHNdAeJf0dwmOPfYymipDSTd99LeaOLQ9YNW53_sWQfuUg5cst.jpg?size=1280x960&amp;quality=95&amp;type=album"/>
          <p:cNvPicPr/>
          <p:nvPr/>
        </p:nvPicPr>
        <p:blipFill>
          <a:blip r:embed="rId2"/>
          <a:stretch/>
        </p:blipFill>
        <p:spPr>
          <a:xfrm>
            <a:off x="4859280" y="333360"/>
            <a:ext cx="3805200" cy="285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s://sun9-40.userapi.com/s/v1/if2/aErhQt1gYzRG5mzaLQKAIAYlP99RL46ekXLQPNiSheHkdFj351ev2TwF6m8RWmFAo6poNauipsWzPjJpWLMdcn96.jpg?size=1280x960&amp;quality=95&amp;type=album"/>
          <p:cNvPicPr/>
          <p:nvPr/>
        </p:nvPicPr>
        <p:blipFill>
          <a:blip r:embed="rId3"/>
          <a:stretch/>
        </p:blipFill>
        <p:spPr>
          <a:xfrm>
            <a:off x="2771640" y="3645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s://sun9-83.userapi.com/s/v1/if2/1Ndmg4nOl8WRF2sCehQ9wQ5PsnSFiagakIZEIY8Dwdz_duxIZw7__rh_wghDO_thEwSoGGRHRyvXqnklpHct70BU.jpg?size=1280x960&amp;quality=95&amp;type=album"/>
          <p:cNvPicPr/>
          <p:nvPr/>
        </p:nvPicPr>
        <p:blipFill>
          <a:blip r:embed="rId4"/>
          <a:stretch/>
        </p:blipFill>
        <p:spPr>
          <a:xfrm>
            <a:off x="395280" y="404640"/>
            <a:ext cx="3822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s://sun9-81.userapi.com/s/v1/if2/xPUd001ESMBgKWaq_FLnEWlTealZqgwMpY4jpAS-ktZ4CrkT8yuiAvWGPTyZ-UTHOCw4kQTiUf87ewG2tHI6YxbI.jpg?size=1280x960&amp;quality=95&amp;type=album"/>
          <p:cNvPicPr/>
          <p:nvPr/>
        </p:nvPicPr>
        <p:blipFill>
          <a:blip r:embed="rId2"/>
          <a:stretch/>
        </p:blipFill>
        <p:spPr>
          <a:xfrm>
            <a:off x="324000" y="26028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sun9-49.userapi.com/s/v1/if2/6w9QrZRCu6mJwJ4a7glHuGQHHD-kzLr8D8eeyJGYZ1JS1iniV0flhm8hd-7ZOZJPZQp3SrnBx2Vj50zZnTcBK77D.jpg?size=1280x960&amp;quality=95&amp;type=album"/>
          <p:cNvPicPr/>
          <p:nvPr/>
        </p:nvPicPr>
        <p:blipFill>
          <a:blip r:embed="rId3"/>
          <a:stretch/>
        </p:blipFill>
        <p:spPr>
          <a:xfrm>
            <a:off x="4500720" y="3338640"/>
            <a:ext cx="4398840" cy="33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s://sun9-33.userapi.com/s/v1/if2/4lQONKGVJGQVjoyZJsknC3-WUKdBDMvNWacy9CaZfhkbUFwNsuOCm7nRD1U5uApf7dnq-oGpJRtRtgEPDI9F7ZVe.jpg?size=1280x960&amp;quality=95&amp;type=album"/>
          <p:cNvPicPr/>
          <p:nvPr/>
        </p:nvPicPr>
        <p:blipFill>
          <a:blip r:embed="rId4"/>
          <a:stretch/>
        </p:blipFill>
        <p:spPr>
          <a:xfrm>
            <a:off x="539640" y="393372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s://sun9-56.userapi.com/s/v1/if2/-HzZfifOKE2svPD8k7o7uQDsQuKHuUDdVMoESwD0msdxMCGqxVoQ0jL1mxCGx7nqlaIjs7EX7fJmD4Budra-kBJh.jpg?size=1280x960&amp;quality=95&amp;type=album"/>
          <p:cNvPicPr/>
          <p:nvPr/>
        </p:nvPicPr>
        <p:blipFill>
          <a:blip r:embed="rId5"/>
          <a:stretch/>
        </p:blipFill>
        <p:spPr>
          <a:xfrm>
            <a:off x="5003640" y="333360"/>
            <a:ext cx="3840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s://sun9-18.userapi.com/s/v1/if2/tZcE4hPHorOl16bJoC32Avbz-Wi57DoLjwOWgA1wYeScAHM_vmma7ivNrjKdyfiM3K8eCXvXmq3sxyIsJDnKYlDX.jpg?size=1280x960&amp;quality=95&amp;type=album"/>
          <p:cNvPicPr/>
          <p:nvPr/>
        </p:nvPicPr>
        <p:blipFill>
          <a:blip r:embed="rId2"/>
          <a:stretch/>
        </p:blipFill>
        <p:spPr>
          <a:xfrm>
            <a:off x="324000" y="260280"/>
            <a:ext cx="4127400" cy="309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sun9-22.userapi.com/s/v1/if2/U64bFqZSQBh3ZeJxunnZA6ZzMtrlk4hOkaW7FSbJujzC5gKHPyfDmBLt_v9FQ4wPAstLJfJjXZuR3ZMOsylqZAHt.jpg?size=1280x960&amp;quality=95&amp;type=album"/>
          <p:cNvPicPr/>
          <p:nvPr/>
        </p:nvPicPr>
        <p:blipFill>
          <a:blip r:embed="rId3"/>
          <a:stretch/>
        </p:blipFill>
        <p:spPr>
          <a:xfrm>
            <a:off x="4643280" y="260280"/>
            <a:ext cx="4129200" cy="309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s://sun9-2.userapi.com/s/v1/if2/2g2W7_vYnQrgRI7rWZFK09QhzZ7YeTF5E3pxlWAbwEC4FACNF5Dh6-MS8AnXSw7mYSnR2LBnD-zHGxXd1VKTNknT.jpg?size=1280x960&amp;quality=95&amp;type=album"/>
          <p:cNvPicPr/>
          <p:nvPr/>
        </p:nvPicPr>
        <p:blipFill>
          <a:blip r:embed="rId4"/>
          <a:stretch/>
        </p:blipFill>
        <p:spPr>
          <a:xfrm>
            <a:off x="324000" y="342900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s://sun1-29.userapi.com/s/v1/if2/EI7fRjBVG-H7rkl7bgfNjn4g6BpbtxoRg5FZNbqk9D2bpGE9lcb46dF0rFkm0Bh7N3ev4jbrUi0aVdiQw4yY0xR7.jpg?size=1280x960&amp;quality=95&amp;type=album"/>
          <p:cNvPicPr/>
          <p:nvPr/>
        </p:nvPicPr>
        <p:blipFill>
          <a:blip r:embed="rId5"/>
          <a:stretch/>
        </p:blipFill>
        <p:spPr>
          <a:xfrm>
            <a:off x="4716360" y="3500280"/>
            <a:ext cx="399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258560" y="2491920"/>
            <a:ext cx="64818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ьклор играет важную роль в воспитании детей, развивает устную речь ребенка, влияет на его духовное развитие, на его фантазию. В процессе работы у детей повышается интерес к устному народному творчеству, они используют в играх ранее изученные малые фольклорные фор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604836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 - ориентированный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: долгосрочный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 дети 1 младшей группы, воспитатели, родител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640" y="2133720"/>
            <a:ext cx="6120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компьютер и телевидение все чаще заменяют детям живое общение, вследствие чего неуклонно увеличивается количество детей с несформированной речь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47280" y="2276280"/>
            <a:ext cx="61930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или нехватка времени у родителей на общение с детьми, а также невнимание к содержанию и активизации речи малыш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18920" y="2637000"/>
            <a:ext cx="59770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етей младшего дошкольного возраста средствами малого русского фолькл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76000" y="1915920"/>
            <a:ext cx="633564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аннего восприятия звуковой культуры речи на основе малых форм фолькл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лухового внимания, понимания речи, звукоподражания, активизация словар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нтереса к фольклору, формирование  способности к целостному восприятию произведений разных жанров, усвоению содержания произведений и эмоциональной отзывчивости на н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на основе малых фольклорных форм положительного отношения к совместной деятельности в режимных момент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взаимодействия с родителями в процессе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640" y="1773000"/>
            <a:ext cx="6120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детей к концу года обогатится новыми словами, оборотами, выражениями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уется первоначальный интерес к устному народному творчеству, художественной литератур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владеют навыками общения со взрослыми и сверстниками;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дителей сформируется понимание необходимости использования малых форм фольклора в развитии речи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47640" y="1628280"/>
            <a:ext cx="6120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монстрация и иллюстрация картин, показ способов действ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ллективное чтение, прослушивание песен, сказок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гры-драматизации, игры-инсценировки и т.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детьми раннего возраста необходимо учитывать следующие моменты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знает мир с помощью взрослого человека путем подраж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местной деятельности ребенка и взрослого необходимо совмещать элементы игры и обуч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атериала должно соответствовать детскому опы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контролировать уровень сложности предлагаемого материала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контролировать длительность занят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47640" y="1125360"/>
            <a:ext cx="72835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 (сбор информации по проблеме)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едметной среды групп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ческой литературы по проблем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целей и задач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иагностического исследования речи дет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адаптационного периода с использованием различных форм фолькл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грового взаимодейств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книг с различными жанрами фолькло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ание произведений фолькло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ных моментов с использованием фольклорных произведен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нсультаций для род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, обобщение и распространение результатов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4T18:12:45Z</dcterms:created>
  <dc:creator>дима</dc:creator>
  <dc:description/>
  <dc:language>en-US</dc:language>
  <cp:lastModifiedBy>Ирина Костина</cp:lastModifiedBy>
  <dcterms:modified xsi:type="dcterms:W3CDTF">2023-06-15T17:52:29Z</dcterms:modified>
  <cp:revision>57</cp:revision>
  <dc:subject/>
  <dc:title>МУНИЦИПАЛЬНОЕ АВТОНОМНОЕ ДОШКОЛЬНОЕ ОБРАЗОВАТЕЛЬНОЕ УЧРЕЖДЕНИЕ «ДЕТСКИЙ САД «ЖУРАВЛИК»</dc:title>
</cp:coreProperties>
</file>