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741E-C92E-4B92-9B2E-E7F5C5144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6E87-EA6A-46AA-8016-6EB2722B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CB0E-A39B-40AD-8B77-A63CC4B23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7D06-117C-4A48-8608-0ECC42118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578E-B043-4D36-8D64-CEEA2FA8A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0132-93E6-4008-86BF-79E6966A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A336-540E-4E46-8458-C2122B12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94D9-E4FA-42BB-AC06-8B1DDED9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0724-4DAF-4D8D-9F62-0EF47955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4159-EB3B-4274-97C5-0C457F29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8028-354F-4837-A7AC-6EF123E0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BA5D-6024-4A0D-9A01-B75D00FA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86B0-90AC-46C8-919F-E61F98F9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231B-8016-4120-8E29-6A255A93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5977-704A-49DC-8696-BED4DB37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161C-76B7-4145-86D8-FFED9DA58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190F-C7F0-493A-87CC-B291EB04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5641-8539-4069-936A-DE224ED4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53D8-3BAB-473A-8A8C-91FAC81C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1032-0608-49FF-B10E-A6FD6C73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5DD8-1E1B-49FD-91F2-431D07A7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200E-880A-4E35-8635-5F85C70F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53E3-3216-4BA7-8696-C63378CE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4DA6-B03D-4AD0-897F-01D4004B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E6DA-B9DA-4E67-8648-D1C16CBF493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B1CF-DF49-497C-B8C3-5EEEBBF1D46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943920" y="3077280"/>
            <a:ext cx="7713360" cy="176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Электрический ток в различных средах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ак устроены полупроводники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38280" y="2362320"/>
            <a:ext cx="4572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бразование собственной проводимости полупроводник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57400" y="2600280"/>
            <a:ext cx="57913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-n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ереход и его свойств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71600" y="2438280"/>
            <a:ext cx="5791320" cy="42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ямое включение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-n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ереход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057400" y="2362320"/>
            <a:ext cx="5486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братное включение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-n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ереход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133720" y="2362320"/>
            <a:ext cx="5562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АХ полупроводникового диод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00200" y="2473200"/>
            <a:ext cx="640080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олупроводниковый транзистор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5638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Опыт Рикке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600200" y="2514600"/>
            <a:ext cx="57150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пыт Папалекси-Мандельштам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655308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Объясните физический смысл электрического сопротивления металлов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73915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Л.И. Мандельштам,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оссийский физи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48120" y="2514600"/>
            <a:ext cx="31971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Как зависит сопротивление металлов от температуры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057400" y="2462040"/>
            <a:ext cx="5486400" cy="43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Каков принцип действия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ермометра сопротивления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715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В чем заключается свойство сверхпроводимости металлов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76200" y="2362320"/>
            <a:ext cx="3494160" cy="4495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952880" y="2819520"/>
            <a:ext cx="388620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бъясните отличие в ВАХ полупроводников и металлов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0" y="2438280"/>
            <a:ext cx="5562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7T14:17:21Z</dcterms:created>
  <dc:creator>S.Polishuk</dc:creator>
  <dc:description/>
  <dc:language>en-US</dc:language>
  <cp:lastModifiedBy>S.Polishuk</cp:lastModifiedBy>
  <dcterms:modified xsi:type="dcterms:W3CDTF">2003-04-07T15:18:15Z</dcterms:modified>
  <cp:revision>2</cp:revision>
  <dc:subject/>
  <dc:title>Электрический ток в различных средах</dc:title>
</cp:coreProperties>
</file>