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AAE-D674-4334-A86D-B691EC86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7B19-CC9D-40D6-9627-A6DF647A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E5F6-599F-4590-9327-C1624A25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CD5-BEC6-4324-ADBC-23513208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A978-09E9-4BF8-ACC4-1F3A22FE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D276-A745-4F68-A274-B278C245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454D-975F-4109-8AC2-4D312C39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0498-7B68-4758-AC9C-6E622A05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1D5D-10D9-4AF4-9D28-F491BCB9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37F2-C516-420D-9A3F-E5314255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0894-E14F-4806-80E0-2C1A79AE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5A53-F459-4128-8444-F21706C8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8DA2-1B03-4282-A536-C351FD92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D937-0994-4BD6-91C4-FAB47D1D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6491-85C4-4819-ADA0-CEFE82EE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4B59-6200-4E83-94E2-61D60F43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2223-4F79-41DA-8806-DDA8C1B6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D3C-FF62-43DC-B579-36B56659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E80F-A95A-4111-B326-D971B8CC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A13-B0DC-4EBF-98D5-D1180BC7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B9D-AA5C-41E8-ADE9-00F8E75F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1E3-6335-4DA4-8476-E118DC71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D0B-B325-4367-A025-C42506F7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B5D-F1FA-4B64-9A18-CB0D1E2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29CD-C365-474F-8E8C-E1D2FC6AC76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15B9-A359-4890-8B6D-1B211E0FAA8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43920" y="3077280"/>
            <a:ext cx="7713360" cy="176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Электрический ток в различных средах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 устроены полупроводники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572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бразование собственной проводимости полупроводник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2600280"/>
            <a:ext cx="57913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-n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ход и его свой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579132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ямое включение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-n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хо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486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ратное включение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-n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реход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562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АХ полупроводникового дио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0200" y="2473200"/>
            <a:ext cx="64008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лупроводниковый транзисто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638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Опыт Рикке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57150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пыт Папалекси-Мандельшта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65530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Объясните физический смысл электрического сопротивления металл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3915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.И. Мандельштам,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оссийский физи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3197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к зависит сопротивление металлов от температуры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7400" y="2462040"/>
            <a:ext cx="548640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ков принцип действия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рмометра сопротивления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 чем заключается свойство сверхпроводимости металлов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76200" y="2362320"/>
            <a:ext cx="3494160" cy="4495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52880" y="2819520"/>
            <a:ext cx="38862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бъясните отличие в ВАХ полупроводников и металлов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5562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4:17:21Z</dcterms:created>
  <dc:creator>S.Polishuk</dc:creator>
  <dc:description/>
  <dc:language>en-US</dc:language>
  <cp:lastModifiedBy>S.Polishuk</cp:lastModifiedBy>
  <dcterms:modified xsi:type="dcterms:W3CDTF">2003-04-07T15:18:15Z</dcterms:modified>
  <cp:revision>2</cp:revision>
  <dc:subject/>
  <dc:title>Электрический ток в различных средах</dc:title>
</cp:coreProperties>
</file>