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BB0-D624-4B7E-BCDA-21448686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4D51-FE29-41C7-969F-DE0A72F4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B0C-06BD-4E9C-8EA2-BDEB9791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DD2-C8B0-4DA0-BD86-53673E0C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C26-7DDD-44C7-AA5B-27C9B4B5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781F-851C-449E-AD3D-7B610E4A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B17-D7F3-4CAC-A6F2-98E49ED0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B48-74A9-461B-8F61-5B365992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1E1-E438-4C3F-8B36-EA457196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29B-7C2B-4D49-A5ED-7E0C504E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620-1F4E-452A-8692-2EA73964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DF6-BFB1-47C6-A13B-F7DBAF15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8C9D-3234-4D7C-B56A-06D674291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toowto.kz/blog/uploads/source/razrabotka/process-formirovaniya-i-analiza-trebovanij-k-po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ое занятие № 1  Анализ предметной обла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55920" y="5876640"/>
            <a:ext cx="4888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11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 предметной обл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Процесс формирования и анализа требований к П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341360"/>
            <a:ext cx="75596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вопросы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 чем вы видите назначение будущей систем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проблемы она должна реши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возможности должна предостави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должна выгляде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вестны ли вам аналогичные продук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ет ли система единичной или тиражируем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 каких странах она будет работа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олагается ли обмен данными с другими существующими продукт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пользователей будет работать с системой к моменту реализации и в перспектив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 какими системами и как давно вы работ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 предметной обл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робное описание информации об объектах предметн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улировку конкретных задач с кратким описанием алгоритмов их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исание входных документов, которые должны генерироваться в сис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исание входных документов, которые служат основанием для заполнения дан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блица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же имеются подобные при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ожительные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рицательные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обство исполь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ое занятие № 1  Анализ предметной обла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708360" y="5589360"/>
            <a:ext cx="4888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ы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7T08:23:20Z</dcterms:created>
  <dc:creator>Acer</dc:creator>
  <dc:description/>
  <dc:language>en-US</dc:language>
  <cp:lastModifiedBy>Acer</cp:lastModifiedBy>
  <dcterms:modified xsi:type="dcterms:W3CDTF">2022-11-08T08:20:01Z</dcterms:modified>
  <cp:revision>5</cp:revision>
  <dc:subject/>
  <dc:title>Практическое занятие № 1  Анализ предметной области </dc:title>
</cp:coreProperties>
</file>