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521-DCA2-45F3-8665-265B3355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8DE-5EBD-4D9C-A143-AF427645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C1A-C9FF-489F-A632-3715F75C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870-0565-4EDA-B04F-F343A345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107-CFF0-4121-BF34-B5CAAFA2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BA5-BD1B-4958-A6E8-41A1ED73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FFA-1402-47BB-A9C9-61D413FB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22E-114E-4F8D-80E9-9D73C059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2B6-67FB-40F0-BCEC-ACA4EA7E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0DB-706B-4489-BE9E-41171AC5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DCE-C8F8-409D-9E4B-C12351F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89B-3E48-45FF-A8A9-E4DAEA3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5E32-0B5D-4E25-93CD-4BB105C45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toowto.kz/blog/uploads/source/razrabotka/process-formirovaniya-i-analiza-trebovanij-k-po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ое занятие № 1  Анализ предметной обла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55920" y="5876640"/>
            <a:ext cx="4888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предметн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Процесс формирования и анализа требований к П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341360"/>
            <a:ext cx="75596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вопрос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 чем вы видите назначение будущей систем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проблемы она должна реши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возможности должна предостави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должна выгляде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ны ли вам аналогичные продук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ет ли система единичной или тиражируем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 каких странах она будет работ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олагается ли обмен данными с другими существующими продукт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пользователей будет работать с системой к моменту реализации и в перспектив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 какими системами и как давно вы работ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предметн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обное описание информации об объектах предметн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улировку конкретных задач с кратким описанием алгоритмов их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ание входных документов, которые должны генерироваться в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ание входных документов, которые служат основанием для заполнения да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блица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же имеются подобные 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жительные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ицательные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обство исполь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ое занятие № 1  Анализ предметной обла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708360" y="5589360"/>
            <a:ext cx="4888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ы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7T08:23:20Z</dcterms:created>
  <dc:creator>Acer</dc:creator>
  <dc:description/>
  <dc:language>en-US</dc:language>
  <cp:lastModifiedBy>Acer</cp:lastModifiedBy>
  <dcterms:modified xsi:type="dcterms:W3CDTF">2022-11-08T08:20:01Z</dcterms:modified>
  <cp:revision>5</cp:revision>
  <dc:subject/>
  <dc:title>Практическое занятие № 1  Анализ предметной области </dc:title>
</cp:coreProperties>
</file>