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1BDD-D453-42B4-8E8B-D5A0A3265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A8E3-611F-46DC-9549-7A44FF2E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E24C-C400-42D7-8630-36DE4986F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756C-FD86-49D4-A72E-0E38BE7D2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DCBB-2ED9-440C-9DA7-9399DDB8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09C5-B1DD-4488-AB44-75102701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9E8D-C2B5-40EF-907D-7AA2C22E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A760-FC24-4598-BF8E-A0C229D7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6FCF-DADC-4D5B-8794-9D8CDB7A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19CA-41D7-4607-B67A-46C6D253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B60D-A60D-4E92-A977-0DD16C95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3E44-8923-421A-850D-29FAF3C8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F08F-6B1D-4609-8BC1-4C5AEEB52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ктическая работа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работка этапов создания программного обеспеч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цесс работы с требования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 концепции продук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ор требо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требо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ирование систе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работка этапов создания программного обеспе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559908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ктическая работа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320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работка этапов создания программного обеспеч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08T08:18:12Z</dcterms:created>
  <dc:creator>Acer</dc:creator>
  <dc:description/>
  <dc:language>en-US</dc:language>
  <cp:lastModifiedBy>Acer</cp:lastModifiedBy>
  <dcterms:modified xsi:type="dcterms:W3CDTF">2022-11-08T08:18:56Z</dcterms:modified>
  <cp:revision>1</cp:revision>
  <dc:subject/>
  <dc:title>Практическая работа 2</dc:title>
</cp:coreProperties>
</file>