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33A-BA82-4BD5-84B0-2EA4FE40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511-05B0-48F7-A6E7-58B11F55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3ED-E78D-44E4-8CB5-F3A080C9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CB4-55E0-454D-9054-A9A9D442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E52-7410-4089-B3F6-C8A80AB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B4B-3761-4C91-97D1-D00F9963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03B-9D17-4550-9184-85CDE5DF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87D-BEC3-4CAB-A686-4665F70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35E-E839-442D-8A34-FA24A716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D61-056B-4055-86CA-3C8D9796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EC1-1646-4098-83FE-E382AE15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E34-165D-4649-B289-CFAECB3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7179-CF4A-4A0B-AA11-463725502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этапов создания программного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 работы с требо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онцепции проду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ование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работка этапов создания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599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этапов создания программного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8T08:18:12Z</dcterms:created>
  <dc:creator>Acer</dc:creator>
  <dc:description/>
  <dc:language>en-US</dc:language>
  <cp:lastModifiedBy>Acer</cp:lastModifiedBy>
  <dcterms:modified xsi:type="dcterms:W3CDTF">2022-11-08T08:18:56Z</dcterms:modified>
  <cp:revision>1</cp:revision>
  <dc:subject/>
  <dc:title>Практическая работа 2</dc:title>
</cp:coreProperties>
</file>