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4CF-64A5-4C83-9206-F046DF3D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93D-041C-4C5E-8C40-A2B90391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5E4-7247-4070-91BB-FA61380F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168-155B-4F65-8BD3-DB14BC21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860-5386-45DE-A675-4BC9891C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2CF-5258-4DFC-94F0-B879EC00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4B7-997E-4116-86C8-9FE39DAE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D5C-CE15-4CB6-8715-FCE780B9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570-3324-477F-A583-DDF973B2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209-88B6-4280-B24B-5E058F76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B9A-6110-4CB0-B4A9-B36F5379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7AA-D3BA-467F-845D-0DDAE0FF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747D-C6C0-4129-A20F-1CB741DDB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ое занятие № 3 Разработка и оформление технического зад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техническо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разрабо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ования к П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ки и этапы разрабо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лам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довательность разработки Т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авливается набор выполняемых функций, а также перечень и характеристики исходных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ется перечень результатов, их характеристики и способы их предст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яют среду функционирования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делы техническо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Основание для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Назначение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Требования к программе или программному издел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Требования к программной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Технико-экономическое обосн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Стадии и этапы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 Порядок контроля и прием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При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ое занятие № 3 Разработка и оформление технического зад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8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з стр. 16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8T08:29:38Z</dcterms:created>
  <dc:creator>Acer</dc:creator>
  <dc:description/>
  <dc:language>en-US</dc:language>
  <cp:lastModifiedBy>Пользователь Windows</cp:lastModifiedBy>
  <dcterms:modified xsi:type="dcterms:W3CDTF">2023-01-16T04:16:21Z</dcterms:modified>
  <cp:revision>6</cp:revision>
  <dc:subject/>
  <dc:title>Практическое занятие № 3, 4, 5 Разработка и оформление технического задания </dc:title>
</cp:coreProperties>
</file>