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3F4-D82B-421D-ABBA-D0C89116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C94-A27B-406B-ABF8-A0010487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5F9-1FF4-4076-B64A-1C6A097A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D47-1236-4992-B593-7D5D9C3A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8C3-AFAF-4FC9-8C2E-E08D3073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C8D-C942-4ABB-A9ED-3F0C3355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108-32A8-4237-998B-F0E7DA68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1AD-9453-4434-92E7-6EBFDC55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92D-DB03-42D9-AE37-FD9FA82D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719-8183-49EC-A4CD-5B7035BF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22A-14D1-4446-AA8D-CC943299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C0D-B568-4E67-9FE9-CC7987B2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B099-D09F-495D-9B3F-FF09958402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ое занятие № 3 Разработка и оформление технического зад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8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техническо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 разрабо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ования к П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оки и этапы разрабо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ламе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довательность разработки Т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авливается набор выполняемых функций, а также перечень и характеристики исходных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ется перечень результатов, их характеристики и способы их предст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очняют среду функционирования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делы техническо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Основание для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Назначение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Требования к программе или программному издел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Требования к программной докум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Технико-экономическое обосн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Стадии и этапы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 Порядок контроля и прием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При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ое занятие № 3 Разработка и оформление технического зад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8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з стр. 16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8T08:29:38Z</dcterms:created>
  <dc:creator>Acer</dc:creator>
  <dc:description/>
  <dc:language>en-US</dc:language>
  <cp:lastModifiedBy>Пользователь Windows</cp:lastModifiedBy>
  <dcterms:modified xsi:type="dcterms:W3CDTF">2023-01-16T04:16:21Z</dcterms:modified>
  <cp:revision>6</cp:revision>
  <dc:subject/>
  <dc:title>Практическое занятие № 3, 4, 5 Разработка и оформление технического задания </dc:title>
</cp:coreProperties>
</file>