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17B7-3AEC-4502-88C6-24E76BE58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Ж – некая структура, которая определяет последовательность осуществления процессов. Действий и задач, выполняемых на протяжении жизненного цикла по , а также взаимосвязи между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Жизни любого по или системы описан по средствам моделей жц, с ост из стад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ль жц представляется в виде последовательности стадий , кот могуп перекрываться или повторя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4107-3ECA-41FE-9915-02E11691B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C580-C6E8-46BB-87F5-EA2A5229A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чальном этапе развития вычислительной техники программное обеспечение разрабатывалось по принципу«кодирование – устранение ошибок». Модель такого процесса разработки ПС иллюстрирует рису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1007-2790-4670-A6E1-8B2452F30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достатка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ой модел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неструктурированность процесса разработки программных сред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ориентация на индивидуальные знания и умения программи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сложность управления и планирова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большая длительность и стоимость разрабо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низкое качество программных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·высокий уровень рис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D36C-D4AF-434A-A51F-760F68ACE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настоящее время наиболее широко используются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три базовые стратегии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азработки программного обеспечения, предназначенные для устранения или сокращения вышеназванных недостатков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каскадная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инкрементная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эволюционна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которые характеристики каскадной, инкрементной и эволюционной стратегий разработки ПС и предъявляемые к ним требования приведены в стандарте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ГОСТ Р ИСО/МЭК ТО 15271-2002 – Информационная технолог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Руководство по применению ISO/IEC 12207 (Процессы жизненного цикла программных средств)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[6]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ыбор той или иной стратегии определяется характеристикам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проекта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требований к продукту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команды разработчиков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команды пользователе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ждая из стратегий разработки имеет как достоинства, так и недостатки, определяемые правильностью выбора данной стратегии по отношению к конкретному проекту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ледует подчеркнуть, что одни и те же свойства стратегии могут проявлять себя как достоинства при выборе стратегии к соответствующему ей проекту и как ее недостатки, если стратегия выбрана неверно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ри базовых стратегии могут быть реализованы различными модел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Ж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ходя из стратегий формируются модели разработки программного обеспечения, которые мы начнем изучать со следующего уро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B1D7-D595-4DF1-9DA2-41502DEAE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работка программного обеспечения – это процесс концептуализации требований к программному обеспечению при реализации программного обеспечения. Разработка программного обеспечения принимает пользовательские требования как проблемы и пытается найти оптимальное решение. В то время как программное обеспечение концептуализируется, составляется план, чтобы найти наилучший возможный дизайн для реализации предполагаемого реш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ществует несколько вариантов дизайна программного обеспечения. Давайте кратко изучим их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труктурированный дизайн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уктурированный дизайн – это концептуализация проблемы на несколько хорошо организованных элементов решения. Это в основном связано с дизайном решения. Преимущество структурированного дизайна заключается в том, что оно дает лучшее понимание того, как решается проблема. Структурированный дизайн также позволяет дизайнеру более точно сосредоточиться на проблем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руктурированный дизайн в основном основан на стратегии «разделяй и властвуй», где проблема разбита на несколько небольших проблем, и каждая небольшая проблема решается индивидуально до тех пор, пока не будет решена вся проблем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большие кусочки проблемы решаются с помощью модулей решения. Структурированный дизайн подчеркивает, что эти модули хорошо организованы для достижения точного решения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 модули расположены в иерархии. Они общаются друг с другом. Хороший структурированный дизайн всегда следует некоторым правилам общения между несколькими модулями, а именно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плоченность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группировка всех функционально связанных элементов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цеп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связь между различными модулям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орошая структурированная конструкция имеет высокую когезию и низкое сцепное устройств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онально-ориентированный дизайн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функционально-ориентированном проектировании система состоит из множества небольших подсистем, известных как функции. Эти функции способны выполнять значительные задачи в системе. Система рассматривается как вид сверху всех функций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онально ориентированный дизайн наследует некоторые свойства структурированного дизайна, где используется методология «разделяй и властвуй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от механизм проектирования разделяет всю систему на более мелкие функции, которые обеспечивают средства абстрагирования путем сокрытия информации и их работы. Эти функциональные модули могут обмениваться информацией между собой посредством передачи информации и использования информации, доступной в глобальном масштаб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ой характеристикой функций является то, что когда программа вызывает функцию, она изменяет состояние программы, что иногда не приемлемо для других модулей. Функционально-ориентированное проектирование хорошо работает, когда состояние системы не имеет значения, а программа / функции работают на входе, а не на состояни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цесс проектиров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я система рассматривается как поток данных в системе с помощью диаграммы потока данных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DFD показывает, как функции изменяют данные и состояние всей систем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я система логически разбита на более мелкие блоки, известные как функции, в зависимости от их работы в систем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ждая функция затем описывается в целом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бъектно-ориентированный дизайн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ъектно-ориентированный дизайн работает вокруг сущностей и их характеристик, а не функций, задействованных в программной системе. Эта стратегия проектирования ориентирована на сущности и ее характеристики. Вся концепция программного решения вращается вокруг заинтересованных лиц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вайте посмотрим на важные концепции объектно-ориентированного дизайна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бъекты –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се объекты, участвующие в разработке решения, называются объектами. Например, человек, банки, компания и клиенты рассматриваются как объекты. У каждой сущности есть некоторые атрибуты, связанные с ней, и есть несколько методов для работы с атрибутам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ласс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Класс – это обобщенное описание объекта. Объект является экземпляром класса. Класс определяет все атрибуты, которые может иметь объект, и методы, которые определяют функциональные возможности объек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роекте решения атрибуты хранятся как переменные, а функциональные возможности определяются с помощью методов или процедур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нкапсуляция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OOD атрибуты (переменные данных) и методы (операции с данными) объединяются вместе и называются инкапсуляцией. Инкапсуляция не только объединяет важную информацию об объекте, но также ограничивает доступ к данным и методам из внешнего мира. Это называется сокрытием информаци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аследование –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OOD позволяет подобным классам складываться иерархически, где нижние или подклассы могут импортировать, реализовывать и повторно использовать разрешенные переменные и методы из своих непосредственных суперклассов. Это свойство OOD известно как наследование. Это облегчает определение определенного класса и создание обобщенных классов из определенных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лиморфизм –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зыки OOD предоставляют механизм, где методам, выполняющим аналогичные задачи, но различающимся по аргументам, можно присвоить одно и то же имя. Это называется полиморфизмом, который позволяет одному интерфейсу выполнять задачи для разных типов. В зависимости от того, как вызывается функция, выполняется соответствующая часть код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ласс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Класс – это обобщенное описание объекта. Объект является экземпляром класса. Класс определяет все атрибуты, которые может иметь объект, и методы, которые определяют функциональные возможности объек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роекте решения атрибуты хранятся как переменные, а функциональные возможности определяются с помощью методов или процедур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цесс проектиров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разработки программного обеспечения можно воспринимать как последовательность четко определенных шагов. Хотя он варьируется в зависимости от подхода к проектированию (функционально-ориентированного или объектно-ориентированного, тем не менее он может включать следующие этапы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ект решения создается из требования или ранее использованной системы и / или диаграммы последовательности систем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ъекты идентифицируются и группируются в классы по признаку сходства характеристик атрибутов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ассовая иерархия и отношения между ними определен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мки приложения определен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дходы к разработке программного обеспече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т два общих подхода к разработке программного обеспечения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изайн сверху вниз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ы знаем, что система состоит из более чем одной подсистемы и содержит ряд компонентов. Кроме того, эти подсистемы и компоненты могут иметь свой набор подсистем и компонентов и создают иерархическую структуру в систем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проектировании сверху вниз вся программная система объединяется в единое целое, а затем разбивается на части, чтобы получить более одной подсистемы или компонента на основе некоторых характеристик. Каждая подсистема или компонент затем рассматривается как система и далее разлагается. Этот процесс продолжается до тех пор, пока не будет достигнут самый низкий уровень системы в иерархии сверху вниз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исходящий проект начинается с обобщенной модели системы и продолжает определять более конкретную ее часть. Когда все компоненты составлены, вся система появляется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исходящий дизайн больше подходит, когда программное решение должно быть разработано с нуля, а конкретные детали неизвестн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O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O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изайн снизу вверх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дель проектирования «снизу вверх» начинается с самых специфических и базовых компонентов. Это происходит с составлением компонентов более высокого уровня с использованием компонентов базового или более низкого уровня. Он продолжает создавать компоненты более высокого уровня, пока желаемая система не развивается как единый компонент. С каждым более высоким уровнем количество абстракций увеличивается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сходящая стратегия больше подходит, когда необходимо создать систему из какой-либо существующей системы, где базовые примитивы могут использоваться в более новой систем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нисходящий, так и восходящий подходы не являются практичными по отдельности. Вместо этого используется хорошая комбинация обои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76C-D3F8-4787-9E1E-9B6706FB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330-81FD-414E-8C96-7752B634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CBF-45CA-4D43-B8CC-2FF753BD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C3C-2E2C-4B4A-A006-72C50CA9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4E8-E80C-4CEB-9BB6-ED7497A4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B0F-38E7-41BC-8F57-F8AC1538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192-2C41-4CEE-A92C-1013F3B0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5CF-853C-47C0-B3A4-57379D22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E83-8617-4BF2-9771-8585365B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1C7-990F-41F2-8AF8-5F76F41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663-58D2-45EE-8F5E-9152C357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85E-1F88-4E87-BB44-D35A89B7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2C09-ABEA-4D48-9516-87F4D8F08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тегии разработк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21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нят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ый цик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жизненного ци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зовые стратегии разработки программных средств и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35011" t="30236" r="7234" b="47492"/>
          <a:stretch/>
        </p:blipFill>
        <p:spPr>
          <a:xfrm>
            <a:off x="468360" y="2349360"/>
            <a:ext cx="8497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достат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труктурированность процесса разработки программных сред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ентация на индивидуальные знания и умения программи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управления и планирования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длительность и стоимость разрабо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ое качество программных проду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уровень рисков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зовые страте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кад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кремент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СТ Р ИСО/МЭК ТО 15271-2002 – Информацион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ство по применению ISO/IEC 12207 (Процессы жизненного цикла программных средств) Требования к страт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тегии диз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ированный диз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ально-ориентированный диз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но-ориентированный дизай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зайн сверху вн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зайн снизу ввер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 конспект страте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studfile.net/preview/1444535/page: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coderlessons.com/tutorials/akademicheskii/programmnaia-inzheneriia/strategii-razrabotki-programmnogo-obespechen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тегии разработки программного обеспе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56000" y="609264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 § 2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9T05:47:50Z</dcterms:created>
  <dc:creator>Acer</dc:creator>
  <dc:description/>
  <dc:language>en-US</dc:language>
  <cp:lastModifiedBy>Пользователь Windows</cp:lastModifiedBy>
  <dcterms:modified xsi:type="dcterms:W3CDTF">2022-12-05T02:58:47Z</dcterms:modified>
  <cp:revision>6</cp:revision>
  <dc:subject/>
  <dc:title>Стратегии разработки программного обеспечения </dc:title>
</cp:coreProperties>
</file>