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DABC-3A1A-4651-A739-5B4E2068CE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одходы к разработке программного обеспечения определяют успех проекта, ведь без правильно подобранной методологии сложно достичь стабильности в работе продукта, безопасности и устойчивости функциональных особенностей. Руководители проекта стараются найти оптимальный вариант из множества. Рассказываем вам о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Методология разработки ПО – это система, определяющая порядок выполнения задач, методы оценки и контроля. Модели разработки ПО выбирают, исходя из направления проекта, его бюджета, сроков реализации конечного продукта, а также внимание стоит обратить и на характер и темперамент руководителя проекта и его команды. Подходы разработки ПО отличаются друг от друга тем, как этапы жизненного цикла программного обеспечения взаимосвязаны между собой внутри цикла разрабо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RATIONAL UNIFIED PROCESS (RUP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— методология разработки программного обеспечения, созданная компанией Rational Softwa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основе методологии лежат 6 основных принципов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онентная архитектура, реализуемая и тестируемая на ранних стадиях проект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бота над проектом в сплочённой команде, ключевая роль в которой принадлежит архитектора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нняя идентификация и непрерывное устранение возможных рисков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нцентрация на выполнении требований заказчиков к исполняемой программе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жидание изменений в требованиях, проектных решениях и реализации в процессе разработки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стоянное обеспечение качества на всех этапах разработки проект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методологии RUP направлено на итеративную модель разработки. Особенность методологии состоит в том, что степень формализации может меняться в зависимости от потребностей проекта. Можно создавать все требуемые документы и достигнуть максимального уровня формализации, по окончании каждого этапа и каждой итерации а можно создавать только необходимые для работы документы, вплоть до полного их отсутствия. За счет такого подхода к формализации процессов методология является достаточно гибкой и широко популярной. Данная методология применима как в небольших и быстрых проектах, где за счет отсутствия формализации требуется сократить время выполнения проекта и расходы, так и в больших и сложных проектах, где требуется высокий уровень формализма, например, с целью дальнейшей сертификации продукта. Это преимущество дает возможность использовать одну и ту же команду разработчиков для реализации различных по объему и требования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работка программного обеспечения состоит из следующих этапов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пределение стратегии: выяснение требований, оценка реализации этих требований, подсчитывание бюджета и определение возможности выполнения работ для клиента на взаимных условиях. Этот этап может происходить в цикле лишь один раз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нализ: исследование функций, которые определились на этапе стратегии, атрибутов и связей. Данный этап обычно происходит сразу после определения стратегии и может повторяться в цикл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ектирование – сбор модели данны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еализация: разработка продукта по требованиям, взаимодействие всей команды для достижения конечной цели, один из самых насыщенных этапов цикла разработк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естирование. Этот этап может идти параллельно с фазой реализации. Происходит тестирование всего, что делают разработчики, работы продук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недрение. Зачастую продукт внедряется итерациями, чтобы сделать это более качественно, постепенно справляясь с багами и трудностями. На этапе внедрения вашим главным тестировщиком будет ваш клиент. Вся система выходит на полную мощность и начинает работать для своих пользователе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пользование и техническая поддержка. Поддержание проекта на плаву, взаимодействие с клиентом, пользователями и так далее. Все зависит от условий работы над проекто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ередование этих этапов, взаимодействие между ними может меняться, исходя из выбранной вашим руководителем или вами модели процесса разработки П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тодология разработки программного обеспечения (SDLC) представляет собой последовательность действий, которые необходимо выполнить, чтобы получить готовое решение. Проще говоря, это способ создания программного продукта. Проблема в том, что существует множество моделей SDLC, которые используются для разных типов проектов. Как узнать, какой из них подходит для вашего проекта? В статье я перечислил наиболее популярные модели SDLC, их варианты использования, преимущества и недостатки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 методологией разработки подразумевается набор методов и критериев оценки, которые используются для постановки задачи, планирования, контроля и в конечном итоге — для достижения поставленной цели. Сам процесс разработки описывается моделью, которая определяет последовательность наиболее общих этапов и получаемых результа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скадная модель — переход на следующий этап означает полное завершение работ на предыдущем этап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этапная модель с промежуточным контролем — разработка ПО ведется итерациями с циклами обратной связи между этапами. Межэтапные корректировки позволяют уменьшить трудоемкость процесса разработки по сравнению с каскадной моделью, но время жизни каждого из этапов растягивается на весь период разработк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пиральная модель — особое внимание уделяется начальным этапам разработки: выработке стратегии, анализу и проектированию, где реализуемость тех или иных технических решений проверяется и обосновывается посредством создания прототипов (макетирования). Каждый виток спирали предполагает создание некой версии продукта или какого-либо его компонента; при этом уточняются характеристики и цели проекта, определяется его качество и планируются работы следующего витка спирал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ктивное программирование и его клоны — наиболее популярным для данной модели стало экстремальное программирование (extreme Programming, XP). Отцом-идеологом XP считают Кента Бека (Kent Beck). XP является довольно молодой методологией, оценки которой весьма противоречивы: от восторженных до резко негативных. Основными принципами являются простота решений и интенсивная разработка малыми группами, активное общение в группе и обратная связь с клиентом, фактически вовлеченным в процесс разработки, а также известная доля кураж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Экстремальное программирование (X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венадцать основных приёмов экстремального программирования (по первому изданию книги Extreme programming explained) могут быть объединены в четыре групп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.Короткий цикл обратной связи (Fine-scale feedba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ка через тестирование (Test-driven developmen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гра в планирование (Planning ga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казчик всегда рядом (Whole team, Onsite customer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арное программирование (Pair programming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2.Непрерывный, а не пакетный процесс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прерывная интеграция (Continuous integra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факторинг (Design improvement, Refactoring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астые небольшие релизы (Small releas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.Понимание, разделяемое всем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стота (Simple desig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тафора системы (System metaphor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ллективное владение кодом (Collective code ownership) или выбранными шаблонами проектирования (Collective patterns ownership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андарт кодирования (Coding standard or Coding convention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4.Социальная защищенность программиста (Programmer welfare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0-часовая рабочая неделя (Sustainable pace, Forty-hour week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Короткий цикл обратной связи (Fine-scale feedback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через тестирование (Test-driven developme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 в планирование (Planning ga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азчик всегда рядом (Whole team, Onsite custom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ое программирование (Pair programm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Непрерывный, а не пакетный процес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рывная интеграция (Continuous integr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акторинг (Design improvement, Refactor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ые небольшие релизы (Small releas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Понимание, разделяемое все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а (Simple desig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афора системы (System metapho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ое владение кодом (Collective code ownership) или выбранными шаблонами проектирования (Collective patterns ownershi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 кодирования (Coding standard or Coding conventi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Социальная защищенность программиста (Programmer welfare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-часовая рабочая неделя (Sustainable pace, Forty-hour week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2BE7-4ECB-4416-B07D-F457CBB2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F70-BDCB-4853-83E0-1AEA982A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4FE-CFDC-4221-B91B-85059865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4680-184D-4F4B-A1CA-360C2139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189-294E-41DD-A536-D586AC83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7195-DE00-4BEE-85F8-54615DCE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24D-29C9-47C4-9357-EE6D1505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185-07B4-4B17-B769-5DC2334C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8CA2-41C0-4319-AEB8-B4F5842C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9D4-8005-4990-81E7-21A6CEF3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E39-F9C7-4316-8FDF-BD0BDC30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918-DF91-40C4-B5BE-2040AE82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C3D8-2089-40D5-B550-AC7A695FA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sergeygavaga.gitbooks.io/kurs-lektsii-testirovanie-programnogo-obespecheni/content/lektsiya-1-ch3-metodologii-razrabotki-programmnogo-obespecheniya.html" TargetMode="External"/><Relationship Id="rId2" Type="http://schemas.openxmlformats.org/officeDocument/2006/relationships/hyperlink" Target="https://compress.ru/article.aspx?id=11321" TargetMode="External"/><Relationship Id="rId3" Type="http://schemas.openxmlformats.org/officeDocument/2006/relationships/hyperlink" Target="https://issoft.by/blog/podkhody-k-razrabotke-po-kak-pravilno/" TargetMode="External"/><Relationship Id="rId4" Type="http://schemas.openxmlformats.org/officeDocument/2006/relationships/hyperlink" Target="https://proglib.io/p/sdlc-modeli-kak-vybrat-pravilnyy-podhod-k-razrabotke-i-ne-zavalit-proekt-2021-05-15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ологии программного обеспеч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23-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 UNIFIED PROCESS (RU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70436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нци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онентная архитектура, реализуемая и тестируемая на ранних стадиях прое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над проектом в сплочённой команде, ключевая роль в которой принадлежит архитектор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нняя идентификация и непрерывное устранение возможных рис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я на выполнении требований заказчиков к исполняемой програм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жидание изменений в требованиях, проектных решениях и реализации в процессе разрабо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янное обеспечение качества на всех этапах разработки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йты в помощ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sergeygavaga.gitbooks.io/kurs-lektsii-testirovanie-programnogo-obespecheni/content/lektsiya-1-ch3-metodologii-razrabotki-programmnogo-obespecheniya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compress.ru/article.aspx?id=11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issoft.by/blog/podkhody-k-razrabotke-po-kak-pravilno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proglib.io/p/sdlc-modeli-kak-vybrat-pravilnyy-podhod-k-razrabotke-i-ne-zavalit-proekt-2021-05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ологии программного обеспеч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3059280" y="5870160"/>
            <a:ext cx="64008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ик § 2.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апы разрабо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ение страте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лиза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едр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ование и техническая поддер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скадная модель — переход на следующий этап означает полное завершение работ на предыдущем эта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этапная модель с промежуточным контролем — разработка ПО ведется итерациями с циклами обратной связи между этап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ральная модель — особое внимание уделяется начальным этапам разработки: выработке стратегии, анализу и проектированию, где реализуемость тех или иных технических решений проверяется и обосновывается посредством создания прототипов (макетирова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ное программирование и его клоны — наиболее популярным для данной модели стало экстремальное программирование (extreme Programming, X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кстремальное программирование (X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ткий цикл обратной связи (Fine-scale feedback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ерывный, а не пакетный процес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имание, разделяемое все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защищенность программиста (Programmer welfa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роткий цикл обратной связи (Fine-scale feedback)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через тестирование (Test-driven developme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а в планирование (Planning gam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азчик всегда рядом (Whole team, Onsite custom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ное программирование (Pair programm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прерывный, а не пакетный процесс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ерывная интеграция (Continuous integra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акторинг (Design improvement, Refactor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ые небольшие релизы (Small releas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нимание, разделяемое всем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ота (Simple desig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фора системы (System metapho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лективное владение кодом (Collective code ownership) или выбранными шаблонами проектирования (Collective patterns ownershi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дарт кодирования (Coding standard or Coding conventio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циальная защищенность программиста (Programmer welfar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-часовая рабочая неделя (Sustainable pace, Forty-hour wee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9T07:47:05Z</dcterms:created>
  <dc:creator>Acer</dc:creator>
  <dc:description/>
  <dc:language>en-US</dc:language>
  <cp:lastModifiedBy>Acer</cp:lastModifiedBy>
  <dcterms:modified xsi:type="dcterms:W3CDTF">2022-11-17T08:38:09Z</dcterms:modified>
  <cp:revision>3</cp:revision>
  <dc:subject/>
  <dc:title>Слайд 1</dc:title>
</cp:coreProperties>
</file>