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5612-84D1-4069-B2B4-B254CA30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102-F8F0-45A0-AEC6-DB8F5735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E051-7219-40F5-9BCE-DD6AA6D5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75C-227A-412D-BE3F-8D0644AA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0DE-0B2F-4BC4-8530-6E9A3D68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15CA-803B-43D4-8DC3-8F679150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B6E-F77E-4549-9DB7-FA2E837D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FA3-2CFD-4E74-951F-2734D212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042-E4CF-40EC-8FCF-32E488F4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365-E45B-4DEC-B694-FD4A32CE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4C2-0233-449F-B18B-64688D7E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D388-CAB1-49B4-A863-EE9B4380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98B4-1A50-4689-B8E6-EA45692D0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pos=1&amp;img_url=http%3A%2F%2Fvscode.ru%2Fwp-content%2Fuploads%2F2016%2F11%2FModel-prototipirovaniya.jpg&amp;text=&#1084;&#1086;&#1076;&#1077;&#1086;&#1100;+&#1087;&#1088;&#1086;&#1090;&#1086;&#1090;&#1080;&#1087;&#1080;&#1088;&#1086;&#1074;&#1072;&#1085;&#1080;&#1103;&amp;rpt=simage&amp;lr=1128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дели разработки программного обеспеч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25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дель прототип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Модель прототипирования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413000"/>
            <a:ext cx="8353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ногопроходная мод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64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волюционная 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27111" t="38391" r="22525" b="14367"/>
          <a:stretch/>
        </p:blipFill>
        <p:spPr>
          <a:xfrm>
            <a:off x="684360" y="1844640"/>
            <a:ext cx="74880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дель пошаговой разрабо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7672" t="31511" r="21413" b="29168"/>
          <a:stretch/>
        </p:blipFill>
        <p:spPr>
          <a:xfrm>
            <a:off x="250920" y="1916280"/>
            <a:ext cx="8424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равнительная 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вани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обенности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стоинства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достатки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ование страте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дели разработки программного обеспеч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484360" y="573372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бник § 2.2 -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ва 3, консп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скадная 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25367" t="30871" r="22877" b="11857"/>
          <a:stretch/>
        </p:blipFill>
        <p:spPr>
          <a:xfrm>
            <a:off x="0" y="1413000"/>
            <a:ext cx="874872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альное проект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13564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образная 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2293" t="18891" r="21562" b="14331"/>
          <a:stretch/>
        </p:blipFill>
        <p:spPr>
          <a:xfrm>
            <a:off x="250920" y="1125360"/>
            <a:ext cx="871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дель быстрой разрабо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22417" r="3044" b="8469"/>
          <a:stretch/>
        </p:blipFill>
        <p:spPr>
          <a:xfrm>
            <a:off x="0" y="1125360"/>
            <a:ext cx="8964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дель быстрой разрабо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840" t="21458" r="2930" b="6129"/>
          <a:stretch/>
        </p:blipFill>
        <p:spPr>
          <a:xfrm>
            <a:off x="611280" y="1844640"/>
            <a:ext cx="7993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-1834" t="6129" r="1073" b="0"/>
          <a:stretch/>
        </p:blipFill>
        <p:spPr>
          <a:xfrm>
            <a:off x="287280" y="0"/>
            <a:ext cx="88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иральная мод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5536" t="13756" r="12520" b="3560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крементная 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8964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7T08:38:18Z</dcterms:created>
  <dc:creator>Acer</dc:creator>
  <dc:description/>
  <dc:language>en-US</dc:language>
  <cp:lastModifiedBy>Acer</cp:lastModifiedBy>
  <dcterms:modified xsi:type="dcterms:W3CDTF">2022-11-18T08:42:22Z</dcterms:modified>
  <cp:revision>3</cp:revision>
  <dc:subject/>
  <dc:title>Слайд 1</dc:title>
</cp:coreProperties>
</file>