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E62-5F70-497C-89C3-610039AB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87C-3891-465F-9C53-8A68EC64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C60-28A8-4DE5-9B44-BF1E5DE6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9F2-E89B-4E30-BEA6-B131A1B4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364-2FB9-4871-92F5-4C8FCCC2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3C5-047E-4E23-A66E-444E036B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82B-6679-42BE-8142-8A834D0D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423-6C35-4BED-A606-68F36E60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EA5-9549-415A-88AF-858FA95A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E28-9BEB-4615-9BD3-A6FCFE36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EBB-10C8-4123-A296-7CDC00BF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D0E-799E-49D4-8AB1-04633231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29FE-BED2-4352-9A59-AC2ECD298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os=1&amp;img_url=http%3A%2F%2Fvscode.ru%2Fwp-content%2Fuploads%2F2016%2F11%2FModel-prototipirovaniya.jpg&amp;text=&#1084;&#1086;&#1076;&#1077;&#1086;&#1100;+&#1087;&#1088;&#1086;&#1090;&#1086;&#1090;&#1080;&#1087;&#1080;&#1088;&#1086;&#1074;&#1072;&#1085;&#1080;&#1103;&amp;rpt=simage&amp;lr=1128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и разработк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25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ь прототип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Модель прототипирования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13000"/>
            <a:ext cx="8353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гопроходн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64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волюцион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7111" t="38391" r="22525" b="14367"/>
          <a:stretch/>
        </p:blipFill>
        <p:spPr>
          <a:xfrm>
            <a:off x="684360" y="1844640"/>
            <a:ext cx="74880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дель пошаговой разраб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7672" t="31511" r="21413" b="29168"/>
          <a:stretch/>
        </p:blipFill>
        <p:spPr>
          <a:xfrm>
            <a:off x="250920" y="1916280"/>
            <a:ext cx="8424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бенност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тоинства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достатк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страте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и разработк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484360" y="573372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бник § 2.2 -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а 3,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скад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5367" t="30871" r="22877" b="11857"/>
          <a:stretch/>
        </p:blipFill>
        <p:spPr>
          <a:xfrm>
            <a:off x="0" y="1413000"/>
            <a:ext cx="874872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альное проек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135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образ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2293" t="18891" r="21562" b="14331"/>
          <a:stretch/>
        </p:blipFill>
        <p:spPr>
          <a:xfrm>
            <a:off x="250920" y="1125360"/>
            <a:ext cx="871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ь быстрой раз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2417" r="3044" b="8469"/>
          <a:stretch/>
        </p:blipFill>
        <p:spPr>
          <a:xfrm>
            <a:off x="0" y="1125360"/>
            <a:ext cx="896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ь быстрой раз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840" t="21458" r="2930" b="6129"/>
          <a:stretch/>
        </p:blipFill>
        <p:spPr>
          <a:xfrm>
            <a:off x="611280" y="1844640"/>
            <a:ext cx="799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-1834" t="6129" r="1073" b="0"/>
          <a:stretch/>
        </p:blipFill>
        <p:spPr>
          <a:xfrm>
            <a:off x="287280" y="0"/>
            <a:ext cx="88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ральн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5536" t="13756" r="12520" b="3560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кремент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8964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7T08:38:18Z</dcterms:created>
  <dc:creator>Acer</dc:creator>
  <dc:description/>
  <dc:language>en-US</dc:language>
  <cp:lastModifiedBy>Acer</cp:lastModifiedBy>
  <dcterms:modified xsi:type="dcterms:W3CDTF">2022-11-18T08:42:22Z</dcterms:modified>
  <cp:revision>3</cp:revision>
  <dc:subject/>
  <dc:title>Слайд 1</dc:title>
</cp:coreProperties>
</file>