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6B6C-4180-458B-85B6-0547B17CA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6D89-1B74-42DA-87B4-636666841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D4B4-1E7D-4384-B82A-E15FC006D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0E15-BCB4-473F-B758-A1E318B93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80D3-79A1-432A-BE0E-90025DA48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F0C9-DE05-4C40-B744-829D28976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7AB9-4352-4860-8755-C17332A52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3DCE-EE95-43B0-BB8D-DA3207500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A961-250B-4BA7-920F-AB9692B70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A804-26EF-49C3-887A-578D34F8F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5D09-250A-4CE9-924F-30F1ED9E0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D274-2E47-4A9A-8FA5-1952EC1BC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5720B-0C8C-4B1F-8DCD-580C2EBC67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цессы жизненного цикл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432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рок 3-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оцессы жизненного цикла программного обеспе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395280" y="1782720"/>
            <a:ext cx="8353440" cy="4589640"/>
            <a:chOff x="395280" y="1782720"/>
            <a:chExt cx="8353440" cy="4589640"/>
          </a:xfrm>
        </p:grpSpPr>
        <p:pic>
          <p:nvPicPr>
            <p:cNvPr id="45" name="" descr=""/>
            <p:cNvPicPr/>
            <p:nvPr/>
          </p:nvPicPr>
          <p:blipFill>
            <a:blip r:embed="rId1"/>
            <a:srcRect l="33063" t="30871" r="27816" b="21396"/>
            <a:stretch/>
          </p:blipFill>
          <p:spPr>
            <a:xfrm>
              <a:off x="395280" y="1782720"/>
              <a:ext cx="8353440" cy="458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 txBox="1"/>
            <p:nvPr/>
          </p:nvSpPr>
          <p:spPr>
            <a:xfrm>
              <a:off x="395280" y="1782720"/>
              <a:ext cx="8353440" cy="4589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 algn="ctr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сновные процессы жизненного цик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обрете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став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работ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ксплуатац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провожд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спомогательные процессы жизненного цикл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кументирова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правление конфигураци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еспечение качеств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рификац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ттестац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вместная оцен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уд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решение пробл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рганизационные процес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правле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овершенствова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здание инфраструктур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уч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цессы жизненного цикл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43200" y="5876640"/>
            <a:ext cx="64008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ебник § 1..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1-02T08:19:30Z</dcterms:created>
  <dc:creator>Acer</dc:creator>
  <dc:description/>
  <dc:language>en-US</dc:language>
  <cp:lastModifiedBy>Acer</cp:lastModifiedBy>
  <dcterms:modified xsi:type="dcterms:W3CDTF">2022-11-02T08:34:05Z</dcterms:modified>
  <cp:revision>2</cp:revision>
  <dc:subject/>
  <dc:title>Процессы жизненного цикла </dc:title>
</cp:coreProperties>
</file>