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12D-A9C1-4392-B47C-A25B2F06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ABC-71D4-4E73-B23A-3A336C6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9F3-AF0C-4E8B-B0C9-95C3EB57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EA8-40D0-4952-BC19-F6726229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911-E54C-4B1B-9C02-28D74550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D09-1936-4BDC-8BED-EF86FC6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849-9B44-44C6-9EA3-57A79017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DAE-39BD-43C8-AEA0-D83B385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D2A-4AAA-4277-90CC-841B08D0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C0A-C9CC-4636-9346-6CE5299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B5F-5B99-43E9-A9DA-1656E37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54E-A139-4825-9F40-177BF1B5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92D2-23FA-43E2-85E6-4B09566D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ы жизненного цик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ы жизненного цикла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5280" y="1782720"/>
            <a:ext cx="8353440" cy="4589640"/>
            <a:chOff x="395280" y="1782720"/>
            <a:chExt cx="8353440" cy="4589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33063" t="30871" r="27816" b="21396"/>
            <a:stretch/>
          </p:blipFill>
          <p:spPr>
            <a:xfrm>
              <a:off x="395280" y="1782720"/>
              <a:ext cx="835344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395280" y="1782720"/>
              <a:ext cx="8353440" cy="458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роцессы жизненного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луат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рово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помогательные процессы жизненного цик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нфигур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кач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иф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тест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ая оц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ешение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он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овершенств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инфраструк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ы жизненного цик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587664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1.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19:30Z</dcterms:created>
  <dc:creator>Acer</dc:creator>
  <dc:description/>
  <dc:language>en-US</dc:language>
  <cp:lastModifiedBy>Acer</cp:lastModifiedBy>
  <dcterms:modified xsi:type="dcterms:W3CDTF">2022-11-02T08:34:05Z</dcterms:modified>
  <cp:revision>2</cp:revision>
  <dc:subject/>
  <dc:title>Процессы жизненного цикла </dc:title>
</cp:coreProperties>
</file>