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8A8-A0B2-4DAA-965F-7D2B75D0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F3C-0369-4E43-A129-E866556E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997-801C-4DDE-B52C-5E8C924C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F9A-1FB0-4668-A8F9-A48E3D46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CDA-96DE-46B3-9D05-AFEFFE6F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CD2-A548-440B-84AE-B5C43C12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B68-060F-43A8-B388-81F7EF6E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597-8386-44FA-91E2-09E5DF3C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04D-1123-40C6-BB63-EF3D2578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4BE-3BFE-4556-9136-92B87EEE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442-522F-4B4F-B1D5-F12BB45B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E64-7252-4760-9F8F-DC0A27E4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8F70-699C-42CD-B194-F190929B3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7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3-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ь быстрой разраб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22417" r="3044" b="8469"/>
          <a:stretch/>
        </p:blipFill>
        <p:spPr>
          <a:xfrm>
            <a:off x="0" y="1125360"/>
            <a:ext cx="896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кремент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8964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ое занятие № 7 Создание моделей разработки программного обеспе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33-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8T10:13:40Z</dcterms:created>
  <dc:creator>Acer</dc:creator>
  <dc:description/>
  <dc:language>en-US</dc:language>
  <cp:lastModifiedBy>Acer</cp:lastModifiedBy>
  <dcterms:modified xsi:type="dcterms:W3CDTF">2022-11-18T10:14:24Z</dcterms:modified>
  <cp:revision>1</cp:revision>
  <dc:subject/>
  <dc:title>Практическое занятие № 7 Создание моделей разработки программного обеспечения </dc:title>
</cp:coreProperties>
</file>