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1D6-A549-4EF1-9CCE-F99B9B21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924-BFE9-4C47-9AC4-CFD38BC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E96-93C2-4171-B559-FC4FFCE1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B08-78F4-44C1-8766-031E87C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2C2-6A13-4253-8F18-452EB5AD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647-5AD7-4980-92BB-ED193DE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FED-2080-46EC-9262-6FB61DDB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11F-471B-462C-B8E4-2CC43458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E02-290E-40E8-9617-7523161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89E-6234-44D8-A6AD-03E4EAA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5EF-CBBB-4E94-B8C1-ECB93003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94D-B121-4ABF-938F-BEC60B9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423-8674-483A-B119-6C63CAE4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7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3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быстрой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22417" r="3044" b="8469"/>
          <a:stretch/>
        </p:blipFill>
        <p:spPr>
          <a:xfrm>
            <a:off x="0" y="1125360"/>
            <a:ext cx="896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кремент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7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3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13:40Z</dcterms:created>
  <dc:creator>Acer</dc:creator>
  <dc:description/>
  <dc:language>en-US</dc:language>
  <cp:lastModifiedBy>Acer</cp:lastModifiedBy>
  <dcterms:modified xsi:type="dcterms:W3CDTF">2022-11-18T10:14:24Z</dcterms:modified>
  <cp:revision>1</cp:revision>
  <dc:subject/>
  <dc:title>Практическое занятие № 7 Создание моделей разработки программного обеспечения </dc:title>
</cp:coreProperties>
</file>