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75F-96FC-4476-B4E5-19A36849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E28-B63D-487C-BEAF-2DE64423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8B5-7FCE-4020-8164-86474A33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181-1A87-4CFA-B2DB-B66975AC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B73-DAB9-42D5-8B4A-702011F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A7D-4C60-46A4-A7A8-2549CD09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DAB-283D-478B-8D23-B573A233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CCA-EAF2-4F43-B1A2-7E733507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58C-BF61-4C4A-8868-ED103328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97D-02DE-49F1-A694-C722E8AE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165-6720-4A28-ABD2-A29875A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7E4-4408-4405-89FB-84AF69E1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D092-F552-49C5-8477-EBAD01B0F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os=1&amp;img_url=http%3A%2F%2Fvscode.ru%2Fwp-content%2Fuploads%2F2016%2F11%2FModel-prototipirovaniya.jpg&amp;text=&#1084;&#1086;&#1076;&#1077;&#1086;&#1100;+&#1087;&#1088;&#1086;&#1090;&#1086;&#1090;&#1080;&#1087;&#1080;&#1088;&#1086;&#1074;&#1072;&#1085;&#1080;&#1103;&amp;rpt=simage&amp;lr=1128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8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5-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прототип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Модель прототипирования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13000"/>
            <a:ext cx="8353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волюцион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7111" t="38391" r="22525" b="14367"/>
          <a:stretch/>
        </p:blipFill>
        <p:spPr>
          <a:xfrm>
            <a:off x="684360" y="1844640"/>
            <a:ext cx="74880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8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5-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8T10:17:46Z</dcterms:created>
  <dc:creator>Acer</dc:creator>
  <dc:description/>
  <dc:language>en-US</dc:language>
  <cp:lastModifiedBy>Acer</cp:lastModifiedBy>
  <dcterms:modified xsi:type="dcterms:W3CDTF">2022-11-18T10:18:04Z</dcterms:modified>
  <cp:revision>1</cp:revision>
  <dc:subject/>
  <dc:title>Практическое занятие № 8 Создание моделей разработки программного обеспечения </dc:title>
</cp:coreProperties>
</file>