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6D5-4328-4EEE-A221-3598011C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5AB-BC9F-4FBA-8485-7FDEF401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883-FA0D-4924-AC33-12038577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B2A-79D9-4058-8CAB-99E3B726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2FE-636A-436F-BF85-5FA0E27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E42-A550-4D79-8838-BA78C1E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524-1525-4195-92DD-2514A6B3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A76-66BB-49D2-A444-80338783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DFB-4A77-4D20-9A5A-9986D95C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34F-B584-4858-8493-9020EBD3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990-2214-481C-8288-8D075AC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C04-602F-40DF-9359-2E133DF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290-D40B-44C1-9C1F-4781B6780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os=1&amp;img_url=http%3A%2F%2Fvscode.ru%2Fwp-content%2Fuploads%2F2016%2F11%2FModel-prototipirovaniya.jpg&amp;text=&#1084;&#1086;&#1076;&#1077;&#1086;&#1100;+&#1087;&#1088;&#1086;&#1090;&#1086;&#1090;&#1080;&#1087;&#1080;&#1088;&#1086;&#1074;&#1072;&#1085;&#1080;&#1103;&amp;rpt=simage&amp;lr=112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8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5-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прототип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Модель прототипирован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8353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волюцион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7111" t="38391" r="22525" b="14367"/>
          <a:stretch/>
        </p:blipFill>
        <p:spPr>
          <a:xfrm>
            <a:off x="684360" y="1844640"/>
            <a:ext cx="7488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8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5-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7:46Z</dcterms:created>
  <dc:creator>Acer</dc:creator>
  <dc:description/>
  <dc:language>en-US</dc:language>
  <cp:lastModifiedBy>Acer</cp:lastModifiedBy>
  <dcterms:modified xsi:type="dcterms:W3CDTF">2022-11-18T10:18:04Z</dcterms:modified>
  <cp:revision>1</cp:revision>
  <dc:subject/>
  <dc:title>Практическое занятие № 8 Создание моделей разработки программного обеспечения </dc:title>
</cp:coreProperties>
</file>