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A54D-DBC8-4FA6-B1CC-029AF8FD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E3D-0A8F-4091-807E-0CABD9BD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291F-32BE-4859-A9D6-F017CBAA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C98-AD38-41F9-94C8-991238F4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20C-1B90-429C-914C-3AF0646E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7F0-D009-4B15-B397-6A53A735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C3A-EC71-48E7-9601-F8C78F5F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D8C-2BBF-423A-9F74-52AD9AA8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D6F-4841-4ED7-ADDD-8983C3AC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0F0-648A-424C-B8F8-712E2BA9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43B-BED0-4243-9A18-4A7CC25F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F68-B136-4765-ABC7-541646D8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07A1-06FF-42EC-9172-319FD99C3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ое занятие № 9 Создание моделей разработки программного обеспеч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37-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ногопроходная мод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64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дель пошаговой разрабо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7672" t="31511" r="21413" b="29168"/>
          <a:stretch/>
        </p:blipFill>
        <p:spPr>
          <a:xfrm>
            <a:off x="250920" y="1916280"/>
            <a:ext cx="8424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ое занятие № 9 Создание моделей разработки программного обеспеч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37-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8T10:19:27Z</dcterms:created>
  <dc:creator>Acer</dc:creator>
  <dc:description/>
  <dc:language>en-US</dc:language>
  <cp:lastModifiedBy>Acer</cp:lastModifiedBy>
  <dcterms:modified xsi:type="dcterms:W3CDTF">2022-11-18T10:20:09Z</dcterms:modified>
  <cp:revision>1</cp:revision>
  <dc:subject/>
  <dc:title>Практическое занятие № 9 Создание моделей разработки программного обеспечения </dc:title>
</cp:coreProperties>
</file>