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33D1-B819-4977-8367-927AC7735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1035-3389-42CE-854C-4513C163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0740-34D0-41AE-86BB-8D8FD4A13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5869-61BF-4F29-B57D-0E6203AA3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03D3-A863-45AC-BBAA-7EBEA805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8597-9C4B-4A9F-89E3-49BE2BA1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94C5-1B8F-4719-AC4E-69BB5A0C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900C-9A32-49FF-9B35-B22F3680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AF0D-49C4-4B3B-BB5C-CD6FB8A1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7DBC-BC65-4D30-9AC4-0E29F4F0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A10B-E868-42BC-A4EC-887CB674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CB19-2B2B-40F0-A6C8-F877B8AB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2ABC-22AF-48CB-AACC-B85CD3B78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ктическое занятие № 9 Создание моделей разработки программного обеспеч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37-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ногопроходная мод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89647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дель пошаговой разрабо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27672" t="31511" r="21413" b="29168"/>
          <a:stretch/>
        </p:blipFill>
        <p:spPr>
          <a:xfrm>
            <a:off x="250920" y="1916280"/>
            <a:ext cx="8424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ктическое занятие № 9 Создание моделей разработки программного обеспеч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37-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18T10:19:27Z</dcterms:created>
  <dc:creator>Acer</dc:creator>
  <dc:description/>
  <dc:language>en-US</dc:language>
  <cp:lastModifiedBy>Acer</cp:lastModifiedBy>
  <dcterms:modified xsi:type="dcterms:W3CDTF">2022-11-18T10:20:09Z</dcterms:modified>
  <cp:revision>1</cp:revision>
  <dc:subject/>
  <dc:title>Практическое занятие № 9 Создание моделей разработки программного обеспечения </dc:title>
</cp:coreProperties>
</file>