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BC8C-C913-4D5A-BC4A-ABD23350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594B-9D8E-43C6-B838-65707FBD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149D-0CC8-4D03-B6CA-B711696B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BF4D-311B-4832-A3A3-2A8BA1D2B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3302-DAA9-45A7-9E8F-025AA41B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C5D-7323-4A56-B041-F4C083E7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DFF1-8B27-40C3-B835-E02E6197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28D7-A5FA-4D41-8DD1-E64DEF1C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238-7139-44DB-8950-17CC6ACE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0947-D2AD-41DF-B7B7-CEE9EC96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6EDA-35D2-460A-A4E5-9D63986D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B3F1-A1EB-4821-A622-9EEC6408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DC47-AA62-4069-B934-909EF4AAE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ктическое занятие № 10  Создание моделей разработки программного обеспеч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39-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иральная мод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5536" t="13756" r="12520" b="3560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ктическое занятие № 10  Создание моделей разработки программного обеспеч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39-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8T10:21:26Z</dcterms:created>
  <dc:creator>Acer</dc:creator>
  <dc:description/>
  <dc:language>en-US</dc:language>
  <cp:lastModifiedBy>Acer</cp:lastModifiedBy>
  <dcterms:modified xsi:type="dcterms:W3CDTF">2022-11-18T10:21:49Z</dcterms:modified>
  <cp:revision>1</cp:revision>
  <dc:subject/>
  <dc:title>Практическое занятие № 10  Создание моделей разработки программного обеспечения </dc:title>
</cp:coreProperties>
</file>