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2FC1-4C85-4418-A111-A93DCE112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4716-A775-477D-856E-4B953928B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A5F0-BA78-48D0-B417-366EEAA15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FAA1-8E2F-4D69-BA92-0D8D0596A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6C17-8B0B-433C-9071-050D5CBA7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A4B6-36C4-426A-845B-FE5693EA9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B519-F79A-43EA-95F4-F32D95357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0859-9F0E-4B86-B484-92BB96D85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7579-8D2C-4F63-AB71-24CDA8F14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0D8E-8103-4BEF-A85B-7E4B66B13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1CD7-F5C9-4462-BFA9-292EBC2FE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FFB0-5B4E-44A0-8B07-A7B8B2C1D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A4DD1-E85A-467D-B624-ADB86D1061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рактическое занятие № 10  Создание моделей разработки программного обеспечени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рок 39-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18864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пиральная модел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rcRect l="5536" t="13756" r="12520" b="3560"/>
          <a:stretch/>
        </p:blipFill>
        <p:spPr>
          <a:xfrm>
            <a:off x="0" y="692280"/>
            <a:ext cx="9144000" cy="61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рактическое занятие № 10  Создание моделей разработки программного обеспечени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рок 39-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11-18T10:21:26Z</dcterms:created>
  <dc:creator>Acer</dc:creator>
  <dc:description/>
  <dc:language>en-US</dc:language>
  <cp:lastModifiedBy>Acer</cp:lastModifiedBy>
  <dcterms:modified xsi:type="dcterms:W3CDTF">2022-11-18T10:21:49Z</dcterms:modified>
  <cp:revision>1</cp:revision>
  <dc:subject/>
  <dc:title>Практическое занятие № 10  Создание моделей разработки программного обеспечения </dc:title>
</cp:coreProperties>
</file>