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173-2DBF-442B-93D8-BBD16CD0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647-055F-48C1-812D-2B7CF283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324-B3B0-41F0-8B4B-8D78C62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738-DB09-4C5E-A4D1-2B1BE9FA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FA4-5749-4D4A-8E69-6A991AB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5EB-21D5-42B1-A00D-99DE1787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E6F-683A-41AF-84D5-77ADEB7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288-B345-451D-BACA-954A8E6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FEC-54F9-4406-9F17-CEC5033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33C-CBE8-4CB5-9456-DD7B83C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249-3E2A-4EAC-8E2E-DD0532C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55A-E6CA-416A-AC9E-AD21FBC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B29-EADF-419C-9668-3BADF29D1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 и концеп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 и концеп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7432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§ 2.1-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проект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оформления проектной докум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ндарт пользовательского интерф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проектир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необходимых моделей на каждой стадии проектирования и степень их детал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иксации проектных решений, в том числе правила именования объектов (включая соглашения по терминологии), набор атрибутов для всех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онфигурации рабочих мест разработчиков, включая настройки средств отладки, общие настройки проекта 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обеспечения совместной работы над проектом, в том числе правила интеграции подсистем проекта, правила поддержания проекта в одинаковом для всех разработчиков состоянии (регламент обмена проектной информацией, механизм фиксации общих объектов и т. д.), правила проверки проектных решений на непротиворечивость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оформ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роектной документации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тность, состав и структуру документации на каждой стадии проек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ования к ее оформлению (включая требования к содержанию разделов, подразделов, пунктов, таблиц и т. 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 подготовки, рассмотрения, согласования и утверждения документации с указанием предельных сроков для каждой ста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ования к настройке издательской системы, если используются встроенные автоматизированные средства подготовки докум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тандарт интерфейса пользова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лжен устанавл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формления элементов отображения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использования элементов управления (клавиатур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формления сообщений и их переч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обработки реакции польз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тегии разработки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жизненного цикла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кад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скад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кремент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ьность требований в течение ЖЦ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ость только одного прохода этапов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ата планирования, контроля и управления проек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упность для понимания заказч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достатки 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ность формулирования требований в начале процесса разрабо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ность струк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промежуточных продук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очное участие пользователя в процессе раз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и недост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кремент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ая стратегия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тавить сравнительную таблицу стратегий разработки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43:51Z</dcterms:created>
  <dc:creator>Acer</dc:creator>
  <dc:description/>
  <dc:language>en-US</dc:language>
  <cp:lastModifiedBy>Acer</cp:lastModifiedBy>
  <dcterms:modified xsi:type="dcterms:W3CDTF">2022-11-07T07:24:51Z</dcterms:modified>
  <cp:revision>5</cp:revision>
  <dc:subject/>
  <dc:title>Стандарты и концепции </dc:title>
</cp:coreProperties>
</file>