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19A7-CCAC-4B65-84D8-341D2583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5EC8-0F0D-4653-A142-450025C3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D669-1D4D-492C-801A-EC962B95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8E36-E3D1-40D5-894C-909B49DF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4840-57EC-4BF7-B26A-504D0CC5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DBA4-CD67-466E-9809-F0C130CA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3472-1066-4A83-B0F3-CE6507AC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927-A4F4-4BFC-ADDF-4F99EC7C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6E41-7131-4B18-B783-3CD0C611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0E91-F249-4D71-AE55-66E36FA9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BE41-92D5-42BF-9BD8-D4E8C6B2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E8F7-0B9E-476F-A6D9-1B9E21F4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984A-F01A-4267-BEFC-A3310B6B8F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андарты и концепц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5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андарты и концепц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74320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ик § 2.1-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сп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андар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ндарт проектир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ндарт оформления проектной документ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ндарт пользовательского интерфей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Стандарт проектирова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должен устанавлив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ор необходимых моделей на каждой стадии проектирования и степень их детализ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фиксации проектных решений, в том числе правила именования объектов (включая соглашения по терминологии), набор атрибутов для всех объек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конфигурации рабочих мест разработчиков, включая настройки средств отладки, общие настройки проекта и т. д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 обеспечения совместной работы над проектом, в том числе правила интеграции подсистем проекта, правила поддержания проекта в одинаковом для всех разработчиков состоянии (регламент обмена проектной информацией, механизм фиксации общих объектов и т. д.), правила проверки проектных решений на непротиворечивость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Стандарт оформл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проектной документации должен устанавлив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лектность, состав и структуру документации на каждой стадии проект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ебования к ее оформлению (включая требования к содержанию разделов, подразделов, пунктов, таблиц и т. 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ила подготовки, рассмотрения, согласования и утверждения документации с указанием предельных сроков для каждой стад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ебования к настройке издательской системы, если используются встроенные автоматизированные средства подготовки докумен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Стандарт интерфейса пользовател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должен устанавлив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а оформления элементов отображения дан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а использования элементов управления (клавиатуры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а оформления сообщений и их перече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а обработки реакции пользова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атегии разработки программного обеспе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ь жизненного цикла 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скадная стратегия разработки 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аскадная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ная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крементная стратегия разработки 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волюционная стратегия разработки 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стоинства К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бильность требований в течение ЖЦ разработ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обходимость только одного прохода этапов разработ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стата планирования, контроля и управления проек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ступность для понимания заказч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достатки К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жность формулирования требований в начале процесса разработ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нейность структу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сутствие промежуточных продук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достаточное участие пользователя в процессе разрабо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стоинства и недоста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крементная стратегия разработки 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волюционная стратегия разработки 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оставить сравнительную таблицу стратегий разработки 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2T08:43:51Z</dcterms:created>
  <dc:creator>Acer</dc:creator>
  <dc:description/>
  <dc:language>en-US</dc:language>
  <cp:lastModifiedBy>Acer</cp:lastModifiedBy>
  <dcterms:modified xsi:type="dcterms:W3CDTF">2022-11-07T07:24:51Z</dcterms:modified>
  <cp:revision>5</cp:revision>
  <dc:subject/>
  <dc:title>Стандарты и концепции </dc:title>
</cp:coreProperties>
</file>