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C4AD-B40B-4DFA-A150-6AF430B6E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ормулировка задач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бычно на профессиональном языке). На этом этапе осуществляется четкая формулировка задачи, выделение исходных данных для ее решения и точные указания относительно того, какие результаты и в каком виде должна давать программ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ходные и выходные данные программы и их связи определяют ее спецификацию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пецификацие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зывается полное описание требований к исходной программе для конкретного типа ЭВМ. В спецификации учитываются ограничения на представление данных и связи с другими программными модулями. Различают внешние и внутренние спецификаци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нешние специфика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ображают результаты разработки требований к программе, а также содержат все сведения, необходимые вызывающим данную программу модулям. Внешние спецификации ПО должны содержать следующее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мя программы и имена всех точек вход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, выполняемые программой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исло и порядок параметров, передаваемых программе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ение формата, размеров, атрибутов всех входных и выходных параметров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исание всех внешних для программы событий, происходящих при ее работ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роцессе разработки программы часто выполняют несколько итераций составления спецификаций и проектирования. Это может потребоваться в том случае, когда вскрываются неопределенности, противоречия или другие недостатки внешних спецификаций. К предыдущим этапам возвращаются, чтобы внести уточнения и дополнения, которые возникают по мере разработки програм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 как программа в соответствии с внешней спецификацией будет спроектирована в виде набора связанных модулей, каждый из них и все его связи с другими должны быть описаны с помощью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нутренних специфик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Затем проектируется каждый модуль в отдельности. Разбиение программ на модули может иллюстрироваться и документироваться схемой – алгоритмом, который показывает взаимосвязи между ни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едпроектные исследования предметной области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ью предпроектных исследований является преобразование общих нечетких знаний о предназначении будущего программного обеспечения в сравнительно точные требования к нем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уют два варианта неопределенност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известны методы решения формулируемой задачи – такого типа не определенности обычно возникают при решении научно-технических задач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известна структура автоматизируемых информационных процессов – обычно встречается при построении автоматизированных систем управления предприятия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ервом случае во время предпроектных исследований определяют возможность решения поставленной задачи и методы, позволяющие получить требуемый результат, что может потребовать соответствующих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аучных исследовани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фундаментального, так и прикладного характера, разработки и исследования новых моделей объектов реального мир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втором случае определяю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у и взаимосвязи автоматизируемых информационных процессов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пределение функций между человеком и системой, а также между аппаратурой и программным обеспечением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 программного обеспечения; внешние условия его функционирования и особенности его интерфейсов, как с пользователями, так и при необходимости – с аппаратной частью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программным и информационным компонентам, необходимые аппаратные ресурсы, требования к базам данных и физические характеристики программных компонен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зультаты предпроектных исследований предметной области используют в процессе разработки технического зад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работка технического задания.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Техническое зада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яет собой документ, в котором сформулированы основные цели разработки, требования к программному продукту, определены сроки и этапы разработки и регламентирован процесс приемно-сдаточных испытаний. В разработке технического задания участвуют как представители заказчика, так и представители исполнителя. В основе этого документа лежат исходные требования заказчика, анализ передовых достижений техники, результаты выполнения научно-исследовательских работ, предпроектных исследований, научного прогнозирования и т. п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акторами, определяющими характеристики разрабатываемого программного обеспечения, являю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ходные данные и требуемые результаты, которые определяют функции программы или систем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реда функционирования (программная и аппаратная) – может быть задана, а может выбираться для обеспечения параметров, указанных в техническом задан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зможное взаимодействие с другим программным обеспечениеми/или специальными техническими средствами – также может быть определено, а может выбираться исходя из набора выполняемых функц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работка технического задания выполняется в следующей последовательности. Прежде всего, устанавливают набор выполняемых функций, а также перечень и характеристики исходных данных. Затем определяют перечень результатов, их характеристики и способы предст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ее уточняют среду функционирования программного обеспечения: конкретную комплектацию и параметры технических средств, версию используемой операционной системы и, возможно, версии и параметры другого установленного программного обеспечения, с которым предстоит взаимодействовать будущему программному продукт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случаях, когда разрабатываемое программное обеспечение собирает и хранит некоторую информацию или включается в управление каким-либо техническим процессом, необходимо также четко регламентировать действия программы в случае сбоев оборудования и энергоснаб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техническое задание существует стандарт ГОСТ 19.201-78 «Техническое задание. Требования к содержанию и оформлению». В соответствии с этим стандартом техническое задание должно содержать следующие раздел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ение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нования для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значение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программе или программному изделию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программной документац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хнико-экономические показател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дии и этапы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рядок контроля и прием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бор метода решения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от этап определяется решаемой задачей и требованиями, предъявляемыми к программе (по быстродействию, требуемой памяти, точности вычислений, наличию стандартных программ и т. п.). Выполнение работ на этом этапе требует определенного кругозора как в области программирования, так и в области используемых методов. Для простых задач метод решения очевиден. В ряде случаев формальная постановка задачи однозначно определяет метод ее решения, но, как правило, методов решения существует несколько, и тогда для выбора метода решения может потребоваться специальное исследование. При выборе метода учитываю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обенности данных конкретной задачи, связанные с предметной областью (погрешность, возможные особые случаи и т. п.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бования к результатам (допустимую погрешность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арактеристики метода (точный или приближенный, погрешности результатов, вычислительную и емкостную сложности, сложность реализации и т. п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начальных этапах процесса проектирования должны быть приняты принципиальные решения, во многом определяющие этот процесс, а также качество и трудоемкость разработки. К таким решениям относя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архитектуры программного обеспеч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типа пользовательского интерфейса и технологии работы с документ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метода разработ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языка и среды программиров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ми словами, эти решения определяют, что проектируется, с какими потребительскими характеристиками, как и какими средств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иды архитектур уже рассматривались выш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ип пользовательского интерфейса во многом определяет сложность и трудоемкость разработки. По последним данным до 80 % программного кода может реализовывать именно пользовательский интерфейс. Виды пользовательского интерфейса будут рассмотрены отдельн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большинстве случаев никакой проблемы выбора языка программирования реально не существует. Язык может быть определен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рганизацией, ведущей разработку; например, если фирма владеет лицензионным вариантом C++ Builder, то она будет вести разработки преимущественно в данной среде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граммистом, который по возможности всегда будет использовать хорошо знакомый язык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оявшимся мнением («все разработки подобного рода должны выполняться на C++ или на Java или на ...») и т. п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же все-таки выбор языка реально возможен, то нужно иметь в виду, что все существующие языки программирования можно разделить на следующие групп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альные языки высокого уровн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ециализированные языки разработчика программного обеспеч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ециализированные языки пользовател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зыки низкого уровн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редой программирования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зывают программный комплекс, который включает специализированный текстовый редактор, встроенные компилятор, компоновщик, отладчик, справочную систему и другие программы, использование которых упрощает процесс написания и отладки програм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ее время широкое распространение получили упоминавшиеся выше среды визуального программирования, в которых программист получает возможность визуального подключения к программе некоторых кодов из специальных библиотек компонентов, что стало возможным с развитием объектно-ориентированного программиров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иболее часто используемыми являются визуальные среды Delphi, C++ Builder фирмы Borland (Inprise Corporation), Visual C++, Visual Basic фирмы Microsoft, Visual Ada фирмы IBM и др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альное применение любой технологии проектирования требует формирования или выбора ряда стандартов, которые должны соблюдаться всеми участниками проек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 проектирова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 оформления проектной документац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 интерфейса пользовател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ормальная постановка задач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Задача может быть представлена в виде уравнений, соотношений, ограничений и т. д. При этом она представляется математической моделью. Некоторые задачи, решаемые в настоящее время на ЭВМ, не допускают и не требуют математической постановки (например, задачи обработки текстов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построения математической такой модели включа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нализ условия задач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ор математических абстракций,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декватно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т. е. с требуемой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очностью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лното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яющих исходные данные и результат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рмальную постановку задач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ение метода преобразования исходных данных в результат, т. е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етода решения задач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многих задач, которые часто встречаются на практике, в математике определены как модели, так и методы решения. К таким задачам, например, относится большинство задач аналитической геометрии на плоскости и в пространстве, задачи моделирования дискретных систем и т. 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новная проблема в подобных случаях –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боснование применимост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й или иной математической модели для решения конкретной задач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работка структурной и функциональной схем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проектирования сложного программного обеспечения начинают с уточнения его структуры, т. е. определения структурных компонентов и связей между ними. Результат уточнения структуры может быть представлен в виде структурной и/или функциональной схем и описания (спецификаций) компонент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руктурно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зывают схему, отражающую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остав и взаимодействие по управлению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астей разрабатываемого программного обеспеч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ональная схема или схема данных (ГОСТ 19.701-90) – схема взаимодействия компонентов программного обеспечения с описанием информационных потоков, состава данных в потоках и указанием используемых файлов и устройств. Функциональные схемы, более информативны, чем структурные. Для изображения функциональных схем используют специальные обозначения, установленные стандартом. Основные обозначения схем данных по ГОСТ 19.701-90 приведены в табл. 5.1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 компоненты структурных и функциональных схем должны быть описаны. При структурном подходе особенно тщательно необходимо прорабатывать спецификации межпрограммных интерфейсов, так как от качества их описания зависит количество самых дорогостоящих ошибок. К самым дорогим относятся ошибки, обнаруживаемые при комплексном тестировании, так как для их устранения могут потребоваться серьезные изменения уже отлаженных текст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работка алгорит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зывается система правил, четко описывающая последовательность действий, которые следует выполнять для решения задачи. При разработке алгоритма необходимо формализовать процесс решения задачи – свести его к применению конечной последовательности достаточно простых прави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выборе алгоритма нужно рассмотреть несколько вариантов получения конечного результата и выбрать лучший из них. Для решения сложной задачи следует использовать метод пошаговой детализации, следя за тем, чтобы на каждом шаге структура алгоритма оставалась простой и ясной; для отдельных фрагментов (блоков) алгоритма следует максимально использовать стандартные программы и разработанные ранее типовые алгоритм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горитмы большой сложности обычно представляются с помощью схем двух видов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общенной схемы алгоритма – раскрывает общий принцип функционирования алгоритма и основные логические связи между отдельными модулями на уровне обработки информации (ввод и редактирование данных, вычисления, печать результатов и т. п.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тальной схемы алгоритма – представляет содержание каждого элемента обобщенной схе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ектирование структур данных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 выбора формы и порядка представления данных зависит способ их обработки. Этим объясняется тесная взаимосвязь двух последних этапов, когда изменения в одном тут же отражаются на другом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здание любой программы всегда подчиняется известной формуле: ПРОГРАММА = АЛГОРИТМ + СТРУКТУРА ДАННЫХ. После того как обозначены структура и алгоритм программы, необходимо определить состав и формат переменных и констант, с которыми она будет работат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этом этапе всем переменным рекомендуется присвоить символьные имена. Символьные имена чаще всего представляют легко запоминаемую аббревиатуру, которая ассоциируется с функциональным назначением переменной, поэтому их использование при написании программы повысит ее читабельность. Символьные имена переменных и символьные имена меток могут использоваться при документировании алгоритма, что позволит выполняемые функции и действия отражать кратко и четк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 проектированием структур данных понимают разработку их представлений в памяти. Основными параметрами, которые необходимо учитывать при проектировании структур данных, являю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ид хранимой информации каждого элемента данны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язи элементов данных и вложенных структур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ремя хранения данных структуры («время жизни»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вокупность операции над элементами данных, вложенными структурами и структурами в цел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ид хранимой информаци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яет тип соответствующего поля памяти. В качестве элементов данных в зависимости от используемого языка программирования могут рассматривать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ые и вещественные числа различных форматов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имвол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левские значения: true и fals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 также некоторые структурные типы данных, например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о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с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ециально объявленные класс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этом для числовых полей очень важно правильно определить диапазон возможных значений, а для строковых данных – максимально возможную длину стро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вязи элементов и вложенных структур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также их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стойчивость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овокупность операци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д элементами и вложенными структурами определяют структуры памяти, используемые для представления данных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ремя жизни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ывают при размещении данных в статической или динамической памяти, а также во внешней памя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мотрим существующие варианты внутреннего представления данных, их элементов и связей между ними более подробн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личают две базовые структуры организации данных в оперативной памяти: векторную и спискову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екторная структура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яет собой последовательность байт памяти, которые используются для размещения полей данных (рис. 5.14). Последовательное размещение организованных структур данных позволяет осуществлять прямой доступ к элементам: по индексу (совокупности индексов) – в массивах или строках или по имени поля – в записях или объект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нако выполнение операций добавления и удаления элементов при использовании векторных структур для размещения элементов массивов может потребовать осуществления многократных сдвигов элемент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ы данных в векторном представлении можно размещать как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ическо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инамической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амяти. Расположение векторных представлений в динамической памяти иногда позволяет существенно увеличить эффективность использования оперативной памя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Желательно размещать в динамической памяти временные структуры, хранящие промежуточные результаты, и структуры, размер которых сильно зависит от вводимых исходных данны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писковые структур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оят из специальных элементов, включающих помимо информационной части еще и один или несколько указателей-адресов элементов или вложенных структур, связанных с данным элементом. Размещая подобные элементы в динамической памяти можно организовывать различные внутренние структуры (рис. 5.15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нако при использовании списковых структур следует помнить, что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хранения указателей необходима дополнительная память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информации в линейных списках осуществляется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следовательно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потому требует больше времен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троение списков и выполнение операций над элементами данных, хранящимися в списках, требует более высокой квалификации программистов, более трудоемко, а соответствующие подпрограммы содержат больше ошибок и, следовательно, требуют более тщательного тестирова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ычно векторное представление используют для хранения статических множеств, таблиц (одномерных и многомерных), например, матриц, строк, записей, а также графов, представленных матрицей смежности, матрицей инцидентности или аналитически. Списковое представление удобно для хранения динамических (изменяемых) структур и структур со сложными связя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наиболее ответственных случаях при выборе внутреннего представления целесообразно определять вычислительную сложность выполнения наиболее часто встречающихся операций со структурой данных или ее элементами для различных вариантов. А также оценивать их емкостную сложност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граммирование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т. е. запись разработанного алгоритма на языке программирования. Если разработка алгоритма выполнена хорошо, то программирование принципиальных трудностей не вызывает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ирование и отладка программ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ак показывает опыт программирования, несмотря на тщательное проведение предыдущих этапов, не удается разработать ПО без ошибок. Цель тестирования заключается в выявлении ошибок, имеющихся в программе, а отладки – в устранении ошибок, обнаруженных при тестировании. Обычно тестирование и отладка представляют собой наиболее трудоемкий этап цикла разработки программ. При этом следует отметить, что он невозможен без соответствующей документации на разрабатываемое П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выполнения тестирования необходимо подготовить тесты.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это специально подобранные исходные данные в совокупности с теми результатами, которые должна выдавать программа при обработке этих данных. Разработка тестов – трудоемкая работа, часто требующая выполнения ручных просчетов. При составлении тестов нужно стремиться обеспечить проверку всех ветвей программы. В силу важности, сложности и трудоемкости этапа отладки программ этому вопросу будет посвящен отдельный разговор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Важное место в процессе разработки ПО отводится оформлению документации. Основная ее часть создается на этапах составления спецификаций и проектирования. Небольшая по объему, но полная документация необходима для того, чтобы идеи, заложенные в проекте ПО, были донесены до разработчиков других модулей ПО, пользователей ПО и группы ее сопровождения. Документация должна формироваться и корректироваться на протяжении всего цикла разработки П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новной результат работ этого этапа – создание эксплуатационной документации на программный продук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E70-9E04-4196-A020-08349D3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16B-338B-4030-A2CD-05EDEF4A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052-0C32-4308-B4E4-AB54958C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B63-9622-425A-9EC9-E1D1BA67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716-31E9-4A62-BACF-B42C27EB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F83-E75C-4BBD-BB2D-2F7255F2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076-4A96-4978-B92F-585804F5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02E-C93A-4221-8D59-4DF108F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1B5-B0B3-4A16-B268-EDCF87E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AD7-420A-41EF-93C1-9186E19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5AC-D04E-4E55-805F-52307B2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363-6EBC-48CE-B388-9AC7A4B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1E41-C9E2-44E0-A263-DF2CE0DD0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бования к созданию программного продук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62352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7-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е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ичны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компонентам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требов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ональны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ункциональны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ализ и структурирование первичных треб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едставляют собой первичные треб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м проводится анализ ПТ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еобходимо выяснить при анализе ПТ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оисходит структурирование требова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ирование предметн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варительное моделирование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М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системы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моде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н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бования к МП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лизация, обеспечивающая однозначное описание структуры предметн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ность на основе применения графических средств отображения мод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изу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возможности оценки эффективности реализации модели предметной области на основе методов и вычисляемых показ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ы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ктная модель, отражает состав взаимодействующих в процессах материальных и информационных объектов предметн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ональная модель, отражает взаимосвязь функций (действий) по преобразованию объектов в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ическая модель, описывает топологию расположения и способы коммуникации комплекса Т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вни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шний (определение треб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цептуальный (спецификации треб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ий (реализация треб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тапы технологического процесса разработки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806640" cy="568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3806640" cy="568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3806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бования к созданию программного продук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743200" y="5805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ик § 3.1,3.2, 4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ик §7.1-7.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5T07:55:31Z</dcterms:created>
  <dc:creator>Acer</dc:creator>
  <dc:description/>
  <dc:language>en-US</dc:language>
  <cp:lastModifiedBy>Acer</cp:lastModifiedBy>
  <dcterms:modified xsi:type="dcterms:W3CDTF">2022-11-08T07:58:21Z</dcterms:modified>
  <cp:revision>4</cp:revision>
  <dc:subject/>
  <dc:title>Требования к созданию программного продукта </dc:title>
</cp:coreProperties>
</file>