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3B08-36E8-45DF-AAAA-53D2CCF53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ормулировка задачи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бычно на профессиональном языке). На этом этапе осуществляется четкая формулировка задачи, выделение исходных данных для ее решения и точные указания относительно того, какие результаты и в каком виде должна давать программ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ходные и выходные данные программы и их связи определяют ее спецификацию.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пецификацие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азывается полное описание требований к исходной программе для конкретного типа ЭВМ. В спецификации учитываются ограничения на представление данных и связи с другими программными модулями. Различают внешние и внутренние спецификаци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нешние специфика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ображают результаты разработки требований к программе, а также содержат все сведения, необходимые вызывающим данную программу модулям. Внешние спецификации ПО должны содержать следующее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мя программы и имена всех точек входа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и, выполняемые программой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исло и порядок параметров, передаваемых программе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ределение формата, размеров, атрибутов всех входных и выходных параметров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исание всех внешних для программы событий, происходящих при ее работ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роцессе разработки программы часто выполняют несколько итераций составления спецификаций и проектирования. Это может потребоваться в том случае, когда вскрываются неопределенности, противоречия или другие недостатки внешних спецификаций. К предыдущим этапам возвращаются, чтобы внести уточнения и дополнения, которые возникают по мере разработки программ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того как программа в соответствии с внешней спецификацией будет спроектирована в виде набора связанных модулей, каждый из них и все его связи с другими должны быть описаны с помощью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нутренних специфик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Затем проектируется каждый модуль в отдельности. Разбиение программ на модули может иллюстрироваться и документироваться схемой – алгоритмом, который показывает взаимосвязи между ни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едпроектные исследования предметной области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елью предпроектных исследований является преобразование общих нечетких знаний о предназначении будущего программного обеспечения в сравнительно точные требования к нему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ществуют два варианта неопределенност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известны методы решения формулируемой задачи – такого типа не определенности обычно возникают при решении научно-технических задач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известна структура автоматизируемых информационных процессов – обычно встречается при построении автоматизированных систем управления предприятия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ервом случае во время предпроектных исследований определяют возможность решения поставленной задачи и методы, позволяющие получить требуемый результат, что может потребовать соответствующих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научных исследований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к фундаментального, так и прикладного характера, разработки и исследования новых моделей объектов реального мир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 втором случае определяю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руктуру и взаимосвязи автоматизируемых информационных процессов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пределение функций между человеком и системой, а также между аппаратурой и программным обеспечением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и программного обеспечения; внешние условия его функционирования и особенности его интерфейсов, как с пользователями, так и при необходимости – с аппаратной частью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бования к программным и информационным компонентам, необходимые аппаратные ресурсы, требования к базам данных и физические характеристики программных компонен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езультаты предпроектных исследований предметной области используют в процессе разработки технического зада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азработка технического задания.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Техническое зада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ставляет собой документ, в котором сформулированы основные цели разработки, требования к программному продукту, определены сроки и этапы разработки и регламентирован процесс приемно-сдаточных испытаний. В разработке технического задания участвуют как представители заказчика, так и представители исполнителя. В основе этого документа лежат исходные требования заказчика, анализ передовых достижений техники, результаты выполнения научно-исследовательских работ, предпроектных исследований, научного прогнозирования и т. п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акторами, определяющими характеристики разрабатываемого программного обеспечения, являю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сходные данные и требуемые результаты, которые определяют функции программы или систем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реда функционирования (программная и аппаратная) – может быть задана, а может выбираться для обеспечения параметров, указанных в техническом задани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зможное взаимодействие с другим программным обеспечениеми/или специальными техническими средствами – также может быть определено, а может выбираться исходя из набора выполняемых функци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работка технического задания выполняется в следующей последовательности. Прежде всего, устанавливают набор выполняемых функций, а также перечень и характеристики исходных данных. Затем определяют перечень результатов, их характеристики и способы предст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ее уточняют среду функционирования программного обеспечения: конкретную комплектацию и параметры технических средств, версию используемой операционной системы и, возможно, версии и параметры другого установленного программного обеспечения, с которым предстоит взаимодействовать будущему программному продукту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случаях, когда разрабатываемое программное обеспечение собирает и хранит некоторую информацию или включается в управление каким-либо техническим процессом, необходимо также четко регламентировать действия программы в случае сбоев оборудования и энергоснаб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техническое задание существует стандарт ГОСТ 19.201-78 «Техническое задание. Требования к содержанию и оформлению». В соответствии с этим стандартом техническое задание должно содержать следующие раздел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ение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снования для разработ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значение разработ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бования к программе или программному изделию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бования к программной документаци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хнико-экономические показател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дии и этапы разработ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рядок контроля и приемк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ыбор метода решения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от этап определяется решаемой задачей и требованиями, предъявляемыми к программе (по быстродействию, требуемой памяти, точности вычислений, наличию стандартных программ и т. п.). Выполнение работ на этом этапе требует определенного кругозора как в области программирования, так и в области используемых методов. Для простых задач метод решения очевиден. В ряде случаев формальная постановка задачи однозначно определяет метод ее решения, но, как правило, методов решения существует несколько, и тогда для выбора метода решения может потребоваться специальное исследование. При выборе метода учитываю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собенности данных конкретной задачи, связанные с предметной областью (погрешность, возможные особые случаи и т. п.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бования к результатам (допустимую погрешность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характеристики метода (точный или приближенный, погрешности результатов, вычислительную и емкостную сложности, сложность реализации и т. п.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начальных этапах процесса проектирования должны быть приняты принципиальные решения, во многом определяющие этот процесс, а также качество и трудоемкость разработки. К таким решениям относя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ор архитектуры программного обеспечени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ор типа пользовательского интерфейса и технологии работы с документам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ор метода разработ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ор языка и среды программирова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ими словами, эти решения определяют, что проектируется, с какими потребительскими характеристиками, как и какими средств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иды архитектур уже рассматривались выш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ип пользовательского интерфейса во многом определяет сложность и трудоемкость разработки. По последним данным до 80 % программного кода может реализовывать именно пользовательский интерфейс. Виды пользовательского интерфейса будут рассмотрены отдельн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большинстве случаев никакой проблемы выбора языка программирования реально не существует. Язык может быть определен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рганизацией, ведущей разработку; например, если фирма владеет лицензионным вариантом C++ Builder, то она будет вести разработки преимущественно в данной среде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граммистом, который по возможности всегда будет использовать хорошо знакомый язык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тоявшимся мнением («все разработки подобного рода должны выполняться на C++ или на Java или на ...») и т. п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же все-таки выбор языка реально возможен, то нужно иметь в виду, что все существующие языки программирования можно разделить на следующие групп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ниверсальные языки высокого уровн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пециализированные языки разработчика программного обеспечени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пециализированные языки пользовател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языки низкого уровн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редой программирования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зывают программный комплекс, который включает специализированный текстовый редактор, встроенные компилятор, компоновщик, отладчик, справочную систему и другие программы, использование которых упрощает процесс написания и отладки програм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ее время широкое распространение получили упоминавшиеся выше среды визуального программирования, в которых программист получает возможность визуального подключения к программе некоторых кодов из специальных библиотек компонентов, что стало возможным с развитием объектно-ориентированного программирова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иболее часто используемыми являются визуальные среды Delphi, C++ Builder фирмы Borland (Inprise Corporation), Visual C++, Visual Basic фирмы Microsoft, Visual Ada фирмы IBM и др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еальное применение любой технологии проектирования требует формирования или выбора ряда стандартов, которые должны соблюдаться всеми участниками проек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дарт проектировани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дарт оформления проектной документаци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дарт интерфейса пользовател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ормальная постановка задач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Задача может быть представлена в виде уравнений, соотношений, ограничений и т. д. При этом она представляется математической моделью. Некоторые задачи, решаемые в настоящее время на ЭВМ, не допускают и не требуют математической постановки (например, задачи обработки текстов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построения математической такой модели включа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нализ условия задач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ор математических абстракций,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декватно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т. е. с требуемой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точностью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лнотой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ставляющих исходные данные и результат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ормальную постановку задач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ределение метода преобразования исходных данных в результат, т. е.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етода решения задач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многих задач, которые часто встречаются на практике, в математике определены как модели, так и методы решения. К таким задачам, например, относится большинство задач аналитической геометрии на плоскости и в пространстве, задачи моделирования дискретных систем и т. д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сновная проблема в подобных случаях –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боснование применимости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ой или иной математической модели для решения конкретной задач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азработка структурной и функциональной схем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проектирования сложного программного обеспечения начинают с уточнения его структуры, т. е. определения структурных компонентов и связей между ними. Результат уточнения структуры может быть представлен в виде структурной и/или функциональной схем и описания (спецификаций) компонент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руктурной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зывают схему, отражающую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остав и взаимодействие по управлению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астей разрабатываемого программного обеспеч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ональная схема или схема данных (ГОСТ 19.701-90) – схема взаимодействия компонентов программного обеспечения с описанием информационных потоков, состава данных в потоках и указанием используемых файлов и устройств. Функциональные схемы, более информативны, чем структурные. Для изображения функциональных схем используют специальные обозначения, установленные стандартом. Основные обозначения схем данных по ГОСТ 19.701-90 приведены в табл. 5.1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 компоненты структурных и функциональных схем должны быть описаны. При структурном подходе особенно тщательно необходимо прорабатывать спецификации межпрограммных интерфейсов, так как от качества их описания зависит количество самых дорогостоящих ошибок. К самым дорогим относятся ошибки, обнаруживаемые при комплексном тестировании, так как для их устранения могут потребоваться серьезные изменения уже отлаженных текст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азработка алгоритм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азывается система правил, четко описывающая последовательность действий, которые следует выполнять для решения задачи. При разработке алгоритма необходимо формализовать процесс решения задачи – свести его к применению конечной последовательности достаточно простых прави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выборе алгоритма нужно рассмотреть несколько вариантов получения конечного результата и выбрать лучший из них. Для решения сложной задачи следует использовать метод пошаговой детализации, следя за тем, чтобы на каждом шаге структура алгоритма оставалась простой и ясной; для отдельных фрагментов (блоков) алгоритма следует максимально использовать стандартные программы и разработанные ранее типовые алгоритм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лгоритмы большой сложности обычно представляются с помощью схем двух видов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бобщенной схемы алгоритма – раскрывает общий принцип функционирования алгоритма и основные логические связи между отдельными модулями на уровне обработки информации (ввод и редактирование данных, вычисления, печать результатов и т. п.)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етальной схемы алгоритма – представляет содержание каждого элемента обобщенной схем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оектирование структур данных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 выбора формы и порядка представления данных зависит способ их обработки. Этим объясняется тесная взаимосвязь двух последних этапов, когда изменения в одном тут же отражаются на другом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здание любой программы всегда подчиняется известной формуле: ПРОГРАММА = АЛГОРИТМ + СТРУКТУРА ДАННЫХ. После того как обозначены структура и алгоритм программы, необходимо определить состав и формат переменных и констант, с которыми она будет работать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этом этапе всем переменным рекомендуется присвоить символьные имена. Символьные имена чаще всего представляют легко запоминаемую аббревиатуру, которая ассоциируется с функциональным назначением переменной, поэтому их использование при написании программы повысит ее читабельность. Символьные имена переменных и символьные имена меток могут использоваться при документировании алгоритма, что позволит выполняемые функции и действия отражать кратко и четк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 проектированием структур данных понимают разработку их представлений в памяти. Основными параметрами, которые необходимо учитывать при проектировании структур данных, являю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ид хранимой информации каждого элемента данных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вязи элементов данных и вложенных структур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ремя хранения данных структуры («время жизни»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вокупность операции над элементами данных, вложенными структурами и структурами в цело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ид хранимой информации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ределяет тип соответствующего поля памяти. В качестве элементов данных в зависимости от используемого языка программирования могут рассматривать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елые и вещественные числа различных форматов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имвол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улевские значения: true и fals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 также некоторые структурные типы данных, например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ро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ис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пециально объявленные класс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этом для числовых полей очень важно правильно определить диапазон возможных значений, а для строковых данных – максимально возможную длину строк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вязи элементов и вложенных структур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также их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устойчивость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овокупность операций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д элементами и вложенными структурами определяют структуры памяти, используемые для представления данных.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ремя жизни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читывают при размещении данных в статической или динамической памяти, а также во внешней памят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смотрим существующие варианты внутреннего представления данных, их элементов и связей между ними более подробн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личают две базовые структуры организации данных в оперативной памяти: векторную и спискову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екторная структура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ставляет собой последовательность байт памяти, которые используются для размещения полей данных (рис. 5.14). Последовательное размещение организованных структур данных позволяет осуществлять прямой доступ к элементам: по индексу (совокупности индексов) – в массивах или строках или по имени поля – в записях или объекта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днако выполнение операций добавления и удаления элементов при использовании векторных структур для размещения элементов массивов может потребовать осуществления многократных сдвигов элемент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руктуры данных в векторном представлении можно размещать как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атическо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так и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инамической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амяти. Расположение векторных представлений в динамической памяти иногда позволяет существенно увеличить эффективность использования оперативной памят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Желательно размещать в динамической памяти временные структуры, хранящие промежуточные результаты, и структуры, размер которых сильно зависит от вводимых исходных данны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писковые структуры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роят из специальных элементов, включающих помимо информационной части еще и один или несколько указателей-адресов элементов или вложенных структур, связанных с данным элементом. Размещая подобные элементы в динамической памяти можно организовывать различные внутренние структуры (рис. 5.15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днако при использовании списковых структур следует помнить, что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хранения указателей необходима дополнительная память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иск информации в линейных списках осуществляется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следовательно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потому требует больше времен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троение списков и выполнение операций над элементами данных, хранящимися в списках, требует более высокой квалификации программистов, более трудоемко, а соответствующие подпрограммы содержат больше ошибок и, следовательно, требуют более тщательного тестирова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бычно векторное представление используют для хранения статических множеств, таблиц (одномерных и многомерных), например, матриц, строк, записей, а также графов, представленных матрицей смежности, матрицей инцидентности или аналитически. Списковое представление удобно для хранения динамических (изменяемых) структур и структур со сложными связя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наиболее ответственных случаях при выборе внутреннего представления целесообразно определять вычислительную сложность выполнения наиболее часто встречающихся операций со структурой данных или ее элементами для различных вариантов. А также оценивать их емкостную сложност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ограммирование,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т. е. запись разработанного алгоритма на языке программирования. Если разработка алгоритма выполнена хорошо, то программирование принципиальных трудностей не вызывает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ирование и отладка программ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ак показывает опыт программирования, несмотря на тщательное проведение предыдущих этапов, не удается разработать ПО без ошибок. Цель тестирования заключается в выявлении ошибок, имеющихся в программе, а отладки – в устранении ошибок, обнаруженных при тестировании. Обычно тестирование и отладка представляют собой наиболее трудоемкий этап цикла разработки программ. При этом следует отметить, что он невозможен без соответствующей документации на разрабатываемое П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выполнения тестирования необходимо подготовить тесты.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это специально подобранные исходные данные в совокупности с теми результатами, которые должна выдавать программа при обработке этих данных. Разработка тестов – трудоемкая работа, часто требующая выполнения ручных просчетов. При составлении тестов нужно стремиться обеспечить проверку всех ветвей программы. В силу важности, сложности и трудоемкости этапа отладки программ этому вопросу будет посвящен отдельный разговор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кумент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Важное место в процессе разработки ПО отводится оформлению документации. Основная ее часть создается на этапах составления спецификаций и проектирования. Небольшая по объему, но полная документация необходима для того, чтобы идеи, заложенные в проекте ПО, были донесены до разработчиков других модулей ПО, пользователей ПО и группы ее сопровождения. Документация должна формироваться и корректироваться на протяжении всего цикла разработки П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сновной результат работ этого этапа – создание эксплуатационной документации на программный продук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CAC-B5C3-422B-95AC-DA6E161B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69F-76F5-4CA0-8B94-7680AAC5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D87-382E-4FC7-9D32-7B3D655D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488-55B2-4600-A852-A443A222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49E-FAA2-43B0-80FE-35AD0315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0C4-8CCF-4FBC-8E85-0DA8400B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A5A-13A9-4C68-9729-AE2C8F36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B56-BC02-4278-8475-B461E054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BF5-172E-49F8-901D-7FBB0DD2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6E7-4307-491A-B459-B3772B0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CC8-47B2-405F-A329-43CABD8F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929-8177-43B8-AB8F-B2A85D2E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27E5-192E-4334-8291-E3BB015B3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бования к созданию программного продук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623520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7-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ие треб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ичные треб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ования к компонентам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требова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ональные треб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функциональные треб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ализ и структурирование первичных требов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представляют собой первичные треб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ем проводится анализ ПТ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еобходимо выяснить при анализе ПТ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оисходит структурирование требова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делирование предметн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ь предмет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варительное моделирование предмет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ования к М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оение системы мод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зык модел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вни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бования к МП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ализация, обеспечивающая однозначное описание структуры предметной об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ность на основе применения графических средств отображения мод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лизу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ение возможности оценки эффективности реализации модели предметной области на основе методов и вычисляемых показ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ы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ктная модель, отражает состав взаимодействующих в процессах материальных и информационных объектов предметной об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ункциональная модель, отражает взаимосвязь функций (действий) по преобразованию объектов в процес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хническая модель, описывает топологию расположения и способы коммуникации комплекса Т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овни мо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шний (определение требова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цептуальный (спецификации требова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ий (реализация требова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этапы технологического процесса разработки пр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3806640" cy="568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43280" y="981000"/>
            <a:ext cx="3806640" cy="568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3806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бования к созданию программного продук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743200" y="5805360"/>
            <a:ext cx="640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бник § 3.1,3.2, 4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бник §7.1-7.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5T07:55:31Z</dcterms:created>
  <dc:creator>Acer</dc:creator>
  <dc:description/>
  <dc:language>en-US</dc:language>
  <cp:lastModifiedBy>Acer</cp:lastModifiedBy>
  <dcterms:modified xsi:type="dcterms:W3CDTF">2022-11-08T07:58:21Z</dcterms:modified>
  <cp:revision>4</cp:revision>
  <dc:subject/>
  <dc:title>Требования к созданию программного продукта </dc:title>
</cp:coreProperties>
</file>