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0F4B-A8D7-4D8D-B7C7-A0D0740A83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в технический проект включают макеты интерфейсов, описание протоколов для интеграции со смежными системами и оборудованием, пользовательские сценарии, описание алгоритма и их формирование, структура серверов и баз данных, а также другие требования к системе и ее взаимодействию с другими внешними систем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80D-D376-4FB5-9EF5-D91EF915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064-C708-4D6B-9596-B6714D0A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B35-6A7B-4127-BA0C-A75B6AC0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7A1-6E45-4EA7-B1C9-9DA54219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B5E-16CA-4D8F-A579-E662DE94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6F2-2131-48C8-8B20-116253C5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150-CF7A-4AF8-B0B7-404BB049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5C2-C352-4BEF-BD0B-67897072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F65-5546-4034-98AD-B5919D9C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766-990C-4EB6-A4BB-7AC63045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3C2-FA6E-4AC3-A502-5F554E93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35D-B27A-459E-A627-A39CE634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8C7-0CFA-44A2-A007-5A5F6BDCE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ическая документ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59280" y="616248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9-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ическая докумен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ическое зад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ический прое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ическо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окумент, регламентирующий бизнес-цели, общее описание системы, объем работ, границы проекта, а также порядок разработки, оценки и приемки. Данный документ отвечает нам на вопрос «что нужно сделать?» и фактически является постановкой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иче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овокупность документов, описывающих и обосновывающих все подходы, методы, архитектурные и технические решения, применяемые для создания сист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делы техническо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Основаание для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Назначение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Требования к программе или программному издел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Требования к программной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Технико-экономическое обосн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Стадии и этапы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Порядок контроля и прием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ическая документ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327280" y="5949720"/>
            <a:ext cx="381636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ик §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ик  § 1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тегории доку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ументация разрабо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ументация проду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ументация управления проек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разработки доку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являются средством связи между всеми вовлеченными в процесс разработки. Они описывают подробности решений, принятых относительно требований к программному обеспечению, проекту, программированию и тестирова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описывают обязанности группы разработки. Они определяют, кто, что и когда делает, учитывая роль программного обеспечения, предмета работ, документации, персонала, обеспечивающего качество, и каждого вовлеченного в процесс разработ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выступают как контрольные пункты, которые позволяют руководителям оценивать ход разработки. Если документы разработки отсутствуют, неполны или устарели, руководители теряют важное средство для отслеживания и контроля проекта программного обеспе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образуют основу документации сопровождения программного обеспечения, требуемой сопровождающими программистами как часть документации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описывают историю разработки программного обесп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иповые документы разрабо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ы осуществимости и исходные зая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фикации требо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фикации функ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ектные спецификации, включая спецификации программ и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ы разрабо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ы сборки и тестирования программного обесп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ы обеспечения качества, стандарты и граф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щитная и тестовая ин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и документации проду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обеспечивает учебную и справочную информацию для любого использующего или эксплуатирующего программную продук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облегчает программистам, не разрабатывавшим программное обеспечение, его сопровождение и модерниз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помогает продаже или приемке программной проду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иповые документы проду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ые руковод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ые руководства и руководства пользов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оводства по сопровождению программного обеспе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ошюры и информационные листовки, посвященные прод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ументация управления проек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фики для каждой стадии процесса разработки и отчеты о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х граф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четы о согласованных изменениях программного обеспе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четы о решениях, связанных с разработ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ределение обязан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ение качества доку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чество содержания можно измерять в элементах точности, полноты и яс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чество структуры можно измерять легкостью, с которой читатель имеет возможность определить местоположение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чество представл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жно соответствовать типу проекта. Например, руководство пользователя может иметь форму набора машинописных страниц, скрепленных вместе, или может быть типографской книгой с обширными иллюстрациями, созданной специалистом по граф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докум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хитектурная/проектная;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ьзовательская;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кетингов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5T16:12:21Z</dcterms:created>
  <dc:creator>Acer</dc:creator>
  <dc:description/>
  <dc:language>en-US</dc:language>
  <cp:lastModifiedBy>Acer</cp:lastModifiedBy>
  <dcterms:modified xsi:type="dcterms:W3CDTF">2022-11-07T08:11:00Z</dcterms:modified>
  <cp:revision>5</cp:revision>
  <dc:subject/>
  <dc:title>Техническая документация </dc:title>
</cp:coreProperties>
</file>