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3F5-F798-45F3-828C-EE0F09342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технический проект включают макеты интерфейсов, описание протоколов для интеграции со смежными системами и оборудованием, пользовательские сценарии, описание алгоритма и их формирование, структура серверов и баз данных, а также другие требования к системе и ее взаимодействию с другими внешними систе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F65-23EF-46A5-A8CA-3AE22A1E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E76-5222-4268-8570-E33DD61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4F1-008A-44BD-9BBF-3ED44ED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F51-A296-4C67-A208-0E2DC7C7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05-544E-4E4A-BF6E-D482FFFD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41D-0C5B-49FC-8817-F9A48F7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BE3-003A-46A0-BDE7-DACCFBB8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DE9-4DA8-4881-BDB4-2D89610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EF3-4A84-46FD-8C23-4C5A129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A56-B32C-438B-AA6B-9E1EF26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27B-7897-4C55-B279-63D1D9F6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F08-F8B3-497E-A440-88C60D9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2C97-5E8B-4D2F-9320-2932EB61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616248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9-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ое зад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ий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о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окумент, регламентирующий бизнес-цели, общее описание системы, объем работ, границы проекта, а также порядок разработки, оценки и приемки. Данный документ отвечает нам на вопрос «что нужно сделать?» и фактически является постановк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вокупность документов, описывающих и обосновывающих все подходы, методы, архитектурные и технические решения, применяемые для создания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делы техническо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Основаание для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Назначени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Требования к программе или программному изде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Требования к программн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Технико-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Стадии и этапы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Порядок контроля и прие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27280" y="5949720"/>
            <a:ext cx="381636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 §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  § 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егории доку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прод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управления проек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зработки доку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являются средством связи между всеми вовлеченными в процесс разработки. Они описывают подробности решений, принятых относительно требований к программному обеспечению, проекту, программированию и тестир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писывают обязанности группы разработки. Они определяют, кто, что и когда делает, учитывая роль программного обеспечения, предмета работ, документации, персонала, обеспечивающего качество, и каждого вовлеченного в процесс разрабо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выступают как контрольные пункты, которые позволяют руководителям оценивать ход разработки. Если документы разработки отсутствуют, неполны или устарели, руководители теряют важное средство для отслеживания и контроля проекта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бразуют основу документации сопровождения программного обеспечения, требуемой сопровождающими программистами как часть документации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писывают историю разработки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овые документы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ы осуществимости и исходные зая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кации треб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кации фун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ные спецификации, включая спецификации программ 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раз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сборки и тестирования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обеспечения качества, стандарты и граф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тная и тестов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документации про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обеспечивает учебную и справочную информацию для любого использующего или эксплуатирующего программную продук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облегчает программистам, не разрабатывавшим программное обеспечение, его сопровождение и модерниз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помогает продаже или приемке программной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овые документы про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руковод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ые руководства и руководства пользов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ства по сопровождению программного обеспе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шюры и информационные листовки, посвященные про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ументация управления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и для каждой стадии процесса разработки и отчеты о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х граф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 о согласованных изменениях программного обеспе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 о решениях, связанных с разработ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ение обяза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ение качества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содержания можно измерять в элементах точности, полноты и яс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структуры можно измерять легкостью, с которой читатель имеет возможность определить местоположение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предст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жно соответствовать типу проекта. Например, руководство пользователя может иметь форму набора машинописных страниц, скрепленных вместе, или может быть типографской книгой с обширными иллюстрациями, созданной специалистом по граф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окум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тектурная/проектная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зовательская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кетинг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5T16:12:21Z</dcterms:created>
  <dc:creator>Acer</dc:creator>
  <dc:description/>
  <dc:language>en-US</dc:language>
  <cp:lastModifiedBy>Acer</cp:lastModifiedBy>
  <dcterms:modified xsi:type="dcterms:W3CDTF">2022-11-07T08:11:00Z</dcterms:modified>
  <cp:revision>5</cp:revision>
  <dc:subject/>
  <dc:title>Техническая документация </dc:title>
</cp:coreProperties>
</file>